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D420-B30F-417C-9B33-92E07A90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BF8F-EAA2-41AF-A912-C36535D4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E8F-CA99-4684-8E7E-870127A4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5F6A-0D32-44F3-9764-AF9BE616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0486-9948-4833-AEE0-4B350320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7EAF-8696-4423-83D6-31932408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9C64-FD41-4801-9858-FF8254DB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DDC0-85D2-43CE-8069-58FEE95F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9A0E-C7BD-491D-841A-2E231EAE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191D-9853-43B6-B98F-BD8AA6C1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AA40-0741-4C28-B77D-E5BB4024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229-1A50-4607-8074-9B860E82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E3D6-8211-4531-BA3C-3EE72042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A012-040C-4314-91CA-5C591983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6ACD-4B22-4059-AB04-D3100E57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60F4-76F1-4DCC-8DB8-03DD8498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1E56-7E16-43FC-B4DA-234CF04B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DBC8-8AF1-4119-820C-54C28734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E843-BACC-4DE8-A6A0-715BC2E3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8D44-E1EE-4D58-A179-1C0C0407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AD62-17EF-4A37-A8D9-AC016C94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918-3B62-4377-97C6-C592A387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C922-7780-4D19-86D4-8BB2A9D7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E4A-24F7-4C3C-8D77-8B4C8C14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C8BA-31EC-4676-B668-18E1CD4821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2BC3-1632-4732-B830-A2FBFA7ED8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Пути  взаимопонимания:  родители  и  дети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18960" y="3352680"/>
            <a:ext cx="7391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олчанова М.А.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аместитель  директора  по  воспитательной  работ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ОУ  СОШ  №  2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.Пушки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улькевичского  райо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раснодарского  кр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06  го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533320" y="2438280"/>
            <a:ext cx="62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Родительское  собр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228600"/>
            <a:ext cx="7391160" cy="4648320"/>
          </a:xfrm>
          <a:prstGeom prst="irregularSeal2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Наказан – проще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267080" y="2286000"/>
            <a:ext cx="4672080" cy="43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04920" y="0"/>
            <a:ext cx="7086600" cy="4648320"/>
          </a:xfrm>
          <a:prstGeom prst="irregularSeal2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Без  униже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4191120" y="2209680"/>
            <a:ext cx="4671720" cy="444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7620120" cy="4648320"/>
          </a:xfrm>
          <a:prstGeom prst="irregularSeal2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Ребенок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не  должен  бояться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наказ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3860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коны  воспит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  предъявлять  ребенку  категорические требования  и  налагать  неожиданные  запреты Этому  нужно  учить  терпеливо  и  постепен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преты  и  требования  должны  быть  гибкими и  их  не  должно  быть  мн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ребования  и  запреты  родителей  не  должны  вступать  в  противоречие  с  важнейшими  потребностями  реб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динство  требований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преты  и  требования  должны  ребенку  разъяснять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преты  и  требования  должны  предъявляться  спокойным  и  доброжелательным  тон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 любить  своего  ребен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меть  слушать  всегда  и  везде,  проявляя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терпени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и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так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меть  говорить  с  ребенком  так,  как  если  бы  вам  хотелось,  чтобы говорили  с  вами, проявляя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мягкост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и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уважитель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казывать,  не  унижая,  а  сохраняя 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достоинств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вселяя  надежду  на  исправл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ыть 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примеро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для  положительного  подражания  каждый  д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Признавать  свои  ошибк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просить  прощени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за  неправильные  действия  и  поступки,  быть 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справедливы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в  оценке  себя  и  други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кажите  уже  сегодня  своему  ребенк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1828800"/>
            <a:ext cx="8229600" cy="4648320"/>
          </a:xfrm>
          <a:custGeom>
            <a:avLst/>
            <a:gdLst>
              <a:gd name="textAreaLeft" fmla="*/ 1298160 w 8229600"/>
              <a:gd name="textAreaRight" fmla="*/ 6931440 w 8229600"/>
              <a:gd name="textAreaTop" fmla="*/ 261720 h 4648320"/>
              <a:gd name="textAreaBottom" fmla="*/ 3653280 h 4648320"/>
            </a:gdLst>
            <a:ahLst/>
            <a:rect l="textAreaLeft" t="textAreaTop" r="textAreaRight" b="textAreaBottom"/>
            <a:pathLst>
              <a:path w="21600" h="21600">
                <a:moveTo>
                  <a:pt x="0" y="4625"/>
                </a:moveTo>
                <a:arcTo wR="21600" hR="20153" stAng="-7304956" swAng="625527"/>
                <a:lnTo>
                  <a:pt x="3408" y="1217"/>
                </a:lnTo>
                <a:arcTo wR="21600" hR="20153" stAng="-6679429" swAng="2558858"/>
                <a:lnTo>
                  <a:pt x="18192" y="3142"/>
                </a:lnTo>
                <a:arcTo wR="21600" hR="20153" stAng="-4120571" swAng="625527"/>
                <a:lnTo>
                  <a:pt x="18900" y="11883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100048"/>
                <a:lnTo>
                  <a:pt x="15492" y="17456"/>
                </a:lnTo>
                <a:arcTo wR="21600" hR="20153" stAng="-4595091" swAng="-1609817"/>
                <a:lnTo>
                  <a:pt x="6108" y="19381"/>
                </a:lnTo>
                <a:arcTo wR="21600" hR="20153" stAng="-6204909" swAng="-1100048"/>
                <a:lnTo>
                  <a:pt x="2700" y="11883"/>
                </a:lnTo>
                <a:close/>
              </a:path>
              <a:path fill="none" w="21600" h="21600">
                <a:moveTo>
                  <a:pt x="6108" y="17456"/>
                </a:moveTo>
                <a:arcTo wR="21600" hR="20153" stAng="-6204909" swAng="-474520"/>
                <a:lnTo>
                  <a:pt x="6108" y="19381"/>
                </a:lnTo>
              </a:path>
              <a:path fill="none" w="21600" h="21600">
                <a:moveTo>
                  <a:pt x="15492" y="17456"/>
                </a:moveTo>
                <a:arcTo wR="21600" hR="20153" stAng="-4595091" swAng="474520"/>
                <a:lnTo>
                  <a:pt x="15492" y="19381"/>
                </a:lnTo>
              </a:path>
              <a:path fill="none" w="21600" h="21600">
                <a:moveTo>
                  <a:pt x="3408" y="3142"/>
                </a:moveTo>
                <a:lnTo>
                  <a:pt x="3408" y="18192"/>
                </a:lnTo>
              </a:path>
              <a:path fill="none" w="21600" h="21600">
                <a:moveTo>
                  <a:pt x="18192" y="3142"/>
                </a:moveTo>
                <a:lnTo>
                  <a:pt x="18192" y="18192"/>
                </a:lnTo>
              </a:path>
            </a:pathLst>
          </a:custGeom>
          <a:solidFill>
            <a:srgbClr val="ffd8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Monotype Corsiva"/>
              </a:rPr>
              <a:t>Я  тебя  люблю,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Monotype Corsiva"/>
              </a:rPr>
              <a:t>мы  рядом,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Monotype Corsiva"/>
              </a:rPr>
              <a:t>мы  вместе  и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Monotype Corsiva"/>
              </a:rPr>
              <a:t>мы  все  преодолеем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зелки  на  памя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чины  нарушений  в  поведен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Борьба  за  вним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Борьба  за  самоутвержде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Желание  мщ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Неверие  в  собственный  успе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 наказывали  вас 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  детств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4920" y="1828800"/>
          <a:ext cx="84582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4582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 наказывали  вас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в  детств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1600200"/>
          <a:ext cx="852156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52156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казани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917640"/>
          <a:ext cx="8534520" cy="57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7640"/>
                    <a:ext cx="853452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Наказываем,  любя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371600"/>
            <a:ext cx="7086600" cy="4648320"/>
          </a:xfrm>
          <a:prstGeom prst="irregularSeal2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каза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  должно  вред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доровью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и  физическому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и  психическ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48320" y="2340000"/>
            <a:ext cx="3556080" cy="4233960"/>
          </a:xfrm>
          <a:custGeom>
            <a:avLst/>
            <a:gdLst/>
            <a:ahLst/>
            <a:rect l="l" t="t" r="r" b="b"/>
            <a:pathLst>
              <a:path w="4480" h="5335">
                <a:moveTo>
                  <a:pt x="4295" y="5335"/>
                </a:moveTo>
                <a:lnTo>
                  <a:pt x="4240" y="5330"/>
                </a:lnTo>
                <a:lnTo>
                  <a:pt x="4186" y="5327"/>
                </a:lnTo>
                <a:lnTo>
                  <a:pt x="4133" y="5323"/>
                </a:lnTo>
                <a:lnTo>
                  <a:pt x="4082" y="5317"/>
                </a:lnTo>
                <a:lnTo>
                  <a:pt x="4031" y="5308"/>
                </a:lnTo>
                <a:lnTo>
                  <a:pt x="3980" y="5299"/>
                </a:lnTo>
                <a:lnTo>
                  <a:pt x="3931" y="5285"/>
                </a:lnTo>
                <a:lnTo>
                  <a:pt x="3883" y="5273"/>
                </a:lnTo>
                <a:lnTo>
                  <a:pt x="3844" y="5252"/>
                </a:lnTo>
                <a:lnTo>
                  <a:pt x="3814" y="5236"/>
                </a:lnTo>
                <a:lnTo>
                  <a:pt x="3790" y="5224"/>
                </a:lnTo>
                <a:lnTo>
                  <a:pt x="3770" y="5216"/>
                </a:lnTo>
                <a:lnTo>
                  <a:pt x="3751" y="5212"/>
                </a:lnTo>
                <a:lnTo>
                  <a:pt x="3733" y="5215"/>
                </a:lnTo>
                <a:lnTo>
                  <a:pt x="3709" y="5221"/>
                </a:lnTo>
                <a:lnTo>
                  <a:pt x="3680" y="5236"/>
                </a:lnTo>
                <a:lnTo>
                  <a:pt x="3658" y="5236"/>
                </a:lnTo>
                <a:lnTo>
                  <a:pt x="3637" y="5236"/>
                </a:lnTo>
                <a:lnTo>
                  <a:pt x="3616" y="5236"/>
                </a:lnTo>
                <a:lnTo>
                  <a:pt x="3596" y="5237"/>
                </a:lnTo>
                <a:lnTo>
                  <a:pt x="3575" y="5237"/>
                </a:lnTo>
                <a:lnTo>
                  <a:pt x="3556" y="5237"/>
                </a:lnTo>
                <a:lnTo>
                  <a:pt x="3536" y="5237"/>
                </a:lnTo>
                <a:lnTo>
                  <a:pt x="3517" y="5237"/>
                </a:lnTo>
                <a:lnTo>
                  <a:pt x="3452" y="5258"/>
                </a:lnTo>
                <a:lnTo>
                  <a:pt x="3365" y="5284"/>
                </a:lnTo>
                <a:lnTo>
                  <a:pt x="3263" y="5306"/>
                </a:lnTo>
                <a:lnTo>
                  <a:pt x="3157" y="5324"/>
                </a:lnTo>
                <a:lnTo>
                  <a:pt x="3052" y="5327"/>
                </a:lnTo>
                <a:lnTo>
                  <a:pt x="2963" y="5315"/>
                </a:lnTo>
                <a:lnTo>
                  <a:pt x="2897" y="5281"/>
                </a:lnTo>
                <a:lnTo>
                  <a:pt x="2864" y="5219"/>
                </a:lnTo>
                <a:lnTo>
                  <a:pt x="2876" y="5209"/>
                </a:lnTo>
                <a:lnTo>
                  <a:pt x="2893" y="5195"/>
                </a:lnTo>
                <a:lnTo>
                  <a:pt x="2912" y="5176"/>
                </a:lnTo>
                <a:lnTo>
                  <a:pt x="2935" y="5158"/>
                </a:lnTo>
                <a:lnTo>
                  <a:pt x="2954" y="5137"/>
                </a:lnTo>
                <a:lnTo>
                  <a:pt x="2974" y="5119"/>
                </a:lnTo>
                <a:lnTo>
                  <a:pt x="2990" y="5102"/>
                </a:lnTo>
                <a:lnTo>
                  <a:pt x="3002" y="5093"/>
                </a:lnTo>
                <a:lnTo>
                  <a:pt x="3017" y="5080"/>
                </a:lnTo>
                <a:lnTo>
                  <a:pt x="3031" y="5071"/>
                </a:lnTo>
                <a:lnTo>
                  <a:pt x="3040" y="5063"/>
                </a:lnTo>
                <a:lnTo>
                  <a:pt x="3047" y="5059"/>
                </a:lnTo>
                <a:lnTo>
                  <a:pt x="3053" y="5054"/>
                </a:lnTo>
                <a:lnTo>
                  <a:pt x="3056" y="5053"/>
                </a:lnTo>
                <a:lnTo>
                  <a:pt x="3050" y="5044"/>
                </a:lnTo>
                <a:lnTo>
                  <a:pt x="3047" y="5041"/>
                </a:lnTo>
                <a:lnTo>
                  <a:pt x="3043" y="5038"/>
                </a:lnTo>
                <a:lnTo>
                  <a:pt x="3040" y="5036"/>
                </a:lnTo>
                <a:lnTo>
                  <a:pt x="3040" y="5032"/>
                </a:lnTo>
                <a:lnTo>
                  <a:pt x="3040" y="5029"/>
                </a:lnTo>
                <a:lnTo>
                  <a:pt x="3023" y="5014"/>
                </a:lnTo>
                <a:lnTo>
                  <a:pt x="3020" y="4985"/>
                </a:lnTo>
                <a:lnTo>
                  <a:pt x="3025" y="4946"/>
                </a:lnTo>
                <a:lnTo>
                  <a:pt x="3037" y="4904"/>
                </a:lnTo>
                <a:lnTo>
                  <a:pt x="3049" y="4859"/>
                </a:lnTo>
                <a:lnTo>
                  <a:pt x="3062" y="4819"/>
                </a:lnTo>
                <a:lnTo>
                  <a:pt x="3073" y="4784"/>
                </a:lnTo>
                <a:lnTo>
                  <a:pt x="3080" y="4763"/>
                </a:lnTo>
                <a:lnTo>
                  <a:pt x="3092" y="4754"/>
                </a:lnTo>
                <a:lnTo>
                  <a:pt x="3106" y="4751"/>
                </a:lnTo>
                <a:lnTo>
                  <a:pt x="3110" y="4750"/>
                </a:lnTo>
                <a:lnTo>
                  <a:pt x="3118" y="4750"/>
                </a:lnTo>
                <a:lnTo>
                  <a:pt x="3127" y="4750"/>
                </a:lnTo>
                <a:lnTo>
                  <a:pt x="3137" y="4751"/>
                </a:lnTo>
                <a:lnTo>
                  <a:pt x="3143" y="4712"/>
                </a:lnTo>
                <a:lnTo>
                  <a:pt x="3148" y="4673"/>
                </a:lnTo>
                <a:lnTo>
                  <a:pt x="3149" y="4633"/>
                </a:lnTo>
                <a:lnTo>
                  <a:pt x="3152" y="4595"/>
                </a:lnTo>
                <a:lnTo>
                  <a:pt x="3152" y="4555"/>
                </a:lnTo>
                <a:lnTo>
                  <a:pt x="3157" y="4517"/>
                </a:lnTo>
                <a:lnTo>
                  <a:pt x="3163" y="4480"/>
                </a:lnTo>
                <a:lnTo>
                  <a:pt x="3175" y="4445"/>
                </a:lnTo>
                <a:lnTo>
                  <a:pt x="3176" y="4438"/>
                </a:lnTo>
                <a:lnTo>
                  <a:pt x="3176" y="4430"/>
                </a:lnTo>
                <a:lnTo>
                  <a:pt x="3175" y="4424"/>
                </a:lnTo>
                <a:lnTo>
                  <a:pt x="3175" y="4421"/>
                </a:lnTo>
                <a:lnTo>
                  <a:pt x="3157" y="4391"/>
                </a:lnTo>
                <a:lnTo>
                  <a:pt x="3149" y="4358"/>
                </a:lnTo>
                <a:lnTo>
                  <a:pt x="3149" y="4318"/>
                </a:lnTo>
                <a:lnTo>
                  <a:pt x="3155" y="4279"/>
                </a:lnTo>
                <a:lnTo>
                  <a:pt x="3160" y="4240"/>
                </a:lnTo>
                <a:lnTo>
                  <a:pt x="3164" y="4205"/>
                </a:lnTo>
                <a:lnTo>
                  <a:pt x="3164" y="4177"/>
                </a:lnTo>
                <a:lnTo>
                  <a:pt x="3158" y="4160"/>
                </a:lnTo>
                <a:lnTo>
                  <a:pt x="3152" y="4139"/>
                </a:lnTo>
                <a:lnTo>
                  <a:pt x="3148" y="4120"/>
                </a:lnTo>
                <a:lnTo>
                  <a:pt x="3142" y="4100"/>
                </a:lnTo>
                <a:lnTo>
                  <a:pt x="3139" y="4081"/>
                </a:lnTo>
                <a:lnTo>
                  <a:pt x="3134" y="4058"/>
                </a:lnTo>
                <a:lnTo>
                  <a:pt x="3134" y="4039"/>
                </a:lnTo>
                <a:lnTo>
                  <a:pt x="3136" y="4019"/>
                </a:lnTo>
                <a:lnTo>
                  <a:pt x="3142" y="4001"/>
                </a:lnTo>
                <a:lnTo>
                  <a:pt x="3139" y="3964"/>
                </a:lnTo>
                <a:lnTo>
                  <a:pt x="3137" y="3928"/>
                </a:lnTo>
                <a:lnTo>
                  <a:pt x="3133" y="3892"/>
                </a:lnTo>
                <a:lnTo>
                  <a:pt x="3128" y="3856"/>
                </a:lnTo>
                <a:lnTo>
                  <a:pt x="3122" y="3820"/>
                </a:lnTo>
                <a:lnTo>
                  <a:pt x="3116" y="3785"/>
                </a:lnTo>
                <a:lnTo>
                  <a:pt x="3112" y="3749"/>
                </a:lnTo>
                <a:lnTo>
                  <a:pt x="3110" y="3715"/>
                </a:lnTo>
                <a:lnTo>
                  <a:pt x="3080" y="3691"/>
                </a:lnTo>
                <a:lnTo>
                  <a:pt x="3062" y="3668"/>
                </a:lnTo>
                <a:lnTo>
                  <a:pt x="3053" y="3646"/>
                </a:lnTo>
                <a:lnTo>
                  <a:pt x="3052" y="3623"/>
                </a:lnTo>
                <a:lnTo>
                  <a:pt x="3053" y="3598"/>
                </a:lnTo>
                <a:lnTo>
                  <a:pt x="3059" y="3572"/>
                </a:lnTo>
                <a:lnTo>
                  <a:pt x="3065" y="3543"/>
                </a:lnTo>
                <a:lnTo>
                  <a:pt x="3073" y="3511"/>
                </a:lnTo>
                <a:lnTo>
                  <a:pt x="3068" y="3462"/>
                </a:lnTo>
                <a:lnTo>
                  <a:pt x="3068" y="3412"/>
                </a:lnTo>
                <a:lnTo>
                  <a:pt x="3068" y="3363"/>
                </a:lnTo>
                <a:lnTo>
                  <a:pt x="3071" y="3315"/>
                </a:lnTo>
                <a:lnTo>
                  <a:pt x="3071" y="3265"/>
                </a:lnTo>
                <a:lnTo>
                  <a:pt x="3073" y="3219"/>
                </a:lnTo>
                <a:lnTo>
                  <a:pt x="3074" y="3171"/>
                </a:lnTo>
                <a:lnTo>
                  <a:pt x="3076" y="3124"/>
                </a:lnTo>
                <a:lnTo>
                  <a:pt x="3058" y="3126"/>
                </a:lnTo>
                <a:lnTo>
                  <a:pt x="3043" y="3130"/>
                </a:lnTo>
                <a:lnTo>
                  <a:pt x="3026" y="3133"/>
                </a:lnTo>
                <a:lnTo>
                  <a:pt x="3013" y="3136"/>
                </a:lnTo>
                <a:lnTo>
                  <a:pt x="2998" y="3138"/>
                </a:lnTo>
                <a:lnTo>
                  <a:pt x="2983" y="3141"/>
                </a:lnTo>
                <a:lnTo>
                  <a:pt x="2968" y="3141"/>
                </a:lnTo>
                <a:lnTo>
                  <a:pt x="2954" y="3141"/>
                </a:lnTo>
                <a:lnTo>
                  <a:pt x="2951" y="3138"/>
                </a:lnTo>
                <a:lnTo>
                  <a:pt x="2950" y="3136"/>
                </a:lnTo>
                <a:lnTo>
                  <a:pt x="2921" y="3117"/>
                </a:lnTo>
                <a:lnTo>
                  <a:pt x="2903" y="3084"/>
                </a:lnTo>
                <a:lnTo>
                  <a:pt x="2893" y="3039"/>
                </a:lnTo>
                <a:lnTo>
                  <a:pt x="2888" y="2989"/>
                </a:lnTo>
                <a:lnTo>
                  <a:pt x="2885" y="2937"/>
                </a:lnTo>
                <a:lnTo>
                  <a:pt x="2888" y="2890"/>
                </a:lnTo>
                <a:lnTo>
                  <a:pt x="2891" y="2853"/>
                </a:lnTo>
                <a:lnTo>
                  <a:pt x="2894" y="2832"/>
                </a:lnTo>
                <a:lnTo>
                  <a:pt x="2848" y="2814"/>
                </a:lnTo>
                <a:lnTo>
                  <a:pt x="2825" y="2797"/>
                </a:lnTo>
                <a:lnTo>
                  <a:pt x="2819" y="2778"/>
                </a:lnTo>
                <a:lnTo>
                  <a:pt x="2830" y="2758"/>
                </a:lnTo>
                <a:lnTo>
                  <a:pt x="2849" y="2737"/>
                </a:lnTo>
                <a:lnTo>
                  <a:pt x="2876" y="2718"/>
                </a:lnTo>
                <a:lnTo>
                  <a:pt x="2905" y="2697"/>
                </a:lnTo>
                <a:lnTo>
                  <a:pt x="2933" y="2677"/>
                </a:lnTo>
                <a:lnTo>
                  <a:pt x="2935" y="2667"/>
                </a:lnTo>
                <a:lnTo>
                  <a:pt x="2936" y="2659"/>
                </a:lnTo>
                <a:lnTo>
                  <a:pt x="2938" y="2652"/>
                </a:lnTo>
                <a:lnTo>
                  <a:pt x="2939" y="2646"/>
                </a:lnTo>
                <a:lnTo>
                  <a:pt x="2939" y="2638"/>
                </a:lnTo>
                <a:lnTo>
                  <a:pt x="2941" y="2632"/>
                </a:lnTo>
                <a:lnTo>
                  <a:pt x="2942" y="2622"/>
                </a:lnTo>
                <a:lnTo>
                  <a:pt x="2945" y="2611"/>
                </a:lnTo>
                <a:lnTo>
                  <a:pt x="2935" y="2592"/>
                </a:lnTo>
                <a:lnTo>
                  <a:pt x="2933" y="2569"/>
                </a:lnTo>
                <a:lnTo>
                  <a:pt x="2939" y="2541"/>
                </a:lnTo>
                <a:lnTo>
                  <a:pt x="2951" y="2512"/>
                </a:lnTo>
                <a:lnTo>
                  <a:pt x="2965" y="2481"/>
                </a:lnTo>
                <a:lnTo>
                  <a:pt x="2980" y="2452"/>
                </a:lnTo>
                <a:lnTo>
                  <a:pt x="2992" y="2425"/>
                </a:lnTo>
                <a:lnTo>
                  <a:pt x="2999" y="2404"/>
                </a:lnTo>
                <a:lnTo>
                  <a:pt x="3004" y="2350"/>
                </a:lnTo>
                <a:lnTo>
                  <a:pt x="3014" y="2301"/>
                </a:lnTo>
                <a:lnTo>
                  <a:pt x="3023" y="2253"/>
                </a:lnTo>
                <a:lnTo>
                  <a:pt x="3038" y="2208"/>
                </a:lnTo>
                <a:lnTo>
                  <a:pt x="3053" y="2163"/>
                </a:lnTo>
                <a:lnTo>
                  <a:pt x="3073" y="2119"/>
                </a:lnTo>
                <a:lnTo>
                  <a:pt x="3095" y="2074"/>
                </a:lnTo>
                <a:lnTo>
                  <a:pt x="3122" y="2031"/>
                </a:lnTo>
                <a:lnTo>
                  <a:pt x="3125" y="2014"/>
                </a:lnTo>
                <a:lnTo>
                  <a:pt x="3130" y="2001"/>
                </a:lnTo>
                <a:lnTo>
                  <a:pt x="3133" y="1984"/>
                </a:lnTo>
                <a:lnTo>
                  <a:pt x="3137" y="1971"/>
                </a:lnTo>
                <a:lnTo>
                  <a:pt x="3140" y="1956"/>
                </a:lnTo>
                <a:lnTo>
                  <a:pt x="3145" y="1942"/>
                </a:lnTo>
                <a:lnTo>
                  <a:pt x="3148" y="1929"/>
                </a:lnTo>
                <a:lnTo>
                  <a:pt x="3151" y="1917"/>
                </a:lnTo>
                <a:lnTo>
                  <a:pt x="3134" y="1906"/>
                </a:lnTo>
                <a:lnTo>
                  <a:pt x="3118" y="1905"/>
                </a:lnTo>
                <a:lnTo>
                  <a:pt x="3100" y="1908"/>
                </a:lnTo>
                <a:lnTo>
                  <a:pt x="3083" y="1912"/>
                </a:lnTo>
                <a:lnTo>
                  <a:pt x="3064" y="1915"/>
                </a:lnTo>
                <a:lnTo>
                  <a:pt x="3046" y="1914"/>
                </a:lnTo>
                <a:lnTo>
                  <a:pt x="3026" y="1906"/>
                </a:lnTo>
                <a:lnTo>
                  <a:pt x="3008" y="1890"/>
                </a:lnTo>
                <a:lnTo>
                  <a:pt x="3013" y="1884"/>
                </a:lnTo>
                <a:lnTo>
                  <a:pt x="3023" y="1879"/>
                </a:lnTo>
                <a:lnTo>
                  <a:pt x="3035" y="1875"/>
                </a:lnTo>
                <a:lnTo>
                  <a:pt x="3049" y="1870"/>
                </a:lnTo>
                <a:lnTo>
                  <a:pt x="3061" y="1863"/>
                </a:lnTo>
                <a:lnTo>
                  <a:pt x="3074" y="1854"/>
                </a:lnTo>
                <a:lnTo>
                  <a:pt x="3085" y="1840"/>
                </a:lnTo>
                <a:lnTo>
                  <a:pt x="3094" y="1824"/>
                </a:lnTo>
                <a:lnTo>
                  <a:pt x="3083" y="1822"/>
                </a:lnTo>
                <a:lnTo>
                  <a:pt x="3073" y="1821"/>
                </a:lnTo>
                <a:lnTo>
                  <a:pt x="3068" y="1810"/>
                </a:lnTo>
                <a:lnTo>
                  <a:pt x="3070" y="1804"/>
                </a:lnTo>
                <a:lnTo>
                  <a:pt x="3071" y="1798"/>
                </a:lnTo>
                <a:lnTo>
                  <a:pt x="3076" y="1792"/>
                </a:lnTo>
                <a:lnTo>
                  <a:pt x="3085" y="1788"/>
                </a:lnTo>
                <a:lnTo>
                  <a:pt x="3097" y="1785"/>
                </a:lnTo>
                <a:lnTo>
                  <a:pt x="3104" y="1779"/>
                </a:lnTo>
                <a:lnTo>
                  <a:pt x="3110" y="1770"/>
                </a:lnTo>
                <a:lnTo>
                  <a:pt x="3095" y="1773"/>
                </a:lnTo>
                <a:lnTo>
                  <a:pt x="3082" y="1776"/>
                </a:lnTo>
                <a:lnTo>
                  <a:pt x="3067" y="1777"/>
                </a:lnTo>
                <a:lnTo>
                  <a:pt x="3053" y="1779"/>
                </a:lnTo>
                <a:lnTo>
                  <a:pt x="3040" y="1776"/>
                </a:lnTo>
                <a:lnTo>
                  <a:pt x="3029" y="1771"/>
                </a:lnTo>
                <a:lnTo>
                  <a:pt x="3022" y="1762"/>
                </a:lnTo>
                <a:lnTo>
                  <a:pt x="3019" y="1750"/>
                </a:lnTo>
                <a:lnTo>
                  <a:pt x="3029" y="1740"/>
                </a:lnTo>
                <a:lnTo>
                  <a:pt x="3040" y="1735"/>
                </a:lnTo>
                <a:lnTo>
                  <a:pt x="3047" y="1731"/>
                </a:lnTo>
                <a:lnTo>
                  <a:pt x="3055" y="1729"/>
                </a:lnTo>
                <a:lnTo>
                  <a:pt x="3059" y="1723"/>
                </a:lnTo>
                <a:lnTo>
                  <a:pt x="3065" y="1717"/>
                </a:lnTo>
                <a:lnTo>
                  <a:pt x="3070" y="1704"/>
                </a:lnTo>
                <a:lnTo>
                  <a:pt x="3076" y="1686"/>
                </a:lnTo>
                <a:lnTo>
                  <a:pt x="3071" y="1686"/>
                </a:lnTo>
                <a:lnTo>
                  <a:pt x="3068" y="1686"/>
                </a:lnTo>
                <a:lnTo>
                  <a:pt x="3044" y="1699"/>
                </a:lnTo>
                <a:lnTo>
                  <a:pt x="3026" y="1710"/>
                </a:lnTo>
                <a:lnTo>
                  <a:pt x="3008" y="1716"/>
                </a:lnTo>
                <a:lnTo>
                  <a:pt x="2992" y="1720"/>
                </a:lnTo>
                <a:lnTo>
                  <a:pt x="2972" y="1720"/>
                </a:lnTo>
                <a:lnTo>
                  <a:pt x="2954" y="1720"/>
                </a:lnTo>
                <a:lnTo>
                  <a:pt x="2935" y="1717"/>
                </a:lnTo>
                <a:lnTo>
                  <a:pt x="2912" y="1714"/>
                </a:lnTo>
                <a:lnTo>
                  <a:pt x="2912" y="1707"/>
                </a:lnTo>
                <a:lnTo>
                  <a:pt x="2912" y="1702"/>
                </a:lnTo>
                <a:lnTo>
                  <a:pt x="2912" y="1698"/>
                </a:lnTo>
                <a:lnTo>
                  <a:pt x="2917" y="1695"/>
                </a:lnTo>
                <a:lnTo>
                  <a:pt x="2957" y="1685"/>
                </a:lnTo>
                <a:lnTo>
                  <a:pt x="2987" y="1656"/>
                </a:lnTo>
                <a:lnTo>
                  <a:pt x="3005" y="1617"/>
                </a:lnTo>
                <a:lnTo>
                  <a:pt x="3014" y="1574"/>
                </a:lnTo>
                <a:lnTo>
                  <a:pt x="3014" y="1529"/>
                </a:lnTo>
                <a:lnTo>
                  <a:pt x="3005" y="1488"/>
                </a:lnTo>
                <a:lnTo>
                  <a:pt x="2990" y="1458"/>
                </a:lnTo>
                <a:lnTo>
                  <a:pt x="2969" y="1446"/>
                </a:lnTo>
                <a:lnTo>
                  <a:pt x="2953" y="1457"/>
                </a:lnTo>
                <a:lnTo>
                  <a:pt x="2935" y="1464"/>
                </a:lnTo>
                <a:lnTo>
                  <a:pt x="2914" y="1466"/>
                </a:lnTo>
                <a:lnTo>
                  <a:pt x="2894" y="1464"/>
                </a:lnTo>
                <a:lnTo>
                  <a:pt x="2873" y="1458"/>
                </a:lnTo>
                <a:lnTo>
                  <a:pt x="2857" y="1449"/>
                </a:lnTo>
                <a:lnTo>
                  <a:pt x="2845" y="1437"/>
                </a:lnTo>
                <a:lnTo>
                  <a:pt x="2839" y="1425"/>
                </a:lnTo>
                <a:lnTo>
                  <a:pt x="2834" y="1425"/>
                </a:lnTo>
                <a:lnTo>
                  <a:pt x="2831" y="1425"/>
                </a:lnTo>
                <a:lnTo>
                  <a:pt x="2824" y="1410"/>
                </a:lnTo>
                <a:lnTo>
                  <a:pt x="2818" y="1401"/>
                </a:lnTo>
                <a:lnTo>
                  <a:pt x="2810" y="1392"/>
                </a:lnTo>
                <a:lnTo>
                  <a:pt x="2804" y="1388"/>
                </a:lnTo>
                <a:lnTo>
                  <a:pt x="2795" y="1382"/>
                </a:lnTo>
                <a:lnTo>
                  <a:pt x="2786" y="1377"/>
                </a:lnTo>
                <a:lnTo>
                  <a:pt x="2776" y="1374"/>
                </a:lnTo>
                <a:lnTo>
                  <a:pt x="2767" y="1373"/>
                </a:lnTo>
                <a:lnTo>
                  <a:pt x="2774" y="1397"/>
                </a:lnTo>
                <a:lnTo>
                  <a:pt x="2783" y="1421"/>
                </a:lnTo>
                <a:lnTo>
                  <a:pt x="2788" y="1443"/>
                </a:lnTo>
                <a:lnTo>
                  <a:pt x="2791" y="1466"/>
                </a:lnTo>
                <a:lnTo>
                  <a:pt x="2786" y="1485"/>
                </a:lnTo>
                <a:lnTo>
                  <a:pt x="2776" y="1506"/>
                </a:lnTo>
                <a:lnTo>
                  <a:pt x="2756" y="1524"/>
                </a:lnTo>
                <a:lnTo>
                  <a:pt x="2725" y="1542"/>
                </a:lnTo>
                <a:lnTo>
                  <a:pt x="2707" y="1544"/>
                </a:lnTo>
                <a:lnTo>
                  <a:pt x="2684" y="1547"/>
                </a:lnTo>
                <a:lnTo>
                  <a:pt x="2659" y="1550"/>
                </a:lnTo>
                <a:lnTo>
                  <a:pt x="2633" y="1554"/>
                </a:lnTo>
                <a:lnTo>
                  <a:pt x="2606" y="1559"/>
                </a:lnTo>
                <a:lnTo>
                  <a:pt x="2585" y="1566"/>
                </a:lnTo>
                <a:lnTo>
                  <a:pt x="2569" y="1575"/>
                </a:lnTo>
                <a:lnTo>
                  <a:pt x="2560" y="1587"/>
                </a:lnTo>
                <a:lnTo>
                  <a:pt x="2540" y="1649"/>
                </a:lnTo>
                <a:lnTo>
                  <a:pt x="2522" y="1713"/>
                </a:lnTo>
                <a:lnTo>
                  <a:pt x="2501" y="1779"/>
                </a:lnTo>
                <a:lnTo>
                  <a:pt x="2480" y="1845"/>
                </a:lnTo>
                <a:lnTo>
                  <a:pt x="2456" y="1909"/>
                </a:lnTo>
                <a:lnTo>
                  <a:pt x="2431" y="1975"/>
                </a:lnTo>
                <a:lnTo>
                  <a:pt x="2404" y="2037"/>
                </a:lnTo>
                <a:lnTo>
                  <a:pt x="2375" y="2098"/>
                </a:lnTo>
                <a:lnTo>
                  <a:pt x="2366" y="2106"/>
                </a:lnTo>
                <a:lnTo>
                  <a:pt x="2354" y="2122"/>
                </a:lnTo>
                <a:lnTo>
                  <a:pt x="2336" y="2142"/>
                </a:lnTo>
                <a:lnTo>
                  <a:pt x="2318" y="2164"/>
                </a:lnTo>
                <a:lnTo>
                  <a:pt x="2299" y="2185"/>
                </a:lnTo>
                <a:lnTo>
                  <a:pt x="2284" y="2205"/>
                </a:lnTo>
                <a:lnTo>
                  <a:pt x="2272" y="2218"/>
                </a:lnTo>
                <a:lnTo>
                  <a:pt x="2269" y="2227"/>
                </a:lnTo>
                <a:lnTo>
                  <a:pt x="2275" y="2235"/>
                </a:lnTo>
                <a:lnTo>
                  <a:pt x="2282" y="2244"/>
                </a:lnTo>
                <a:lnTo>
                  <a:pt x="2290" y="2251"/>
                </a:lnTo>
                <a:lnTo>
                  <a:pt x="2299" y="2265"/>
                </a:lnTo>
                <a:lnTo>
                  <a:pt x="2275" y="2308"/>
                </a:lnTo>
                <a:lnTo>
                  <a:pt x="2246" y="2349"/>
                </a:lnTo>
                <a:lnTo>
                  <a:pt x="2212" y="2385"/>
                </a:lnTo>
                <a:lnTo>
                  <a:pt x="2176" y="2418"/>
                </a:lnTo>
                <a:lnTo>
                  <a:pt x="2137" y="2448"/>
                </a:lnTo>
                <a:lnTo>
                  <a:pt x="2098" y="2479"/>
                </a:lnTo>
                <a:lnTo>
                  <a:pt x="2059" y="2512"/>
                </a:lnTo>
                <a:lnTo>
                  <a:pt x="2026" y="2550"/>
                </a:lnTo>
                <a:lnTo>
                  <a:pt x="2012" y="2568"/>
                </a:lnTo>
                <a:lnTo>
                  <a:pt x="2002" y="2586"/>
                </a:lnTo>
                <a:lnTo>
                  <a:pt x="1991" y="2604"/>
                </a:lnTo>
                <a:lnTo>
                  <a:pt x="1982" y="2623"/>
                </a:lnTo>
                <a:lnTo>
                  <a:pt x="1973" y="2641"/>
                </a:lnTo>
                <a:lnTo>
                  <a:pt x="1964" y="2662"/>
                </a:lnTo>
                <a:lnTo>
                  <a:pt x="1955" y="2682"/>
                </a:lnTo>
                <a:lnTo>
                  <a:pt x="1948" y="2704"/>
                </a:lnTo>
                <a:lnTo>
                  <a:pt x="1934" y="2727"/>
                </a:lnTo>
                <a:lnTo>
                  <a:pt x="1922" y="2754"/>
                </a:lnTo>
                <a:lnTo>
                  <a:pt x="1912" y="2781"/>
                </a:lnTo>
                <a:lnTo>
                  <a:pt x="1903" y="2809"/>
                </a:lnTo>
                <a:lnTo>
                  <a:pt x="1894" y="2838"/>
                </a:lnTo>
                <a:lnTo>
                  <a:pt x="1889" y="2868"/>
                </a:lnTo>
                <a:lnTo>
                  <a:pt x="1886" y="2896"/>
                </a:lnTo>
                <a:lnTo>
                  <a:pt x="1886" y="2928"/>
                </a:lnTo>
                <a:lnTo>
                  <a:pt x="1904" y="2971"/>
                </a:lnTo>
                <a:lnTo>
                  <a:pt x="1919" y="3016"/>
                </a:lnTo>
                <a:lnTo>
                  <a:pt x="1931" y="3060"/>
                </a:lnTo>
                <a:lnTo>
                  <a:pt x="1940" y="3103"/>
                </a:lnTo>
                <a:lnTo>
                  <a:pt x="1943" y="3147"/>
                </a:lnTo>
                <a:lnTo>
                  <a:pt x="1942" y="3192"/>
                </a:lnTo>
                <a:lnTo>
                  <a:pt x="1934" y="3237"/>
                </a:lnTo>
                <a:lnTo>
                  <a:pt x="1922" y="3288"/>
                </a:lnTo>
                <a:lnTo>
                  <a:pt x="1922" y="3295"/>
                </a:lnTo>
                <a:lnTo>
                  <a:pt x="1925" y="3304"/>
                </a:lnTo>
                <a:lnTo>
                  <a:pt x="1928" y="3313"/>
                </a:lnTo>
                <a:lnTo>
                  <a:pt x="1934" y="3322"/>
                </a:lnTo>
                <a:lnTo>
                  <a:pt x="1939" y="3331"/>
                </a:lnTo>
                <a:lnTo>
                  <a:pt x="1946" y="3340"/>
                </a:lnTo>
                <a:lnTo>
                  <a:pt x="1952" y="3351"/>
                </a:lnTo>
                <a:lnTo>
                  <a:pt x="1960" y="3361"/>
                </a:lnTo>
                <a:lnTo>
                  <a:pt x="1964" y="3382"/>
                </a:lnTo>
                <a:lnTo>
                  <a:pt x="1978" y="3432"/>
                </a:lnTo>
                <a:lnTo>
                  <a:pt x="1996" y="3496"/>
                </a:lnTo>
                <a:lnTo>
                  <a:pt x="2017" y="3569"/>
                </a:lnTo>
                <a:lnTo>
                  <a:pt x="2036" y="3640"/>
                </a:lnTo>
                <a:lnTo>
                  <a:pt x="2054" y="3703"/>
                </a:lnTo>
                <a:lnTo>
                  <a:pt x="2066" y="3746"/>
                </a:lnTo>
                <a:lnTo>
                  <a:pt x="2074" y="3764"/>
                </a:lnTo>
                <a:lnTo>
                  <a:pt x="2080" y="3817"/>
                </a:lnTo>
                <a:lnTo>
                  <a:pt x="2089" y="3871"/>
                </a:lnTo>
                <a:lnTo>
                  <a:pt x="2098" y="3923"/>
                </a:lnTo>
                <a:lnTo>
                  <a:pt x="2108" y="3977"/>
                </a:lnTo>
                <a:lnTo>
                  <a:pt x="2117" y="4031"/>
                </a:lnTo>
                <a:lnTo>
                  <a:pt x="2131" y="4085"/>
                </a:lnTo>
                <a:lnTo>
                  <a:pt x="2143" y="4139"/>
                </a:lnTo>
                <a:lnTo>
                  <a:pt x="2159" y="4193"/>
                </a:lnTo>
                <a:lnTo>
                  <a:pt x="2170" y="4225"/>
                </a:lnTo>
                <a:lnTo>
                  <a:pt x="2179" y="4249"/>
                </a:lnTo>
                <a:lnTo>
                  <a:pt x="2183" y="4267"/>
                </a:lnTo>
                <a:lnTo>
                  <a:pt x="2186" y="4282"/>
                </a:lnTo>
                <a:lnTo>
                  <a:pt x="2183" y="4294"/>
                </a:lnTo>
                <a:lnTo>
                  <a:pt x="2176" y="4309"/>
                </a:lnTo>
                <a:lnTo>
                  <a:pt x="2161" y="4327"/>
                </a:lnTo>
                <a:lnTo>
                  <a:pt x="2143" y="4352"/>
                </a:lnTo>
                <a:lnTo>
                  <a:pt x="2108" y="4366"/>
                </a:lnTo>
                <a:lnTo>
                  <a:pt x="2075" y="4382"/>
                </a:lnTo>
                <a:lnTo>
                  <a:pt x="2042" y="4397"/>
                </a:lnTo>
                <a:lnTo>
                  <a:pt x="2009" y="4414"/>
                </a:lnTo>
                <a:lnTo>
                  <a:pt x="1975" y="4427"/>
                </a:lnTo>
                <a:lnTo>
                  <a:pt x="1940" y="4442"/>
                </a:lnTo>
                <a:lnTo>
                  <a:pt x="1906" y="4454"/>
                </a:lnTo>
                <a:lnTo>
                  <a:pt x="1874" y="4465"/>
                </a:lnTo>
                <a:lnTo>
                  <a:pt x="1870" y="4493"/>
                </a:lnTo>
                <a:lnTo>
                  <a:pt x="1864" y="4525"/>
                </a:lnTo>
                <a:lnTo>
                  <a:pt x="1853" y="4556"/>
                </a:lnTo>
                <a:lnTo>
                  <a:pt x="1844" y="4588"/>
                </a:lnTo>
                <a:lnTo>
                  <a:pt x="1829" y="4618"/>
                </a:lnTo>
                <a:lnTo>
                  <a:pt x="1816" y="4649"/>
                </a:lnTo>
                <a:lnTo>
                  <a:pt x="1801" y="4678"/>
                </a:lnTo>
                <a:lnTo>
                  <a:pt x="1787" y="4706"/>
                </a:lnTo>
                <a:lnTo>
                  <a:pt x="1787" y="4711"/>
                </a:lnTo>
                <a:lnTo>
                  <a:pt x="1787" y="4718"/>
                </a:lnTo>
                <a:lnTo>
                  <a:pt x="1837" y="4754"/>
                </a:lnTo>
                <a:lnTo>
                  <a:pt x="1892" y="4814"/>
                </a:lnTo>
                <a:lnTo>
                  <a:pt x="1946" y="4891"/>
                </a:lnTo>
                <a:lnTo>
                  <a:pt x="1994" y="4981"/>
                </a:lnTo>
                <a:lnTo>
                  <a:pt x="2027" y="5071"/>
                </a:lnTo>
                <a:lnTo>
                  <a:pt x="2045" y="5161"/>
                </a:lnTo>
                <a:lnTo>
                  <a:pt x="2039" y="5240"/>
                </a:lnTo>
                <a:lnTo>
                  <a:pt x="2005" y="5305"/>
                </a:lnTo>
                <a:lnTo>
                  <a:pt x="1958" y="5297"/>
                </a:lnTo>
                <a:lnTo>
                  <a:pt x="1916" y="5290"/>
                </a:lnTo>
                <a:lnTo>
                  <a:pt x="1874" y="5279"/>
                </a:lnTo>
                <a:lnTo>
                  <a:pt x="1838" y="5267"/>
                </a:lnTo>
                <a:lnTo>
                  <a:pt x="1799" y="5252"/>
                </a:lnTo>
                <a:lnTo>
                  <a:pt x="1763" y="5236"/>
                </a:lnTo>
                <a:lnTo>
                  <a:pt x="1727" y="5216"/>
                </a:lnTo>
                <a:lnTo>
                  <a:pt x="1691" y="5195"/>
                </a:lnTo>
                <a:lnTo>
                  <a:pt x="1658" y="5168"/>
                </a:lnTo>
                <a:lnTo>
                  <a:pt x="1633" y="5146"/>
                </a:lnTo>
                <a:lnTo>
                  <a:pt x="1610" y="5123"/>
                </a:lnTo>
                <a:lnTo>
                  <a:pt x="1592" y="5104"/>
                </a:lnTo>
                <a:lnTo>
                  <a:pt x="1573" y="5080"/>
                </a:lnTo>
                <a:lnTo>
                  <a:pt x="1555" y="5057"/>
                </a:lnTo>
                <a:lnTo>
                  <a:pt x="1535" y="5030"/>
                </a:lnTo>
                <a:lnTo>
                  <a:pt x="1516" y="5000"/>
                </a:lnTo>
                <a:lnTo>
                  <a:pt x="1508" y="4996"/>
                </a:lnTo>
                <a:lnTo>
                  <a:pt x="1498" y="4994"/>
                </a:lnTo>
                <a:lnTo>
                  <a:pt x="1489" y="4991"/>
                </a:lnTo>
                <a:lnTo>
                  <a:pt x="1481" y="4990"/>
                </a:lnTo>
                <a:lnTo>
                  <a:pt x="1471" y="4987"/>
                </a:lnTo>
                <a:lnTo>
                  <a:pt x="1459" y="4984"/>
                </a:lnTo>
                <a:lnTo>
                  <a:pt x="1456" y="4960"/>
                </a:lnTo>
                <a:lnTo>
                  <a:pt x="1454" y="4931"/>
                </a:lnTo>
                <a:lnTo>
                  <a:pt x="1450" y="4898"/>
                </a:lnTo>
                <a:lnTo>
                  <a:pt x="1447" y="4865"/>
                </a:lnTo>
                <a:lnTo>
                  <a:pt x="1444" y="4831"/>
                </a:lnTo>
                <a:lnTo>
                  <a:pt x="1445" y="4802"/>
                </a:lnTo>
                <a:lnTo>
                  <a:pt x="1450" y="4778"/>
                </a:lnTo>
                <a:lnTo>
                  <a:pt x="1459" y="4766"/>
                </a:lnTo>
                <a:lnTo>
                  <a:pt x="1465" y="4736"/>
                </a:lnTo>
                <a:lnTo>
                  <a:pt x="1471" y="4708"/>
                </a:lnTo>
                <a:lnTo>
                  <a:pt x="1474" y="4681"/>
                </a:lnTo>
                <a:lnTo>
                  <a:pt x="1477" y="4655"/>
                </a:lnTo>
                <a:lnTo>
                  <a:pt x="1477" y="4628"/>
                </a:lnTo>
                <a:lnTo>
                  <a:pt x="1478" y="4603"/>
                </a:lnTo>
                <a:lnTo>
                  <a:pt x="1480" y="4576"/>
                </a:lnTo>
                <a:lnTo>
                  <a:pt x="1481" y="4550"/>
                </a:lnTo>
                <a:lnTo>
                  <a:pt x="1475" y="4546"/>
                </a:lnTo>
                <a:lnTo>
                  <a:pt x="1466" y="4546"/>
                </a:lnTo>
                <a:lnTo>
                  <a:pt x="1456" y="4546"/>
                </a:lnTo>
                <a:lnTo>
                  <a:pt x="1442" y="4549"/>
                </a:lnTo>
                <a:lnTo>
                  <a:pt x="1424" y="4550"/>
                </a:lnTo>
                <a:lnTo>
                  <a:pt x="1405" y="4555"/>
                </a:lnTo>
                <a:lnTo>
                  <a:pt x="1382" y="4558"/>
                </a:lnTo>
                <a:lnTo>
                  <a:pt x="1355" y="4562"/>
                </a:lnTo>
                <a:lnTo>
                  <a:pt x="1355" y="4565"/>
                </a:lnTo>
                <a:lnTo>
                  <a:pt x="1355" y="4568"/>
                </a:lnTo>
                <a:lnTo>
                  <a:pt x="1357" y="4576"/>
                </a:lnTo>
                <a:lnTo>
                  <a:pt x="1358" y="4589"/>
                </a:lnTo>
                <a:lnTo>
                  <a:pt x="1355" y="4603"/>
                </a:lnTo>
                <a:lnTo>
                  <a:pt x="1354" y="4619"/>
                </a:lnTo>
                <a:lnTo>
                  <a:pt x="1349" y="4634"/>
                </a:lnTo>
                <a:lnTo>
                  <a:pt x="1346" y="4651"/>
                </a:lnTo>
                <a:lnTo>
                  <a:pt x="1345" y="4664"/>
                </a:lnTo>
                <a:lnTo>
                  <a:pt x="1345" y="4678"/>
                </a:lnTo>
                <a:lnTo>
                  <a:pt x="1369" y="4709"/>
                </a:lnTo>
                <a:lnTo>
                  <a:pt x="1387" y="4745"/>
                </a:lnTo>
                <a:lnTo>
                  <a:pt x="1397" y="4784"/>
                </a:lnTo>
                <a:lnTo>
                  <a:pt x="1405" y="4826"/>
                </a:lnTo>
                <a:lnTo>
                  <a:pt x="1405" y="4868"/>
                </a:lnTo>
                <a:lnTo>
                  <a:pt x="1400" y="4912"/>
                </a:lnTo>
                <a:lnTo>
                  <a:pt x="1393" y="4955"/>
                </a:lnTo>
                <a:lnTo>
                  <a:pt x="1385" y="4999"/>
                </a:lnTo>
                <a:lnTo>
                  <a:pt x="1373" y="5002"/>
                </a:lnTo>
                <a:lnTo>
                  <a:pt x="1363" y="5006"/>
                </a:lnTo>
                <a:lnTo>
                  <a:pt x="1354" y="5008"/>
                </a:lnTo>
                <a:lnTo>
                  <a:pt x="1345" y="5011"/>
                </a:lnTo>
                <a:lnTo>
                  <a:pt x="1334" y="5012"/>
                </a:lnTo>
                <a:lnTo>
                  <a:pt x="1325" y="5014"/>
                </a:lnTo>
                <a:lnTo>
                  <a:pt x="1316" y="5014"/>
                </a:lnTo>
                <a:lnTo>
                  <a:pt x="1307" y="5015"/>
                </a:lnTo>
                <a:lnTo>
                  <a:pt x="1261" y="5065"/>
                </a:lnTo>
                <a:lnTo>
                  <a:pt x="1208" y="5116"/>
                </a:lnTo>
                <a:lnTo>
                  <a:pt x="1150" y="5162"/>
                </a:lnTo>
                <a:lnTo>
                  <a:pt x="1087" y="5206"/>
                </a:lnTo>
                <a:lnTo>
                  <a:pt x="1019" y="5240"/>
                </a:lnTo>
                <a:lnTo>
                  <a:pt x="950" y="5266"/>
                </a:lnTo>
                <a:lnTo>
                  <a:pt x="880" y="5279"/>
                </a:lnTo>
                <a:lnTo>
                  <a:pt x="811" y="5281"/>
                </a:lnTo>
                <a:lnTo>
                  <a:pt x="788" y="5254"/>
                </a:lnTo>
                <a:lnTo>
                  <a:pt x="779" y="5210"/>
                </a:lnTo>
                <a:lnTo>
                  <a:pt x="781" y="5155"/>
                </a:lnTo>
                <a:lnTo>
                  <a:pt x="790" y="5092"/>
                </a:lnTo>
                <a:lnTo>
                  <a:pt x="802" y="5027"/>
                </a:lnTo>
                <a:lnTo>
                  <a:pt x="818" y="4967"/>
                </a:lnTo>
                <a:lnTo>
                  <a:pt x="832" y="4918"/>
                </a:lnTo>
                <a:lnTo>
                  <a:pt x="842" y="4886"/>
                </a:lnTo>
                <a:lnTo>
                  <a:pt x="845" y="4877"/>
                </a:lnTo>
                <a:lnTo>
                  <a:pt x="851" y="4870"/>
                </a:lnTo>
                <a:lnTo>
                  <a:pt x="857" y="4858"/>
                </a:lnTo>
                <a:lnTo>
                  <a:pt x="866" y="4847"/>
                </a:lnTo>
                <a:lnTo>
                  <a:pt x="872" y="4834"/>
                </a:lnTo>
                <a:lnTo>
                  <a:pt x="878" y="4823"/>
                </a:lnTo>
                <a:lnTo>
                  <a:pt x="883" y="4813"/>
                </a:lnTo>
                <a:lnTo>
                  <a:pt x="887" y="4807"/>
                </a:lnTo>
                <a:lnTo>
                  <a:pt x="874" y="4810"/>
                </a:lnTo>
                <a:lnTo>
                  <a:pt x="862" y="4816"/>
                </a:lnTo>
                <a:lnTo>
                  <a:pt x="850" y="4823"/>
                </a:lnTo>
                <a:lnTo>
                  <a:pt x="838" y="4832"/>
                </a:lnTo>
                <a:lnTo>
                  <a:pt x="824" y="4840"/>
                </a:lnTo>
                <a:lnTo>
                  <a:pt x="812" y="4849"/>
                </a:lnTo>
                <a:lnTo>
                  <a:pt x="800" y="4856"/>
                </a:lnTo>
                <a:lnTo>
                  <a:pt x="788" y="4862"/>
                </a:lnTo>
                <a:lnTo>
                  <a:pt x="746" y="4885"/>
                </a:lnTo>
                <a:lnTo>
                  <a:pt x="703" y="4903"/>
                </a:lnTo>
                <a:lnTo>
                  <a:pt x="658" y="4916"/>
                </a:lnTo>
                <a:lnTo>
                  <a:pt x="613" y="4925"/>
                </a:lnTo>
                <a:lnTo>
                  <a:pt x="565" y="4930"/>
                </a:lnTo>
                <a:lnTo>
                  <a:pt x="518" y="4931"/>
                </a:lnTo>
                <a:lnTo>
                  <a:pt x="473" y="4930"/>
                </a:lnTo>
                <a:lnTo>
                  <a:pt x="430" y="4927"/>
                </a:lnTo>
                <a:lnTo>
                  <a:pt x="395" y="4918"/>
                </a:lnTo>
                <a:lnTo>
                  <a:pt x="356" y="4910"/>
                </a:lnTo>
                <a:lnTo>
                  <a:pt x="311" y="4897"/>
                </a:lnTo>
                <a:lnTo>
                  <a:pt x="266" y="4885"/>
                </a:lnTo>
                <a:lnTo>
                  <a:pt x="221" y="4867"/>
                </a:lnTo>
                <a:lnTo>
                  <a:pt x="184" y="4849"/>
                </a:lnTo>
                <a:lnTo>
                  <a:pt x="154" y="4829"/>
                </a:lnTo>
                <a:lnTo>
                  <a:pt x="137" y="4808"/>
                </a:lnTo>
                <a:lnTo>
                  <a:pt x="115" y="4805"/>
                </a:lnTo>
                <a:lnTo>
                  <a:pt x="92" y="4801"/>
                </a:lnTo>
                <a:lnTo>
                  <a:pt x="70" y="4793"/>
                </a:lnTo>
                <a:lnTo>
                  <a:pt x="49" y="4784"/>
                </a:lnTo>
                <a:lnTo>
                  <a:pt x="29" y="4771"/>
                </a:lnTo>
                <a:lnTo>
                  <a:pt x="14" y="4757"/>
                </a:lnTo>
                <a:lnTo>
                  <a:pt x="4" y="4739"/>
                </a:lnTo>
                <a:lnTo>
                  <a:pt x="0" y="4721"/>
                </a:lnTo>
                <a:lnTo>
                  <a:pt x="25" y="4684"/>
                </a:lnTo>
                <a:lnTo>
                  <a:pt x="56" y="4645"/>
                </a:lnTo>
                <a:lnTo>
                  <a:pt x="86" y="4603"/>
                </a:lnTo>
                <a:lnTo>
                  <a:pt x="118" y="4561"/>
                </a:lnTo>
                <a:lnTo>
                  <a:pt x="145" y="4517"/>
                </a:lnTo>
                <a:lnTo>
                  <a:pt x="169" y="4474"/>
                </a:lnTo>
                <a:lnTo>
                  <a:pt x="187" y="4432"/>
                </a:lnTo>
                <a:lnTo>
                  <a:pt x="199" y="4391"/>
                </a:lnTo>
                <a:lnTo>
                  <a:pt x="206" y="4382"/>
                </a:lnTo>
                <a:lnTo>
                  <a:pt x="218" y="4379"/>
                </a:lnTo>
                <a:lnTo>
                  <a:pt x="230" y="4376"/>
                </a:lnTo>
                <a:lnTo>
                  <a:pt x="247" y="4375"/>
                </a:lnTo>
                <a:lnTo>
                  <a:pt x="262" y="4372"/>
                </a:lnTo>
                <a:lnTo>
                  <a:pt x="280" y="4369"/>
                </a:lnTo>
                <a:lnTo>
                  <a:pt x="296" y="4363"/>
                </a:lnTo>
                <a:lnTo>
                  <a:pt x="313" y="4355"/>
                </a:lnTo>
                <a:lnTo>
                  <a:pt x="311" y="4300"/>
                </a:lnTo>
                <a:lnTo>
                  <a:pt x="308" y="4253"/>
                </a:lnTo>
                <a:lnTo>
                  <a:pt x="304" y="4211"/>
                </a:lnTo>
                <a:lnTo>
                  <a:pt x="304" y="4174"/>
                </a:lnTo>
                <a:lnTo>
                  <a:pt x="308" y="4138"/>
                </a:lnTo>
                <a:lnTo>
                  <a:pt x="322" y="4106"/>
                </a:lnTo>
                <a:lnTo>
                  <a:pt x="346" y="4073"/>
                </a:lnTo>
                <a:lnTo>
                  <a:pt x="386" y="4042"/>
                </a:lnTo>
                <a:lnTo>
                  <a:pt x="383" y="4021"/>
                </a:lnTo>
                <a:lnTo>
                  <a:pt x="380" y="4004"/>
                </a:lnTo>
                <a:lnTo>
                  <a:pt x="374" y="3986"/>
                </a:lnTo>
                <a:lnTo>
                  <a:pt x="370" y="3971"/>
                </a:lnTo>
                <a:lnTo>
                  <a:pt x="365" y="3955"/>
                </a:lnTo>
                <a:lnTo>
                  <a:pt x="364" y="3940"/>
                </a:lnTo>
                <a:lnTo>
                  <a:pt x="365" y="3923"/>
                </a:lnTo>
                <a:lnTo>
                  <a:pt x="374" y="3907"/>
                </a:lnTo>
                <a:lnTo>
                  <a:pt x="395" y="3883"/>
                </a:lnTo>
                <a:lnTo>
                  <a:pt x="415" y="3866"/>
                </a:lnTo>
                <a:lnTo>
                  <a:pt x="433" y="3851"/>
                </a:lnTo>
                <a:lnTo>
                  <a:pt x="448" y="3841"/>
                </a:lnTo>
                <a:lnTo>
                  <a:pt x="457" y="3826"/>
                </a:lnTo>
                <a:lnTo>
                  <a:pt x="463" y="3809"/>
                </a:lnTo>
                <a:lnTo>
                  <a:pt x="461" y="3784"/>
                </a:lnTo>
                <a:lnTo>
                  <a:pt x="455" y="3751"/>
                </a:lnTo>
                <a:lnTo>
                  <a:pt x="439" y="3713"/>
                </a:lnTo>
                <a:lnTo>
                  <a:pt x="425" y="3677"/>
                </a:lnTo>
                <a:lnTo>
                  <a:pt x="412" y="3643"/>
                </a:lnTo>
                <a:lnTo>
                  <a:pt x="401" y="3610"/>
                </a:lnTo>
                <a:lnTo>
                  <a:pt x="391" y="3575"/>
                </a:lnTo>
                <a:lnTo>
                  <a:pt x="383" y="3541"/>
                </a:lnTo>
                <a:lnTo>
                  <a:pt x="374" y="3505"/>
                </a:lnTo>
                <a:lnTo>
                  <a:pt x="370" y="3471"/>
                </a:lnTo>
                <a:lnTo>
                  <a:pt x="338" y="3448"/>
                </a:lnTo>
                <a:lnTo>
                  <a:pt x="316" y="3432"/>
                </a:lnTo>
                <a:lnTo>
                  <a:pt x="299" y="3414"/>
                </a:lnTo>
                <a:lnTo>
                  <a:pt x="290" y="3397"/>
                </a:lnTo>
                <a:lnTo>
                  <a:pt x="284" y="3376"/>
                </a:lnTo>
                <a:lnTo>
                  <a:pt x="283" y="3352"/>
                </a:lnTo>
                <a:lnTo>
                  <a:pt x="283" y="3319"/>
                </a:lnTo>
                <a:lnTo>
                  <a:pt x="284" y="3280"/>
                </a:lnTo>
                <a:lnTo>
                  <a:pt x="289" y="3240"/>
                </a:lnTo>
                <a:lnTo>
                  <a:pt x="296" y="3201"/>
                </a:lnTo>
                <a:lnTo>
                  <a:pt x="305" y="3162"/>
                </a:lnTo>
                <a:lnTo>
                  <a:pt x="314" y="3126"/>
                </a:lnTo>
                <a:lnTo>
                  <a:pt x="323" y="3087"/>
                </a:lnTo>
                <a:lnTo>
                  <a:pt x="334" y="3051"/>
                </a:lnTo>
                <a:lnTo>
                  <a:pt x="343" y="3013"/>
                </a:lnTo>
                <a:lnTo>
                  <a:pt x="353" y="2977"/>
                </a:lnTo>
                <a:lnTo>
                  <a:pt x="355" y="2919"/>
                </a:lnTo>
                <a:lnTo>
                  <a:pt x="361" y="2850"/>
                </a:lnTo>
                <a:lnTo>
                  <a:pt x="370" y="2772"/>
                </a:lnTo>
                <a:lnTo>
                  <a:pt x="383" y="2692"/>
                </a:lnTo>
                <a:lnTo>
                  <a:pt x="401" y="2613"/>
                </a:lnTo>
                <a:lnTo>
                  <a:pt x="425" y="2541"/>
                </a:lnTo>
                <a:lnTo>
                  <a:pt x="455" y="2481"/>
                </a:lnTo>
                <a:lnTo>
                  <a:pt x="496" y="2439"/>
                </a:lnTo>
                <a:lnTo>
                  <a:pt x="487" y="2418"/>
                </a:lnTo>
                <a:lnTo>
                  <a:pt x="478" y="2403"/>
                </a:lnTo>
                <a:lnTo>
                  <a:pt x="467" y="2389"/>
                </a:lnTo>
                <a:lnTo>
                  <a:pt x="460" y="2380"/>
                </a:lnTo>
                <a:lnTo>
                  <a:pt x="451" y="2368"/>
                </a:lnTo>
                <a:lnTo>
                  <a:pt x="448" y="2355"/>
                </a:lnTo>
                <a:lnTo>
                  <a:pt x="449" y="2337"/>
                </a:lnTo>
                <a:lnTo>
                  <a:pt x="455" y="2314"/>
                </a:lnTo>
                <a:lnTo>
                  <a:pt x="461" y="2301"/>
                </a:lnTo>
                <a:lnTo>
                  <a:pt x="466" y="2295"/>
                </a:lnTo>
                <a:lnTo>
                  <a:pt x="467" y="2289"/>
                </a:lnTo>
                <a:lnTo>
                  <a:pt x="470" y="2286"/>
                </a:lnTo>
                <a:lnTo>
                  <a:pt x="442" y="2277"/>
                </a:lnTo>
                <a:lnTo>
                  <a:pt x="419" y="2271"/>
                </a:lnTo>
                <a:lnTo>
                  <a:pt x="401" y="2265"/>
                </a:lnTo>
                <a:lnTo>
                  <a:pt x="389" y="2260"/>
                </a:lnTo>
                <a:lnTo>
                  <a:pt x="380" y="2250"/>
                </a:lnTo>
                <a:lnTo>
                  <a:pt x="377" y="2236"/>
                </a:lnTo>
                <a:lnTo>
                  <a:pt x="379" y="2217"/>
                </a:lnTo>
                <a:lnTo>
                  <a:pt x="385" y="2190"/>
                </a:lnTo>
                <a:lnTo>
                  <a:pt x="388" y="2178"/>
                </a:lnTo>
                <a:lnTo>
                  <a:pt x="397" y="2164"/>
                </a:lnTo>
                <a:lnTo>
                  <a:pt x="406" y="2146"/>
                </a:lnTo>
                <a:lnTo>
                  <a:pt x="418" y="2130"/>
                </a:lnTo>
                <a:lnTo>
                  <a:pt x="427" y="2112"/>
                </a:lnTo>
                <a:lnTo>
                  <a:pt x="436" y="2098"/>
                </a:lnTo>
                <a:lnTo>
                  <a:pt x="443" y="2086"/>
                </a:lnTo>
                <a:lnTo>
                  <a:pt x="446" y="2080"/>
                </a:lnTo>
                <a:lnTo>
                  <a:pt x="433" y="2067"/>
                </a:lnTo>
                <a:lnTo>
                  <a:pt x="425" y="2056"/>
                </a:lnTo>
                <a:lnTo>
                  <a:pt x="419" y="2043"/>
                </a:lnTo>
                <a:lnTo>
                  <a:pt x="419" y="2032"/>
                </a:lnTo>
                <a:lnTo>
                  <a:pt x="419" y="2019"/>
                </a:lnTo>
                <a:lnTo>
                  <a:pt x="421" y="2007"/>
                </a:lnTo>
                <a:lnTo>
                  <a:pt x="422" y="1993"/>
                </a:lnTo>
                <a:lnTo>
                  <a:pt x="425" y="1980"/>
                </a:lnTo>
                <a:lnTo>
                  <a:pt x="430" y="1978"/>
                </a:lnTo>
                <a:lnTo>
                  <a:pt x="445" y="1980"/>
                </a:lnTo>
                <a:lnTo>
                  <a:pt x="463" y="1980"/>
                </a:lnTo>
                <a:lnTo>
                  <a:pt x="484" y="1981"/>
                </a:lnTo>
                <a:lnTo>
                  <a:pt x="502" y="1978"/>
                </a:lnTo>
                <a:lnTo>
                  <a:pt x="518" y="1974"/>
                </a:lnTo>
                <a:lnTo>
                  <a:pt x="527" y="1962"/>
                </a:lnTo>
                <a:lnTo>
                  <a:pt x="527" y="1945"/>
                </a:lnTo>
                <a:lnTo>
                  <a:pt x="493" y="1920"/>
                </a:lnTo>
                <a:lnTo>
                  <a:pt x="481" y="1891"/>
                </a:lnTo>
                <a:lnTo>
                  <a:pt x="482" y="1858"/>
                </a:lnTo>
                <a:lnTo>
                  <a:pt x="499" y="1825"/>
                </a:lnTo>
                <a:lnTo>
                  <a:pt x="521" y="1792"/>
                </a:lnTo>
                <a:lnTo>
                  <a:pt x="550" y="1764"/>
                </a:lnTo>
                <a:lnTo>
                  <a:pt x="580" y="1738"/>
                </a:lnTo>
                <a:lnTo>
                  <a:pt x="607" y="1722"/>
                </a:lnTo>
                <a:lnTo>
                  <a:pt x="610" y="1707"/>
                </a:lnTo>
                <a:lnTo>
                  <a:pt x="613" y="1696"/>
                </a:lnTo>
                <a:lnTo>
                  <a:pt x="614" y="1688"/>
                </a:lnTo>
                <a:lnTo>
                  <a:pt x="619" y="1679"/>
                </a:lnTo>
                <a:lnTo>
                  <a:pt x="623" y="1670"/>
                </a:lnTo>
                <a:lnTo>
                  <a:pt x="628" y="1662"/>
                </a:lnTo>
                <a:lnTo>
                  <a:pt x="635" y="1653"/>
                </a:lnTo>
                <a:lnTo>
                  <a:pt x="646" y="1646"/>
                </a:lnTo>
                <a:lnTo>
                  <a:pt x="655" y="1638"/>
                </a:lnTo>
                <a:lnTo>
                  <a:pt x="662" y="1626"/>
                </a:lnTo>
                <a:lnTo>
                  <a:pt x="667" y="1610"/>
                </a:lnTo>
                <a:lnTo>
                  <a:pt x="673" y="1593"/>
                </a:lnTo>
                <a:lnTo>
                  <a:pt x="677" y="1577"/>
                </a:lnTo>
                <a:lnTo>
                  <a:pt x="683" y="1565"/>
                </a:lnTo>
                <a:lnTo>
                  <a:pt x="692" y="1556"/>
                </a:lnTo>
                <a:lnTo>
                  <a:pt x="707" y="1556"/>
                </a:lnTo>
                <a:lnTo>
                  <a:pt x="710" y="1569"/>
                </a:lnTo>
                <a:lnTo>
                  <a:pt x="716" y="1581"/>
                </a:lnTo>
                <a:lnTo>
                  <a:pt x="724" y="1590"/>
                </a:lnTo>
                <a:lnTo>
                  <a:pt x="734" y="1601"/>
                </a:lnTo>
                <a:lnTo>
                  <a:pt x="745" y="1605"/>
                </a:lnTo>
                <a:lnTo>
                  <a:pt x="758" y="1611"/>
                </a:lnTo>
                <a:lnTo>
                  <a:pt x="772" y="1616"/>
                </a:lnTo>
                <a:lnTo>
                  <a:pt x="790" y="1622"/>
                </a:lnTo>
                <a:lnTo>
                  <a:pt x="793" y="1599"/>
                </a:lnTo>
                <a:lnTo>
                  <a:pt x="796" y="1587"/>
                </a:lnTo>
                <a:lnTo>
                  <a:pt x="796" y="1583"/>
                </a:lnTo>
                <a:lnTo>
                  <a:pt x="797" y="1583"/>
                </a:lnTo>
                <a:lnTo>
                  <a:pt x="799" y="1586"/>
                </a:lnTo>
                <a:lnTo>
                  <a:pt x="808" y="1589"/>
                </a:lnTo>
                <a:lnTo>
                  <a:pt x="823" y="1592"/>
                </a:lnTo>
                <a:lnTo>
                  <a:pt x="847" y="1592"/>
                </a:lnTo>
                <a:lnTo>
                  <a:pt x="847" y="1587"/>
                </a:lnTo>
                <a:lnTo>
                  <a:pt x="847" y="1584"/>
                </a:lnTo>
                <a:lnTo>
                  <a:pt x="835" y="1572"/>
                </a:lnTo>
                <a:lnTo>
                  <a:pt x="824" y="1565"/>
                </a:lnTo>
                <a:lnTo>
                  <a:pt x="814" y="1556"/>
                </a:lnTo>
                <a:lnTo>
                  <a:pt x="805" y="1551"/>
                </a:lnTo>
                <a:lnTo>
                  <a:pt x="794" y="1544"/>
                </a:lnTo>
                <a:lnTo>
                  <a:pt x="785" y="1539"/>
                </a:lnTo>
                <a:lnTo>
                  <a:pt x="775" y="1535"/>
                </a:lnTo>
                <a:lnTo>
                  <a:pt x="766" y="1530"/>
                </a:lnTo>
                <a:lnTo>
                  <a:pt x="766" y="1524"/>
                </a:lnTo>
                <a:lnTo>
                  <a:pt x="766" y="1520"/>
                </a:lnTo>
                <a:lnTo>
                  <a:pt x="787" y="1505"/>
                </a:lnTo>
                <a:lnTo>
                  <a:pt x="808" y="1497"/>
                </a:lnTo>
                <a:lnTo>
                  <a:pt x="827" y="1494"/>
                </a:lnTo>
                <a:lnTo>
                  <a:pt x="847" y="1497"/>
                </a:lnTo>
                <a:lnTo>
                  <a:pt x="865" y="1502"/>
                </a:lnTo>
                <a:lnTo>
                  <a:pt x="884" y="1512"/>
                </a:lnTo>
                <a:lnTo>
                  <a:pt x="904" y="1526"/>
                </a:lnTo>
                <a:lnTo>
                  <a:pt x="925" y="1542"/>
                </a:lnTo>
                <a:lnTo>
                  <a:pt x="931" y="1541"/>
                </a:lnTo>
                <a:lnTo>
                  <a:pt x="938" y="1539"/>
                </a:lnTo>
                <a:lnTo>
                  <a:pt x="943" y="1533"/>
                </a:lnTo>
                <a:lnTo>
                  <a:pt x="949" y="1526"/>
                </a:lnTo>
                <a:lnTo>
                  <a:pt x="971" y="1509"/>
                </a:lnTo>
                <a:lnTo>
                  <a:pt x="1003" y="1494"/>
                </a:lnTo>
                <a:lnTo>
                  <a:pt x="1037" y="1478"/>
                </a:lnTo>
                <a:lnTo>
                  <a:pt x="1076" y="1467"/>
                </a:lnTo>
                <a:lnTo>
                  <a:pt x="1114" y="1458"/>
                </a:lnTo>
                <a:lnTo>
                  <a:pt x="1151" y="1458"/>
                </a:lnTo>
                <a:lnTo>
                  <a:pt x="1183" y="1467"/>
                </a:lnTo>
                <a:lnTo>
                  <a:pt x="1210" y="1487"/>
                </a:lnTo>
                <a:lnTo>
                  <a:pt x="1214" y="1509"/>
                </a:lnTo>
                <a:lnTo>
                  <a:pt x="1223" y="1521"/>
                </a:lnTo>
                <a:lnTo>
                  <a:pt x="1235" y="1521"/>
                </a:lnTo>
                <a:lnTo>
                  <a:pt x="1250" y="1515"/>
                </a:lnTo>
                <a:lnTo>
                  <a:pt x="1265" y="1505"/>
                </a:lnTo>
                <a:lnTo>
                  <a:pt x="1283" y="1494"/>
                </a:lnTo>
                <a:lnTo>
                  <a:pt x="1300" y="1485"/>
                </a:lnTo>
                <a:lnTo>
                  <a:pt x="1316" y="1482"/>
                </a:lnTo>
                <a:lnTo>
                  <a:pt x="1318" y="1490"/>
                </a:lnTo>
                <a:lnTo>
                  <a:pt x="1319" y="1499"/>
                </a:lnTo>
                <a:lnTo>
                  <a:pt x="1319" y="1508"/>
                </a:lnTo>
                <a:lnTo>
                  <a:pt x="1319" y="1517"/>
                </a:lnTo>
                <a:lnTo>
                  <a:pt x="1318" y="1526"/>
                </a:lnTo>
                <a:lnTo>
                  <a:pt x="1318" y="1535"/>
                </a:lnTo>
                <a:lnTo>
                  <a:pt x="1318" y="1544"/>
                </a:lnTo>
                <a:lnTo>
                  <a:pt x="1319" y="1554"/>
                </a:lnTo>
                <a:lnTo>
                  <a:pt x="1328" y="1554"/>
                </a:lnTo>
                <a:lnTo>
                  <a:pt x="1336" y="1554"/>
                </a:lnTo>
                <a:lnTo>
                  <a:pt x="1340" y="1556"/>
                </a:lnTo>
                <a:lnTo>
                  <a:pt x="1345" y="1559"/>
                </a:lnTo>
                <a:lnTo>
                  <a:pt x="1348" y="1559"/>
                </a:lnTo>
                <a:lnTo>
                  <a:pt x="1354" y="1562"/>
                </a:lnTo>
                <a:lnTo>
                  <a:pt x="1358" y="1563"/>
                </a:lnTo>
                <a:lnTo>
                  <a:pt x="1367" y="1568"/>
                </a:lnTo>
                <a:lnTo>
                  <a:pt x="1372" y="1562"/>
                </a:lnTo>
                <a:lnTo>
                  <a:pt x="1376" y="1557"/>
                </a:lnTo>
                <a:lnTo>
                  <a:pt x="1384" y="1556"/>
                </a:lnTo>
                <a:lnTo>
                  <a:pt x="1396" y="1556"/>
                </a:lnTo>
                <a:lnTo>
                  <a:pt x="1399" y="1559"/>
                </a:lnTo>
                <a:lnTo>
                  <a:pt x="1402" y="1566"/>
                </a:lnTo>
                <a:lnTo>
                  <a:pt x="1406" y="1575"/>
                </a:lnTo>
                <a:lnTo>
                  <a:pt x="1411" y="1586"/>
                </a:lnTo>
                <a:lnTo>
                  <a:pt x="1415" y="1596"/>
                </a:lnTo>
                <a:lnTo>
                  <a:pt x="1420" y="1607"/>
                </a:lnTo>
                <a:lnTo>
                  <a:pt x="1424" y="1617"/>
                </a:lnTo>
                <a:lnTo>
                  <a:pt x="1430" y="1628"/>
                </a:lnTo>
                <a:lnTo>
                  <a:pt x="1456" y="1622"/>
                </a:lnTo>
                <a:lnTo>
                  <a:pt x="1478" y="1617"/>
                </a:lnTo>
                <a:lnTo>
                  <a:pt x="1495" y="1616"/>
                </a:lnTo>
                <a:lnTo>
                  <a:pt x="1508" y="1619"/>
                </a:lnTo>
                <a:lnTo>
                  <a:pt x="1517" y="1626"/>
                </a:lnTo>
                <a:lnTo>
                  <a:pt x="1525" y="1640"/>
                </a:lnTo>
                <a:lnTo>
                  <a:pt x="1528" y="1662"/>
                </a:lnTo>
                <a:lnTo>
                  <a:pt x="1532" y="1694"/>
                </a:lnTo>
                <a:lnTo>
                  <a:pt x="1541" y="1698"/>
                </a:lnTo>
                <a:lnTo>
                  <a:pt x="1552" y="1702"/>
                </a:lnTo>
                <a:lnTo>
                  <a:pt x="1556" y="1705"/>
                </a:lnTo>
                <a:lnTo>
                  <a:pt x="1562" y="1711"/>
                </a:lnTo>
                <a:lnTo>
                  <a:pt x="1564" y="1716"/>
                </a:lnTo>
                <a:lnTo>
                  <a:pt x="1567" y="1725"/>
                </a:lnTo>
                <a:lnTo>
                  <a:pt x="1568" y="1735"/>
                </a:lnTo>
                <a:lnTo>
                  <a:pt x="1571" y="1752"/>
                </a:lnTo>
                <a:lnTo>
                  <a:pt x="1579" y="1750"/>
                </a:lnTo>
                <a:lnTo>
                  <a:pt x="1588" y="1749"/>
                </a:lnTo>
                <a:lnTo>
                  <a:pt x="1597" y="1746"/>
                </a:lnTo>
                <a:lnTo>
                  <a:pt x="1606" y="1744"/>
                </a:lnTo>
                <a:lnTo>
                  <a:pt x="1613" y="1740"/>
                </a:lnTo>
                <a:lnTo>
                  <a:pt x="1622" y="1737"/>
                </a:lnTo>
                <a:lnTo>
                  <a:pt x="1631" y="1734"/>
                </a:lnTo>
                <a:lnTo>
                  <a:pt x="1640" y="1731"/>
                </a:lnTo>
                <a:lnTo>
                  <a:pt x="1646" y="1734"/>
                </a:lnTo>
                <a:lnTo>
                  <a:pt x="1654" y="1738"/>
                </a:lnTo>
                <a:lnTo>
                  <a:pt x="1654" y="1746"/>
                </a:lnTo>
                <a:lnTo>
                  <a:pt x="1655" y="1753"/>
                </a:lnTo>
                <a:lnTo>
                  <a:pt x="1655" y="1758"/>
                </a:lnTo>
                <a:lnTo>
                  <a:pt x="1657" y="1765"/>
                </a:lnTo>
                <a:lnTo>
                  <a:pt x="1657" y="1774"/>
                </a:lnTo>
                <a:lnTo>
                  <a:pt x="1658" y="1788"/>
                </a:lnTo>
                <a:lnTo>
                  <a:pt x="1675" y="1791"/>
                </a:lnTo>
                <a:lnTo>
                  <a:pt x="1685" y="1798"/>
                </a:lnTo>
                <a:lnTo>
                  <a:pt x="1688" y="1810"/>
                </a:lnTo>
                <a:lnTo>
                  <a:pt x="1690" y="1828"/>
                </a:lnTo>
                <a:lnTo>
                  <a:pt x="1687" y="1845"/>
                </a:lnTo>
                <a:lnTo>
                  <a:pt x="1684" y="1863"/>
                </a:lnTo>
                <a:lnTo>
                  <a:pt x="1679" y="1879"/>
                </a:lnTo>
                <a:lnTo>
                  <a:pt x="1679" y="1893"/>
                </a:lnTo>
                <a:lnTo>
                  <a:pt x="1694" y="1902"/>
                </a:lnTo>
                <a:lnTo>
                  <a:pt x="1708" y="1911"/>
                </a:lnTo>
                <a:lnTo>
                  <a:pt x="1717" y="1918"/>
                </a:lnTo>
                <a:lnTo>
                  <a:pt x="1724" y="1929"/>
                </a:lnTo>
                <a:lnTo>
                  <a:pt x="1727" y="1938"/>
                </a:lnTo>
                <a:lnTo>
                  <a:pt x="1727" y="1953"/>
                </a:lnTo>
                <a:lnTo>
                  <a:pt x="1724" y="1969"/>
                </a:lnTo>
                <a:lnTo>
                  <a:pt x="1718" y="1992"/>
                </a:lnTo>
                <a:lnTo>
                  <a:pt x="1709" y="2001"/>
                </a:lnTo>
                <a:lnTo>
                  <a:pt x="1705" y="2008"/>
                </a:lnTo>
                <a:lnTo>
                  <a:pt x="1702" y="2013"/>
                </a:lnTo>
                <a:lnTo>
                  <a:pt x="1703" y="2019"/>
                </a:lnTo>
                <a:lnTo>
                  <a:pt x="1703" y="2023"/>
                </a:lnTo>
                <a:lnTo>
                  <a:pt x="1708" y="2031"/>
                </a:lnTo>
                <a:lnTo>
                  <a:pt x="1712" y="2041"/>
                </a:lnTo>
                <a:lnTo>
                  <a:pt x="1720" y="2056"/>
                </a:lnTo>
                <a:lnTo>
                  <a:pt x="1726" y="2052"/>
                </a:lnTo>
                <a:lnTo>
                  <a:pt x="1739" y="2043"/>
                </a:lnTo>
                <a:lnTo>
                  <a:pt x="1754" y="2028"/>
                </a:lnTo>
                <a:lnTo>
                  <a:pt x="1772" y="2013"/>
                </a:lnTo>
                <a:lnTo>
                  <a:pt x="1790" y="1995"/>
                </a:lnTo>
                <a:lnTo>
                  <a:pt x="1808" y="1980"/>
                </a:lnTo>
                <a:lnTo>
                  <a:pt x="1823" y="1966"/>
                </a:lnTo>
                <a:lnTo>
                  <a:pt x="1837" y="1959"/>
                </a:lnTo>
                <a:lnTo>
                  <a:pt x="1865" y="1948"/>
                </a:lnTo>
                <a:lnTo>
                  <a:pt x="1895" y="1933"/>
                </a:lnTo>
                <a:lnTo>
                  <a:pt x="1922" y="1914"/>
                </a:lnTo>
                <a:lnTo>
                  <a:pt x="1949" y="1893"/>
                </a:lnTo>
                <a:lnTo>
                  <a:pt x="1973" y="1867"/>
                </a:lnTo>
                <a:lnTo>
                  <a:pt x="1999" y="1843"/>
                </a:lnTo>
                <a:lnTo>
                  <a:pt x="2024" y="1821"/>
                </a:lnTo>
                <a:lnTo>
                  <a:pt x="2050" y="1800"/>
                </a:lnTo>
                <a:lnTo>
                  <a:pt x="2063" y="1798"/>
                </a:lnTo>
                <a:lnTo>
                  <a:pt x="2072" y="1801"/>
                </a:lnTo>
                <a:lnTo>
                  <a:pt x="2077" y="1806"/>
                </a:lnTo>
                <a:lnTo>
                  <a:pt x="2078" y="1812"/>
                </a:lnTo>
                <a:lnTo>
                  <a:pt x="2078" y="1816"/>
                </a:lnTo>
                <a:lnTo>
                  <a:pt x="2080" y="1824"/>
                </a:lnTo>
                <a:lnTo>
                  <a:pt x="2081" y="1830"/>
                </a:lnTo>
                <a:lnTo>
                  <a:pt x="2090" y="1837"/>
                </a:lnTo>
                <a:lnTo>
                  <a:pt x="2150" y="1788"/>
                </a:lnTo>
                <a:lnTo>
                  <a:pt x="2203" y="1735"/>
                </a:lnTo>
                <a:lnTo>
                  <a:pt x="2248" y="1677"/>
                </a:lnTo>
                <a:lnTo>
                  <a:pt x="2285" y="1617"/>
                </a:lnTo>
                <a:lnTo>
                  <a:pt x="2312" y="1550"/>
                </a:lnTo>
                <a:lnTo>
                  <a:pt x="2335" y="1481"/>
                </a:lnTo>
                <a:lnTo>
                  <a:pt x="2350" y="1409"/>
                </a:lnTo>
                <a:lnTo>
                  <a:pt x="2359" y="1332"/>
                </a:lnTo>
                <a:lnTo>
                  <a:pt x="2362" y="1305"/>
                </a:lnTo>
                <a:lnTo>
                  <a:pt x="2366" y="1284"/>
                </a:lnTo>
                <a:lnTo>
                  <a:pt x="2371" y="1265"/>
                </a:lnTo>
                <a:lnTo>
                  <a:pt x="2378" y="1251"/>
                </a:lnTo>
                <a:lnTo>
                  <a:pt x="2386" y="1236"/>
                </a:lnTo>
                <a:lnTo>
                  <a:pt x="2396" y="1223"/>
                </a:lnTo>
                <a:lnTo>
                  <a:pt x="2410" y="1208"/>
                </a:lnTo>
                <a:lnTo>
                  <a:pt x="2429" y="1193"/>
                </a:lnTo>
                <a:lnTo>
                  <a:pt x="2431" y="1181"/>
                </a:lnTo>
                <a:lnTo>
                  <a:pt x="2435" y="1170"/>
                </a:lnTo>
                <a:lnTo>
                  <a:pt x="2440" y="1161"/>
                </a:lnTo>
                <a:lnTo>
                  <a:pt x="2444" y="1152"/>
                </a:lnTo>
                <a:lnTo>
                  <a:pt x="2449" y="1142"/>
                </a:lnTo>
                <a:lnTo>
                  <a:pt x="2455" y="1133"/>
                </a:lnTo>
                <a:lnTo>
                  <a:pt x="2459" y="1124"/>
                </a:lnTo>
                <a:lnTo>
                  <a:pt x="2465" y="1115"/>
                </a:lnTo>
                <a:lnTo>
                  <a:pt x="2483" y="1109"/>
                </a:lnTo>
                <a:lnTo>
                  <a:pt x="2501" y="1107"/>
                </a:lnTo>
                <a:lnTo>
                  <a:pt x="2518" y="1106"/>
                </a:lnTo>
                <a:lnTo>
                  <a:pt x="2536" y="1107"/>
                </a:lnTo>
                <a:lnTo>
                  <a:pt x="2552" y="1109"/>
                </a:lnTo>
                <a:lnTo>
                  <a:pt x="2570" y="1112"/>
                </a:lnTo>
                <a:lnTo>
                  <a:pt x="2588" y="1115"/>
                </a:lnTo>
                <a:lnTo>
                  <a:pt x="2611" y="1119"/>
                </a:lnTo>
                <a:lnTo>
                  <a:pt x="2609" y="1112"/>
                </a:lnTo>
                <a:lnTo>
                  <a:pt x="2606" y="1103"/>
                </a:lnTo>
                <a:lnTo>
                  <a:pt x="2603" y="1091"/>
                </a:lnTo>
                <a:lnTo>
                  <a:pt x="2603" y="1077"/>
                </a:lnTo>
                <a:lnTo>
                  <a:pt x="2606" y="1034"/>
                </a:lnTo>
                <a:lnTo>
                  <a:pt x="2615" y="1001"/>
                </a:lnTo>
                <a:lnTo>
                  <a:pt x="2629" y="974"/>
                </a:lnTo>
                <a:lnTo>
                  <a:pt x="2650" y="956"/>
                </a:lnTo>
                <a:lnTo>
                  <a:pt x="2674" y="942"/>
                </a:lnTo>
                <a:lnTo>
                  <a:pt x="2704" y="938"/>
                </a:lnTo>
                <a:lnTo>
                  <a:pt x="2740" y="939"/>
                </a:lnTo>
                <a:lnTo>
                  <a:pt x="2782" y="948"/>
                </a:lnTo>
                <a:lnTo>
                  <a:pt x="2783" y="950"/>
                </a:lnTo>
                <a:lnTo>
                  <a:pt x="2792" y="951"/>
                </a:lnTo>
                <a:lnTo>
                  <a:pt x="2792" y="932"/>
                </a:lnTo>
                <a:lnTo>
                  <a:pt x="2791" y="920"/>
                </a:lnTo>
                <a:lnTo>
                  <a:pt x="2785" y="911"/>
                </a:lnTo>
                <a:lnTo>
                  <a:pt x="2777" y="908"/>
                </a:lnTo>
                <a:lnTo>
                  <a:pt x="2765" y="905"/>
                </a:lnTo>
                <a:lnTo>
                  <a:pt x="2753" y="905"/>
                </a:lnTo>
                <a:lnTo>
                  <a:pt x="2741" y="905"/>
                </a:lnTo>
                <a:lnTo>
                  <a:pt x="2729" y="906"/>
                </a:lnTo>
                <a:lnTo>
                  <a:pt x="2723" y="896"/>
                </a:lnTo>
                <a:lnTo>
                  <a:pt x="2719" y="885"/>
                </a:lnTo>
                <a:lnTo>
                  <a:pt x="2717" y="876"/>
                </a:lnTo>
                <a:lnTo>
                  <a:pt x="2717" y="867"/>
                </a:lnTo>
                <a:lnTo>
                  <a:pt x="2717" y="858"/>
                </a:lnTo>
                <a:lnTo>
                  <a:pt x="2717" y="849"/>
                </a:lnTo>
                <a:lnTo>
                  <a:pt x="2717" y="842"/>
                </a:lnTo>
                <a:lnTo>
                  <a:pt x="2719" y="834"/>
                </a:lnTo>
                <a:lnTo>
                  <a:pt x="2701" y="827"/>
                </a:lnTo>
                <a:lnTo>
                  <a:pt x="2693" y="818"/>
                </a:lnTo>
                <a:lnTo>
                  <a:pt x="2692" y="804"/>
                </a:lnTo>
                <a:lnTo>
                  <a:pt x="2698" y="792"/>
                </a:lnTo>
                <a:lnTo>
                  <a:pt x="2704" y="776"/>
                </a:lnTo>
                <a:lnTo>
                  <a:pt x="2714" y="762"/>
                </a:lnTo>
                <a:lnTo>
                  <a:pt x="2722" y="749"/>
                </a:lnTo>
                <a:lnTo>
                  <a:pt x="2731" y="741"/>
                </a:lnTo>
                <a:lnTo>
                  <a:pt x="2728" y="741"/>
                </a:lnTo>
                <a:lnTo>
                  <a:pt x="2725" y="741"/>
                </a:lnTo>
                <a:lnTo>
                  <a:pt x="2684" y="765"/>
                </a:lnTo>
                <a:lnTo>
                  <a:pt x="2657" y="777"/>
                </a:lnTo>
                <a:lnTo>
                  <a:pt x="2642" y="776"/>
                </a:lnTo>
                <a:lnTo>
                  <a:pt x="2638" y="767"/>
                </a:lnTo>
                <a:lnTo>
                  <a:pt x="2639" y="747"/>
                </a:lnTo>
                <a:lnTo>
                  <a:pt x="2650" y="723"/>
                </a:lnTo>
                <a:lnTo>
                  <a:pt x="2663" y="696"/>
                </a:lnTo>
                <a:lnTo>
                  <a:pt x="2681" y="671"/>
                </a:lnTo>
                <a:lnTo>
                  <a:pt x="2692" y="657"/>
                </a:lnTo>
                <a:lnTo>
                  <a:pt x="2699" y="650"/>
                </a:lnTo>
                <a:lnTo>
                  <a:pt x="2702" y="644"/>
                </a:lnTo>
                <a:lnTo>
                  <a:pt x="2707" y="639"/>
                </a:lnTo>
                <a:lnTo>
                  <a:pt x="2692" y="638"/>
                </a:lnTo>
                <a:lnTo>
                  <a:pt x="2683" y="638"/>
                </a:lnTo>
                <a:lnTo>
                  <a:pt x="2675" y="636"/>
                </a:lnTo>
                <a:lnTo>
                  <a:pt x="2668" y="633"/>
                </a:lnTo>
                <a:lnTo>
                  <a:pt x="2671" y="615"/>
                </a:lnTo>
                <a:lnTo>
                  <a:pt x="2680" y="605"/>
                </a:lnTo>
                <a:lnTo>
                  <a:pt x="2693" y="594"/>
                </a:lnTo>
                <a:lnTo>
                  <a:pt x="2711" y="590"/>
                </a:lnTo>
                <a:lnTo>
                  <a:pt x="2728" y="584"/>
                </a:lnTo>
                <a:lnTo>
                  <a:pt x="2744" y="579"/>
                </a:lnTo>
                <a:lnTo>
                  <a:pt x="2758" y="573"/>
                </a:lnTo>
                <a:lnTo>
                  <a:pt x="2767" y="566"/>
                </a:lnTo>
                <a:lnTo>
                  <a:pt x="2746" y="558"/>
                </a:lnTo>
                <a:lnTo>
                  <a:pt x="2725" y="557"/>
                </a:lnTo>
                <a:lnTo>
                  <a:pt x="2704" y="555"/>
                </a:lnTo>
                <a:lnTo>
                  <a:pt x="2686" y="557"/>
                </a:lnTo>
                <a:lnTo>
                  <a:pt x="2666" y="558"/>
                </a:lnTo>
                <a:lnTo>
                  <a:pt x="2648" y="560"/>
                </a:lnTo>
                <a:lnTo>
                  <a:pt x="2630" y="558"/>
                </a:lnTo>
                <a:lnTo>
                  <a:pt x="2617" y="557"/>
                </a:lnTo>
                <a:lnTo>
                  <a:pt x="2615" y="549"/>
                </a:lnTo>
                <a:lnTo>
                  <a:pt x="2615" y="543"/>
                </a:lnTo>
                <a:lnTo>
                  <a:pt x="2632" y="531"/>
                </a:lnTo>
                <a:lnTo>
                  <a:pt x="2651" y="524"/>
                </a:lnTo>
                <a:lnTo>
                  <a:pt x="2671" y="518"/>
                </a:lnTo>
                <a:lnTo>
                  <a:pt x="2692" y="518"/>
                </a:lnTo>
                <a:lnTo>
                  <a:pt x="2711" y="518"/>
                </a:lnTo>
                <a:lnTo>
                  <a:pt x="2732" y="522"/>
                </a:lnTo>
                <a:lnTo>
                  <a:pt x="2753" y="528"/>
                </a:lnTo>
                <a:lnTo>
                  <a:pt x="2774" y="537"/>
                </a:lnTo>
                <a:lnTo>
                  <a:pt x="2773" y="527"/>
                </a:lnTo>
                <a:lnTo>
                  <a:pt x="2770" y="513"/>
                </a:lnTo>
                <a:lnTo>
                  <a:pt x="2765" y="495"/>
                </a:lnTo>
                <a:lnTo>
                  <a:pt x="2762" y="477"/>
                </a:lnTo>
                <a:lnTo>
                  <a:pt x="2756" y="458"/>
                </a:lnTo>
                <a:lnTo>
                  <a:pt x="2752" y="441"/>
                </a:lnTo>
                <a:lnTo>
                  <a:pt x="2747" y="429"/>
                </a:lnTo>
                <a:lnTo>
                  <a:pt x="2746" y="422"/>
                </a:lnTo>
                <a:lnTo>
                  <a:pt x="2744" y="402"/>
                </a:lnTo>
                <a:lnTo>
                  <a:pt x="2744" y="381"/>
                </a:lnTo>
                <a:lnTo>
                  <a:pt x="2743" y="357"/>
                </a:lnTo>
                <a:lnTo>
                  <a:pt x="2744" y="335"/>
                </a:lnTo>
                <a:lnTo>
                  <a:pt x="2744" y="311"/>
                </a:lnTo>
                <a:lnTo>
                  <a:pt x="2749" y="290"/>
                </a:lnTo>
                <a:lnTo>
                  <a:pt x="2753" y="272"/>
                </a:lnTo>
                <a:lnTo>
                  <a:pt x="2762" y="260"/>
                </a:lnTo>
                <a:lnTo>
                  <a:pt x="2770" y="261"/>
                </a:lnTo>
                <a:lnTo>
                  <a:pt x="2776" y="263"/>
                </a:lnTo>
                <a:lnTo>
                  <a:pt x="2780" y="264"/>
                </a:lnTo>
                <a:lnTo>
                  <a:pt x="2785" y="269"/>
                </a:lnTo>
                <a:lnTo>
                  <a:pt x="2786" y="272"/>
                </a:lnTo>
                <a:lnTo>
                  <a:pt x="2789" y="278"/>
                </a:lnTo>
                <a:lnTo>
                  <a:pt x="2791" y="285"/>
                </a:lnTo>
                <a:lnTo>
                  <a:pt x="2792" y="296"/>
                </a:lnTo>
                <a:lnTo>
                  <a:pt x="2800" y="288"/>
                </a:lnTo>
                <a:lnTo>
                  <a:pt x="2809" y="278"/>
                </a:lnTo>
                <a:lnTo>
                  <a:pt x="2815" y="263"/>
                </a:lnTo>
                <a:lnTo>
                  <a:pt x="2822" y="248"/>
                </a:lnTo>
                <a:lnTo>
                  <a:pt x="2830" y="231"/>
                </a:lnTo>
                <a:lnTo>
                  <a:pt x="2840" y="218"/>
                </a:lnTo>
                <a:lnTo>
                  <a:pt x="2854" y="206"/>
                </a:lnTo>
                <a:lnTo>
                  <a:pt x="2872" y="201"/>
                </a:lnTo>
                <a:lnTo>
                  <a:pt x="2875" y="207"/>
                </a:lnTo>
                <a:lnTo>
                  <a:pt x="2884" y="215"/>
                </a:lnTo>
                <a:lnTo>
                  <a:pt x="2881" y="227"/>
                </a:lnTo>
                <a:lnTo>
                  <a:pt x="2879" y="240"/>
                </a:lnTo>
                <a:lnTo>
                  <a:pt x="2876" y="254"/>
                </a:lnTo>
                <a:lnTo>
                  <a:pt x="2875" y="267"/>
                </a:lnTo>
                <a:lnTo>
                  <a:pt x="2873" y="279"/>
                </a:lnTo>
                <a:lnTo>
                  <a:pt x="2872" y="293"/>
                </a:lnTo>
                <a:lnTo>
                  <a:pt x="2872" y="306"/>
                </a:lnTo>
                <a:lnTo>
                  <a:pt x="2872" y="321"/>
                </a:lnTo>
                <a:lnTo>
                  <a:pt x="2894" y="303"/>
                </a:lnTo>
                <a:lnTo>
                  <a:pt x="2915" y="281"/>
                </a:lnTo>
                <a:lnTo>
                  <a:pt x="2933" y="254"/>
                </a:lnTo>
                <a:lnTo>
                  <a:pt x="2953" y="227"/>
                </a:lnTo>
                <a:lnTo>
                  <a:pt x="2972" y="198"/>
                </a:lnTo>
                <a:lnTo>
                  <a:pt x="2996" y="176"/>
                </a:lnTo>
                <a:lnTo>
                  <a:pt x="3023" y="159"/>
                </a:lnTo>
                <a:lnTo>
                  <a:pt x="3059" y="153"/>
                </a:lnTo>
                <a:lnTo>
                  <a:pt x="3118" y="98"/>
                </a:lnTo>
                <a:lnTo>
                  <a:pt x="3160" y="54"/>
                </a:lnTo>
                <a:lnTo>
                  <a:pt x="3188" y="21"/>
                </a:lnTo>
                <a:lnTo>
                  <a:pt x="3212" y="5"/>
                </a:lnTo>
                <a:lnTo>
                  <a:pt x="3238" y="0"/>
                </a:lnTo>
                <a:lnTo>
                  <a:pt x="3272" y="14"/>
                </a:lnTo>
                <a:lnTo>
                  <a:pt x="3323" y="45"/>
                </a:lnTo>
                <a:lnTo>
                  <a:pt x="3400" y="96"/>
                </a:lnTo>
                <a:lnTo>
                  <a:pt x="3427" y="108"/>
                </a:lnTo>
                <a:lnTo>
                  <a:pt x="3455" y="122"/>
                </a:lnTo>
                <a:lnTo>
                  <a:pt x="3485" y="134"/>
                </a:lnTo>
                <a:lnTo>
                  <a:pt x="3515" y="149"/>
                </a:lnTo>
                <a:lnTo>
                  <a:pt x="3544" y="162"/>
                </a:lnTo>
                <a:lnTo>
                  <a:pt x="3572" y="179"/>
                </a:lnTo>
                <a:lnTo>
                  <a:pt x="3599" y="198"/>
                </a:lnTo>
                <a:lnTo>
                  <a:pt x="3628" y="222"/>
                </a:lnTo>
                <a:lnTo>
                  <a:pt x="3653" y="255"/>
                </a:lnTo>
                <a:lnTo>
                  <a:pt x="3676" y="281"/>
                </a:lnTo>
                <a:lnTo>
                  <a:pt x="3692" y="299"/>
                </a:lnTo>
                <a:lnTo>
                  <a:pt x="3710" y="312"/>
                </a:lnTo>
                <a:lnTo>
                  <a:pt x="3730" y="321"/>
                </a:lnTo>
                <a:lnTo>
                  <a:pt x="3758" y="327"/>
                </a:lnTo>
                <a:lnTo>
                  <a:pt x="3793" y="333"/>
                </a:lnTo>
                <a:lnTo>
                  <a:pt x="3842" y="341"/>
                </a:lnTo>
                <a:lnTo>
                  <a:pt x="3851" y="347"/>
                </a:lnTo>
                <a:lnTo>
                  <a:pt x="3866" y="356"/>
                </a:lnTo>
                <a:lnTo>
                  <a:pt x="3862" y="372"/>
                </a:lnTo>
                <a:lnTo>
                  <a:pt x="3854" y="387"/>
                </a:lnTo>
                <a:lnTo>
                  <a:pt x="3842" y="399"/>
                </a:lnTo>
                <a:lnTo>
                  <a:pt x="3829" y="413"/>
                </a:lnTo>
                <a:lnTo>
                  <a:pt x="3812" y="423"/>
                </a:lnTo>
                <a:lnTo>
                  <a:pt x="3799" y="437"/>
                </a:lnTo>
                <a:lnTo>
                  <a:pt x="3787" y="453"/>
                </a:lnTo>
                <a:lnTo>
                  <a:pt x="3782" y="476"/>
                </a:lnTo>
                <a:lnTo>
                  <a:pt x="3793" y="480"/>
                </a:lnTo>
                <a:lnTo>
                  <a:pt x="3800" y="486"/>
                </a:lnTo>
                <a:lnTo>
                  <a:pt x="3805" y="492"/>
                </a:lnTo>
                <a:lnTo>
                  <a:pt x="3808" y="501"/>
                </a:lnTo>
                <a:lnTo>
                  <a:pt x="3806" y="510"/>
                </a:lnTo>
                <a:lnTo>
                  <a:pt x="3806" y="521"/>
                </a:lnTo>
                <a:lnTo>
                  <a:pt x="3803" y="533"/>
                </a:lnTo>
                <a:lnTo>
                  <a:pt x="3802" y="548"/>
                </a:lnTo>
                <a:lnTo>
                  <a:pt x="3805" y="572"/>
                </a:lnTo>
                <a:lnTo>
                  <a:pt x="3814" y="599"/>
                </a:lnTo>
                <a:lnTo>
                  <a:pt x="3823" y="626"/>
                </a:lnTo>
                <a:lnTo>
                  <a:pt x="3833" y="654"/>
                </a:lnTo>
                <a:lnTo>
                  <a:pt x="3838" y="680"/>
                </a:lnTo>
                <a:lnTo>
                  <a:pt x="3835" y="705"/>
                </a:lnTo>
                <a:lnTo>
                  <a:pt x="3821" y="728"/>
                </a:lnTo>
                <a:lnTo>
                  <a:pt x="3794" y="747"/>
                </a:lnTo>
                <a:lnTo>
                  <a:pt x="3791" y="750"/>
                </a:lnTo>
                <a:lnTo>
                  <a:pt x="3791" y="755"/>
                </a:lnTo>
                <a:lnTo>
                  <a:pt x="3790" y="761"/>
                </a:lnTo>
                <a:lnTo>
                  <a:pt x="3790" y="773"/>
                </a:lnTo>
                <a:lnTo>
                  <a:pt x="3805" y="761"/>
                </a:lnTo>
                <a:lnTo>
                  <a:pt x="3820" y="752"/>
                </a:lnTo>
                <a:lnTo>
                  <a:pt x="3832" y="746"/>
                </a:lnTo>
                <a:lnTo>
                  <a:pt x="3845" y="743"/>
                </a:lnTo>
                <a:lnTo>
                  <a:pt x="3857" y="741"/>
                </a:lnTo>
                <a:lnTo>
                  <a:pt x="3872" y="744"/>
                </a:lnTo>
                <a:lnTo>
                  <a:pt x="3887" y="752"/>
                </a:lnTo>
                <a:lnTo>
                  <a:pt x="3908" y="765"/>
                </a:lnTo>
                <a:lnTo>
                  <a:pt x="3961" y="837"/>
                </a:lnTo>
                <a:lnTo>
                  <a:pt x="3986" y="906"/>
                </a:lnTo>
                <a:lnTo>
                  <a:pt x="3986" y="972"/>
                </a:lnTo>
                <a:lnTo>
                  <a:pt x="3970" y="1038"/>
                </a:lnTo>
                <a:lnTo>
                  <a:pt x="3938" y="1101"/>
                </a:lnTo>
                <a:lnTo>
                  <a:pt x="3898" y="1166"/>
                </a:lnTo>
                <a:lnTo>
                  <a:pt x="3853" y="1233"/>
                </a:lnTo>
                <a:lnTo>
                  <a:pt x="3811" y="1304"/>
                </a:lnTo>
                <a:lnTo>
                  <a:pt x="3803" y="1310"/>
                </a:lnTo>
                <a:lnTo>
                  <a:pt x="3802" y="1319"/>
                </a:lnTo>
                <a:lnTo>
                  <a:pt x="3818" y="1343"/>
                </a:lnTo>
                <a:lnTo>
                  <a:pt x="3824" y="1368"/>
                </a:lnTo>
                <a:lnTo>
                  <a:pt x="3821" y="1392"/>
                </a:lnTo>
                <a:lnTo>
                  <a:pt x="3812" y="1415"/>
                </a:lnTo>
                <a:lnTo>
                  <a:pt x="3793" y="1431"/>
                </a:lnTo>
                <a:lnTo>
                  <a:pt x="3769" y="1443"/>
                </a:lnTo>
                <a:lnTo>
                  <a:pt x="3737" y="1446"/>
                </a:lnTo>
                <a:lnTo>
                  <a:pt x="3704" y="1440"/>
                </a:lnTo>
                <a:lnTo>
                  <a:pt x="3700" y="1440"/>
                </a:lnTo>
                <a:lnTo>
                  <a:pt x="3697" y="1442"/>
                </a:lnTo>
                <a:lnTo>
                  <a:pt x="3701" y="1466"/>
                </a:lnTo>
                <a:lnTo>
                  <a:pt x="3710" y="1490"/>
                </a:lnTo>
                <a:lnTo>
                  <a:pt x="3722" y="1512"/>
                </a:lnTo>
                <a:lnTo>
                  <a:pt x="3739" y="1532"/>
                </a:lnTo>
                <a:lnTo>
                  <a:pt x="3755" y="1542"/>
                </a:lnTo>
                <a:lnTo>
                  <a:pt x="3778" y="1545"/>
                </a:lnTo>
                <a:lnTo>
                  <a:pt x="3800" y="1539"/>
                </a:lnTo>
                <a:lnTo>
                  <a:pt x="3827" y="1520"/>
                </a:lnTo>
                <a:lnTo>
                  <a:pt x="3830" y="1520"/>
                </a:lnTo>
                <a:lnTo>
                  <a:pt x="3838" y="1520"/>
                </a:lnTo>
                <a:lnTo>
                  <a:pt x="3841" y="1527"/>
                </a:lnTo>
                <a:lnTo>
                  <a:pt x="3847" y="1536"/>
                </a:lnTo>
                <a:lnTo>
                  <a:pt x="3836" y="1554"/>
                </a:lnTo>
                <a:lnTo>
                  <a:pt x="3823" y="1572"/>
                </a:lnTo>
                <a:lnTo>
                  <a:pt x="3806" y="1589"/>
                </a:lnTo>
                <a:lnTo>
                  <a:pt x="3791" y="1605"/>
                </a:lnTo>
                <a:lnTo>
                  <a:pt x="3773" y="1619"/>
                </a:lnTo>
                <a:lnTo>
                  <a:pt x="3758" y="1634"/>
                </a:lnTo>
                <a:lnTo>
                  <a:pt x="3748" y="1646"/>
                </a:lnTo>
                <a:lnTo>
                  <a:pt x="3745" y="1658"/>
                </a:lnTo>
                <a:lnTo>
                  <a:pt x="3758" y="1649"/>
                </a:lnTo>
                <a:lnTo>
                  <a:pt x="3773" y="1637"/>
                </a:lnTo>
                <a:lnTo>
                  <a:pt x="3779" y="1631"/>
                </a:lnTo>
                <a:lnTo>
                  <a:pt x="3787" y="1626"/>
                </a:lnTo>
                <a:lnTo>
                  <a:pt x="3794" y="1622"/>
                </a:lnTo>
                <a:lnTo>
                  <a:pt x="3803" y="1622"/>
                </a:lnTo>
                <a:lnTo>
                  <a:pt x="3806" y="1638"/>
                </a:lnTo>
                <a:lnTo>
                  <a:pt x="3803" y="1656"/>
                </a:lnTo>
                <a:lnTo>
                  <a:pt x="3793" y="1676"/>
                </a:lnTo>
                <a:lnTo>
                  <a:pt x="3779" y="1696"/>
                </a:lnTo>
                <a:lnTo>
                  <a:pt x="3763" y="1714"/>
                </a:lnTo>
                <a:lnTo>
                  <a:pt x="3746" y="1732"/>
                </a:lnTo>
                <a:lnTo>
                  <a:pt x="3731" y="1746"/>
                </a:lnTo>
                <a:lnTo>
                  <a:pt x="3721" y="1758"/>
                </a:lnTo>
                <a:lnTo>
                  <a:pt x="3722" y="1767"/>
                </a:lnTo>
                <a:lnTo>
                  <a:pt x="3728" y="1785"/>
                </a:lnTo>
                <a:lnTo>
                  <a:pt x="3737" y="1807"/>
                </a:lnTo>
                <a:lnTo>
                  <a:pt x="3751" y="1834"/>
                </a:lnTo>
                <a:lnTo>
                  <a:pt x="3761" y="1858"/>
                </a:lnTo>
                <a:lnTo>
                  <a:pt x="3773" y="1881"/>
                </a:lnTo>
                <a:lnTo>
                  <a:pt x="3782" y="1897"/>
                </a:lnTo>
                <a:lnTo>
                  <a:pt x="3790" y="1906"/>
                </a:lnTo>
                <a:lnTo>
                  <a:pt x="3805" y="1953"/>
                </a:lnTo>
                <a:lnTo>
                  <a:pt x="3820" y="1999"/>
                </a:lnTo>
                <a:lnTo>
                  <a:pt x="3835" y="2046"/>
                </a:lnTo>
                <a:lnTo>
                  <a:pt x="3851" y="2094"/>
                </a:lnTo>
                <a:lnTo>
                  <a:pt x="3863" y="2142"/>
                </a:lnTo>
                <a:lnTo>
                  <a:pt x="3875" y="2191"/>
                </a:lnTo>
                <a:lnTo>
                  <a:pt x="3886" y="2241"/>
                </a:lnTo>
                <a:lnTo>
                  <a:pt x="3896" y="2293"/>
                </a:lnTo>
                <a:lnTo>
                  <a:pt x="3904" y="2323"/>
                </a:lnTo>
                <a:lnTo>
                  <a:pt x="3916" y="2352"/>
                </a:lnTo>
                <a:lnTo>
                  <a:pt x="3929" y="2380"/>
                </a:lnTo>
                <a:lnTo>
                  <a:pt x="3943" y="2409"/>
                </a:lnTo>
                <a:lnTo>
                  <a:pt x="3955" y="2436"/>
                </a:lnTo>
                <a:lnTo>
                  <a:pt x="3968" y="2466"/>
                </a:lnTo>
                <a:lnTo>
                  <a:pt x="3980" y="2497"/>
                </a:lnTo>
                <a:lnTo>
                  <a:pt x="3991" y="2533"/>
                </a:lnTo>
                <a:lnTo>
                  <a:pt x="3998" y="2536"/>
                </a:lnTo>
                <a:lnTo>
                  <a:pt x="4007" y="2541"/>
                </a:lnTo>
                <a:lnTo>
                  <a:pt x="4016" y="2545"/>
                </a:lnTo>
                <a:lnTo>
                  <a:pt x="4027" y="2550"/>
                </a:lnTo>
                <a:lnTo>
                  <a:pt x="4036" y="2554"/>
                </a:lnTo>
                <a:lnTo>
                  <a:pt x="4045" y="2559"/>
                </a:lnTo>
                <a:lnTo>
                  <a:pt x="4054" y="2563"/>
                </a:lnTo>
                <a:lnTo>
                  <a:pt x="4064" y="2571"/>
                </a:lnTo>
                <a:lnTo>
                  <a:pt x="4064" y="2581"/>
                </a:lnTo>
                <a:lnTo>
                  <a:pt x="4064" y="2595"/>
                </a:lnTo>
                <a:lnTo>
                  <a:pt x="4043" y="2607"/>
                </a:lnTo>
                <a:lnTo>
                  <a:pt x="4030" y="2616"/>
                </a:lnTo>
                <a:lnTo>
                  <a:pt x="4021" y="2623"/>
                </a:lnTo>
                <a:lnTo>
                  <a:pt x="4018" y="2632"/>
                </a:lnTo>
                <a:lnTo>
                  <a:pt x="4018" y="2640"/>
                </a:lnTo>
                <a:lnTo>
                  <a:pt x="4024" y="2652"/>
                </a:lnTo>
                <a:lnTo>
                  <a:pt x="4033" y="2667"/>
                </a:lnTo>
                <a:lnTo>
                  <a:pt x="4048" y="2688"/>
                </a:lnTo>
                <a:lnTo>
                  <a:pt x="4069" y="2739"/>
                </a:lnTo>
                <a:lnTo>
                  <a:pt x="4093" y="2788"/>
                </a:lnTo>
                <a:lnTo>
                  <a:pt x="4109" y="2836"/>
                </a:lnTo>
                <a:lnTo>
                  <a:pt x="4120" y="2881"/>
                </a:lnTo>
                <a:lnTo>
                  <a:pt x="4117" y="2919"/>
                </a:lnTo>
                <a:lnTo>
                  <a:pt x="4097" y="2950"/>
                </a:lnTo>
                <a:lnTo>
                  <a:pt x="4055" y="2976"/>
                </a:lnTo>
                <a:lnTo>
                  <a:pt x="3991" y="2994"/>
                </a:lnTo>
                <a:lnTo>
                  <a:pt x="3994" y="3028"/>
                </a:lnTo>
                <a:lnTo>
                  <a:pt x="3997" y="3063"/>
                </a:lnTo>
                <a:lnTo>
                  <a:pt x="4001" y="3094"/>
                </a:lnTo>
                <a:lnTo>
                  <a:pt x="4006" y="3127"/>
                </a:lnTo>
                <a:lnTo>
                  <a:pt x="4010" y="3159"/>
                </a:lnTo>
                <a:lnTo>
                  <a:pt x="4018" y="3192"/>
                </a:lnTo>
                <a:lnTo>
                  <a:pt x="4027" y="3226"/>
                </a:lnTo>
                <a:lnTo>
                  <a:pt x="4039" y="3264"/>
                </a:lnTo>
                <a:lnTo>
                  <a:pt x="4039" y="3279"/>
                </a:lnTo>
                <a:lnTo>
                  <a:pt x="4039" y="3297"/>
                </a:lnTo>
                <a:lnTo>
                  <a:pt x="4039" y="3315"/>
                </a:lnTo>
                <a:lnTo>
                  <a:pt x="4040" y="3334"/>
                </a:lnTo>
                <a:lnTo>
                  <a:pt x="4040" y="3352"/>
                </a:lnTo>
                <a:lnTo>
                  <a:pt x="4040" y="3372"/>
                </a:lnTo>
                <a:lnTo>
                  <a:pt x="4039" y="3391"/>
                </a:lnTo>
                <a:lnTo>
                  <a:pt x="4039" y="3411"/>
                </a:lnTo>
                <a:lnTo>
                  <a:pt x="4075" y="3421"/>
                </a:lnTo>
                <a:lnTo>
                  <a:pt x="4103" y="3435"/>
                </a:lnTo>
                <a:lnTo>
                  <a:pt x="4123" y="3451"/>
                </a:lnTo>
                <a:lnTo>
                  <a:pt x="4136" y="3472"/>
                </a:lnTo>
                <a:lnTo>
                  <a:pt x="4139" y="3493"/>
                </a:lnTo>
                <a:lnTo>
                  <a:pt x="4136" y="3520"/>
                </a:lnTo>
                <a:lnTo>
                  <a:pt x="4123" y="3550"/>
                </a:lnTo>
                <a:lnTo>
                  <a:pt x="4105" y="3586"/>
                </a:lnTo>
                <a:lnTo>
                  <a:pt x="4087" y="3602"/>
                </a:lnTo>
                <a:lnTo>
                  <a:pt x="4075" y="3616"/>
                </a:lnTo>
                <a:lnTo>
                  <a:pt x="4064" y="3626"/>
                </a:lnTo>
                <a:lnTo>
                  <a:pt x="4060" y="3634"/>
                </a:lnTo>
                <a:lnTo>
                  <a:pt x="4051" y="3643"/>
                </a:lnTo>
                <a:lnTo>
                  <a:pt x="4048" y="3647"/>
                </a:lnTo>
                <a:lnTo>
                  <a:pt x="4049" y="3688"/>
                </a:lnTo>
                <a:lnTo>
                  <a:pt x="4051" y="3728"/>
                </a:lnTo>
                <a:lnTo>
                  <a:pt x="4048" y="3770"/>
                </a:lnTo>
                <a:lnTo>
                  <a:pt x="4046" y="3812"/>
                </a:lnTo>
                <a:lnTo>
                  <a:pt x="4042" y="3853"/>
                </a:lnTo>
                <a:lnTo>
                  <a:pt x="4043" y="3895"/>
                </a:lnTo>
                <a:lnTo>
                  <a:pt x="4046" y="3935"/>
                </a:lnTo>
                <a:lnTo>
                  <a:pt x="4055" y="3977"/>
                </a:lnTo>
                <a:lnTo>
                  <a:pt x="4052" y="3991"/>
                </a:lnTo>
                <a:lnTo>
                  <a:pt x="4051" y="4004"/>
                </a:lnTo>
                <a:lnTo>
                  <a:pt x="4048" y="4010"/>
                </a:lnTo>
                <a:lnTo>
                  <a:pt x="4046" y="4018"/>
                </a:lnTo>
                <a:lnTo>
                  <a:pt x="4043" y="4027"/>
                </a:lnTo>
                <a:lnTo>
                  <a:pt x="4043" y="4037"/>
                </a:lnTo>
                <a:lnTo>
                  <a:pt x="4052" y="4078"/>
                </a:lnTo>
                <a:lnTo>
                  <a:pt x="4066" y="4123"/>
                </a:lnTo>
                <a:lnTo>
                  <a:pt x="4079" y="4168"/>
                </a:lnTo>
                <a:lnTo>
                  <a:pt x="4091" y="4217"/>
                </a:lnTo>
                <a:lnTo>
                  <a:pt x="4094" y="4264"/>
                </a:lnTo>
                <a:lnTo>
                  <a:pt x="4091" y="4310"/>
                </a:lnTo>
                <a:lnTo>
                  <a:pt x="4075" y="4354"/>
                </a:lnTo>
                <a:lnTo>
                  <a:pt x="4046" y="4396"/>
                </a:lnTo>
                <a:lnTo>
                  <a:pt x="4045" y="4424"/>
                </a:lnTo>
                <a:lnTo>
                  <a:pt x="4051" y="4457"/>
                </a:lnTo>
                <a:lnTo>
                  <a:pt x="4061" y="4492"/>
                </a:lnTo>
                <a:lnTo>
                  <a:pt x="4075" y="4529"/>
                </a:lnTo>
                <a:lnTo>
                  <a:pt x="4088" y="4565"/>
                </a:lnTo>
                <a:lnTo>
                  <a:pt x="4105" y="4601"/>
                </a:lnTo>
                <a:lnTo>
                  <a:pt x="4118" y="4634"/>
                </a:lnTo>
                <a:lnTo>
                  <a:pt x="4132" y="4666"/>
                </a:lnTo>
                <a:lnTo>
                  <a:pt x="4132" y="4675"/>
                </a:lnTo>
                <a:lnTo>
                  <a:pt x="4135" y="4687"/>
                </a:lnTo>
                <a:lnTo>
                  <a:pt x="4136" y="4696"/>
                </a:lnTo>
                <a:lnTo>
                  <a:pt x="4139" y="4708"/>
                </a:lnTo>
                <a:lnTo>
                  <a:pt x="4141" y="4718"/>
                </a:lnTo>
                <a:lnTo>
                  <a:pt x="4144" y="4729"/>
                </a:lnTo>
                <a:lnTo>
                  <a:pt x="4145" y="4739"/>
                </a:lnTo>
                <a:lnTo>
                  <a:pt x="4148" y="4751"/>
                </a:lnTo>
                <a:lnTo>
                  <a:pt x="4199" y="4757"/>
                </a:lnTo>
                <a:lnTo>
                  <a:pt x="4234" y="4777"/>
                </a:lnTo>
                <a:lnTo>
                  <a:pt x="4253" y="4807"/>
                </a:lnTo>
                <a:lnTo>
                  <a:pt x="4262" y="4846"/>
                </a:lnTo>
                <a:lnTo>
                  <a:pt x="4261" y="4889"/>
                </a:lnTo>
                <a:lnTo>
                  <a:pt x="4258" y="4937"/>
                </a:lnTo>
                <a:lnTo>
                  <a:pt x="4253" y="4988"/>
                </a:lnTo>
                <a:lnTo>
                  <a:pt x="4252" y="5039"/>
                </a:lnTo>
                <a:lnTo>
                  <a:pt x="4262" y="5044"/>
                </a:lnTo>
                <a:lnTo>
                  <a:pt x="4276" y="5048"/>
                </a:lnTo>
                <a:lnTo>
                  <a:pt x="4288" y="5053"/>
                </a:lnTo>
                <a:lnTo>
                  <a:pt x="4300" y="5057"/>
                </a:lnTo>
                <a:lnTo>
                  <a:pt x="4309" y="5062"/>
                </a:lnTo>
                <a:lnTo>
                  <a:pt x="4318" y="5068"/>
                </a:lnTo>
                <a:lnTo>
                  <a:pt x="4322" y="5075"/>
                </a:lnTo>
                <a:lnTo>
                  <a:pt x="4325" y="5086"/>
                </a:lnTo>
                <a:lnTo>
                  <a:pt x="4337" y="5098"/>
                </a:lnTo>
                <a:lnTo>
                  <a:pt x="4358" y="5117"/>
                </a:lnTo>
                <a:lnTo>
                  <a:pt x="4382" y="5141"/>
                </a:lnTo>
                <a:lnTo>
                  <a:pt x="4411" y="5168"/>
                </a:lnTo>
                <a:lnTo>
                  <a:pt x="4436" y="5195"/>
                </a:lnTo>
                <a:lnTo>
                  <a:pt x="4459" y="5224"/>
                </a:lnTo>
                <a:lnTo>
                  <a:pt x="4474" y="5249"/>
                </a:lnTo>
                <a:lnTo>
                  <a:pt x="4480" y="5273"/>
                </a:lnTo>
                <a:lnTo>
                  <a:pt x="4463" y="5287"/>
                </a:lnTo>
                <a:lnTo>
                  <a:pt x="4442" y="5300"/>
                </a:lnTo>
                <a:lnTo>
                  <a:pt x="4418" y="5309"/>
                </a:lnTo>
                <a:lnTo>
                  <a:pt x="4394" y="5320"/>
                </a:lnTo>
                <a:lnTo>
                  <a:pt x="4366" y="5326"/>
                </a:lnTo>
                <a:lnTo>
                  <a:pt x="4340" y="5330"/>
                </a:lnTo>
                <a:lnTo>
                  <a:pt x="4315" y="5333"/>
                </a:lnTo>
                <a:lnTo>
                  <a:pt x="4295" y="5335"/>
                </a:lnTo>
                <a:close/>
                <a:moveTo>
                  <a:pt x="2734" y="1352"/>
                </a:moveTo>
                <a:lnTo>
                  <a:pt x="2734" y="1350"/>
                </a:lnTo>
                <a:lnTo>
                  <a:pt x="2735" y="1347"/>
                </a:lnTo>
                <a:lnTo>
                  <a:pt x="2728" y="1340"/>
                </a:lnTo>
                <a:lnTo>
                  <a:pt x="2720" y="1332"/>
                </a:lnTo>
                <a:lnTo>
                  <a:pt x="2711" y="1322"/>
                </a:lnTo>
                <a:lnTo>
                  <a:pt x="2705" y="1311"/>
                </a:lnTo>
                <a:lnTo>
                  <a:pt x="2698" y="1299"/>
                </a:lnTo>
                <a:lnTo>
                  <a:pt x="2693" y="1289"/>
                </a:lnTo>
                <a:lnTo>
                  <a:pt x="2689" y="1280"/>
                </a:lnTo>
                <a:lnTo>
                  <a:pt x="2689" y="1274"/>
                </a:lnTo>
                <a:lnTo>
                  <a:pt x="2674" y="1274"/>
                </a:lnTo>
                <a:lnTo>
                  <a:pt x="2662" y="1274"/>
                </a:lnTo>
                <a:lnTo>
                  <a:pt x="2648" y="1274"/>
                </a:lnTo>
                <a:lnTo>
                  <a:pt x="2639" y="1275"/>
                </a:lnTo>
                <a:lnTo>
                  <a:pt x="2627" y="1290"/>
                </a:lnTo>
                <a:lnTo>
                  <a:pt x="2617" y="1307"/>
                </a:lnTo>
                <a:lnTo>
                  <a:pt x="2612" y="1314"/>
                </a:lnTo>
                <a:lnTo>
                  <a:pt x="2609" y="1322"/>
                </a:lnTo>
                <a:lnTo>
                  <a:pt x="2608" y="1331"/>
                </a:lnTo>
                <a:lnTo>
                  <a:pt x="2611" y="1343"/>
                </a:lnTo>
                <a:lnTo>
                  <a:pt x="2618" y="1344"/>
                </a:lnTo>
                <a:lnTo>
                  <a:pt x="2632" y="1346"/>
                </a:lnTo>
                <a:lnTo>
                  <a:pt x="2645" y="1344"/>
                </a:lnTo>
                <a:lnTo>
                  <a:pt x="2663" y="1344"/>
                </a:lnTo>
                <a:lnTo>
                  <a:pt x="2680" y="1344"/>
                </a:lnTo>
                <a:lnTo>
                  <a:pt x="2698" y="1344"/>
                </a:lnTo>
                <a:lnTo>
                  <a:pt x="2716" y="1346"/>
                </a:lnTo>
                <a:lnTo>
                  <a:pt x="2734" y="1352"/>
                </a:lnTo>
                <a:close/>
                <a:moveTo>
                  <a:pt x="3697" y="1397"/>
                </a:moveTo>
                <a:lnTo>
                  <a:pt x="3706" y="1397"/>
                </a:lnTo>
                <a:lnTo>
                  <a:pt x="3716" y="1397"/>
                </a:lnTo>
                <a:lnTo>
                  <a:pt x="3727" y="1397"/>
                </a:lnTo>
                <a:lnTo>
                  <a:pt x="3737" y="1397"/>
                </a:lnTo>
                <a:lnTo>
                  <a:pt x="3748" y="1380"/>
                </a:lnTo>
                <a:lnTo>
                  <a:pt x="3760" y="1367"/>
                </a:lnTo>
                <a:lnTo>
                  <a:pt x="3764" y="1358"/>
                </a:lnTo>
                <a:lnTo>
                  <a:pt x="3769" y="1350"/>
                </a:lnTo>
                <a:lnTo>
                  <a:pt x="3773" y="1343"/>
                </a:lnTo>
                <a:lnTo>
                  <a:pt x="3778" y="1335"/>
                </a:lnTo>
                <a:lnTo>
                  <a:pt x="3764" y="1335"/>
                </a:lnTo>
                <a:lnTo>
                  <a:pt x="3755" y="1337"/>
                </a:lnTo>
                <a:lnTo>
                  <a:pt x="3746" y="1338"/>
                </a:lnTo>
                <a:lnTo>
                  <a:pt x="3737" y="1340"/>
                </a:lnTo>
                <a:lnTo>
                  <a:pt x="3728" y="1340"/>
                </a:lnTo>
                <a:lnTo>
                  <a:pt x="3719" y="1340"/>
                </a:lnTo>
                <a:lnTo>
                  <a:pt x="3710" y="1338"/>
                </a:lnTo>
                <a:lnTo>
                  <a:pt x="3701" y="1338"/>
                </a:lnTo>
                <a:lnTo>
                  <a:pt x="3698" y="1350"/>
                </a:lnTo>
                <a:lnTo>
                  <a:pt x="3698" y="1365"/>
                </a:lnTo>
                <a:lnTo>
                  <a:pt x="3697" y="1371"/>
                </a:lnTo>
                <a:lnTo>
                  <a:pt x="3697" y="1379"/>
                </a:lnTo>
                <a:lnTo>
                  <a:pt x="3697" y="1388"/>
                </a:lnTo>
                <a:lnTo>
                  <a:pt x="3697" y="1397"/>
                </a:lnTo>
                <a:close/>
                <a:moveTo>
                  <a:pt x="386" y="4367"/>
                </a:moveTo>
                <a:lnTo>
                  <a:pt x="416" y="4366"/>
                </a:lnTo>
                <a:lnTo>
                  <a:pt x="446" y="4366"/>
                </a:lnTo>
                <a:lnTo>
                  <a:pt x="478" y="4366"/>
                </a:lnTo>
                <a:lnTo>
                  <a:pt x="509" y="4366"/>
                </a:lnTo>
                <a:lnTo>
                  <a:pt x="539" y="4363"/>
                </a:lnTo>
                <a:lnTo>
                  <a:pt x="571" y="4361"/>
                </a:lnTo>
                <a:lnTo>
                  <a:pt x="602" y="4355"/>
                </a:lnTo>
                <a:lnTo>
                  <a:pt x="634" y="4351"/>
                </a:lnTo>
                <a:lnTo>
                  <a:pt x="632" y="4336"/>
                </a:lnTo>
                <a:lnTo>
                  <a:pt x="631" y="4321"/>
                </a:lnTo>
                <a:lnTo>
                  <a:pt x="631" y="4306"/>
                </a:lnTo>
                <a:lnTo>
                  <a:pt x="631" y="4292"/>
                </a:lnTo>
                <a:lnTo>
                  <a:pt x="631" y="4279"/>
                </a:lnTo>
                <a:lnTo>
                  <a:pt x="631" y="4265"/>
                </a:lnTo>
                <a:lnTo>
                  <a:pt x="631" y="4252"/>
                </a:lnTo>
                <a:lnTo>
                  <a:pt x="631" y="4238"/>
                </a:lnTo>
                <a:lnTo>
                  <a:pt x="622" y="4237"/>
                </a:lnTo>
                <a:lnTo>
                  <a:pt x="613" y="4235"/>
                </a:lnTo>
                <a:lnTo>
                  <a:pt x="605" y="4235"/>
                </a:lnTo>
                <a:lnTo>
                  <a:pt x="599" y="4235"/>
                </a:lnTo>
                <a:lnTo>
                  <a:pt x="586" y="4232"/>
                </a:lnTo>
                <a:lnTo>
                  <a:pt x="574" y="4232"/>
                </a:lnTo>
                <a:lnTo>
                  <a:pt x="560" y="4240"/>
                </a:lnTo>
                <a:lnTo>
                  <a:pt x="548" y="4244"/>
                </a:lnTo>
                <a:lnTo>
                  <a:pt x="536" y="4246"/>
                </a:lnTo>
                <a:lnTo>
                  <a:pt x="524" y="4247"/>
                </a:lnTo>
                <a:lnTo>
                  <a:pt x="511" y="4244"/>
                </a:lnTo>
                <a:lnTo>
                  <a:pt x="497" y="4241"/>
                </a:lnTo>
                <a:lnTo>
                  <a:pt x="484" y="4238"/>
                </a:lnTo>
                <a:lnTo>
                  <a:pt x="475" y="4237"/>
                </a:lnTo>
                <a:lnTo>
                  <a:pt x="458" y="4217"/>
                </a:lnTo>
                <a:lnTo>
                  <a:pt x="449" y="4196"/>
                </a:lnTo>
                <a:lnTo>
                  <a:pt x="443" y="4174"/>
                </a:lnTo>
                <a:lnTo>
                  <a:pt x="440" y="4153"/>
                </a:lnTo>
                <a:lnTo>
                  <a:pt x="434" y="4132"/>
                </a:lnTo>
                <a:lnTo>
                  <a:pt x="430" y="4117"/>
                </a:lnTo>
                <a:lnTo>
                  <a:pt x="418" y="4106"/>
                </a:lnTo>
                <a:lnTo>
                  <a:pt x="401" y="4103"/>
                </a:lnTo>
                <a:lnTo>
                  <a:pt x="395" y="4123"/>
                </a:lnTo>
                <a:lnTo>
                  <a:pt x="389" y="4157"/>
                </a:lnTo>
                <a:lnTo>
                  <a:pt x="382" y="4198"/>
                </a:lnTo>
                <a:lnTo>
                  <a:pt x="377" y="4243"/>
                </a:lnTo>
                <a:lnTo>
                  <a:pt x="373" y="4285"/>
                </a:lnTo>
                <a:lnTo>
                  <a:pt x="374" y="4324"/>
                </a:lnTo>
                <a:lnTo>
                  <a:pt x="377" y="4352"/>
                </a:lnTo>
                <a:lnTo>
                  <a:pt x="386" y="4367"/>
                </a:lnTo>
                <a:close/>
                <a:moveTo>
                  <a:pt x="908" y="4772"/>
                </a:moveTo>
                <a:lnTo>
                  <a:pt x="910" y="4772"/>
                </a:lnTo>
                <a:lnTo>
                  <a:pt x="911" y="4775"/>
                </a:lnTo>
                <a:lnTo>
                  <a:pt x="916" y="4768"/>
                </a:lnTo>
                <a:lnTo>
                  <a:pt x="925" y="4756"/>
                </a:lnTo>
                <a:lnTo>
                  <a:pt x="937" y="4739"/>
                </a:lnTo>
                <a:lnTo>
                  <a:pt x="952" y="4723"/>
                </a:lnTo>
                <a:lnTo>
                  <a:pt x="964" y="4703"/>
                </a:lnTo>
                <a:lnTo>
                  <a:pt x="977" y="4687"/>
                </a:lnTo>
                <a:lnTo>
                  <a:pt x="985" y="4673"/>
                </a:lnTo>
                <a:lnTo>
                  <a:pt x="989" y="4666"/>
                </a:lnTo>
                <a:lnTo>
                  <a:pt x="967" y="4628"/>
                </a:lnTo>
                <a:lnTo>
                  <a:pt x="950" y="4598"/>
                </a:lnTo>
                <a:lnTo>
                  <a:pt x="935" y="4573"/>
                </a:lnTo>
                <a:lnTo>
                  <a:pt x="922" y="4553"/>
                </a:lnTo>
                <a:lnTo>
                  <a:pt x="905" y="4535"/>
                </a:lnTo>
                <a:lnTo>
                  <a:pt x="886" y="4523"/>
                </a:lnTo>
                <a:lnTo>
                  <a:pt x="862" y="4511"/>
                </a:lnTo>
                <a:lnTo>
                  <a:pt x="829" y="4502"/>
                </a:lnTo>
                <a:lnTo>
                  <a:pt x="829" y="4505"/>
                </a:lnTo>
                <a:lnTo>
                  <a:pt x="829" y="4510"/>
                </a:lnTo>
                <a:lnTo>
                  <a:pt x="844" y="4529"/>
                </a:lnTo>
                <a:lnTo>
                  <a:pt x="857" y="4559"/>
                </a:lnTo>
                <a:lnTo>
                  <a:pt x="869" y="4592"/>
                </a:lnTo>
                <a:lnTo>
                  <a:pt x="880" y="4631"/>
                </a:lnTo>
                <a:lnTo>
                  <a:pt x="887" y="4669"/>
                </a:lnTo>
                <a:lnTo>
                  <a:pt x="896" y="4708"/>
                </a:lnTo>
                <a:lnTo>
                  <a:pt x="902" y="4742"/>
                </a:lnTo>
                <a:lnTo>
                  <a:pt x="908" y="4772"/>
                </a:lnTo>
                <a:close/>
                <a:moveTo>
                  <a:pt x="3671" y="4939"/>
                </a:moveTo>
                <a:lnTo>
                  <a:pt x="3674" y="4937"/>
                </a:lnTo>
                <a:lnTo>
                  <a:pt x="3679" y="4931"/>
                </a:lnTo>
                <a:lnTo>
                  <a:pt x="3682" y="4924"/>
                </a:lnTo>
                <a:lnTo>
                  <a:pt x="3683" y="4919"/>
                </a:lnTo>
                <a:lnTo>
                  <a:pt x="3694" y="4894"/>
                </a:lnTo>
                <a:lnTo>
                  <a:pt x="3700" y="4870"/>
                </a:lnTo>
                <a:lnTo>
                  <a:pt x="3697" y="4846"/>
                </a:lnTo>
                <a:lnTo>
                  <a:pt x="3692" y="4822"/>
                </a:lnTo>
                <a:lnTo>
                  <a:pt x="3683" y="4796"/>
                </a:lnTo>
                <a:lnTo>
                  <a:pt x="3676" y="4774"/>
                </a:lnTo>
                <a:lnTo>
                  <a:pt x="3668" y="4750"/>
                </a:lnTo>
                <a:lnTo>
                  <a:pt x="3667" y="4727"/>
                </a:lnTo>
                <a:lnTo>
                  <a:pt x="3674" y="4675"/>
                </a:lnTo>
                <a:lnTo>
                  <a:pt x="3679" y="4621"/>
                </a:lnTo>
                <a:lnTo>
                  <a:pt x="3679" y="4565"/>
                </a:lnTo>
                <a:lnTo>
                  <a:pt x="3677" y="4510"/>
                </a:lnTo>
                <a:lnTo>
                  <a:pt x="3671" y="4453"/>
                </a:lnTo>
                <a:lnTo>
                  <a:pt x="3662" y="4399"/>
                </a:lnTo>
                <a:lnTo>
                  <a:pt x="3649" y="4348"/>
                </a:lnTo>
                <a:lnTo>
                  <a:pt x="3635" y="4303"/>
                </a:lnTo>
                <a:lnTo>
                  <a:pt x="3631" y="4288"/>
                </a:lnTo>
                <a:lnTo>
                  <a:pt x="3628" y="4274"/>
                </a:lnTo>
                <a:lnTo>
                  <a:pt x="3625" y="4261"/>
                </a:lnTo>
                <a:lnTo>
                  <a:pt x="3623" y="4247"/>
                </a:lnTo>
                <a:lnTo>
                  <a:pt x="3619" y="4234"/>
                </a:lnTo>
                <a:lnTo>
                  <a:pt x="3617" y="4222"/>
                </a:lnTo>
                <a:lnTo>
                  <a:pt x="3616" y="4210"/>
                </a:lnTo>
                <a:lnTo>
                  <a:pt x="3616" y="4199"/>
                </a:lnTo>
                <a:lnTo>
                  <a:pt x="3613" y="4199"/>
                </a:lnTo>
                <a:lnTo>
                  <a:pt x="3610" y="4201"/>
                </a:lnTo>
                <a:lnTo>
                  <a:pt x="3605" y="4216"/>
                </a:lnTo>
                <a:lnTo>
                  <a:pt x="3602" y="4232"/>
                </a:lnTo>
                <a:lnTo>
                  <a:pt x="3599" y="4246"/>
                </a:lnTo>
                <a:lnTo>
                  <a:pt x="3599" y="4259"/>
                </a:lnTo>
                <a:lnTo>
                  <a:pt x="3599" y="4273"/>
                </a:lnTo>
                <a:lnTo>
                  <a:pt x="3601" y="4288"/>
                </a:lnTo>
                <a:lnTo>
                  <a:pt x="3604" y="4304"/>
                </a:lnTo>
                <a:lnTo>
                  <a:pt x="3610" y="4324"/>
                </a:lnTo>
                <a:lnTo>
                  <a:pt x="3614" y="4331"/>
                </a:lnTo>
                <a:lnTo>
                  <a:pt x="3619" y="4340"/>
                </a:lnTo>
                <a:lnTo>
                  <a:pt x="3620" y="4349"/>
                </a:lnTo>
                <a:lnTo>
                  <a:pt x="3623" y="4360"/>
                </a:lnTo>
                <a:lnTo>
                  <a:pt x="3623" y="4369"/>
                </a:lnTo>
                <a:lnTo>
                  <a:pt x="3625" y="4378"/>
                </a:lnTo>
                <a:lnTo>
                  <a:pt x="3625" y="4388"/>
                </a:lnTo>
                <a:lnTo>
                  <a:pt x="3626" y="4400"/>
                </a:lnTo>
                <a:lnTo>
                  <a:pt x="3622" y="4412"/>
                </a:lnTo>
                <a:lnTo>
                  <a:pt x="3625" y="4427"/>
                </a:lnTo>
                <a:lnTo>
                  <a:pt x="3631" y="4441"/>
                </a:lnTo>
                <a:lnTo>
                  <a:pt x="3638" y="4457"/>
                </a:lnTo>
                <a:lnTo>
                  <a:pt x="3641" y="4469"/>
                </a:lnTo>
                <a:lnTo>
                  <a:pt x="3644" y="4481"/>
                </a:lnTo>
                <a:lnTo>
                  <a:pt x="3641" y="4489"/>
                </a:lnTo>
                <a:lnTo>
                  <a:pt x="3632" y="4495"/>
                </a:lnTo>
                <a:lnTo>
                  <a:pt x="3631" y="4502"/>
                </a:lnTo>
                <a:lnTo>
                  <a:pt x="3631" y="4510"/>
                </a:lnTo>
                <a:lnTo>
                  <a:pt x="3631" y="4519"/>
                </a:lnTo>
                <a:lnTo>
                  <a:pt x="3631" y="4528"/>
                </a:lnTo>
                <a:lnTo>
                  <a:pt x="3631" y="4535"/>
                </a:lnTo>
                <a:lnTo>
                  <a:pt x="3631" y="4544"/>
                </a:lnTo>
                <a:lnTo>
                  <a:pt x="3631" y="4553"/>
                </a:lnTo>
                <a:lnTo>
                  <a:pt x="3631" y="4562"/>
                </a:lnTo>
                <a:lnTo>
                  <a:pt x="3635" y="4600"/>
                </a:lnTo>
                <a:lnTo>
                  <a:pt x="3635" y="4648"/>
                </a:lnTo>
                <a:lnTo>
                  <a:pt x="3632" y="4702"/>
                </a:lnTo>
                <a:lnTo>
                  <a:pt x="3631" y="4760"/>
                </a:lnTo>
                <a:lnTo>
                  <a:pt x="3629" y="4816"/>
                </a:lnTo>
                <a:lnTo>
                  <a:pt x="3635" y="4867"/>
                </a:lnTo>
                <a:lnTo>
                  <a:pt x="3647" y="4909"/>
                </a:lnTo>
                <a:lnTo>
                  <a:pt x="3671" y="49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562960" y="6443640"/>
            <a:ext cx="506520" cy="103320"/>
          </a:xfrm>
          <a:custGeom>
            <a:avLst/>
            <a:gdLst/>
            <a:ahLst/>
            <a:rect l="l" t="t" r="r" b="b"/>
            <a:pathLst>
              <a:path w="638" h="131">
                <a:moveTo>
                  <a:pt x="477" y="131"/>
                </a:moveTo>
                <a:lnTo>
                  <a:pt x="441" y="126"/>
                </a:lnTo>
                <a:lnTo>
                  <a:pt x="383" y="122"/>
                </a:lnTo>
                <a:lnTo>
                  <a:pt x="306" y="113"/>
                </a:lnTo>
                <a:lnTo>
                  <a:pt x="227" y="101"/>
                </a:lnTo>
                <a:lnTo>
                  <a:pt x="146" y="84"/>
                </a:lnTo>
                <a:lnTo>
                  <a:pt x="75" y="65"/>
                </a:lnTo>
                <a:lnTo>
                  <a:pt x="23" y="39"/>
                </a:lnTo>
                <a:lnTo>
                  <a:pt x="0" y="12"/>
                </a:lnTo>
                <a:lnTo>
                  <a:pt x="20" y="3"/>
                </a:lnTo>
                <a:lnTo>
                  <a:pt x="33" y="0"/>
                </a:lnTo>
                <a:lnTo>
                  <a:pt x="42" y="0"/>
                </a:lnTo>
                <a:lnTo>
                  <a:pt x="50" y="3"/>
                </a:lnTo>
                <a:lnTo>
                  <a:pt x="54" y="6"/>
                </a:lnTo>
                <a:lnTo>
                  <a:pt x="65" y="12"/>
                </a:lnTo>
                <a:lnTo>
                  <a:pt x="77" y="17"/>
                </a:lnTo>
                <a:lnTo>
                  <a:pt x="98" y="24"/>
                </a:lnTo>
                <a:lnTo>
                  <a:pt x="131" y="35"/>
                </a:lnTo>
                <a:lnTo>
                  <a:pt x="185" y="50"/>
                </a:lnTo>
                <a:lnTo>
                  <a:pt x="252" y="62"/>
                </a:lnTo>
                <a:lnTo>
                  <a:pt x="326" y="75"/>
                </a:lnTo>
                <a:lnTo>
                  <a:pt x="398" y="81"/>
                </a:lnTo>
                <a:lnTo>
                  <a:pt x="462" y="84"/>
                </a:lnTo>
                <a:lnTo>
                  <a:pt x="512" y="78"/>
                </a:lnTo>
                <a:lnTo>
                  <a:pt x="539" y="65"/>
                </a:lnTo>
                <a:lnTo>
                  <a:pt x="531" y="41"/>
                </a:lnTo>
                <a:lnTo>
                  <a:pt x="539" y="29"/>
                </a:lnTo>
                <a:lnTo>
                  <a:pt x="554" y="26"/>
                </a:lnTo>
                <a:lnTo>
                  <a:pt x="575" y="32"/>
                </a:lnTo>
                <a:lnTo>
                  <a:pt x="596" y="41"/>
                </a:lnTo>
                <a:lnTo>
                  <a:pt x="617" y="56"/>
                </a:lnTo>
                <a:lnTo>
                  <a:pt x="632" y="72"/>
                </a:lnTo>
                <a:lnTo>
                  <a:pt x="638" y="89"/>
                </a:lnTo>
                <a:lnTo>
                  <a:pt x="614" y="99"/>
                </a:lnTo>
                <a:lnTo>
                  <a:pt x="594" y="108"/>
                </a:lnTo>
                <a:lnTo>
                  <a:pt x="575" y="116"/>
                </a:lnTo>
                <a:lnTo>
                  <a:pt x="557" y="122"/>
                </a:lnTo>
                <a:lnTo>
                  <a:pt x="537" y="125"/>
                </a:lnTo>
                <a:lnTo>
                  <a:pt x="519" y="128"/>
                </a:lnTo>
                <a:lnTo>
                  <a:pt x="498" y="129"/>
                </a:lnTo>
                <a:lnTo>
                  <a:pt x="477" y="131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51600" y="6442200"/>
            <a:ext cx="441360" cy="99720"/>
          </a:xfrm>
          <a:custGeom>
            <a:avLst/>
            <a:gdLst/>
            <a:ahLst/>
            <a:rect l="l" t="t" r="r" b="b"/>
            <a:pathLst>
              <a:path w="555" h="124">
                <a:moveTo>
                  <a:pt x="145" y="124"/>
                </a:moveTo>
                <a:lnTo>
                  <a:pt x="120" y="120"/>
                </a:lnTo>
                <a:lnTo>
                  <a:pt x="94" y="115"/>
                </a:lnTo>
                <a:lnTo>
                  <a:pt x="69" y="109"/>
                </a:lnTo>
                <a:lnTo>
                  <a:pt x="48" y="103"/>
                </a:lnTo>
                <a:lnTo>
                  <a:pt x="27" y="93"/>
                </a:lnTo>
                <a:lnTo>
                  <a:pt x="12" y="79"/>
                </a:lnTo>
                <a:lnTo>
                  <a:pt x="3" y="61"/>
                </a:lnTo>
                <a:lnTo>
                  <a:pt x="0" y="39"/>
                </a:lnTo>
                <a:lnTo>
                  <a:pt x="6" y="31"/>
                </a:lnTo>
                <a:lnTo>
                  <a:pt x="15" y="24"/>
                </a:lnTo>
                <a:lnTo>
                  <a:pt x="24" y="16"/>
                </a:lnTo>
                <a:lnTo>
                  <a:pt x="37" y="12"/>
                </a:lnTo>
                <a:lnTo>
                  <a:pt x="48" y="6"/>
                </a:lnTo>
                <a:lnTo>
                  <a:pt x="60" y="1"/>
                </a:lnTo>
                <a:lnTo>
                  <a:pt x="72" y="0"/>
                </a:lnTo>
                <a:lnTo>
                  <a:pt x="84" y="1"/>
                </a:lnTo>
                <a:lnTo>
                  <a:pt x="79" y="27"/>
                </a:lnTo>
                <a:lnTo>
                  <a:pt x="73" y="46"/>
                </a:lnTo>
                <a:lnTo>
                  <a:pt x="66" y="58"/>
                </a:lnTo>
                <a:lnTo>
                  <a:pt x="63" y="67"/>
                </a:lnTo>
                <a:lnTo>
                  <a:pt x="64" y="72"/>
                </a:lnTo>
                <a:lnTo>
                  <a:pt x="78" y="78"/>
                </a:lnTo>
                <a:lnTo>
                  <a:pt x="103" y="84"/>
                </a:lnTo>
                <a:lnTo>
                  <a:pt x="147" y="96"/>
                </a:lnTo>
                <a:lnTo>
                  <a:pt x="184" y="93"/>
                </a:lnTo>
                <a:lnTo>
                  <a:pt x="240" y="87"/>
                </a:lnTo>
                <a:lnTo>
                  <a:pt x="304" y="76"/>
                </a:lnTo>
                <a:lnTo>
                  <a:pt x="375" y="66"/>
                </a:lnTo>
                <a:lnTo>
                  <a:pt x="439" y="55"/>
                </a:lnTo>
                <a:lnTo>
                  <a:pt x="496" y="48"/>
                </a:lnTo>
                <a:lnTo>
                  <a:pt x="537" y="45"/>
                </a:lnTo>
                <a:lnTo>
                  <a:pt x="555" y="51"/>
                </a:lnTo>
                <a:lnTo>
                  <a:pt x="522" y="70"/>
                </a:lnTo>
                <a:lnTo>
                  <a:pt x="474" y="87"/>
                </a:lnTo>
                <a:lnTo>
                  <a:pt x="415" y="99"/>
                </a:lnTo>
                <a:lnTo>
                  <a:pt x="354" y="109"/>
                </a:lnTo>
                <a:lnTo>
                  <a:pt x="289" y="115"/>
                </a:lnTo>
                <a:lnTo>
                  <a:pt x="229" y="120"/>
                </a:lnTo>
                <a:lnTo>
                  <a:pt x="178" y="123"/>
                </a:lnTo>
                <a:lnTo>
                  <a:pt x="145" y="12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16880" y="6099120"/>
            <a:ext cx="417240" cy="419040"/>
          </a:xfrm>
          <a:custGeom>
            <a:avLst/>
            <a:gdLst/>
            <a:ahLst/>
            <a:rect l="l" t="t" r="r" b="b"/>
            <a:pathLst>
              <a:path w="526" h="528">
                <a:moveTo>
                  <a:pt x="492" y="528"/>
                </a:moveTo>
                <a:lnTo>
                  <a:pt x="430" y="514"/>
                </a:lnTo>
                <a:lnTo>
                  <a:pt x="373" y="496"/>
                </a:lnTo>
                <a:lnTo>
                  <a:pt x="318" y="474"/>
                </a:lnTo>
                <a:lnTo>
                  <a:pt x="267" y="447"/>
                </a:lnTo>
                <a:lnTo>
                  <a:pt x="219" y="412"/>
                </a:lnTo>
                <a:lnTo>
                  <a:pt x="175" y="375"/>
                </a:lnTo>
                <a:lnTo>
                  <a:pt x="136" y="331"/>
                </a:lnTo>
                <a:lnTo>
                  <a:pt x="105" y="283"/>
                </a:lnTo>
                <a:lnTo>
                  <a:pt x="90" y="270"/>
                </a:lnTo>
                <a:lnTo>
                  <a:pt x="79" y="256"/>
                </a:lnTo>
                <a:lnTo>
                  <a:pt x="70" y="240"/>
                </a:lnTo>
                <a:lnTo>
                  <a:pt x="64" y="226"/>
                </a:lnTo>
                <a:lnTo>
                  <a:pt x="57" y="213"/>
                </a:lnTo>
                <a:lnTo>
                  <a:pt x="49" y="202"/>
                </a:lnTo>
                <a:lnTo>
                  <a:pt x="40" y="193"/>
                </a:lnTo>
                <a:lnTo>
                  <a:pt x="28" y="192"/>
                </a:lnTo>
                <a:lnTo>
                  <a:pt x="24" y="193"/>
                </a:lnTo>
                <a:lnTo>
                  <a:pt x="24" y="198"/>
                </a:lnTo>
                <a:lnTo>
                  <a:pt x="22" y="201"/>
                </a:lnTo>
                <a:lnTo>
                  <a:pt x="21" y="205"/>
                </a:lnTo>
                <a:lnTo>
                  <a:pt x="19" y="211"/>
                </a:lnTo>
                <a:lnTo>
                  <a:pt x="19" y="220"/>
                </a:lnTo>
                <a:lnTo>
                  <a:pt x="15" y="220"/>
                </a:lnTo>
                <a:lnTo>
                  <a:pt x="12" y="220"/>
                </a:lnTo>
                <a:lnTo>
                  <a:pt x="6" y="187"/>
                </a:lnTo>
                <a:lnTo>
                  <a:pt x="1" y="159"/>
                </a:lnTo>
                <a:lnTo>
                  <a:pt x="0" y="132"/>
                </a:lnTo>
                <a:lnTo>
                  <a:pt x="1" y="108"/>
                </a:lnTo>
                <a:lnTo>
                  <a:pt x="1" y="82"/>
                </a:lnTo>
                <a:lnTo>
                  <a:pt x="6" y="57"/>
                </a:lnTo>
                <a:lnTo>
                  <a:pt x="12" y="30"/>
                </a:lnTo>
                <a:lnTo>
                  <a:pt x="21" y="0"/>
                </a:lnTo>
                <a:lnTo>
                  <a:pt x="24" y="0"/>
                </a:lnTo>
                <a:lnTo>
                  <a:pt x="28" y="1"/>
                </a:lnTo>
                <a:lnTo>
                  <a:pt x="27" y="33"/>
                </a:lnTo>
                <a:lnTo>
                  <a:pt x="28" y="61"/>
                </a:lnTo>
                <a:lnTo>
                  <a:pt x="33" y="87"/>
                </a:lnTo>
                <a:lnTo>
                  <a:pt x="40" y="112"/>
                </a:lnTo>
                <a:lnTo>
                  <a:pt x="49" y="135"/>
                </a:lnTo>
                <a:lnTo>
                  <a:pt x="63" y="160"/>
                </a:lnTo>
                <a:lnTo>
                  <a:pt x="76" y="186"/>
                </a:lnTo>
                <a:lnTo>
                  <a:pt x="96" y="216"/>
                </a:lnTo>
                <a:lnTo>
                  <a:pt x="103" y="225"/>
                </a:lnTo>
                <a:lnTo>
                  <a:pt x="109" y="235"/>
                </a:lnTo>
                <a:lnTo>
                  <a:pt x="114" y="241"/>
                </a:lnTo>
                <a:lnTo>
                  <a:pt x="118" y="247"/>
                </a:lnTo>
                <a:lnTo>
                  <a:pt x="121" y="253"/>
                </a:lnTo>
                <a:lnTo>
                  <a:pt x="126" y="261"/>
                </a:lnTo>
                <a:lnTo>
                  <a:pt x="130" y="262"/>
                </a:lnTo>
                <a:lnTo>
                  <a:pt x="139" y="268"/>
                </a:lnTo>
                <a:lnTo>
                  <a:pt x="148" y="276"/>
                </a:lnTo>
                <a:lnTo>
                  <a:pt x="160" y="288"/>
                </a:lnTo>
                <a:lnTo>
                  <a:pt x="171" y="298"/>
                </a:lnTo>
                <a:lnTo>
                  <a:pt x="181" y="310"/>
                </a:lnTo>
                <a:lnTo>
                  <a:pt x="190" y="321"/>
                </a:lnTo>
                <a:lnTo>
                  <a:pt x="199" y="330"/>
                </a:lnTo>
                <a:lnTo>
                  <a:pt x="231" y="349"/>
                </a:lnTo>
                <a:lnTo>
                  <a:pt x="264" y="367"/>
                </a:lnTo>
                <a:lnTo>
                  <a:pt x="295" y="381"/>
                </a:lnTo>
                <a:lnTo>
                  <a:pt x="328" y="393"/>
                </a:lnTo>
                <a:lnTo>
                  <a:pt x="361" y="399"/>
                </a:lnTo>
                <a:lnTo>
                  <a:pt x="399" y="403"/>
                </a:lnTo>
                <a:lnTo>
                  <a:pt x="438" y="403"/>
                </a:lnTo>
                <a:lnTo>
                  <a:pt x="481" y="400"/>
                </a:lnTo>
                <a:lnTo>
                  <a:pt x="489" y="378"/>
                </a:lnTo>
                <a:lnTo>
                  <a:pt x="489" y="351"/>
                </a:lnTo>
                <a:lnTo>
                  <a:pt x="481" y="318"/>
                </a:lnTo>
                <a:lnTo>
                  <a:pt x="471" y="285"/>
                </a:lnTo>
                <a:lnTo>
                  <a:pt x="456" y="250"/>
                </a:lnTo>
                <a:lnTo>
                  <a:pt x="441" y="220"/>
                </a:lnTo>
                <a:lnTo>
                  <a:pt x="427" y="193"/>
                </a:lnTo>
                <a:lnTo>
                  <a:pt x="420" y="175"/>
                </a:lnTo>
                <a:lnTo>
                  <a:pt x="412" y="163"/>
                </a:lnTo>
                <a:lnTo>
                  <a:pt x="403" y="147"/>
                </a:lnTo>
                <a:lnTo>
                  <a:pt x="391" y="126"/>
                </a:lnTo>
                <a:lnTo>
                  <a:pt x="379" y="106"/>
                </a:lnTo>
                <a:lnTo>
                  <a:pt x="367" y="85"/>
                </a:lnTo>
                <a:lnTo>
                  <a:pt x="358" y="69"/>
                </a:lnTo>
                <a:lnTo>
                  <a:pt x="351" y="55"/>
                </a:lnTo>
                <a:lnTo>
                  <a:pt x="351" y="49"/>
                </a:lnTo>
                <a:lnTo>
                  <a:pt x="394" y="96"/>
                </a:lnTo>
                <a:lnTo>
                  <a:pt x="435" y="148"/>
                </a:lnTo>
                <a:lnTo>
                  <a:pt x="468" y="202"/>
                </a:lnTo>
                <a:lnTo>
                  <a:pt x="495" y="262"/>
                </a:lnTo>
                <a:lnTo>
                  <a:pt x="513" y="322"/>
                </a:lnTo>
                <a:lnTo>
                  <a:pt x="523" y="387"/>
                </a:lnTo>
                <a:lnTo>
                  <a:pt x="526" y="453"/>
                </a:lnTo>
                <a:lnTo>
                  <a:pt x="522" y="522"/>
                </a:lnTo>
                <a:lnTo>
                  <a:pt x="514" y="526"/>
                </a:lnTo>
                <a:lnTo>
                  <a:pt x="507" y="528"/>
                </a:lnTo>
                <a:lnTo>
                  <a:pt x="498" y="528"/>
                </a:lnTo>
                <a:lnTo>
                  <a:pt x="492" y="5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91280" y="6066000"/>
            <a:ext cx="446040" cy="444240"/>
          </a:xfrm>
          <a:custGeom>
            <a:avLst/>
            <a:gdLst/>
            <a:ahLst/>
            <a:rect l="l" t="t" r="r" b="b"/>
            <a:pathLst>
              <a:path w="563" h="561">
                <a:moveTo>
                  <a:pt x="20" y="561"/>
                </a:moveTo>
                <a:lnTo>
                  <a:pt x="5" y="539"/>
                </a:lnTo>
                <a:lnTo>
                  <a:pt x="0" y="504"/>
                </a:lnTo>
                <a:lnTo>
                  <a:pt x="0" y="459"/>
                </a:lnTo>
                <a:lnTo>
                  <a:pt x="5" y="411"/>
                </a:lnTo>
                <a:lnTo>
                  <a:pt x="12" y="362"/>
                </a:lnTo>
                <a:lnTo>
                  <a:pt x="20" y="317"/>
                </a:lnTo>
                <a:lnTo>
                  <a:pt x="27" y="281"/>
                </a:lnTo>
                <a:lnTo>
                  <a:pt x="33" y="260"/>
                </a:lnTo>
                <a:lnTo>
                  <a:pt x="44" y="228"/>
                </a:lnTo>
                <a:lnTo>
                  <a:pt x="62" y="191"/>
                </a:lnTo>
                <a:lnTo>
                  <a:pt x="81" y="149"/>
                </a:lnTo>
                <a:lnTo>
                  <a:pt x="107" y="108"/>
                </a:lnTo>
                <a:lnTo>
                  <a:pt x="132" y="68"/>
                </a:lnTo>
                <a:lnTo>
                  <a:pt x="158" y="35"/>
                </a:lnTo>
                <a:lnTo>
                  <a:pt x="182" y="11"/>
                </a:lnTo>
                <a:lnTo>
                  <a:pt x="204" y="0"/>
                </a:lnTo>
                <a:lnTo>
                  <a:pt x="198" y="14"/>
                </a:lnTo>
                <a:lnTo>
                  <a:pt x="194" y="27"/>
                </a:lnTo>
                <a:lnTo>
                  <a:pt x="186" y="41"/>
                </a:lnTo>
                <a:lnTo>
                  <a:pt x="179" y="56"/>
                </a:lnTo>
                <a:lnTo>
                  <a:pt x="170" y="69"/>
                </a:lnTo>
                <a:lnTo>
                  <a:pt x="162" y="84"/>
                </a:lnTo>
                <a:lnTo>
                  <a:pt x="153" y="98"/>
                </a:lnTo>
                <a:lnTo>
                  <a:pt x="147" y="113"/>
                </a:lnTo>
                <a:lnTo>
                  <a:pt x="135" y="138"/>
                </a:lnTo>
                <a:lnTo>
                  <a:pt x="119" y="177"/>
                </a:lnTo>
                <a:lnTo>
                  <a:pt x="101" y="222"/>
                </a:lnTo>
                <a:lnTo>
                  <a:pt x="86" y="273"/>
                </a:lnTo>
                <a:lnTo>
                  <a:pt x="72" y="324"/>
                </a:lnTo>
                <a:lnTo>
                  <a:pt x="66" y="371"/>
                </a:lnTo>
                <a:lnTo>
                  <a:pt x="68" y="410"/>
                </a:lnTo>
                <a:lnTo>
                  <a:pt x="83" y="440"/>
                </a:lnTo>
                <a:lnTo>
                  <a:pt x="113" y="443"/>
                </a:lnTo>
                <a:lnTo>
                  <a:pt x="144" y="440"/>
                </a:lnTo>
                <a:lnTo>
                  <a:pt x="174" y="432"/>
                </a:lnTo>
                <a:lnTo>
                  <a:pt x="206" y="423"/>
                </a:lnTo>
                <a:lnTo>
                  <a:pt x="234" y="410"/>
                </a:lnTo>
                <a:lnTo>
                  <a:pt x="264" y="395"/>
                </a:lnTo>
                <a:lnTo>
                  <a:pt x="291" y="378"/>
                </a:lnTo>
                <a:lnTo>
                  <a:pt x="318" y="363"/>
                </a:lnTo>
                <a:lnTo>
                  <a:pt x="360" y="329"/>
                </a:lnTo>
                <a:lnTo>
                  <a:pt x="401" y="294"/>
                </a:lnTo>
                <a:lnTo>
                  <a:pt x="435" y="257"/>
                </a:lnTo>
                <a:lnTo>
                  <a:pt x="467" y="221"/>
                </a:lnTo>
                <a:lnTo>
                  <a:pt x="491" y="179"/>
                </a:lnTo>
                <a:lnTo>
                  <a:pt x="510" y="134"/>
                </a:lnTo>
                <a:lnTo>
                  <a:pt x="522" y="83"/>
                </a:lnTo>
                <a:lnTo>
                  <a:pt x="527" y="27"/>
                </a:lnTo>
                <a:lnTo>
                  <a:pt x="530" y="18"/>
                </a:lnTo>
                <a:lnTo>
                  <a:pt x="536" y="20"/>
                </a:lnTo>
                <a:lnTo>
                  <a:pt x="539" y="30"/>
                </a:lnTo>
                <a:lnTo>
                  <a:pt x="543" y="42"/>
                </a:lnTo>
                <a:lnTo>
                  <a:pt x="546" y="53"/>
                </a:lnTo>
                <a:lnTo>
                  <a:pt x="551" y="66"/>
                </a:lnTo>
                <a:lnTo>
                  <a:pt x="554" y="77"/>
                </a:lnTo>
                <a:lnTo>
                  <a:pt x="558" y="90"/>
                </a:lnTo>
                <a:lnTo>
                  <a:pt x="560" y="102"/>
                </a:lnTo>
                <a:lnTo>
                  <a:pt x="563" y="119"/>
                </a:lnTo>
                <a:lnTo>
                  <a:pt x="551" y="125"/>
                </a:lnTo>
                <a:lnTo>
                  <a:pt x="542" y="137"/>
                </a:lnTo>
                <a:lnTo>
                  <a:pt x="533" y="149"/>
                </a:lnTo>
                <a:lnTo>
                  <a:pt x="527" y="165"/>
                </a:lnTo>
                <a:lnTo>
                  <a:pt x="521" y="182"/>
                </a:lnTo>
                <a:lnTo>
                  <a:pt x="516" y="198"/>
                </a:lnTo>
                <a:lnTo>
                  <a:pt x="510" y="215"/>
                </a:lnTo>
                <a:lnTo>
                  <a:pt x="506" y="231"/>
                </a:lnTo>
                <a:lnTo>
                  <a:pt x="467" y="293"/>
                </a:lnTo>
                <a:lnTo>
                  <a:pt x="419" y="354"/>
                </a:lnTo>
                <a:lnTo>
                  <a:pt x="362" y="410"/>
                </a:lnTo>
                <a:lnTo>
                  <a:pt x="302" y="459"/>
                </a:lnTo>
                <a:lnTo>
                  <a:pt x="234" y="500"/>
                </a:lnTo>
                <a:lnTo>
                  <a:pt x="165" y="533"/>
                </a:lnTo>
                <a:lnTo>
                  <a:pt x="92" y="554"/>
                </a:lnTo>
                <a:lnTo>
                  <a:pt x="20" y="56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05600" y="6378480"/>
            <a:ext cx="208080" cy="125640"/>
          </a:xfrm>
          <a:custGeom>
            <a:avLst/>
            <a:gdLst/>
            <a:ahLst/>
            <a:rect l="l" t="t" r="r" b="b"/>
            <a:pathLst>
              <a:path w="263" h="159">
                <a:moveTo>
                  <a:pt x="108" y="159"/>
                </a:moveTo>
                <a:lnTo>
                  <a:pt x="81" y="151"/>
                </a:lnTo>
                <a:lnTo>
                  <a:pt x="62" y="148"/>
                </a:lnTo>
                <a:lnTo>
                  <a:pt x="48" y="144"/>
                </a:lnTo>
                <a:lnTo>
                  <a:pt x="39" y="144"/>
                </a:lnTo>
                <a:lnTo>
                  <a:pt x="29" y="142"/>
                </a:lnTo>
                <a:lnTo>
                  <a:pt x="29" y="144"/>
                </a:lnTo>
                <a:lnTo>
                  <a:pt x="29" y="126"/>
                </a:lnTo>
                <a:lnTo>
                  <a:pt x="32" y="112"/>
                </a:lnTo>
                <a:lnTo>
                  <a:pt x="35" y="97"/>
                </a:lnTo>
                <a:lnTo>
                  <a:pt x="38" y="87"/>
                </a:lnTo>
                <a:lnTo>
                  <a:pt x="36" y="75"/>
                </a:lnTo>
                <a:lnTo>
                  <a:pt x="30" y="67"/>
                </a:lnTo>
                <a:lnTo>
                  <a:pt x="18" y="61"/>
                </a:lnTo>
                <a:lnTo>
                  <a:pt x="0" y="58"/>
                </a:lnTo>
                <a:lnTo>
                  <a:pt x="2" y="49"/>
                </a:lnTo>
                <a:lnTo>
                  <a:pt x="9" y="40"/>
                </a:lnTo>
                <a:lnTo>
                  <a:pt x="18" y="31"/>
                </a:lnTo>
                <a:lnTo>
                  <a:pt x="32" y="22"/>
                </a:lnTo>
                <a:lnTo>
                  <a:pt x="44" y="13"/>
                </a:lnTo>
                <a:lnTo>
                  <a:pt x="57" y="6"/>
                </a:lnTo>
                <a:lnTo>
                  <a:pt x="68" y="0"/>
                </a:lnTo>
                <a:lnTo>
                  <a:pt x="80" y="0"/>
                </a:lnTo>
                <a:lnTo>
                  <a:pt x="104" y="7"/>
                </a:lnTo>
                <a:lnTo>
                  <a:pt x="128" y="13"/>
                </a:lnTo>
                <a:lnTo>
                  <a:pt x="149" y="16"/>
                </a:lnTo>
                <a:lnTo>
                  <a:pt x="171" y="22"/>
                </a:lnTo>
                <a:lnTo>
                  <a:pt x="189" y="28"/>
                </a:lnTo>
                <a:lnTo>
                  <a:pt x="207" y="42"/>
                </a:lnTo>
                <a:lnTo>
                  <a:pt x="222" y="63"/>
                </a:lnTo>
                <a:lnTo>
                  <a:pt x="237" y="94"/>
                </a:lnTo>
                <a:lnTo>
                  <a:pt x="242" y="99"/>
                </a:lnTo>
                <a:lnTo>
                  <a:pt x="249" y="109"/>
                </a:lnTo>
                <a:lnTo>
                  <a:pt x="257" y="123"/>
                </a:lnTo>
                <a:lnTo>
                  <a:pt x="263" y="138"/>
                </a:lnTo>
                <a:lnTo>
                  <a:pt x="248" y="142"/>
                </a:lnTo>
                <a:lnTo>
                  <a:pt x="230" y="148"/>
                </a:lnTo>
                <a:lnTo>
                  <a:pt x="207" y="151"/>
                </a:lnTo>
                <a:lnTo>
                  <a:pt x="186" y="154"/>
                </a:lnTo>
                <a:lnTo>
                  <a:pt x="162" y="156"/>
                </a:lnTo>
                <a:lnTo>
                  <a:pt x="141" y="157"/>
                </a:lnTo>
                <a:lnTo>
                  <a:pt x="122" y="157"/>
                </a:lnTo>
                <a:lnTo>
                  <a:pt x="108" y="159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728200" y="6386400"/>
            <a:ext cx="295200" cy="106560"/>
          </a:xfrm>
          <a:custGeom>
            <a:avLst/>
            <a:gdLst/>
            <a:ahLst/>
            <a:rect l="l" t="t" r="r" b="b"/>
            <a:pathLst>
              <a:path w="370" h="134">
                <a:moveTo>
                  <a:pt x="199" y="134"/>
                </a:moveTo>
                <a:lnTo>
                  <a:pt x="172" y="131"/>
                </a:lnTo>
                <a:lnTo>
                  <a:pt x="147" y="129"/>
                </a:lnTo>
                <a:lnTo>
                  <a:pt x="121" y="126"/>
                </a:lnTo>
                <a:lnTo>
                  <a:pt x="96" y="125"/>
                </a:lnTo>
                <a:lnTo>
                  <a:pt x="69" y="122"/>
                </a:lnTo>
                <a:lnTo>
                  <a:pt x="45" y="119"/>
                </a:lnTo>
                <a:lnTo>
                  <a:pt x="22" y="114"/>
                </a:lnTo>
                <a:lnTo>
                  <a:pt x="1" y="110"/>
                </a:lnTo>
                <a:lnTo>
                  <a:pt x="0" y="107"/>
                </a:lnTo>
                <a:lnTo>
                  <a:pt x="0" y="104"/>
                </a:lnTo>
                <a:lnTo>
                  <a:pt x="15" y="92"/>
                </a:lnTo>
                <a:lnTo>
                  <a:pt x="30" y="81"/>
                </a:lnTo>
                <a:lnTo>
                  <a:pt x="45" y="69"/>
                </a:lnTo>
                <a:lnTo>
                  <a:pt x="61" y="59"/>
                </a:lnTo>
                <a:lnTo>
                  <a:pt x="76" y="47"/>
                </a:lnTo>
                <a:lnTo>
                  <a:pt x="91" y="35"/>
                </a:lnTo>
                <a:lnTo>
                  <a:pt x="106" y="21"/>
                </a:lnTo>
                <a:lnTo>
                  <a:pt x="123" y="8"/>
                </a:lnTo>
                <a:lnTo>
                  <a:pt x="163" y="6"/>
                </a:lnTo>
                <a:lnTo>
                  <a:pt x="201" y="3"/>
                </a:lnTo>
                <a:lnTo>
                  <a:pt x="231" y="0"/>
                </a:lnTo>
                <a:lnTo>
                  <a:pt x="259" y="0"/>
                </a:lnTo>
                <a:lnTo>
                  <a:pt x="285" y="3"/>
                </a:lnTo>
                <a:lnTo>
                  <a:pt x="312" y="17"/>
                </a:lnTo>
                <a:lnTo>
                  <a:pt x="339" y="41"/>
                </a:lnTo>
                <a:lnTo>
                  <a:pt x="370" y="80"/>
                </a:lnTo>
                <a:lnTo>
                  <a:pt x="367" y="81"/>
                </a:lnTo>
                <a:lnTo>
                  <a:pt x="367" y="84"/>
                </a:lnTo>
                <a:lnTo>
                  <a:pt x="348" y="81"/>
                </a:lnTo>
                <a:lnTo>
                  <a:pt x="334" y="81"/>
                </a:lnTo>
                <a:lnTo>
                  <a:pt x="322" y="81"/>
                </a:lnTo>
                <a:lnTo>
                  <a:pt x="315" y="84"/>
                </a:lnTo>
                <a:lnTo>
                  <a:pt x="307" y="87"/>
                </a:lnTo>
                <a:lnTo>
                  <a:pt x="303" y="96"/>
                </a:lnTo>
                <a:lnTo>
                  <a:pt x="298" y="110"/>
                </a:lnTo>
                <a:lnTo>
                  <a:pt x="297" y="128"/>
                </a:lnTo>
                <a:lnTo>
                  <a:pt x="288" y="128"/>
                </a:lnTo>
                <a:lnTo>
                  <a:pt x="282" y="128"/>
                </a:lnTo>
                <a:lnTo>
                  <a:pt x="274" y="128"/>
                </a:lnTo>
                <a:lnTo>
                  <a:pt x="267" y="129"/>
                </a:lnTo>
                <a:lnTo>
                  <a:pt x="256" y="129"/>
                </a:lnTo>
                <a:lnTo>
                  <a:pt x="241" y="129"/>
                </a:lnTo>
                <a:lnTo>
                  <a:pt x="222" y="131"/>
                </a:lnTo>
                <a:lnTo>
                  <a:pt x="199" y="134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75520" y="6388200"/>
            <a:ext cx="76320" cy="95040"/>
          </a:xfrm>
          <a:custGeom>
            <a:avLst/>
            <a:gdLst/>
            <a:ahLst/>
            <a:rect l="l" t="t" r="r" b="b"/>
            <a:pathLst>
              <a:path w="96" h="120">
                <a:moveTo>
                  <a:pt x="69" y="120"/>
                </a:moveTo>
                <a:lnTo>
                  <a:pt x="67" y="117"/>
                </a:lnTo>
                <a:lnTo>
                  <a:pt x="67" y="114"/>
                </a:lnTo>
                <a:lnTo>
                  <a:pt x="60" y="106"/>
                </a:lnTo>
                <a:lnTo>
                  <a:pt x="51" y="94"/>
                </a:lnTo>
                <a:lnTo>
                  <a:pt x="39" y="78"/>
                </a:lnTo>
                <a:lnTo>
                  <a:pt x="28" y="60"/>
                </a:lnTo>
                <a:lnTo>
                  <a:pt x="16" y="39"/>
                </a:lnTo>
                <a:lnTo>
                  <a:pt x="7" y="22"/>
                </a:lnTo>
                <a:lnTo>
                  <a:pt x="1" y="7"/>
                </a:lnTo>
                <a:lnTo>
                  <a:pt x="0" y="0"/>
                </a:lnTo>
                <a:lnTo>
                  <a:pt x="13" y="3"/>
                </a:lnTo>
                <a:lnTo>
                  <a:pt x="30" y="12"/>
                </a:lnTo>
                <a:lnTo>
                  <a:pt x="45" y="24"/>
                </a:lnTo>
                <a:lnTo>
                  <a:pt x="61" y="42"/>
                </a:lnTo>
                <a:lnTo>
                  <a:pt x="73" y="60"/>
                </a:lnTo>
                <a:lnTo>
                  <a:pt x="84" y="79"/>
                </a:lnTo>
                <a:lnTo>
                  <a:pt x="91" y="99"/>
                </a:lnTo>
                <a:lnTo>
                  <a:pt x="96" y="118"/>
                </a:lnTo>
                <a:lnTo>
                  <a:pt x="90" y="118"/>
                </a:lnTo>
                <a:lnTo>
                  <a:pt x="87" y="118"/>
                </a:lnTo>
                <a:lnTo>
                  <a:pt x="79" y="118"/>
                </a:lnTo>
                <a:lnTo>
                  <a:pt x="69" y="12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18360" y="6378480"/>
            <a:ext cx="60480" cy="101520"/>
          </a:xfrm>
          <a:custGeom>
            <a:avLst/>
            <a:gdLst/>
            <a:ahLst/>
            <a:rect l="l" t="t" r="r" b="b"/>
            <a:pathLst>
              <a:path w="77" h="127">
                <a:moveTo>
                  <a:pt x="57" y="127"/>
                </a:moveTo>
                <a:lnTo>
                  <a:pt x="51" y="108"/>
                </a:lnTo>
                <a:lnTo>
                  <a:pt x="44" y="90"/>
                </a:lnTo>
                <a:lnTo>
                  <a:pt x="35" y="73"/>
                </a:lnTo>
                <a:lnTo>
                  <a:pt x="27" y="58"/>
                </a:lnTo>
                <a:lnTo>
                  <a:pt x="18" y="43"/>
                </a:lnTo>
                <a:lnTo>
                  <a:pt x="11" y="28"/>
                </a:lnTo>
                <a:lnTo>
                  <a:pt x="3" y="13"/>
                </a:lnTo>
                <a:lnTo>
                  <a:pt x="0" y="0"/>
                </a:lnTo>
                <a:lnTo>
                  <a:pt x="9" y="0"/>
                </a:lnTo>
                <a:lnTo>
                  <a:pt x="20" y="1"/>
                </a:lnTo>
                <a:lnTo>
                  <a:pt x="26" y="12"/>
                </a:lnTo>
                <a:lnTo>
                  <a:pt x="33" y="25"/>
                </a:lnTo>
                <a:lnTo>
                  <a:pt x="42" y="40"/>
                </a:lnTo>
                <a:lnTo>
                  <a:pt x="53" y="58"/>
                </a:lnTo>
                <a:lnTo>
                  <a:pt x="60" y="75"/>
                </a:lnTo>
                <a:lnTo>
                  <a:pt x="68" y="91"/>
                </a:lnTo>
                <a:lnTo>
                  <a:pt x="72" y="108"/>
                </a:lnTo>
                <a:lnTo>
                  <a:pt x="77" y="126"/>
                </a:lnTo>
                <a:lnTo>
                  <a:pt x="69" y="126"/>
                </a:lnTo>
                <a:lnTo>
                  <a:pt x="65" y="126"/>
                </a:lnTo>
                <a:lnTo>
                  <a:pt x="60" y="126"/>
                </a:lnTo>
                <a:lnTo>
                  <a:pt x="57" y="12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61200" y="6392880"/>
            <a:ext cx="81000" cy="85680"/>
          </a:xfrm>
          <a:custGeom>
            <a:avLst/>
            <a:gdLst/>
            <a:ahLst/>
            <a:rect l="l" t="t" r="r" b="b"/>
            <a:pathLst>
              <a:path w="102" h="108">
                <a:moveTo>
                  <a:pt x="37" y="108"/>
                </a:moveTo>
                <a:lnTo>
                  <a:pt x="34" y="90"/>
                </a:lnTo>
                <a:lnTo>
                  <a:pt x="31" y="75"/>
                </a:lnTo>
                <a:lnTo>
                  <a:pt x="24" y="60"/>
                </a:lnTo>
                <a:lnTo>
                  <a:pt x="18" y="46"/>
                </a:lnTo>
                <a:lnTo>
                  <a:pt x="10" y="33"/>
                </a:lnTo>
                <a:lnTo>
                  <a:pt x="4" y="22"/>
                </a:lnTo>
                <a:lnTo>
                  <a:pt x="0" y="10"/>
                </a:lnTo>
                <a:lnTo>
                  <a:pt x="0" y="0"/>
                </a:lnTo>
                <a:lnTo>
                  <a:pt x="7" y="3"/>
                </a:lnTo>
                <a:lnTo>
                  <a:pt x="19" y="10"/>
                </a:lnTo>
                <a:lnTo>
                  <a:pt x="34" y="21"/>
                </a:lnTo>
                <a:lnTo>
                  <a:pt x="52" y="36"/>
                </a:lnTo>
                <a:lnTo>
                  <a:pt x="67" y="49"/>
                </a:lnTo>
                <a:lnTo>
                  <a:pt x="84" y="64"/>
                </a:lnTo>
                <a:lnTo>
                  <a:pt x="94" y="78"/>
                </a:lnTo>
                <a:lnTo>
                  <a:pt x="102" y="91"/>
                </a:lnTo>
                <a:lnTo>
                  <a:pt x="93" y="93"/>
                </a:lnTo>
                <a:lnTo>
                  <a:pt x="87" y="94"/>
                </a:lnTo>
                <a:lnTo>
                  <a:pt x="81" y="96"/>
                </a:lnTo>
                <a:lnTo>
                  <a:pt x="76" y="97"/>
                </a:lnTo>
                <a:lnTo>
                  <a:pt x="69" y="97"/>
                </a:lnTo>
                <a:lnTo>
                  <a:pt x="61" y="100"/>
                </a:lnTo>
                <a:lnTo>
                  <a:pt x="51" y="103"/>
                </a:lnTo>
                <a:lnTo>
                  <a:pt x="37" y="108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70760" y="6132600"/>
            <a:ext cx="500040" cy="338040"/>
          </a:xfrm>
          <a:custGeom>
            <a:avLst/>
            <a:gdLst/>
            <a:ahLst/>
            <a:rect l="l" t="t" r="r" b="b"/>
            <a:pathLst>
              <a:path w="630" h="426">
                <a:moveTo>
                  <a:pt x="555" y="426"/>
                </a:moveTo>
                <a:lnTo>
                  <a:pt x="545" y="423"/>
                </a:lnTo>
                <a:lnTo>
                  <a:pt x="533" y="423"/>
                </a:lnTo>
                <a:lnTo>
                  <a:pt x="519" y="422"/>
                </a:lnTo>
                <a:lnTo>
                  <a:pt x="512" y="420"/>
                </a:lnTo>
                <a:lnTo>
                  <a:pt x="512" y="416"/>
                </a:lnTo>
                <a:lnTo>
                  <a:pt x="512" y="413"/>
                </a:lnTo>
                <a:lnTo>
                  <a:pt x="492" y="411"/>
                </a:lnTo>
                <a:lnTo>
                  <a:pt x="474" y="411"/>
                </a:lnTo>
                <a:lnTo>
                  <a:pt x="458" y="411"/>
                </a:lnTo>
                <a:lnTo>
                  <a:pt x="443" y="411"/>
                </a:lnTo>
                <a:lnTo>
                  <a:pt x="428" y="408"/>
                </a:lnTo>
                <a:lnTo>
                  <a:pt x="413" y="407"/>
                </a:lnTo>
                <a:lnTo>
                  <a:pt x="395" y="401"/>
                </a:lnTo>
                <a:lnTo>
                  <a:pt x="378" y="396"/>
                </a:lnTo>
                <a:lnTo>
                  <a:pt x="347" y="372"/>
                </a:lnTo>
                <a:lnTo>
                  <a:pt x="303" y="342"/>
                </a:lnTo>
                <a:lnTo>
                  <a:pt x="251" y="308"/>
                </a:lnTo>
                <a:lnTo>
                  <a:pt x="194" y="273"/>
                </a:lnTo>
                <a:lnTo>
                  <a:pt x="135" y="240"/>
                </a:lnTo>
                <a:lnTo>
                  <a:pt x="83" y="218"/>
                </a:lnTo>
                <a:lnTo>
                  <a:pt x="38" y="204"/>
                </a:lnTo>
                <a:lnTo>
                  <a:pt x="6" y="209"/>
                </a:lnTo>
                <a:lnTo>
                  <a:pt x="0" y="188"/>
                </a:lnTo>
                <a:lnTo>
                  <a:pt x="2" y="164"/>
                </a:lnTo>
                <a:lnTo>
                  <a:pt x="6" y="135"/>
                </a:lnTo>
                <a:lnTo>
                  <a:pt x="17" y="105"/>
                </a:lnTo>
                <a:lnTo>
                  <a:pt x="26" y="74"/>
                </a:lnTo>
                <a:lnTo>
                  <a:pt x="38" y="45"/>
                </a:lnTo>
                <a:lnTo>
                  <a:pt x="47" y="20"/>
                </a:lnTo>
                <a:lnTo>
                  <a:pt x="56" y="0"/>
                </a:lnTo>
                <a:lnTo>
                  <a:pt x="63" y="0"/>
                </a:lnTo>
                <a:lnTo>
                  <a:pt x="80" y="5"/>
                </a:lnTo>
                <a:lnTo>
                  <a:pt x="99" y="11"/>
                </a:lnTo>
                <a:lnTo>
                  <a:pt x="123" y="18"/>
                </a:lnTo>
                <a:lnTo>
                  <a:pt x="144" y="24"/>
                </a:lnTo>
                <a:lnTo>
                  <a:pt x="165" y="32"/>
                </a:lnTo>
                <a:lnTo>
                  <a:pt x="179" y="35"/>
                </a:lnTo>
                <a:lnTo>
                  <a:pt x="186" y="39"/>
                </a:lnTo>
                <a:lnTo>
                  <a:pt x="237" y="51"/>
                </a:lnTo>
                <a:lnTo>
                  <a:pt x="288" y="69"/>
                </a:lnTo>
                <a:lnTo>
                  <a:pt x="338" y="89"/>
                </a:lnTo>
                <a:lnTo>
                  <a:pt x="389" y="110"/>
                </a:lnTo>
                <a:lnTo>
                  <a:pt x="438" y="128"/>
                </a:lnTo>
                <a:lnTo>
                  <a:pt x="491" y="147"/>
                </a:lnTo>
                <a:lnTo>
                  <a:pt x="542" y="162"/>
                </a:lnTo>
                <a:lnTo>
                  <a:pt x="597" y="176"/>
                </a:lnTo>
                <a:lnTo>
                  <a:pt x="603" y="189"/>
                </a:lnTo>
                <a:lnTo>
                  <a:pt x="612" y="218"/>
                </a:lnTo>
                <a:lnTo>
                  <a:pt x="620" y="255"/>
                </a:lnTo>
                <a:lnTo>
                  <a:pt x="627" y="297"/>
                </a:lnTo>
                <a:lnTo>
                  <a:pt x="630" y="339"/>
                </a:lnTo>
                <a:lnTo>
                  <a:pt x="629" y="378"/>
                </a:lnTo>
                <a:lnTo>
                  <a:pt x="623" y="408"/>
                </a:lnTo>
                <a:lnTo>
                  <a:pt x="609" y="426"/>
                </a:lnTo>
                <a:lnTo>
                  <a:pt x="594" y="426"/>
                </a:lnTo>
                <a:lnTo>
                  <a:pt x="581" y="426"/>
                </a:lnTo>
                <a:lnTo>
                  <a:pt x="567" y="426"/>
                </a:lnTo>
                <a:lnTo>
                  <a:pt x="555" y="42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686800" y="6381720"/>
            <a:ext cx="115920" cy="87480"/>
          </a:xfrm>
          <a:custGeom>
            <a:avLst/>
            <a:gdLst/>
            <a:ahLst/>
            <a:rect l="l" t="t" r="r" b="b"/>
            <a:pathLst>
              <a:path w="146" h="110">
                <a:moveTo>
                  <a:pt x="17" y="110"/>
                </a:moveTo>
                <a:lnTo>
                  <a:pt x="12" y="107"/>
                </a:lnTo>
                <a:lnTo>
                  <a:pt x="11" y="107"/>
                </a:lnTo>
                <a:lnTo>
                  <a:pt x="6" y="105"/>
                </a:lnTo>
                <a:lnTo>
                  <a:pt x="0" y="105"/>
                </a:lnTo>
                <a:lnTo>
                  <a:pt x="5" y="93"/>
                </a:lnTo>
                <a:lnTo>
                  <a:pt x="18" y="78"/>
                </a:lnTo>
                <a:lnTo>
                  <a:pt x="36" y="60"/>
                </a:lnTo>
                <a:lnTo>
                  <a:pt x="60" y="44"/>
                </a:lnTo>
                <a:lnTo>
                  <a:pt x="81" y="26"/>
                </a:lnTo>
                <a:lnTo>
                  <a:pt x="104" y="12"/>
                </a:lnTo>
                <a:lnTo>
                  <a:pt x="123" y="3"/>
                </a:lnTo>
                <a:lnTo>
                  <a:pt x="138" y="0"/>
                </a:lnTo>
                <a:lnTo>
                  <a:pt x="141" y="2"/>
                </a:lnTo>
                <a:lnTo>
                  <a:pt x="146" y="8"/>
                </a:lnTo>
                <a:lnTo>
                  <a:pt x="138" y="12"/>
                </a:lnTo>
                <a:lnTo>
                  <a:pt x="123" y="24"/>
                </a:lnTo>
                <a:lnTo>
                  <a:pt x="102" y="41"/>
                </a:lnTo>
                <a:lnTo>
                  <a:pt x="80" y="60"/>
                </a:lnTo>
                <a:lnTo>
                  <a:pt x="56" y="77"/>
                </a:lnTo>
                <a:lnTo>
                  <a:pt x="36" y="93"/>
                </a:lnTo>
                <a:lnTo>
                  <a:pt x="21" y="104"/>
                </a:lnTo>
                <a:lnTo>
                  <a:pt x="17" y="11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28000" y="5162400"/>
            <a:ext cx="880920" cy="1290960"/>
          </a:xfrm>
          <a:custGeom>
            <a:avLst/>
            <a:gdLst/>
            <a:ahLst/>
            <a:rect l="l" t="t" r="r" b="b"/>
            <a:pathLst>
              <a:path w="1112" h="1626">
                <a:moveTo>
                  <a:pt x="594" y="1626"/>
                </a:moveTo>
                <a:lnTo>
                  <a:pt x="593" y="1602"/>
                </a:lnTo>
                <a:lnTo>
                  <a:pt x="590" y="1580"/>
                </a:lnTo>
                <a:lnTo>
                  <a:pt x="587" y="1557"/>
                </a:lnTo>
                <a:lnTo>
                  <a:pt x="584" y="1535"/>
                </a:lnTo>
                <a:lnTo>
                  <a:pt x="579" y="1512"/>
                </a:lnTo>
                <a:lnTo>
                  <a:pt x="576" y="1490"/>
                </a:lnTo>
                <a:lnTo>
                  <a:pt x="573" y="1467"/>
                </a:lnTo>
                <a:lnTo>
                  <a:pt x="573" y="1448"/>
                </a:lnTo>
                <a:lnTo>
                  <a:pt x="590" y="1412"/>
                </a:lnTo>
                <a:lnTo>
                  <a:pt x="600" y="1377"/>
                </a:lnTo>
                <a:lnTo>
                  <a:pt x="603" y="1344"/>
                </a:lnTo>
                <a:lnTo>
                  <a:pt x="603" y="1313"/>
                </a:lnTo>
                <a:lnTo>
                  <a:pt x="599" y="1280"/>
                </a:lnTo>
                <a:lnTo>
                  <a:pt x="591" y="1248"/>
                </a:lnTo>
                <a:lnTo>
                  <a:pt x="582" y="1215"/>
                </a:lnTo>
                <a:lnTo>
                  <a:pt x="575" y="1182"/>
                </a:lnTo>
                <a:lnTo>
                  <a:pt x="576" y="1155"/>
                </a:lnTo>
                <a:lnTo>
                  <a:pt x="579" y="1130"/>
                </a:lnTo>
                <a:lnTo>
                  <a:pt x="581" y="1104"/>
                </a:lnTo>
                <a:lnTo>
                  <a:pt x="584" y="1079"/>
                </a:lnTo>
                <a:lnTo>
                  <a:pt x="584" y="1052"/>
                </a:lnTo>
                <a:lnTo>
                  <a:pt x="587" y="1028"/>
                </a:lnTo>
                <a:lnTo>
                  <a:pt x="587" y="1002"/>
                </a:lnTo>
                <a:lnTo>
                  <a:pt x="590" y="978"/>
                </a:lnTo>
                <a:lnTo>
                  <a:pt x="584" y="939"/>
                </a:lnTo>
                <a:lnTo>
                  <a:pt x="578" y="903"/>
                </a:lnTo>
                <a:lnTo>
                  <a:pt x="569" y="869"/>
                </a:lnTo>
                <a:lnTo>
                  <a:pt x="561" y="836"/>
                </a:lnTo>
                <a:lnTo>
                  <a:pt x="549" y="803"/>
                </a:lnTo>
                <a:lnTo>
                  <a:pt x="540" y="770"/>
                </a:lnTo>
                <a:lnTo>
                  <a:pt x="530" y="737"/>
                </a:lnTo>
                <a:lnTo>
                  <a:pt x="521" y="704"/>
                </a:lnTo>
                <a:lnTo>
                  <a:pt x="516" y="666"/>
                </a:lnTo>
                <a:lnTo>
                  <a:pt x="512" y="629"/>
                </a:lnTo>
                <a:lnTo>
                  <a:pt x="509" y="591"/>
                </a:lnTo>
                <a:lnTo>
                  <a:pt x="509" y="555"/>
                </a:lnTo>
                <a:lnTo>
                  <a:pt x="507" y="518"/>
                </a:lnTo>
                <a:lnTo>
                  <a:pt x="509" y="480"/>
                </a:lnTo>
                <a:lnTo>
                  <a:pt x="509" y="444"/>
                </a:lnTo>
                <a:lnTo>
                  <a:pt x="513" y="408"/>
                </a:lnTo>
                <a:lnTo>
                  <a:pt x="524" y="404"/>
                </a:lnTo>
                <a:lnTo>
                  <a:pt x="539" y="404"/>
                </a:lnTo>
                <a:lnTo>
                  <a:pt x="557" y="405"/>
                </a:lnTo>
                <a:lnTo>
                  <a:pt x="578" y="410"/>
                </a:lnTo>
                <a:lnTo>
                  <a:pt x="597" y="413"/>
                </a:lnTo>
                <a:lnTo>
                  <a:pt x="617" y="414"/>
                </a:lnTo>
                <a:lnTo>
                  <a:pt x="633" y="411"/>
                </a:lnTo>
                <a:lnTo>
                  <a:pt x="648" y="404"/>
                </a:lnTo>
                <a:lnTo>
                  <a:pt x="647" y="396"/>
                </a:lnTo>
                <a:lnTo>
                  <a:pt x="647" y="390"/>
                </a:lnTo>
                <a:lnTo>
                  <a:pt x="617" y="380"/>
                </a:lnTo>
                <a:lnTo>
                  <a:pt x="590" y="374"/>
                </a:lnTo>
                <a:lnTo>
                  <a:pt x="563" y="368"/>
                </a:lnTo>
                <a:lnTo>
                  <a:pt x="537" y="368"/>
                </a:lnTo>
                <a:lnTo>
                  <a:pt x="510" y="369"/>
                </a:lnTo>
                <a:lnTo>
                  <a:pt x="486" y="375"/>
                </a:lnTo>
                <a:lnTo>
                  <a:pt x="462" y="386"/>
                </a:lnTo>
                <a:lnTo>
                  <a:pt x="440" y="402"/>
                </a:lnTo>
                <a:lnTo>
                  <a:pt x="434" y="390"/>
                </a:lnTo>
                <a:lnTo>
                  <a:pt x="426" y="384"/>
                </a:lnTo>
                <a:lnTo>
                  <a:pt x="414" y="378"/>
                </a:lnTo>
                <a:lnTo>
                  <a:pt x="404" y="377"/>
                </a:lnTo>
                <a:lnTo>
                  <a:pt x="390" y="375"/>
                </a:lnTo>
                <a:lnTo>
                  <a:pt x="378" y="375"/>
                </a:lnTo>
                <a:lnTo>
                  <a:pt x="366" y="375"/>
                </a:lnTo>
                <a:lnTo>
                  <a:pt x="359" y="375"/>
                </a:lnTo>
                <a:lnTo>
                  <a:pt x="356" y="378"/>
                </a:lnTo>
                <a:lnTo>
                  <a:pt x="354" y="383"/>
                </a:lnTo>
                <a:lnTo>
                  <a:pt x="366" y="387"/>
                </a:lnTo>
                <a:lnTo>
                  <a:pt x="380" y="395"/>
                </a:lnTo>
                <a:lnTo>
                  <a:pt x="386" y="396"/>
                </a:lnTo>
                <a:lnTo>
                  <a:pt x="395" y="399"/>
                </a:lnTo>
                <a:lnTo>
                  <a:pt x="404" y="402"/>
                </a:lnTo>
                <a:lnTo>
                  <a:pt x="414" y="407"/>
                </a:lnTo>
                <a:lnTo>
                  <a:pt x="414" y="410"/>
                </a:lnTo>
                <a:lnTo>
                  <a:pt x="416" y="416"/>
                </a:lnTo>
                <a:lnTo>
                  <a:pt x="401" y="422"/>
                </a:lnTo>
                <a:lnTo>
                  <a:pt x="389" y="428"/>
                </a:lnTo>
                <a:lnTo>
                  <a:pt x="378" y="434"/>
                </a:lnTo>
                <a:lnTo>
                  <a:pt x="368" y="440"/>
                </a:lnTo>
                <a:lnTo>
                  <a:pt x="356" y="443"/>
                </a:lnTo>
                <a:lnTo>
                  <a:pt x="345" y="447"/>
                </a:lnTo>
                <a:lnTo>
                  <a:pt x="333" y="450"/>
                </a:lnTo>
                <a:lnTo>
                  <a:pt x="321" y="455"/>
                </a:lnTo>
                <a:lnTo>
                  <a:pt x="321" y="458"/>
                </a:lnTo>
                <a:lnTo>
                  <a:pt x="321" y="461"/>
                </a:lnTo>
                <a:lnTo>
                  <a:pt x="342" y="468"/>
                </a:lnTo>
                <a:lnTo>
                  <a:pt x="363" y="471"/>
                </a:lnTo>
                <a:lnTo>
                  <a:pt x="383" y="467"/>
                </a:lnTo>
                <a:lnTo>
                  <a:pt x="402" y="459"/>
                </a:lnTo>
                <a:lnTo>
                  <a:pt x="420" y="449"/>
                </a:lnTo>
                <a:lnTo>
                  <a:pt x="438" y="438"/>
                </a:lnTo>
                <a:lnTo>
                  <a:pt x="456" y="429"/>
                </a:lnTo>
                <a:lnTo>
                  <a:pt x="476" y="423"/>
                </a:lnTo>
                <a:lnTo>
                  <a:pt x="473" y="461"/>
                </a:lnTo>
                <a:lnTo>
                  <a:pt x="470" y="501"/>
                </a:lnTo>
                <a:lnTo>
                  <a:pt x="467" y="539"/>
                </a:lnTo>
                <a:lnTo>
                  <a:pt x="464" y="579"/>
                </a:lnTo>
                <a:lnTo>
                  <a:pt x="459" y="617"/>
                </a:lnTo>
                <a:lnTo>
                  <a:pt x="458" y="656"/>
                </a:lnTo>
                <a:lnTo>
                  <a:pt x="456" y="695"/>
                </a:lnTo>
                <a:lnTo>
                  <a:pt x="456" y="734"/>
                </a:lnTo>
                <a:lnTo>
                  <a:pt x="459" y="747"/>
                </a:lnTo>
                <a:lnTo>
                  <a:pt x="464" y="762"/>
                </a:lnTo>
                <a:lnTo>
                  <a:pt x="468" y="776"/>
                </a:lnTo>
                <a:lnTo>
                  <a:pt x="473" y="791"/>
                </a:lnTo>
                <a:lnTo>
                  <a:pt x="474" y="804"/>
                </a:lnTo>
                <a:lnTo>
                  <a:pt x="476" y="819"/>
                </a:lnTo>
                <a:lnTo>
                  <a:pt x="476" y="834"/>
                </a:lnTo>
                <a:lnTo>
                  <a:pt x="471" y="852"/>
                </a:lnTo>
                <a:lnTo>
                  <a:pt x="471" y="860"/>
                </a:lnTo>
                <a:lnTo>
                  <a:pt x="474" y="869"/>
                </a:lnTo>
                <a:lnTo>
                  <a:pt x="479" y="879"/>
                </a:lnTo>
                <a:lnTo>
                  <a:pt x="483" y="891"/>
                </a:lnTo>
                <a:lnTo>
                  <a:pt x="486" y="900"/>
                </a:lnTo>
                <a:lnTo>
                  <a:pt x="491" y="909"/>
                </a:lnTo>
                <a:lnTo>
                  <a:pt x="492" y="915"/>
                </a:lnTo>
                <a:lnTo>
                  <a:pt x="494" y="921"/>
                </a:lnTo>
                <a:lnTo>
                  <a:pt x="485" y="921"/>
                </a:lnTo>
                <a:lnTo>
                  <a:pt x="476" y="924"/>
                </a:lnTo>
                <a:lnTo>
                  <a:pt x="467" y="926"/>
                </a:lnTo>
                <a:lnTo>
                  <a:pt x="459" y="929"/>
                </a:lnTo>
                <a:lnTo>
                  <a:pt x="444" y="933"/>
                </a:lnTo>
                <a:lnTo>
                  <a:pt x="431" y="938"/>
                </a:lnTo>
                <a:lnTo>
                  <a:pt x="431" y="945"/>
                </a:lnTo>
                <a:lnTo>
                  <a:pt x="434" y="951"/>
                </a:lnTo>
                <a:lnTo>
                  <a:pt x="438" y="954"/>
                </a:lnTo>
                <a:lnTo>
                  <a:pt x="446" y="957"/>
                </a:lnTo>
                <a:lnTo>
                  <a:pt x="452" y="957"/>
                </a:lnTo>
                <a:lnTo>
                  <a:pt x="461" y="959"/>
                </a:lnTo>
                <a:lnTo>
                  <a:pt x="470" y="959"/>
                </a:lnTo>
                <a:lnTo>
                  <a:pt x="483" y="960"/>
                </a:lnTo>
                <a:lnTo>
                  <a:pt x="483" y="1005"/>
                </a:lnTo>
                <a:lnTo>
                  <a:pt x="483" y="1053"/>
                </a:lnTo>
                <a:lnTo>
                  <a:pt x="483" y="1100"/>
                </a:lnTo>
                <a:lnTo>
                  <a:pt x="488" y="1148"/>
                </a:lnTo>
                <a:lnTo>
                  <a:pt x="491" y="1196"/>
                </a:lnTo>
                <a:lnTo>
                  <a:pt x="497" y="1244"/>
                </a:lnTo>
                <a:lnTo>
                  <a:pt x="503" y="1292"/>
                </a:lnTo>
                <a:lnTo>
                  <a:pt x="513" y="1340"/>
                </a:lnTo>
                <a:lnTo>
                  <a:pt x="510" y="1353"/>
                </a:lnTo>
                <a:lnTo>
                  <a:pt x="510" y="1368"/>
                </a:lnTo>
                <a:lnTo>
                  <a:pt x="450" y="1358"/>
                </a:lnTo>
                <a:lnTo>
                  <a:pt x="393" y="1341"/>
                </a:lnTo>
                <a:lnTo>
                  <a:pt x="336" y="1319"/>
                </a:lnTo>
                <a:lnTo>
                  <a:pt x="281" y="1295"/>
                </a:lnTo>
                <a:lnTo>
                  <a:pt x="225" y="1271"/>
                </a:lnTo>
                <a:lnTo>
                  <a:pt x="170" y="1251"/>
                </a:lnTo>
                <a:lnTo>
                  <a:pt x="114" y="1238"/>
                </a:lnTo>
                <a:lnTo>
                  <a:pt x="60" y="1235"/>
                </a:lnTo>
                <a:lnTo>
                  <a:pt x="60" y="1230"/>
                </a:lnTo>
                <a:lnTo>
                  <a:pt x="72" y="1226"/>
                </a:lnTo>
                <a:lnTo>
                  <a:pt x="84" y="1226"/>
                </a:lnTo>
                <a:lnTo>
                  <a:pt x="80" y="1217"/>
                </a:lnTo>
                <a:lnTo>
                  <a:pt x="75" y="1212"/>
                </a:lnTo>
                <a:lnTo>
                  <a:pt x="71" y="1208"/>
                </a:lnTo>
                <a:lnTo>
                  <a:pt x="66" y="1208"/>
                </a:lnTo>
                <a:lnTo>
                  <a:pt x="54" y="1205"/>
                </a:lnTo>
                <a:lnTo>
                  <a:pt x="45" y="1203"/>
                </a:lnTo>
                <a:lnTo>
                  <a:pt x="42" y="1167"/>
                </a:lnTo>
                <a:lnTo>
                  <a:pt x="41" y="1128"/>
                </a:lnTo>
                <a:lnTo>
                  <a:pt x="41" y="1089"/>
                </a:lnTo>
                <a:lnTo>
                  <a:pt x="42" y="1050"/>
                </a:lnTo>
                <a:lnTo>
                  <a:pt x="45" y="1010"/>
                </a:lnTo>
                <a:lnTo>
                  <a:pt x="51" y="972"/>
                </a:lnTo>
                <a:lnTo>
                  <a:pt x="60" y="936"/>
                </a:lnTo>
                <a:lnTo>
                  <a:pt x="74" y="905"/>
                </a:lnTo>
                <a:lnTo>
                  <a:pt x="78" y="903"/>
                </a:lnTo>
                <a:lnTo>
                  <a:pt x="84" y="903"/>
                </a:lnTo>
                <a:lnTo>
                  <a:pt x="87" y="906"/>
                </a:lnTo>
                <a:lnTo>
                  <a:pt x="95" y="914"/>
                </a:lnTo>
                <a:lnTo>
                  <a:pt x="102" y="921"/>
                </a:lnTo>
                <a:lnTo>
                  <a:pt x="113" y="930"/>
                </a:lnTo>
                <a:lnTo>
                  <a:pt x="122" y="936"/>
                </a:lnTo>
                <a:lnTo>
                  <a:pt x="134" y="944"/>
                </a:lnTo>
                <a:lnTo>
                  <a:pt x="144" y="947"/>
                </a:lnTo>
                <a:lnTo>
                  <a:pt x="155" y="948"/>
                </a:lnTo>
                <a:lnTo>
                  <a:pt x="152" y="939"/>
                </a:lnTo>
                <a:lnTo>
                  <a:pt x="147" y="932"/>
                </a:lnTo>
                <a:lnTo>
                  <a:pt x="140" y="921"/>
                </a:lnTo>
                <a:lnTo>
                  <a:pt x="132" y="912"/>
                </a:lnTo>
                <a:lnTo>
                  <a:pt x="123" y="902"/>
                </a:lnTo>
                <a:lnTo>
                  <a:pt x="114" y="893"/>
                </a:lnTo>
                <a:lnTo>
                  <a:pt x="108" y="887"/>
                </a:lnTo>
                <a:lnTo>
                  <a:pt x="105" y="884"/>
                </a:lnTo>
                <a:lnTo>
                  <a:pt x="81" y="837"/>
                </a:lnTo>
                <a:lnTo>
                  <a:pt x="68" y="791"/>
                </a:lnTo>
                <a:lnTo>
                  <a:pt x="60" y="743"/>
                </a:lnTo>
                <a:lnTo>
                  <a:pt x="59" y="696"/>
                </a:lnTo>
                <a:lnTo>
                  <a:pt x="56" y="648"/>
                </a:lnTo>
                <a:lnTo>
                  <a:pt x="54" y="600"/>
                </a:lnTo>
                <a:lnTo>
                  <a:pt x="48" y="551"/>
                </a:lnTo>
                <a:lnTo>
                  <a:pt x="39" y="501"/>
                </a:lnTo>
                <a:lnTo>
                  <a:pt x="36" y="456"/>
                </a:lnTo>
                <a:lnTo>
                  <a:pt x="32" y="416"/>
                </a:lnTo>
                <a:lnTo>
                  <a:pt x="26" y="375"/>
                </a:lnTo>
                <a:lnTo>
                  <a:pt x="20" y="336"/>
                </a:lnTo>
                <a:lnTo>
                  <a:pt x="11" y="296"/>
                </a:lnTo>
                <a:lnTo>
                  <a:pt x="5" y="258"/>
                </a:lnTo>
                <a:lnTo>
                  <a:pt x="0" y="219"/>
                </a:lnTo>
                <a:lnTo>
                  <a:pt x="0" y="182"/>
                </a:lnTo>
                <a:lnTo>
                  <a:pt x="3" y="156"/>
                </a:lnTo>
                <a:lnTo>
                  <a:pt x="8" y="137"/>
                </a:lnTo>
                <a:lnTo>
                  <a:pt x="11" y="119"/>
                </a:lnTo>
                <a:lnTo>
                  <a:pt x="14" y="105"/>
                </a:lnTo>
                <a:lnTo>
                  <a:pt x="15" y="92"/>
                </a:lnTo>
                <a:lnTo>
                  <a:pt x="18" y="81"/>
                </a:lnTo>
                <a:lnTo>
                  <a:pt x="20" y="72"/>
                </a:lnTo>
                <a:lnTo>
                  <a:pt x="23" y="68"/>
                </a:lnTo>
                <a:lnTo>
                  <a:pt x="56" y="69"/>
                </a:lnTo>
                <a:lnTo>
                  <a:pt x="107" y="78"/>
                </a:lnTo>
                <a:lnTo>
                  <a:pt x="165" y="89"/>
                </a:lnTo>
                <a:lnTo>
                  <a:pt x="228" y="104"/>
                </a:lnTo>
                <a:lnTo>
                  <a:pt x="287" y="117"/>
                </a:lnTo>
                <a:lnTo>
                  <a:pt x="339" y="132"/>
                </a:lnTo>
                <a:lnTo>
                  <a:pt x="375" y="144"/>
                </a:lnTo>
                <a:lnTo>
                  <a:pt x="392" y="155"/>
                </a:lnTo>
                <a:lnTo>
                  <a:pt x="450" y="141"/>
                </a:lnTo>
                <a:lnTo>
                  <a:pt x="509" y="126"/>
                </a:lnTo>
                <a:lnTo>
                  <a:pt x="567" y="110"/>
                </a:lnTo>
                <a:lnTo>
                  <a:pt x="626" y="93"/>
                </a:lnTo>
                <a:lnTo>
                  <a:pt x="684" y="74"/>
                </a:lnTo>
                <a:lnTo>
                  <a:pt x="743" y="56"/>
                </a:lnTo>
                <a:lnTo>
                  <a:pt x="801" y="39"/>
                </a:lnTo>
                <a:lnTo>
                  <a:pt x="860" y="24"/>
                </a:lnTo>
                <a:lnTo>
                  <a:pt x="872" y="15"/>
                </a:lnTo>
                <a:lnTo>
                  <a:pt x="885" y="8"/>
                </a:lnTo>
                <a:lnTo>
                  <a:pt x="891" y="3"/>
                </a:lnTo>
                <a:lnTo>
                  <a:pt x="899" y="2"/>
                </a:lnTo>
                <a:lnTo>
                  <a:pt x="906" y="0"/>
                </a:lnTo>
                <a:lnTo>
                  <a:pt x="917" y="0"/>
                </a:lnTo>
                <a:lnTo>
                  <a:pt x="918" y="9"/>
                </a:lnTo>
                <a:lnTo>
                  <a:pt x="918" y="21"/>
                </a:lnTo>
                <a:lnTo>
                  <a:pt x="917" y="33"/>
                </a:lnTo>
                <a:lnTo>
                  <a:pt x="917" y="45"/>
                </a:lnTo>
                <a:lnTo>
                  <a:pt x="914" y="48"/>
                </a:lnTo>
                <a:lnTo>
                  <a:pt x="912" y="51"/>
                </a:lnTo>
                <a:lnTo>
                  <a:pt x="903" y="45"/>
                </a:lnTo>
                <a:lnTo>
                  <a:pt x="897" y="44"/>
                </a:lnTo>
                <a:lnTo>
                  <a:pt x="891" y="44"/>
                </a:lnTo>
                <a:lnTo>
                  <a:pt x="888" y="44"/>
                </a:lnTo>
                <a:lnTo>
                  <a:pt x="896" y="89"/>
                </a:lnTo>
                <a:lnTo>
                  <a:pt x="899" y="137"/>
                </a:lnTo>
                <a:lnTo>
                  <a:pt x="899" y="183"/>
                </a:lnTo>
                <a:lnTo>
                  <a:pt x="897" y="231"/>
                </a:lnTo>
                <a:lnTo>
                  <a:pt x="893" y="278"/>
                </a:lnTo>
                <a:lnTo>
                  <a:pt x="893" y="326"/>
                </a:lnTo>
                <a:lnTo>
                  <a:pt x="894" y="372"/>
                </a:lnTo>
                <a:lnTo>
                  <a:pt x="903" y="420"/>
                </a:lnTo>
                <a:lnTo>
                  <a:pt x="899" y="432"/>
                </a:lnTo>
                <a:lnTo>
                  <a:pt x="896" y="446"/>
                </a:lnTo>
                <a:lnTo>
                  <a:pt x="891" y="461"/>
                </a:lnTo>
                <a:lnTo>
                  <a:pt x="888" y="477"/>
                </a:lnTo>
                <a:lnTo>
                  <a:pt x="900" y="515"/>
                </a:lnTo>
                <a:lnTo>
                  <a:pt x="912" y="558"/>
                </a:lnTo>
                <a:lnTo>
                  <a:pt x="924" y="603"/>
                </a:lnTo>
                <a:lnTo>
                  <a:pt x="933" y="650"/>
                </a:lnTo>
                <a:lnTo>
                  <a:pt x="935" y="695"/>
                </a:lnTo>
                <a:lnTo>
                  <a:pt x="930" y="740"/>
                </a:lnTo>
                <a:lnTo>
                  <a:pt x="915" y="782"/>
                </a:lnTo>
                <a:lnTo>
                  <a:pt x="891" y="822"/>
                </a:lnTo>
                <a:lnTo>
                  <a:pt x="885" y="831"/>
                </a:lnTo>
                <a:lnTo>
                  <a:pt x="879" y="840"/>
                </a:lnTo>
                <a:lnTo>
                  <a:pt x="872" y="848"/>
                </a:lnTo>
                <a:lnTo>
                  <a:pt x="867" y="857"/>
                </a:lnTo>
                <a:lnTo>
                  <a:pt x="860" y="864"/>
                </a:lnTo>
                <a:lnTo>
                  <a:pt x="857" y="872"/>
                </a:lnTo>
                <a:lnTo>
                  <a:pt x="854" y="881"/>
                </a:lnTo>
                <a:lnTo>
                  <a:pt x="855" y="893"/>
                </a:lnTo>
                <a:lnTo>
                  <a:pt x="858" y="896"/>
                </a:lnTo>
                <a:lnTo>
                  <a:pt x="864" y="900"/>
                </a:lnTo>
                <a:lnTo>
                  <a:pt x="875" y="894"/>
                </a:lnTo>
                <a:lnTo>
                  <a:pt x="888" y="891"/>
                </a:lnTo>
                <a:lnTo>
                  <a:pt x="888" y="902"/>
                </a:lnTo>
                <a:lnTo>
                  <a:pt x="893" y="912"/>
                </a:lnTo>
                <a:lnTo>
                  <a:pt x="897" y="923"/>
                </a:lnTo>
                <a:lnTo>
                  <a:pt x="903" y="933"/>
                </a:lnTo>
                <a:lnTo>
                  <a:pt x="909" y="942"/>
                </a:lnTo>
                <a:lnTo>
                  <a:pt x="917" y="953"/>
                </a:lnTo>
                <a:lnTo>
                  <a:pt x="924" y="963"/>
                </a:lnTo>
                <a:lnTo>
                  <a:pt x="932" y="977"/>
                </a:lnTo>
                <a:lnTo>
                  <a:pt x="939" y="1001"/>
                </a:lnTo>
                <a:lnTo>
                  <a:pt x="951" y="1026"/>
                </a:lnTo>
                <a:lnTo>
                  <a:pt x="962" y="1053"/>
                </a:lnTo>
                <a:lnTo>
                  <a:pt x="974" y="1082"/>
                </a:lnTo>
                <a:lnTo>
                  <a:pt x="981" y="1109"/>
                </a:lnTo>
                <a:lnTo>
                  <a:pt x="989" y="1137"/>
                </a:lnTo>
                <a:lnTo>
                  <a:pt x="990" y="1164"/>
                </a:lnTo>
                <a:lnTo>
                  <a:pt x="987" y="1194"/>
                </a:lnTo>
                <a:lnTo>
                  <a:pt x="984" y="1196"/>
                </a:lnTo>
                <a:lnTo>
                  <a:pt x="975" y="1197"/>
                </a:lnTo>
                <a:lnTo>
                  <a:pt x="966" y="1199"/>
                </a:lnTo>
                <a:lnTo>
                  <a:pt x="953" y="1202"/>
                </a:lnTo>
                <a:lnTo>
                  <a:pt x="932" y="1205"/>
                </a:lnTo>
                <a:lnTo>
                  <a:pt x="908" y="1211"/>
                </a:lnTo>
                <a:lnTo>
                  <a:pt x="893" y="1217"/>
                </a:lnTo>
                <a:lnTo>
                  <a:pt x="867" y="1227"/>
                </a:lnTo>
                <a:lnTo>
                  <a:pt x="834" y="1239"/>
                </a:lnTo>
                <a:lnTo>
                  <a:pt x="801" y="1256"/>
                </a:lnTo>
                <a:lnTo>
                  <a:pt x="765" y="1272"/>
                </a:lnTo>
                <a:lnTo>
                  <a:pt x="738" y="1290"/>
                </a:lnTo>
                <a:lnTo>
                  <a:pt x="719" y="1307"/>
                </a:lnTo>
                <a:lnTo>
                  <a:pt x="716" y="1323"/>
                </a:lnTo>
                <a:lnTo>
                  <a:pt x="737" y="1319"/>
                </a:lnTo>
                <a:lnTo>
                  <a:pt x="764" y="1311"/>
                </a:lnTo>
                <a:lnTo>
                  <a:pt x="791" y="1298"/>
                </a:lnTo>
                <a:lnTo>
                  <a:pt x="819" y="1286"/>
                </a:lnTo>
                <a:lnTo>
                  <a:pt x="848" y="1271"/>
                </a:lnTo>
                <a:lnTo>
                  <a:pt x="878" y="1257"/>
                </a:lnTo>
                <a:lnTo>
                  <a:pt x="906" y="1247"/>
                </a:lnTo>
                <a:lnTo>
                  <a:pt x="936" y="1242"/>
                </a:lnTo>
                <a:lnTo>
                  <a:pt x="995" y="1221"/>
                </a:lnTo>
                <a:lnTo>
                  <a:pt x="1038" y="1218"/>
                </a:lnTo>
                <a:lnTo>
                  <a:pt x="1067" y="1227"/>
                </a:lnTo>
                <a:lnTo>
                  <a:pt x="1088" y="1250"/>
                </a:lnTo>
                <a:lnTo>
                  <a:pt x="1098" y="1281"/>
                </a:lnTo>
                <a:lnTo>
                  <a:pt x="1106" y="1323"/>
                </a:lnTo>
                <a:lnTo>
                  <a:pt x="1109" y="1371"/>
                </a:lnTo>
                <a:lnTo>
                  <a:pt x="1112" y="1427"/>
                </a:lnTo>
                <a:lnTo>
                  <a:pt x="1109" y="1434"/>
                </a:lnTo>
                <a:lnTo>
                  <a:pt x="1107" y="1440"/>
                </a:lnTo>
                <a:lnTo>
                  <a:pt x="1107" y="1443"/>
                </a:lnTo>
                <a:lnTo>
                  <a:pt x="1107" y="1448"/>
                </a:lnTo>
                <a:lnTo>
                  <a:pt x="1106" y="1449"/>
                </a:lnTo>
                <a:lnTo>
                  <a:pt x="1104" y="1451"/>
                </a:lnTo>
                <a:lnTo>
                  <a:pt x="1041" y="1436"/>
                </a:lnTo>
                <a:lnTo>
                  <a:pt x="978" y="1445"/>
                </a:lnTo>
                <a:lnTo>
                  <a:pt x="915" y="1469"/>
                </a:lnTo>
                <a:lnTo>
                  <a:pt x="852" y="1502"/>
                </a:lnTo>
                <a:lnTo>
                  <a:pt x="789" y="1538"/>
                </a:lnTo>
                <a:lnTo>
                  <a:pt x="729" y="1572"/>
                </a:lnTo>
                <a:lnTo>
                  <a:pt x="669" y="1596"/>
                </a:lnTo>
                <a:lnTo>
                  <a:pt x="615" y="1607"/>
                </a:lnTo>
                <a:lnTo>
                  <a:pt x="609" y="1613"/>
                </a:lnTo>
                <a:lnTo>
                  <a:pt x="605" y="1620"/>
                </a:lnTo>
                <a:lnTo>
                  <a:pt x="597" y="1626"/>
                </a:lnTo>
                <a:lnTo>
                  <a:pt x="594" y="162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647200" y="6359400"/>
            <a:ext cx="133200" cy="96840"/>
          </a:xfrm>
          <a:custGeom>
            <a:avLst/>
            <a:gdLst/>
            <a:ahLst/>
            <a:rect l="l" t="t" r="r" b="b"/>
            <a:pathLst>
              <a:path w="168" h="121">
                <a:moveTo>
                  <a:pt x="13" y="121"/>
                </a:moveTo>
                <a:lnTo>
                  <a:pt x="6" y="115"/>
                </a:lnTo>
                <a:lnTo>
                  <a:pt x="0" y="114"/>
                </a:lnTo>
                <a:lnTo>
                  <a:pt x="0" y="108"/>
                </a:lnTo>
                <a:lnTo>
                  <a:pt x="0" y="105"/>
                </a:lnTo>
                <a:lnTo>
                  <a:pt x="12" y="94"/>
                </a:lnTo>
                <a:lnTo>
                  <a:pt x="28" y="84"/>
                </a:lnTo>
                <a:lnTo>
                  <a:pt x="45" y="70"/>
                </a:lnTo>
                <a:lnTo>
                  <a:pt x="66" y="58"/>
                </a:lnTo>
                <a:lnTo>
                  <a:pt x="82" y="43"/>
                </a:lnTo>
                <a:lnTo>
                  <a:pt x="97" y="30"/>
                </a:lnTo>
                <a:lnTo>
                  <a:pt x="108" y="16"/>
                </a:lnTo>
                <a:lnTo>
                  <a:pt x="115" y="4"/>
                </a:lnTo>
                <a:lnTo>
                  <a:pt x="127" y="0"/>
                </a:lnTo>
                <a:lnTo>
                  <a:pt x="139" y="3"/>
                </a:lnTo>
                <a:lnTo>
                  <a:pt x="144" y="4"/>
                </a:lnTo>
                <a:lnTo>
                  <a:pt x="151" y="9"/>
                </a:lnTo>
                <a:lnTo>
                  <a:pt x="159" y="13"/>
                </a:lnTo>
                <a:lnTo>
                  <a:pt x="168" y="19"/>
                </a:lnTo>
                <a:lnTo>
                  <a:pt x="163" y="19"/>
                </a:lnTo>
                <a:lnTo>
                  <a:pt x="160" y="21"/>
                </a:lnTo>
                <a:lnTo>
                  <a:pt x="156" y="21"/>
                </a:lnTo>
                <a:lnTo>
                  <a:pt x="151" y="22"/>
                </a:lnTo>
                <a:lnTo>
                  <a:pt x="145" y="24"/>
                </a:lnTo>
                <a:lnTo>
                  <a:pt x="138" y="28"/>
                </a:lnTo>
                <a:lnTo>
                  <a:pt x="126" y="36"/>
                </a:lnTo>
                <a:lnTo>
                  <a:pt x="109" y="48"/>
                </a:lnTo>
                <a:lnTo>
                  <a:pt x="90" y="63"/>
                </a:lnTo>
                <a:lnTo>
                  <a:pt x="70" y="79"/>
                </a:lnTo>
                <a:lnTo>
                  <a:pt x="49" y="94"/>
                </a:lnTo>
                <a:lnTo>
                  <a:pt x="33" y="108"/>
                </a:lnTo>
                <a:lnTo>
                  <a:pt x="21" y="117"/>
                </a:lnTo>
                <a:lnTo>
                  <a:pt x="13" y="121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612280" y="6392880"/>
            <a:ext cx="71280" cy="44280"/>
          </a:xfrm>
          <a:custGeom>
            <a:avLst/>
            <a:gdLst/>
            <a:ahLst/>
            <a:rect l="l" t="t" r="r" b="b"/>
            <a:pathLst>
              <a:path w="90" h="55">
                <a:moveTo>
                  <a:pt x="0" y="55"/>
                </a:moveTo>
                <a:lnTo>
                  <a:pt x="0" y="51"/>
                </a:lnTo>
                <a:lnTo>
                  <a:pt x="0" y="48"/>
                </a:lnTo>
                <a:lnTo>
                  <a:pt x="6" y="42"/>
                </a:lnTo>
                <a:lnTo>
                  <a:pt x="15" y="34"/>
                </a:lnTo>
                <a:lnTo>
                  <a:pt x="25" y="27"/>
                </a:lnTo>
                <a:lnTo>
                  <a:pt x="39" y="19"/>
                </a:lnTo>
                <a:lnTo>
                  <a:pt x="49" y="10"/>
                </a:lnTo>
                <a:lnTo>
                  <a:pt x="63" y="4"/>
                </a:lnTo>
                <a:lnTo>
                  <a:pt x="75" y="0"/>
                </a:lnTo>
                <a:lnTo>
                  <a:pt x="87" y="0"/>
                </a:lnTo>
                <a:lnTo>
                  <a:pt x="88" y="1"/>
                </a:lnTo>
                <a:lnTo>
                  <a:pt x="90" y="6"/>
                </a:lnTo>
                <a:lnTo>
                  <a:pt x="76" y="13"/>
                </a:lnTo>
                <a:lnTo>
                  <a:pt x="66" y="21"/>
                </a:lnTo>
                <a:lnTo>
                  <a:pt x="55" y="28"/>
                </a:lnTo>
                <a:lnTo>
                  <a:pt x="46" y="37"/>
                </a:lnTo>
                <a:lnTo>
                  <a:pt x="34" y="42"/>
                </a:lnTo>
                <a:lnTo>
                  <a:pt x="24" y="48"/>
                </a:lnTo>
                <a:lnTo>
                  <a:pt x="12" y="51"/>
                </a:lnTo>
                <a:lnTo>
                  <a:pt x="0" y="55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40640" y="5892840"/>
            <a:ext cx="330120" cy="504720"/>
          </a:xfrm>
          <a:custGeom>
            <a:avLst/>
            <a:gdLst/>
            <a:ahLst/>
            <a:rect l="l" t="t" r="r" b="b"/>
            <a:pathLst>
              <a:path w="417" h="636">
                <a:moveTo>
                  <a:pt x="369" y="636"/>
                </a:moveTo>
                <a:lnTo>
                  <a:pt x="288" y="613"/>
                </a:lnTo>
                <a:lnTo>
                  <a:pt x="217" y="580"/>
                </a:lnTo>
                <a:lnTo>
                  <a:pt x="157" y="537"/>
                </a:lnTo>
                <a:lnTo>
                  <a:pt x="108" y="484"/>
                </a:lnTo>
                <a:lnTo>
                  <a:pt x="67" y="423"/>
                </a:lnTo>
                <a:lnTo>
                  <a:pt x="39" y="357"/>
                </a:lnTo>
                <a:lnTo>
                  <a:pt x="21" y="283"/>
                </a:lnTo>
                <a:lnTo>
                  <a:pt x="15" y="208"/>
                </a:lnTo>
                <a:lnTo>
                  <a:pt x="6" y="208"/>
                </a:lnTo>
                <a:lnTo>
                  <a:pt x="1" y="208"/>
                </a:lnTo>
                <a:lnTo>
                  <a:pt x="0" y="187"/>
                </a:lnTo>
                <a:lnTo>
                  <a:pt x="0" y="169"/>
                </a:lnTo>
                <a:lnTo>
                  <a:pt x="0" y="151"/>
                </a:lnTo>
                <a:lnTo>
                  <a:pt x="0" y="135"/>
                </a:lnTo>
                <a:lnTo>
                  <a:pt x="0" y="117"/>
                </a:lnTo>
                <a:lnTo>
                  <a:pt x="3" y="102"/>
                </a:lnTo>
                <a:lnTo>
                  <a:pt x="4" y="85"/>
                </a:lnTo>
                <a:lnTo>
                  <a:pt x="10" y="70"/>
                </a:lnTo>
                <a:lnTo>
                  <a:pt x="46" y="58"/>
                </a:lnTo>
                <a:lnTo>
                  <a:pt x="87" y="48"/>
                </a:lnTo>
                <a:lnTo>
                  <a:pt x="127" y="39"/>
                </a:lnTo>
                <a:lnTo>
                  <a:pt x="169" y="30"/>
                </a:lnTo>
                <a:lnTo>
                  <a:pt x="210" y="21"/>
                </a:lnTo>
                <a:lnTo>
                  <a:pt x="250" y="12"/>
                </a:lnTo>
                <a:lnTo>
                  <a:pt x="291" y="4"/>
                </a:lnTo>
                <a:lnTo>
                  <a:pt x="333" y="0"/>
                </a:lnTo>
                <a:lnTo>
                  <a:pt x="325" y="33"/>
                </a:lnTo>
                <a:lnTo>
                  <a:pt x="318" y="66"/>
                </a:lnTo>
                <a:lnTo>
                  <a:pt x="309" y="99"/>
                </a:lnTo>
                <a:lnTo>
                  <a:pt x="298" y="133"/>
                </a:lnTo>
                <a:lnTo>
                  <a:pt x="283" y="165"/>
                </a:lnTo>
                <a:lnTo>
                  <a:pt x="270" y="198"/>
                </a:lnTo>
                <a:lnTo>
                  <a:pt x="252" y="229"/>
                </a:lnTo>
                <a:lnTo>
                  <a:pt x="234" y="262"/>
                </a:lnTo>
                <a:lnTo>
                  <a:pt x="234" y="276"/>
                </a:lnTo>
                <a:lnTo>
                  <a:pt x="234" y="291"/>
                </a:lnTo>
                <a:lnTo>
                  <a:pt x="259" y="304"/>
                </a:lnTo>
                <a:lnTo>
                  <a:pt x="289" y="336"/>
                </a:lnTo>
                <a:lnTo>
                  <a:pt x="321" y="379"/>
                </a:lnTo>
                <a:lnTo>
                  <a:pt x="352" y="433"/>
                </a:lnTo>
                <a:lnTo>
                  <a:pt x="379" y="487"/>
                </a:lnTo>
                <a:lnTo>
                  <a:pt x="402" y="543"/>
                </a:lnTo>
                <a:lnTo>
                  <a:pt x="414" y="591"/>
                </a:lnTo>
                <a:lnTo>
                  <a:pt x="417" y="628"/>
                </a:lnTo>
                <a:lnTo>
                  <a:pt x="403" y="630"/>
                </a:lnTo>
                <a:lnTo>
                  <a:pt x="391" y="633"/>
                </a:lnTo>
                <a:lnTo>
                  <a:pt x="379" y="634"/>
                </a:lnTo>
                <a:lnTo>
                  <a:pt x="369" y="63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70480" y="5942160"/>
            <a:ext cx="324000" cy="449280"/>
          </a:xfrm>
          <a:custGeom>
            <a:avLst/>
            <a:gdLst/>
            <a:ahLst/>
            <a:rect l="l" t="t" r="r" b="b"/>
            <a:pathLst>
              <a:path w="408" h="567">
                <a:moveTo>
                  <a:pt x="11" y="567"/>
                </a:moveTo>
                <a:lnTo>
                  <a:pt x="0" y="524"/>
                </a:lnTo>
                <a:lnTo>
                  <a:pt x="0" y="473"/>
                </a:lnTo>
                <a:lnTo>
                  <a:pt x="9" y="416"/>
                </a:lnTo>
                <a:lnTo>
                  <a:pt x="27" y="360"/>
                </a:lnTo>
                <a:lnTo>
                  <a:pt x="47" y="303"/>
                </a:lnTo>
                <a:lnTo>
                  <a:pt x="72" y="254"/>
                </a:lnTo>
                <a:lnTo>
                  <a:pt x="96" y="213"/>
                </a:lnTo>
                <a:lnTo>
                  <a:pt x="122" y="188"/>
                </a:lnTo>
                <a:lnTo>
                  <a:pt x="131" y="191"/>
                </a:lnTo>
                <a:lnTo>
                  <a:pt x="140" y="198"/>
                </a:lnTo>
                <a:lnTo>
                  <a:pt x="149" y="209"/>
                </a:lnTo>
                <a:lnTo>
                  <a:pt x="159" y="221"/>
                </a:lnTo>
                <a:lnTo>
                  <a:pt x="168" y="230"/>
                </a:lnTo>
                <a:lnTo>
                  <a:pt x="180" y="237"/>
                </a:lnTo>
                <a:lnTo>
                  <a:pt x="192" y="239"/>
                </a:lnTo>
                <a:lnTo>
                  <a:pt x="207" y="234"/>
                </a:lnTo>
                <a:lnTo>
                  <a:pt x="206" y="228"/>
                </a:lnTo>
                <a:lnTo>
                  <a:pt x="204" y="225"/>
                </a:lnTo>
                <a:lnTo>
                  <a:pt x="173" y="203"/>
                </a:lnTo>
                <a:lnTo>
                  <a:pt x="147" y="177"/>
                </a:lnTo>
                <a:lnTo>
                  <a:pt x="122" y="149"/>
                </a:lnTo>
                <a:lnTo>
                  <a:pt x="101" y="120"/>
                </a:lnTo>
                <a:lnTo>
                  <a:pt x="78" y="89"/>
                </a:lnTo>
                <a:lnTo>
                  <a:pt x="60" y="59"/>
                </a:lnTo>
                <a:lnTo>
                  <a:pt x="42" y="27"/>
                </a:lnTo>
                <a:lnTo>
                  <a:pt x="29" y="0"/>
                </a:lnTo>
                <a:lnTo>
                  <a:pt x="77" y="8"/>
                </a:lnTo>
                <a:lnTo>
                  <a:pt x="125" y="15"/>
                </a:lnTo>
                <a:lnTo>
                  <a:pt x="170" y="20"/>
                </a:lnTo>
                <a:lnTo>
                  <a:pt x="216" y="26"/>
                </a:lnTo>
                <a:lnTo>
                  <a:pt x="261" y="29"/>
                </a:lnTo>
                <a:lnTo>
                  <a:pt x="309" y="30"/>
                </a:lnTo>
                <a:lnTo>
                  <a:pt x="357" y="29"/>
                </a:lnTo>
                <a:lnTo>
                  <a:pt x="408" y="26"/>
                </a:lnTo>
                <a:lnTo>
                  <a:pt x="407" y="44"/>
                </a:lnTo>
                <a:lnTo>
                  <a:pt x="405" y="62"/>
                </a:lnTo>
                <a:lnTo>
                  <a:pt x="402" y="81"/>
                </a:lnTo>
                <a:lnTo>
                  <a:pt x="401" y="102"/>
                </a:lnTo>
                <a:lnTo>
                  <a:pt x="398" y="120"/>
                </a:lnTo>
                <a:lnTo>
                  <a:pt x="395" y="141"/>
                </a:lnTo>
                <a:lnTo>
                  <a:pt x="392" y="161"/>
                </a:lnTo>
                <a:lnTo>
                  <a:pt x="390" y="183"/>
                </a:lnTo>
                <a:lnTo>
                  <a:pt x="387" y="218"/>
                </a:lnTo>
                <a:lnTo>
                  <a:pt x="384" y="248"/>
                </a:lnTo>
                <a:lnTo>
                  <a:pt x="378" y="273"/>
                </a:lnTo>
                <a:lnTo>
                  <a:pt x="372" y="297"/>
                </a:lnTo>
                <a:lnTo>
                  <a:pt x="360" y="318"/>
                </a:lnTo>
                <a:lnTo>
                  <a:pt x="347" y="342"/>
                </a:lnTo>
                <a:lnTo>
                  <a:pt x="329" y="368"/>
                </a:lnTo>
                <a:lnTo>
                  <a:pt x="306" y="399"/>
                </a:lnTo>
                <a:lnTo>
                  <a:pt x="272" y="426"/>
                </a:lnTo>
                <a:lnTo>
                  <a:pt x="239" y="456"/>
                </a:lnTo>
                <a:lnTo>
                  <a:pt x="204" y="483"/>
                </a:lnTo>
                <a:lnTo>
                  <a:pt x="170" y="510"/>
                </a:lnTo>
                <a:lnTo>
                  <a:pt x="131" y="533"/>
                </a:lnTo>
                <a:lnTo>
                  <a:pt x="92" y="551"/>
                </a:lnTo>
                <a:lnTo>
                  <a:pt x="51" y="563"/>
                </a:lnTo>
                <a:lnTo>
                  <a:pt x="11" y="567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83640" y="6327720"/>
            <a:ext cx="149400" cy="50760"/>
          </a:xfrm>
          <a:custGeom>
            <a:avLst/>
            <a:gdLst/>
            <a:ahLst/>
            <a:rect l="l" t="t" r="r" b="b"/>
            <a:pathLst>
              <a:path w="187" h="65">
                <a:moveTo>
                  <a:pt x="85" y="65"/>
                </a:moveTo>
                <a:lnTo>
                  <a:pt x="70" y="62"/>
                </a:lnTo>
                <a:lnTo>
                  <a:pt x="58" y="59"/>
                </a:lnTo>
                <a:lnTo>
                  <a:pt x="46" y="56"/>
                </a:lnTo>
                <a:lnTo>
                  <a:pt x="37" y="53"/>
                </a:lnTo>
                <a:lnTo>
                  <a:pt x="27" y="48"/>
                </a:lnTo>
                <a:lnTo>
                  <a:pt x="18" y="45"/>
                </a:lnTo>
                <a:lnTo>
                  <a:pt x="9" y="41"/>
                </a:lnTo>
                <a:lnTo>
                  <a:pt x="0" y="38"/>
                </a:lnTo>
                <a:lnTo>
                  <a:pt x="0" y="32"/>
                </a:lnTo>
                <a:lnTo>
                  <a:pt x="0" y="29"/>
                </a:lnTo>
                <a:lnTo>
                  <a:pt x="36" y="14"/>
                </a:lnTo>
                <a:lnTo>
                  <a:pt x="63" y="5"/>
                </a:lnTo>
                <a:lnTo>
                  <a:pt x="82" y="0"/>
                </a:lnTo>
                <a:lnTo>
                  <a:pt x="100" y="2"/>
                </a:lnTo>
                <a:lnTo>
                  <a:pt x="114" y="6"/>
                </a:lnTo>
                <a:lnTo>
                  <a:pt x="132" y="18"/>
                </a:lnTo>
                <a:lnTo>
                  <a:pt x="154" y="32"/>
                </a:lnTo>
                <a:lnTo>
                  <a:pt x="187" y="53"/>
                </a:lnTo>
                <a:lnTo>
                  <a:pt x="175" y="57"/>
                </a:lnTo>
                <a:lnTo>
                  <a:pt x="163" y="62"/>
                </a:lnTo>
                <a:lnTo>
                  <a:pt x="148" y="63"/>
                </a:lnTo>
                <a:lnTo>
                  <a:pt x="135" y="65"/>
                </a:lnTo>
                <a:lnTo>
                  <a:pt x="120" y="65"/>
                </a:lnTo>
                <a:lnTo>
                  <a:pt x="108" y="65"/>
                </a:lnTo>
                <a:lnTo>
                  <a:pt x="94" y="65"/>
                </a:lnTo>
                <a:lnTo>
                  <a:pt x="85" y="6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85160" y="6326280"/>
            <a:ext cx="128520" cy="48960"/>
          </a:xfrm>
          <a:custGeom>
            <a:avLst/>
            <a:gdLst/>
            <a:ahLst/>
            <a:rect l="l" t="t" r="r" b="b"/>
            <a:pathLst>
              <a:path w="162" h="63">
                <a:moveTo>
                  <a:pt x="41" y="63"/>
                </a:moveTo>
                <a:lnTo>
                  <a:pt x="29" y="58"/>
                </a:lnTo>
                <a:lnTo>
                  <a:pt x="21" y="57"/>
                </a:lnTo>
                <a:lnTo>
                  <a:pt x="14" y="54"/>
                </a:lnTo>
                <a:lnTo>
                  <a:pt x="11" y="54"/>
                </a:lnTo>
                <a:lnTo>
                  <a:pt x="3" y="51"/>
                </a:lnTo>
                <a:lnTo>
                  <a:pt x="0" y="49"/>
                </a:lnTo>
                <a:lnTo>
                  <a:pt x="0" y="45"/>
                </a:lnTo>
                <a:lnTo>
                  <a:pt x="0" y="39"/>
                </a:lnTo>
                <a:lnTo>
                  <a:pt x="24" y="21"/>
                </a:lnTo>
                <a:lnTo>
                  <a:pt x="44" y="9"/>
                </a:lnTo>
                <a:lnTo>
                  <a:pt x="59" y="1"/>
                </a:lnTo>
                <a:lnTo>
                  <a:pt x="75" y="0"/>
                </a:lnTo>
                <a:lnTo>
                  <a:pt x="89" y="1"/>
                </a:lnTo>
                <a:lnTo>
                  <a:pt x="108" y="10"/>
                </a:lnTo>
                <a:lnTo>
                  <a:pt x="131" y="24"/>
                </a:lnTo>
                <a:lnTo>
                  <a:pt x="162" y="45"/>
                </a:lnTo>
                <a:lnTo>
                  <a:pt x="153" y="48"/>
                </a:lnTo>
                <a:lnTo>
                  <a:pt x="140" y="52"/>
                </a:lnTo>
                <a:lnTo>
                  <a:pt x="122" y="55"/>
                </a:lnTo>
                <a:lnTo>
                  <a:pt x="104" y="58"/>
                </a:lnTo>
                <a:lnTo>
                  <a:pt x="84" y="60"/>
                </a:lnTo>
                <a:lnTo>
                  <a:pt x="66" y="61"/>
                </a:lnTo>
                <a:lnTo>
                  <a:pt x="51" y="61"/>
                </a:lnTo>
                <a:lnTo>
                  <a:pt x="41" y="6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86600" y="6318360"/>
            <a:ext cx="20880" cy="12600"/>
          </a:xfrm>
          <a:custGeom>
            <a:avLst/>
            <a:gdLst/>
            <a:ahLst/>
            <a:rect l="l" t="t" r="r" b="b"/>
            <a:pathLst>
              <a:path w="26" h="17">
                <a:moveTo>
                  <a:pt x="6" y="17"/>
                </a:moveTo>
                <a:lnTo>
                  <a:pt x="3" y="6"/>
                </a:lnTo>
                <a:lnTo>
                  <a:pt x="0" y="0"/>
                </a:lnTo>
                <a:lnTo>
                  <a:pt x="11" y="0"/>
                </a:lnTo>
                <a:lnTo>
                  <a:pt x="26" y="0"/>
                </a:lnTo>
                <a:lnTo>
                  <a:pt x="15" y="11"/>
                </a:lnTo>
                <a:lnTo>
                  <a:pt x="6" y="17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05640" y="6213600"/>
            <a:ext cx="38160" cy="83880"/>
          </a:xfrm>
          <a:custGeom>
            <a:avLst/>
            <a:gdLst/>
            <a:ahLst/>
            <a:rect l="l" t="t" r="r" b="b"/>
            <a:pathLst>
              <a:path w="48" h="105">
                <a:moveTo>
                  <a:pt x="0" y="105"/>
                </a:moveTo>
                <a:lnTo>
                  <a:pt x="5" y="91"/>
                </a:lnTo>
                <a:lnTo>
                  <a:pt x="9" y="78"/>
                </a:lnTo>
                <a:lnTo>
                  <a:pt x="14" y="64"/>
                </a:lnTo>
                <a:lnTo>
                  <a:pt x="20" y="51"/>
                </a:lnTo>
                <a:lnTo>
                  <a:pt x="24" y="37"/>
                </a:lnTo>
                <a:lnTo>
                  <a:pt x="30" y="24"/>
                </a:lnTo>
                <a:lnTo>
                  <a:pt x="35" y="12"/>
                </a:lnTo>
                <a:lnTo>
                  <a:pt x="41" y="0"/>
                </a:lnTo>
                <a:lnTo>
                  <a:pt x="44" y="0"/>
                </a:lnTo>
                <a:lnTo>
                  <a:pt x="48" y="0"/>
                </a:lnTo>
                <a:lnTo>
                  <a:pt x="44" y="13"/>
                </a:lnTo>
                <a:lnTo>
                  <a:pt x="42" y="28"/>
                </a:lnTo>
                <a:lnTo>
                  <a:pt x="41" y="45"/>
                </a:lnTo>
                <a:lnTo>
                  <a:pt x="38" y="61"/>
                </a:lnTo>
                <a:lnTo>
                  <a:pt x="32" y="73"/>
                </a:lnTo>
                <a:lnTo>
                  <a:pt x="24" y="87"/>
                </a:lnTo>
                <a:lnTo>
                  <a:pt x="14" y="97"/>
                </a:lnTo>
                <a:lnTo>
                  <a:pt x="0" y="105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84760" y="5575320"/>
            <a:ext cx="552600" cy="657360"/>
          </a:xfrm>
          <a:custGeom>
            <a:avLst/>
            <a:gdLst/>
            <a:ahLst/>
            <a:rect l="l" t="t" r="r" b="b"/>
            <a:pathLst>
              <a:path w="696" h="828">
                <a:moveTo>
                  <a:pt x="321" y="828"/>
                </a:moveTo>
                <a:lnTo>
                  <a:pt x="278" y="820"/>
                </a:lnTo>
                <a:lnTo>
                  <a:pt x="234" y="813"/>
                </a:lnTo>
                <a:lnTo>
                  <a:pt x="192" y="804"/>
                </a:lnTo>
                <a:lnTo>
                  <a:pt x="152" y="793"/>
                </a:lnTo>
                <a:lnTo>
                  <a:pt x="110" y="778"/>
                </a:lnTo>
                <a:lnTo>
                  <a:pt x="71" y="762"/>
                </a:lnTo>
                <a:lnTo>
                  <a:pt x="35" y="741"/>
                </a:lnTo>
                <a:lnTo>
                  <a:pt x="0" y="718"/>
                </a:lnTo>
                <a:lnTo>
                  <a:pt x="2" y="679"/>
                </a:lnTo>
                <a:lnTo>
                  <a:pt x="9" y="640"/>
                </a:lnTo>
                <a:lnTo>
                  <a:pt x="18" y="600"/>
                </a:lnTo>
                <a:lnTo>
                  <a:pt x="32" y="559"/>
                </a:lnTo>
                <a:lnTo>
                  <a:pt x="45" y="517"/>
                </a:lnTo>
                <a:lnTo>
                  <a:pt x="59" y="477"/>
                </a:lnTo>
                <a:lnTo>
                  <a:pt x="71" y="436"/>
                </a:lnTo>
                <a:lnTo>
                  <a:pt x="81" y="399"/>
                </a:lnTo>
                <a:lnTo>
                  <a:pt x="83" y="375"/>
                </a:lnTo>
                <a:lnTo>
                  <a:pt x="86" y="358"/>
                </a:lnTo>
                <a:lnTo>
                  <a:pt x="90" y="348"/>
                </a:lnTo>
                <a:lnTo>
                  <a:pt x="96" y="342"/>
                </a:lnTo>
                <a:lnTo>
                  <a:pt x="105" y="336"/>
                </a:lnTo>
                <a:lnTo>
                  <a:pt x="119" y="336"/>
                </a:lnTo>
                <a:lnTo>
                  <a:pt x="135" y="336"/>
                </a:lnTo>
                <a:lnTo>
                  <a:pt x="159" y="339"/>
                </a:lnTo>
                <a:lnTo>
                  <a:pt x="164" y="333"/>
                </a:lnTo>
                <a:lnTo>
                  <a:pt x="170" y="330"/>
                </a:lnTo>
                <a:lnTo>
                  <a:pt x="164" y="289"/>
                </a:lnTo>
                <a:lnTo>
                  <a:pt x="158" y="243"/>
                </a:lnTo>
                <a:lnTo>
                  <a:pt x="153" y="192"/>
                </a:lnTo>
                <a:lnTo>
                  <a:pt x="153" y="141"/>
                </a:lnTo>
                <a:lnTo>
                  <a:pt x="155" y="90"/>
                </a:lnTo>
                <a:lnTo>
                  <a:pt x="165" y="48"/>
                </a:lnTo>
                <a:lnTo>
                  <a:pt x="182" y="16"/>
                </a:lnTo>
                <a:lnTo>
                  <a:pt x="210" y="0"/>
                </a:lnTo>
                <a:lnTo>
                  <a:pt x="206" y="16"/>
                </a:lnTo>
                <a:lnTo>
                  <a:pt x="204" y="33"/>
                </a:lnTo>
                <a:lnTo>
                  <a:pt x="200" y="49"/>
                </a:lnTo>
                <a:lnTo>
                  <a:pt x="198" y="67"/>
                </a:lnTo>
                <a:lnTo>
                  <a:pt x="195" y="84"/>
                </a:lnTo>
                <a:lnTo>
                  <a:pt x="192" y="100"/>
                </a:lnTo>
                <a:lnTo>
                  <a:pt x="189" y="117"/>
                </a:lnTo>
                <a:lnTo>
                  <a:pt x="188" y="135"/>
                </a:lnTo>
                <a:lnTo>
                  <a:pt x="186" y="150"/>
                </a:lnTo>
                <a:lnTo>
                  <a:pt x="185" y="172"/>
                </a:lnTo>
                <a:lnTo>
                  <a:pt x="183" y="196"/>
                </a:lnTo>
                <a:lnTo>
                  <a:pt x="183" y="225"/>
                </a:lnTo>
                <a:lnTo>
                  <a:pt x="185" y="250"/>
                </a:lnTo>
                <a:lnTo>
                  <a:pt x="191" y="276"/>
                </a:lnTo>
                <a:lnTo>
                  <a:pt x="200" y="297"/>
                </a:lnTo>
                <a:lnTo>
                  <a:pt x="215" y="310"/>
                </a:lnTo>
                <a:lnTo>
                  <a:pt x="243" y="309"/>
                </a:lnTo>
                <a:lnTo>
                  <a:pt x="275" y="307"/>
                </a:lnTo>
                <a:lnTo>
                  <a:pt x="306" y="306"/>
                </a:lnTo>
                <a:lnTo>
                  <a:pt x="339" y="306"/>
                </a:lnTo>
                <a:lnTo>
                  <a:pt x="371" y="306"/>
                </a:lnTo>
                <a:lnTo>
                  <a:pt x="404" y="306"/>
                </a:lnTo>
                <a:lnTo>
                  <a:pt x="437" y="306"/>
                </a:lnTo>
                <a:lnTo>
                  <a:pt x="471" y="307"/>
                </a:lnTo>
                <a:lnTo>
                  <a:pt x="471" y="321"/>
                </a:lnTo>
                <a:lnTo>
                  <a:pt x="474" y="334"/>
                </a:lnTo>
                <a:lnTo>
                  <a:pt x="474" y="348"/>
                </a:lnTo>
                <a:lnTo>
                  <a:pt x="477" y="363"/>
                </a:lnTo>
                <a:lnTo>
                  <a:pt x="491" y="369"/>
                </a:lnTo>
                <a:lnTo>
                  <a:pt x="507" y="376"/>
                </a:lnTo>
                <a:lnTo>
                  <a:pt x="522" y="382"/>
                </a:lnTo>
                <a:lnTo>
                  <a:pt x="540" y="388"/>
                </a:lnTo>
                <a:lnTo>
                  <a:pt x="557" y="393"/>
                </a:lnTo>
                <a:lnTo>
                  <a:pt x="575" y="399"/>
                </a:lnTo>
                <a:lnTo>
                  <a:pt x="593" y="405"/>
                </a:lnTo>
                <a:lnTo>
                  <a:pt x="612" y="411"/>
                </a:lnTo>
                <a:lnTo>
                  <a:pt x="627" y="433"/>
                </a:lnTo>
                <a:lnTo>
                  <a:pt x="645" y="466"/>
                </a:lnTo>
                <a:lnTo>
                  <a:pt x="662" y="507"/>
                </a:lnTo>
                <a:lnTo>
                  <a:pt x="678" y="553"/>
                </a:lnTo>
                <a:lnTo>
                  <a:pt x="689" y="598"/>
                </a:lnTo>
                <a:lnTo>
                  <a:pt x="696" y="640"/>
                </a:lnTo>
                <a:lnTo>
                  <a:pt x="696" y="676"/>
                </a:lnTo>
                <a:lnTo>
                  <a:pt x="687" y="705"/>
                </a:lnTo>
                <a:lnTo>
                  <a:pt x="641" y="735"/>
                </a:lnTo>
                <a:lnTo>
                  <a:pt x="597" y="762"/>
                </a:lnTo>
                <a:lnTo>
                  <a:pt x="555" y="783"/>
                </a:lnTo>
                <a:lnTo>
                  <a:pt x="513" y="799"/>
                </a:lnTo>
                <a:lnTo>
                  <a:pt x="468" y="811"/>
                </a:lnTo>
                <a:lnTo>
                  <a:pt x="423" y="820"/>
                </a:lnTo>
                <a:lnTo>
                  <a:pt x="374" y="825"/>
                </a:lnTo>
                <a:lnTo>
                  <a:pt x="321" y="828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76760" y="5832360"/>
            <a:ext cx="171720" cy="303480"/>
          </a:xfrm>
          <a:custGeom>
            <a:avLst/>
            <a:gdLst/>
            <a:ahLst/>
            <a:rect l="l" t="t" r="r" b="b"/>
            <a:pathLst>
              <a:path w="216" h="383">
                <a:moveTo>
                  <a:pt x="102" y="383"/>
                </a:moveTo>
                <a:lnTo>
                  <a:pt x="95" y="380"/>
                </a:lnTo>
                <a:lnTo>
                  <a:pt x="90" y="378"/>
                </a:lnTo>
                <a:lnTo>
                  <a:pt x="87" y="356"/>
                </a:lnTo>
                <a:lnTo>
                  <a:pt x="90" y="333"/>
                </a:lnTo>
                <a:lnTo>
                  <a:pt x="95" y="309"/>
                </a:lnTo>
                <a:lnTo>
                  <a:pt x="102" y="285"/>
                </a:lnTo>
                <a:lnTo>
                  <a:pt x="108" y="258"/>
                </a:lnTo>
                <a:lnTo>
                  <a:pt x="114" y="236"/>
                </a:lnTo>
                <a:lnTo>
                  <a:pt x="119" y="213"/>
                </a:lnTo>
                <a:lnTo>
                  <a:pt x="122" y="197"/>
                </a:lnTo>
                <a:lnTo>
                  <a:pt x="116" y="192"/>
                </a:lnTo>
                <a:lnTo>
                  <a:pt x="110" y="191"/>
                </a:lnTo>
                <a:lnTo>
                  <a:pt x="99" y="204"/>
                </a:lnTo>
                <a:lnTo>
                  <a:pt x="87" y="222"/>
                </a:lnTo>
                <a:lnTo>
                  <a:pt x="72" y="243"/>
                </a:lnTo>
                <a:lnTo>
                  <a:pt x="59" y="266"/>
                </a:lnTo>
                <a:lnTo>
                  <a:pt x="42" y="287"/>
                </a:lnTo>
                <a:lnTo>
                  <a:pt x="27" y="305"/>
                </a:lnTo>
                <a:lnTo>
                  <a:pt x="12" y="317"/>
                </a:lnTo>
                <a:lnTo>
                  <a:pt x="0" y="326"/>
                </a:lnTo>
                <a:lnTo>
                  <a:pt x="14" y="290"/>
                </a:lnTo>
                <a:lnTo>
                  <a:pt x="33" y="255"/>
                </a:lnTo>
                <a:lnTo>
                  <a:pt x="54" y="219"/>
                </a:lnTo>
                <a:lnTo>
                  <a:pt x="80" y="185"/>
                </a:lnTo>
                <a:lnTo>
                  <a:pt x="104" y="149"/>
                </a:lnTo>
                <a:lnTo>
                  <a:pt x="129" y="114"/>
                </a:lnTo>
                <a:lnTo>
                  <a:pt x="153" y="81"/>
                </a:lnTo>
                <a:lnTo>
                  <a:pt x="176" y="50"/>
                </a:lnTo>
                <a:lnTo>
                  <a:pt x="177" y="41"/>
                </a:lnTo>
                <a:lnTo>
                  <a:pt x="180" y="32"/>
                </a:lnTo>
                <a:lnTo>
                  <a:pt x="182" y="23"/>
                </a:lnTo>
                <a:lnTo>
                  <a:pt x="186" y="15"/>
                </a:lnTo>
                <a:lnTo>
                  <a:pt x="191" y="6"/>
                </a:lnTo>
                <a:lnTo>
                  <a:pt x="197" y="3"/>
                </a:lnTo>
                <a:lnTo>
                  <a:pt x="206" y="0"/>
                </a:lnTo>
                <a:lnTo>
                  <a:pt x="216" y="5"/>
                </a:lnTo>
                <a:lnTo>
                  <a:pt x="206" y="14"/>
                </a:lnTo>
                <a:lnTo>
                  <a:pt x="200" y="26"/>
                </a:lnTo>
                <a:lnTo>
                  <a:pt x="194" y="36"/>
                </a:lnTo>
                <a:lnTo>
                  <a:pt x="192" y="50"/>
                </a:lnTo>
                <a:lnTo>
                  <a:pt x="191" y="62"/>
                </a:lnTo>
                <a:lnTo>
                  <a:pt x="189" y="75"/>
                </a:lnTo>
                <a:lnTo>
                  <a:pt x="188" y="90"/>
                </a:lnTo>
                <a:lnTo>
                  <a:pt x="188" y="107"/>
                </a:lnTo>
                <a:lnTo>
                  <a:pt x="164" y="194"/>
                </a:lnTo>
                <a:lnTo>
                  <a:pt x="146" y="258"/>
                </a:lnTo>
                <a:lnTo>
                  <a:pt x="132" y="305"/>
                </a:lnTo>
                <a:lnTo>
                  <a:pt x="125" y="339"/>
                </a:lnTo>
                <a:lnTo>
                  <a:pt x="119" y="359"/>
                </a:lnTo>
                <a:lnTo>
                  <a:pt x="116" y="371"/>
                </a:lnTo>
                <a:lnTo>
                  <a:pt x="113" y="377"/>
                </a:lnTo>
                <a:lnTo>
                  <a:pt x="111" y="383"/>
                </a:lnTo>
                <a:lnTo>
                  <a:pt x="107" y="383"/>
                </a:lnTo>
                <a:lnTo>
                  <a:pt x="102" y="38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95840" y="6051600"/>
            <a:ext cx="50760" cy="74520"/>
          </a:xfrm>
          <a:custGeom>
            <a:avLst/>
            <a:gdLst/>
            <a:ahLst/>
            <a:rect l="l" t="t" r="r" b="b"/>
            <a:pathLst>
              <a:path w="65" h="95">
                <a:moveTo>
                  <a:pt x="38" y="95"/>
                </a:moveTo>
                <a:lnTo>
                  <a:pt x="26" y="89"/>
                </a:lnTo>
                <a:lnTo>
                  <a:pt x="18" y="86"/>
                </a:lnTo>
                <a:lnTo>
                  <a:pt x="11" y="81"/>
                </a:lnTo>
                <a:lnTo>
                  <a:pt x="8" y="81"/>
                </a:lnTo>
                <a:lnTo>
                  <a:pt x="2" y="78"/>
                </a:lnTo>
                <a:lnTo>
                  <a:pt x="0" y="78"/>
                </a:lnTo>
                <a:lnTo>
                  <a:pt x="2" y="66"/>
                </a:lnTo>
                <a:lnTo>
                  <a:pt x="8" y="56"/>
                </a:lnTo>
                <a:lnTo>
                  <a:pt x="15" y="42"/>
                </a:lnTo>
                <a:lnTo>
                  <a:pt x="26" y="32"/>
                </a:lnTo>
                <a:lnTo>
                  <a:pt x="35" y="18"/>
                </a:lnTo>
                <a:lnTo>
                  <a:pt x="45" y="9"/>
                </a:lnTo>
                <a:lnTo>
                  <a:pt x="54" y="2"/>
                </a:lnTo>
                <a:lnTo>
                  <a:pt x="65" y="0"/>
                </a:lnTo>
                <a:lnTo>
                  <a:pt x="59" y="18"/>
                </a:lnTo>
                <a:lnTo>
                  <a:pt x="56" y="33"/>
                </a:lnTo>
                <a:lnTo>
                  <a:pt x="51" y="45"/>
                </a:lnTo>
                <a:lnTo>
                  <a:pt x="51" y="56"/>
                </a:lnTo>
                <a:lnTo>
                  <a:pt x="48" y="63"/>
                </a:lnTo>
                <a:lnTo>
                  <a:pt x="48" y="72"/>
                </a:lnTo>
                <a:lnTo>
                  <a:pt x="48" y="81"/>
                </a:lnTo>
                <a:lnTo>
                  <a:pt x="48" y="95"/>
                </a:lnTo>
                <a:lnTo>
                  <a:pt x="42" y="95"/>
                </a:lnTo>
                <a:lnTo>
                  <a:pt x="38" y="95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70680" y="6110280"/>
            <a:ext cx="14400" cy="15840"/>
          </a:xfrm>
          <a:custGeom>
            <a:avLst/>
            <a:gdLst/>
            <a:ahLst/>
            <a:rect l="l" t="t" r="r" b="b"/>
            <a:pathLst>
              <a:path w="16" h="20">
                <a:moveTo>
                  <a:pt x="9" y="20"/>
                </a:moveTo>
                <a:lnTo>
                  <a:pt x="0" y="8"/>
                </a:lnTo>
                <a:lnTo>
                  <a:pt x="0" y="0"/>
                </a:lnTo>
                <a:lnTo>
                  <a:pt x="4" y="2"/>
                </a:lnTo>
                <a:lnTo>
                  <a:pt x="9" y="5"/>
                </a:lnTo>
                <a:lnTo>
                  <a:pt x="12" y="9"/>
                </a:lnTo>
                <a:lnTo>
                  <a:pt x="16" y="20"/>
                </a:lnTo>
                <a:lnTo>
                  <a:pt x="12" y="20"/>
                </a:lnTo>
                <a:lnTo>
                  <a:pt x="9" y="2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18320" y="3887640"/>
            <a:ext cx="1430280" cy="2059200"/>
          </a:xfrm>
          <a:custGeom>
            <a:avLst/>
            <a:gdLst/>
            <a:ahLst/>
            <a:rect l="l" t="t" r="r" b="b"/>
            <a:pathLst>
              <a:path w="1801" h="2593">
                <a:moveTo>
                  <a:pt x="804" y="2593"/>
                </a:moveTo>
                <a:lnTo>
                  <a:pt x="747" y="2584"/>
                </a:lnTo>
                <a:lnTo>
                  <a:pt x="690" y="2574"/>
                </a:lnTo>
                <a:lnTo>
                  <a:pt x="633" y="2560"/>
                </a:lnTo>
                <a:lnTo>
                  <a:pt x="576" y="2548"/>
                </a:lnTo>
                <a:lnTo>
                  <a:pt x="519" y="2532"/>
                </a:lnTo>
                <a:lnTo>
                  <a:pt x="465" y="2517"/>
                </a:lnTo>
                <a:lnTo>
                  <a:pt x="411" y="2499"/>
                </a:lnTo>
                <a:lnTo>
                  <a:pt x="363" y="2481"/>
                </a:lnTo>
                <a:lnTo>
                  <a:pt x="343" y="2463"/>
                </a:lnTo>
                <a:lnTo>
                  <a:pt x="331" y="2440"/>
                </a:lnTo>
                <a:lnTo>
                  <a:pt x="322" y="2413"/>
                </a:lnTo>
                <a:lnTo>
                  <a:pt x="319" y="2385"/>
                </a:lnTo>
                <a:lnTo>
                  <a:pt x="316" y="2355"/>
                </a:lnTo>
                <a:lnTo>
                  <a:pt x="316" y="2326"/>
                </a:lnTo>
                <a:lnTo>
                  <a:pt x="316" y="2299"/>
                </a:lnTo>
                <a:lnTo>
                  <a:pt x="318" y="2278"/>
                </a:lnTo>
                <a:lnTo>
                  <a:pt x="316" y="2184"/>
                </a:lnTo>
                <a:lnTo>
                  <a:pt x="316" y="2089"/>
                </a:lnTo>
                <a:lnTo>
                  <a:pt x="316" y="1995"/>
                </a:lnTo>
                <a:lnTo>
                  <a:pt x="322" y="1903"/>
                </a:lnTo>
                <a:lnTo>
                  <a:pt x="328" y="1809"/>
                </a:lnTo>
                <a:lnTo>
                  <a:pt x="342" y="1717"/>
                </a:lnTo>
                <a:lnTo>
                  <a:pt x="358" y="1627"/>
                </a:lnTo>
                <a:lnTo>
                  <a:pt x="384" y="1538"/>
                </a:lnTo>
                <a:lnTo>
                  <a:pt x="388" y="1538"/>
                </a:lnTo>
                <a:lnTo>
                  <a:pt x="396" y="1538"/>
                </a:lnTo>
                <a:lnTo>
                  <a:pt x="432" y="1551"/>
                </a:lnTo>
                <a:lnTo>
                  <a:pt x="472" y="1563"/>
                </a:lnTo>
                <a:lnTo>
                  <a:pt x="514" y="1568"/>
                </a:lnTo>
                <a:lnTo>
                  <a:pt x="559" y="1571"/>
                </a:lnTo>
                <a:lnTo>
                  <a:pt x="603" y="1568"/>
                </a:lnTo>
                <a:lnTo>
                  <a:pt x="646" y="1560"/>
                </a:lnTo>
                <a:lnTo>
                  <a:pt x="687" y="1548"/>
                </a:lnTo>
                <a:lnTo>
                  <a:pt x="726" y="1532"/>
                </a:lnTo>
                <a:lnTo>
                  <a:pt x="726" y="1526"/>
                </a:lnTo>
                <a:lnTo>
                  <a:pt x="727" y="1524"/>
                </a:lnTo>
                <a:lnTo>
                  <a:pt x="706" y="1520"/>
                </a:lnTo>
                <a:lnTo>
                  <a:pt x="679" y="1520"/>
                </a:lnTo>
                <a:lnTo>
                  <a:pt x="648" y="1521"/>
                </a:lnTo>
                <a:lnTo>
                  <a:pt x="615" y="1526"/>
                </a:lnTo>
                <a:lnTo>
                  <a:pt x="579" y="1529"/>
                </a:lnTo>
                <a:lnTo>
                  <a:pt x="546" y="1532"/>
                </a:lnTo>
                <a:lnTo>
                  <a:pt x="516" y="1535"/>
                </a:lnTo>
                <a:lnTo>
                  <a:pt x="493" y="1536"/>
                </a:lnTo>
                <a:lnTo>
                  <a:pt x="397" y="1506"/>
                </a:lnTo>
                <a:lnTo>
                  <a:pt x="331" y="1467"/>
                </a:lnTo>
                <a:lnTo>
                  <a:pt x="289" y="1418"/>
                </a:lnTo>
                <a:lnTo>
                  <a:pt x="270" y="1362"/>
                </a:lnTo>
                <a:lnTo>
                  <a:pt x="264" y="1296"/>
                </a:lnTo>
                <a:lnTo>
                  <a:pt x="273" y="1226"/>
                </a:lnTo>
                <a:lnTo>
                  <a:pt x="291" y="1149"/>
                </a:lnTo>
                <a:lnTo>
                  <a:pt x="315" y="1068"/>
                </a:lnTo>
                <a:lnTo>
                  <a:pt x="316" y="1062"/>
                </a:lnTo>
                <a:lnTo>
                  <a:pt x="321" y="1052"/>
                </a:lnTo>
                <a:lnTo>
                  <a:pt x="322" y="1037"/>
                </a:lnTo>
                <a:lnTo>
                  <a:pt x="327" y="1022"/>
                </a:lnTo>
                <a:lnTo>
                  <a:pt x="328" y="1004"/>
                </a:lnTo>
                <a:lnTo>
                  <a:pt x="330" y="990"/>
                </a:lnTo>
                <a:lnTo>
                  <a:pt x="331" y="978"/>
                </a:lnTo>
                <a:lnTo>
                  <a:pt x="334" y="974"/>
                </a:lnTo>
                <a:lnTo>
                  <a:pt x="322" y="969"/>
                </a:lnTo>
                <a:lnTo>
                  <a:pt x="315" y="971"/>
                </a:lnTo>
                <a:lnTo>
                  <a:pt x="310" y="977"/>
                </a:lnTo>
                <a:lnTo>
                  <a:pt x="309" y="987"/>
                </a:lnTo>
                <a:lnTo>
                  <a:pt x="307" y="998"/>
                </a:lnTo>
                <a:lnTo>
                  <a:pt x="307" y="1011"/>
                </a:lnTo>
                <a:lnTo>
                  <a:pt x="304" y="1022"/>
                </a:lnTo>
                <a:lnTo>
                  <a:pt x="303" y="1034"/>
                </a:lnTo>
                <a:lnTo>
                  <a:pt x="298" y="1043"/>
                </a:lnTo>
                <a:lnTo>
                  <a:pt x="295" y="1050"/>
                </a:lnTo>
                <a:lnTo>
                  <a:pt x="286" y="1044"/>
                </a:lnTo>
                <a:lnTo>
                  <a:pt x="279" y="1040"/>
                </a:lnTo>
                <a:lnTo>
                  <a:pt x="273" y="1035"/>
                </a:lnTo>
                <a:lnTo>
                  <a:pt x="268" y="1031"/>
                </a:lnTo>
                <a:lnTo>
                  <a:pt x="258" y="1020"/>
                </a:lnTo>
                <a:lnTo>
                  <a:pt x="250" y="1011"/>
                </a:lnTo>
                <a:lnTo>
                  <a:pt x="240" y="1013"/>
                </a:lnTo>
                <a:lnTo>
                  <a:pt x="238" y="1019"/>
                </a:lnTo>
                <a:lnTo>
                  <a:pt x="243" y="1026"/>
                </a:lnTo>
                <a:lnTo>
                  <a:pt x="253" y="1037"/>
                </a:lnTo>
                <a:lnTo>
                  <a:pt x="264" y="1046"/>
                </a:lnTo>
                <a:lnTo>
                  <a:pt x="276" y="1055"/>
                </a:lnTo>
                <a:lnTo>
                  <a:pt x="285" y="1062"/>
                </a:lnTo>
                <a:lnTo>
                  <a:pt x="291" y="1067"/>
                </a:lnTo>
                <a:lnTo>
                  <a:pt x="288" y="1082"/>
                </a:lnTo>
                <a:lnTo>
                  <a:pt x="280" y="1113"/>
                </a:lnTo>
                <a:lnTo>
                  <a:pt x="268" y="1154"/>
                </a:lnTo>
                <a:lnTo>
                  <a:pt x="258" y="1199"/>
                </a:lnTo>
                <a:lnTo>
                  <a:pt x="246" y="1241"/>
                </a:lnTo>
                <a:lnTo>
                  <a:pt x="235" y="1280"/>
                </a:lnTo>
                <a:lnTo>
                  <a:pt x="228" y="1305"/>
                </a:lnTo>
                <a:lnTo>
                  <a:pt x="225" y="1317"/>
                </a:lnTo>
                <a:lnTo>
                  <a:pt x="202" y="1305"/>
                </a:lnTo>
                <a:lnTo>
                  <a:pt x="177" y="1296"/>
                </a:lnTo>
                <a:lnTo>
                  <a:pt x="145" y="1287"/>
                </a:lnTo>
                <a:lnTo>
                  <a:pt x="112" y="1283"/>
                </a:lnTo>
                <a:lnTo>
                  <a:pt x="78" y="1277"/>
                </a:lnTo>
                <a:lnTo>
                  <a:pt x="46" y="1274"/>
                </a:lnTo>
                <a:lnTo>
                  <a:pt x="19" y="1271"/>
                </a:lnTo>
                <a:lnTo>
                  <a:pt x="0" y="1272"/>
                </a:lnTo>
                <a:lnTo>
                  <a:pt x="4" y="1188"/>
                </a:lnTo>
                <a:lnTo>
                  <a:pt x="13" y="1106"/>
                </a:lnTo>
                <a:lnTo>
                  <a:pt x="22" y="1023"/>
                </a:lnTo>
                <a:lnTo>
                  <a:pt x="36" y="941"/>
                </a:lnTo>
                <a:lnTo>
                  <a:pt x="48" y="857"/>
                </a:lnTo>
                <a:lnTo>
                  <a:pt x="63" y="776"/>
                </a:lnTo>
                <a:lnTo>
                  <a:pt x="79" y="693"/>
                </a:lnTo>
                <a:lnTo>
                  <a:pt x="99" y="615"/>
                </a:lnTo>
                <a:lnTo>
                  <a:pt x="105" y="594"/>
                </a:lnTo>
                <a:lnTo>
                  <a:pt x="112" y="573"/>
                </a:lnTo>
                <a:lnTo>
                  <a:pt x="121" y="551"/>
                </a:lnTo>
                <a:lnTo>
                  <a:pt x="133" y="531"/>
                </a:lnTo>
                <a:lnTo>
                  <a:pt x="145" y="515"/>
                </a:lnTo>
                <a:lnTo>
                  <a:pt x="160" y="504"/>
                </a:lnTo>
                <a:lnTo>
                  <a:pt x="180" y="500"/>
                </a:lnTo>
                <a:lnTo>
                  <a:pt x="204" y="506"/>
                </a:lnTo>
                <a:lnTo>
                  <a:pt x="202" y="515"/>
                </a:lnTo>
                <a:lnTo>
                  <a:pt x="199" y="525"/>
                </a:lnTo>
                <a:lnTo>
                  <a:pt x="195" y="537"/>
                </a:lnTo>
                <a:lnTo>
                  <a:pt x="190" y="551"/>
                </a:lnTo>
                <a:lnTo>
                  <a:pt x="184" y="564"/>
                </a:lnTo>
                <a:lnTo>
                  <a:pt x="180" y="578"/>
                </a:lnTo>
                <a:lnTo>
                  <a:pt x="175" y="591"/>
                </a:lnTo>
                <a:lnTo>
                  <a:pt x="172" y="606"/>
                </a:lnTo>
                <a:lnTo>
                  <a:pt x="178" y="659"/>
                </a:lnTo>
                <a:lnTo>
                  <a:pt x="198" y="710"/>
                </a:lnTo>
                <a:lnTo>
                  <a:pt x="226" y="758"/>
                </a:lnTo>
                <a:lnTo>
                  <a:pt x="264" y="801"/>
                </a:lnTo>
                <a:lnTo>
                  <a:pt x="307" y="840"/>
                </a:lnTo>
                <a:lnTo>
                  <a:pt x="355" y="875"/>
                </a:lnTo>
                <a:lnTo>
                  <a:pt x="405" y="902"/>
                </a:lnTo>
                <a:lnTo>
                  <a:pt x="457" y="926"/>
                </a:lnTo>
                <a:lnTo>
                  <a:pt x="457" y="944"/>
                </a:lnTo>
                <a:lnTo>
                  <a:pt x="462" y="962"/>
                </a:lnTo>
                <a:lnTo>
                  <a:pt x="465" y="977"/>
                </a:lnTo>
                <a:lnTo>
                  <a:pt x="472" y="992"/>
                </a:lnTo>
                <a:lnTo>
                  <a:pt x="480" y="1004"/>
                </a:lnTo>
                <a:lnTo>
                  <a:pt x="492" y="1016"/>
                </a:lnTo>
                <a:lnTo>
                  <a:pt x="504" y="1029"/>
                </a:lnTo>
                <a:lnTo>
                  <a:pt x="522" y="1044"/>
                </a:lnTo>
                <a:lnTo>
                  <a:pt x="522" y="1064"/>
                </a:lnTo>
                <a:lnTo>
                  <a:pt x="522" y="1080"/>
                </a:lnTo>
                <a:lnTo>
                  <a:pt x="523" y="1091"/>
                </a:lnTo>
                <a:lnTo>
                  <a:pt x="529" y="1100"/>
                </a:lnTo>
                <a:lnTo>
                  <a:pt x="535" y="1104"/>
                </a:lnTo>
                <a:lnTo>
                  <a:pt x="547" y="1109"/>
                </a:lnTo>
                <a:lnTo>
                  <a:pt x="561" y="1112"/>
                </a:lnTo>
                <a:lnTo>
                  <a:pt x="583" y="1116"/>
                </a:lnTo>
                <a:lnTo>
                  <a:pt x="583" y="1131"/>
                </a:lnTo>
                <a:lnTo>
                  <a:pt x="585" y="1143"/>
                </a:lnTo>
                <a:lnTo>
                  <a:pt x="589" y="1152"/>
                </a:lnTo>
                <a:lnTo>
                  <a:pt x="597" y="1158"/>
                </a:lnTo>
                <a:lnTo>
                  <a:pt x="604" y="1161"/>
                </a:lnTo>
                <a:lnTo>
                  <a:pt x="618" y="1166"/>
                </a:lnTo>
                <a:lnTo>
                  <a:pt x="633" y="1167"/>
                </a:lnTo>
                <a:lnTo>
                  <a:pt x="652" y="1170"/>
                </a:lnTo>
                <a:lnTo>
                  <a:pt x="654" y="1184"/>
                </a:lnTo>
                <a:lnTo>
                  <a:pt x="658" y="1194"/>
                </a:lnTo>
                <a:lnTo>
                  <a:pt x="666" y="1200"/>
                </a:lnTo>
                <a:lnTo>
                  <a:pt x="675" y="1205"/>
                </a:lnTo>
                <a:lnTo>
                  <a:pt x="684" y="1205"/>
                </a:lnTo>
                <a:lnTo>
                  <a:pt x="697" y="1205"/>
                </a:lnTo>
                <a:lnTo>
                  <a:pt x="711" y="1203"/>
                </a:lnTo>
                <a:lnTo>
                  <a:pt x="727" y="1202"/>
                </a:lnTo>
                <a:lnTo>
                  <a:pt x="738" y="1227"/>
                </a:lnTo>
                <a:lnTo>
                  <a:pt x="756" y="1236"/>
                </a:lnTo>
                <a:lnTo>
                  <a:pt x="775" y="1233"/>
                </a:lnTo>
                <a:lnTo>
                  <a:pt x="799" y="1221"/>
                </a:lnTo>
                <a:lnTo>
                  <a:pt x="822" y="1203"/>
                </a:lnTo>
                <a:lnTo>
                  <a:pt x="846" y="1187"/>
                </a:lnTo>
                <a:lnTo>
                  <a:pt x="867" y="1173"/>
                </a:lnTo>
                <a:lnTo>
                  <a:pt x="885" y="1169"/>
                </a:lnTo>
                <a:lnTo>
                  <a:pt x="907" y="1191"/>
                </a:lnTo>
                <a:lnTo>
                  <a:pt x="930" y="1206"/>
                </a:lnTo>
                <a:lnTo>
                  <a:pt x="949" y="1215"/>
                </a:lnTo>
                <a:lnTo>
                  <a:pt x="969" y="1218"/>
                </a:lnTo>
                <a:lnTo>
                  <a:pt x="987" y="1214"/>
                </a:lnTo>
                <a:lnTo>
                  <a:pt x="1008" y="1205"/>
                </a:lnTo>
                <a:lnTo>
                  <a:pt x="1029" y="1190"/>
                </a:lnTo>
                <a:lnTo>
                  <a:pt x="1056" y="1170"/>
                </a:lnTo>
                <a:lnTo>
                  <a:pt x="1074" y="1170"/>
                </a:lnTo>
                <a:lnTo>
                  <a:pt x="1089" y="1170"/>
                </a:lnTo>
                <a:lnTo>
                  <a:pt x="1099" y="1167"/>
                </a:lnTo>
                <a:lnTo>
                  <a:pt x="1108" y="1164"/>
                </a:lnTo>
                <a:lnTo>
                  <a:pt x="1113" y="1155"/>
                </a:lnTo>
                <a:lnTo>
                  <a:pt x="1117" y="1146"/>
                </a:lnTo>
                <a:lnTo>
                  <a:pt x="1122" y="1131"/>
                </a:lnTo>
                <a:lnTo>
                  <a:pt x="1126" y="1113"/>
                </a:lnTo>
                <a:lnTo>
                  <a:pt x="1146" y="1109"/>
                </a:lnTo>
                <a:lnTo>
                  <a:pt x="1162" y="1104"/>
                </a:lnTo>
                <a:lnTo>
                  <a:pt x="1174" y="1098"/>
                </a:lnTo>
                <a:lnTo>
                  <a:pt x="1183" y="1091"/>
                </a:lnTo>
                <a:lnTo>
                  <a:pt x="1188" y="1080"/>
                </a:lnTo>
                <a:lnTo>
                  <a:pt x="1192" y="1067"/>
                </a:lnTo>
                <a:lnTo>
                  <a:pt x="1195" y="1052"/>
                </a:lnTo>
                <a:lnTo>
                  <a:pt x="1198" y="1034"/>
                </a:lnTo>
                <a:lnTo>
                  <a:pt x="1215" y="1020"/>
                </a:lnTo>
                <a:lnTo>
                  <a:pt x="1230" y="1001"/>
                </a:lnTo>
                <a:lnTo>
                  <a:pt x="1242" y="975"/>
                </a:lnTo>
                <a:lnTo>
                  <a:pt x="1254" y="948"/>
                </a:lnTo>
                <a:lnTo>
                  <a:pt x="1261" y="918"/>
                </a:lnTo>
                <a:lnTo>
                  <a:pt x="1269" y="893"/>
                </a:lnTo>
                <a:lnTo>
                  <a:pt x="1273" y="869"/>
                </a:lnTo>
                <a:lnTo>
                  <a:pt x="1276" y="851"/>
                </a:lnTo>
                <a:lnTo>
                  <a:pt x="1272" y="842"/>
                </a:lnTo>
                <a:lnTo>
                  <a:pt x="1267" y="833"/>
                </a:lnTo>
                <a:lnTo>
                  <a:pt x="1260" y="821"/>
                </a:lnTo>
                <a:lnTo>
                  <a:pt x="1254" y="809"/>
                </a:lnTo>
                <a:lnTo>
                  <a:pt x="1246" y="797"/>
                </a:lnTo>
                <a:lnTo>
                  <a:pt x="1242" y="788"/>
                </a:lnTo>
                <a:lnTo>
                  <a:pt x="1237" y="780"/>
                </a:lnTo>
                <a:lnTo>
                  <a:pt x="1237" y="777"/>
                </a:lnTo>
                <a:lnTo>
                  <a:pt x="1281" y="717"/>
                </a:lnTo>
                <a:lnTo>
                  <a:pt x="1326" y="656"/>
                </a:lnTo>
                <a:lnTo>
                  <a:pt x="1363" y="591"/>
                </a:lnTo>
                <a:lnTo>
                  <a:pt x="1393" y="527"/>
                </a:lnTo>
                <a:lnTo>
                  <a:pt x="1410" y="458"/>
                </a:lnTo>
                <a:lnTo>
                  <a:pt x="1413" y="390"/>
                </a:lnTo>
                <a:lnTo>
                  <a:pt x="1396" y="323"/>
                </a:lnTo>
                <a:lnTo>
                  <a:pt x="1357" y="255"/>
                </a:lnTo>
                <a:lnTo>
                  <a:pt x="1356" y="242"/>
                </a:lnTo>
                <a:lnTo>
                  <a:pt x="1356" y="231"/>
                </a:lnTo>
                <a:lnTo>
                  <a:pt x="1356" y="219"/>
                </a:lnTo>
                <a:lnTo>
                  <a:pt x="1356" y="210"/>
                </a:lnTo>
                <a:lnTo>
                  <a:pt x="1353" y="198"/>
                </a:lnTo>
                <a:lnTo>
                  <a:pt x="1353" y="189"/>
                </a:lnTo>
                <a:lnTo>
                  <a:pt x="1350" y="180"/>
                </a:lnTo>
                <a:lnTo>
                  <a:pt x="1350" y="171"/>
                </a:lnTo>
                <a:lnTo>
                  <a:pt x="1365" y="179"/>
                </a:lnTo>
                <a:lnTo>
                  <a:pt x="1378" y="197"/>
                </a:lnTo>
                <a:lnTo>
                  <a:pt x="1389" y="219"/>
                </a:lnTo>
                <a:lnTo>
                  <a:pt x="1399" y="248"/>
                </a:lnTo>
                <a:lnTo>
                  <a:pt x="1407" y="276"/>
                </a:lnTo>
                <a:lnTo>
                  <a:pt x="1413" y="303"/>
                </a:lnTo>
                <a:lnTo>
                  <a:pt x="1416" y="327"/>
                </a:lnTo>
                <a:lnTo>
                  <a:pt x="1420" y="347"/>
                </a:lnTo>
                <a:lnTo>
                  <a:pt x="1431" y="338"/>
                </a:lnTo>
                <a:lnTo>
                  <a:pt x="1435" y="318"/>
                </a:lnTo>
                <a:lnTo>
                  <a:pt x="1432" y="290"/>
                </a:lnTo>
                <a:lnTo>
                  <a:pt x="1425" y="258"/>
                </a:lnTo>
                <a:lnTo>
                  <a:pt x="1411" y="224"/>
                </a:lnTo>
                <a:lnTo>
                  <a:pt x="1398" y="194"/>
                </a:lnTo>
                <a:lnTo>
                  <a:pt x="1381" y="168"/>
                </a:lnTo>
                <a:lnTo>
                  <a:pt x="1368" y="158"/>
                </a:lnTo>
                <a:lnTo>
                  <a:pt x="1368" y="149"/>
                </a:lnTo>
                <a:lnTo>
                  <a:pt x="1369" y="144"/>
                </a:lnTo>
                <a:lnTo>
                  <a:pt x="1371" y="140"/>
                </a:lnTo>
                <a:lnTo>
                  <a:pt x="1374" y="137"/>
                </a:lnTo>
                <a:lnTo>
                  <a:pt x="1387" y="144"/>
                </a:lnTo>
                <a:lnTo>
                  <a:pt x="1401" y="153"/>
                </a:lnTo>
                <a:lnTo>
                  <a:pt x="1410" y="162"/>
                </a:lnTo>
                <a:lnTo>
                  <a:pt x="1419" y="173"/>
                </a:lnTo>
                <a:lnTo>
                  <a:pt x="1425" y="183"/>
                </a:lnTo>
                <a:lnTo>
                  <a:pt x="1432" y="197"/>
                </a:lnTo>
                <a:lnTo>
                  <a:pt x="1441" y="212"/>
                </a:lnTo>
                <a:lnTo>
                  <a:pt x="1452" y="231"/>
                </a:lnTo>
                <a:lnTo>
                  <a:pt x="1455" y="231"/>
                </a:lnTo>
                <a:lnTo>
                  <a:pt x="1459" y="233"/>
                </a:lnTo>
                <a:lnTo>
                  <a:pt x="1464" y="204"/>
                </a:lnTo>
                <a:lnTo>
                  <a:pt x="1455" y="183"/>
                </a:lnTo>
                <a:lnTo>
                  <a:pt x="1437" y="164"/>
                </a:lnTo>
                <a:lnTo>
                  <a:pt x="1420" y="147"/>
                </a:lnTo>
                <a:lnTo>
                  <a:pt x="1410" y="126"/>
                </a:lnTo>
                <a:lnTo>
                  <a:pt x="1416" y="102"/>
                </a:lnTo>
                <a:lnTo>
                  <a:pt x="1444" y="69"/>
                </a:lnTo>
                <a:lnTo>
                  <a:pt x="1506" y="27"/>
                </a:lnTo>
                <a:lnTo>
                  <a:pt x="1516" y="24"/>
                </a:lnTo>
                <a:lnTo>
                  <a:pt x="1527" y="21"/>
                </a:lnTo>
                <a:lnTo>
                  <a:pt x="1537" y="17"/>
                </a:lnTo>
                <a:lnTo>
                  <a:pt x="1549" y="14"/>
                </a:lnTo>
                <a:lnTo>
                  <a:pt x="1560" y="9"/>
                </a:lnTo>
                <a:lnTo>
                  <a:pt x="1572" y="6"/>
                </a:lnTo>
                <a:lnTo>
                  <a:pt x="1582" y="2"/>
                </a:lnTo>
                <a:lnTo>
                  <a:pt x="1596" y="0"/>
                </a:lnTo>
                <a:lnTo>
                  <a:pt x="1596" y="39"/>
                </a:lnTo>
                <a:lnTo>
                  <a:pt x="1599" y="78"/>
                </a:lnTo>
                <a:lnTo>
                  <a:pt x="1603" y="117"/>
                </a:lnTo>
                <a:lnTo>
                  <a:pt x="1612" y="156"/>
                </a:lnTo>
                <a:lnTo>
                  <a:pt x="1621" y="194"/>
                </a:lnTo>
                <a:lnTo>
                  <a:pt x="1635" y="233"/>
                </a:lnTo>
                <a:lnTo>
                  <a:pt x="1648" y="270"/>
                </a:lnTo>
                <a:lnTo>
                  <a:pt x="1668" y="309"/>
                </a:lnTo>
                <a:lnTo>
                  <a:pt x="1677" y="323"/>
                </a:lnTo>
                <a:lnTo>
                  <a:pt x="1692" y="341"/>
                </a:lnTo>
                <a:lnTo>
                  <a:pt x="1708" y="360"/>
                </a:lnTo>
                <a:lnTo>
                  <a:pt x="1726" y="381"/>
                </a:lnTo>
                <a:lnTo>
                  <a:pt x="1744" y="401"/>
                </a:lnTo>
                <a:lnTo>
                  <a:pt x="1762" y="419"/>
                </a:lnTo>
                <a:lnTo>
                  <a:pt x="1780" y="434"/>
                </a:lnTo>
                <a:lnTo>
                  <a:pt x="1798" y="444"/>
                </a:lnTo>
                <a:lnTo>
                  <a:pt x="1792" y="449"/>
                </a:lnTo>
                <a:lnTo>
                  <a:pt x="1782" y="461"/>
                </a:lnTo>
                <a:lnTo>
                  <a:pt x="1764" y="474"/>
                </a:lnTo>
                <a:lnTo>
                  <a:pt x="1746" y="491"/>
                </a:lnTo>
                <a:lnTo>
                  <a:pt x="1725" y="506"/>
                </a:lnTo>
                <a:lnTo>
                  <a:pt x="1707" y="522"/>
                </a:lnTo>
                <a:lnTo>
                  <a:pt x="1692" y="534"/>
                </a:lnTo>
                <a:lnTo>
                  <a:pt x="1684" y="542"/>
                </a:lnTo>
                <a:lnTo>
                  <a:pt x="1654" y="573"/>
                </a:lnTo>
                <a:lnTo>
                  <a:pt x="1630" y="609"/>
                </a:lnTo>
                <a:lnTo>
                  <a:pt x="1608" y="647"/>
                </a:lnTo>
                <a:lnTo>
                  <a:pt x="1590" y="687"/>
                </a:lnTo>
                <a:lnTo>
                  <a:pt x="1572" y="728"/>
                </a:lnTo>
                <a:lnTo>
                  <a:pt x="1555" y="770"/>
                </a:lnTo>
                <a:lnTo>
                  <a:pt x="1540" y="810"/>
                </a:lnTo>
                <a:lnTo>
                  <a:pt x="1527" y="852"/>
                </a:lnTo>
                <a:lnTo>
                  <a:pt x="1522" y="867"/>
                </a:lnTo>
                <a:lnTo>
                  <a:pt x="1521" y="881"/>
                </a:lnTo>
                <a:lnTo>
                  <a:pt x="1518" y="890"/>
                </a:lnTo>
                <a:lnTo>
                  <a:pt x="1518" y="896"/>
                </a:lnTo>
                <a:lnTo>
                  <a:pt x="1516" y="902"/>
                </a:lnTo>
                <a:lnTo>
                  <a:pt x="1516" y="903"/>
                </a:lnTo>
                <a:lnTo>
                  <a:pt x="1486" y="864"/>
                </a:lnTo>
                <a:lnTo>
                  <a:pt x="1467" y="821"/>
                </a:lnTo>
                <a:lnTo>
                  <a:pt x="1456" y="773"/>
                </a:lnTo>
                <a:lnTo>
                  <a:pt x="1455" y="726"/>
                </a:lnTo>
                <a:lnTo>
                  <a:pt x="1455" y="677"/>
                </a:lnTo>
                <a:lnTo>
                  <a:pt x="1458" y="629"/>
                </a:lnTo>
                <a:lnTo>
                  <a:pt x="1459" y="582"/>
                </a:lnTo>
                <a:lnTo>
                  <a:pt x="1459" y="542"/>
                </a:lnTo>
                <a:lnTo>
                  <a:pt x="1453" y="549"/>
                </a:lnTo>
                <a:lnTo>
                  <a:pt x="1447" y="570"/>
                </a:lnTo>
                <a:lnTo>
                  <a:pt x="1443" y="597"/>
                </a:lnTo>
                <a:lnTo>
                  <a:pt x="1438" y="629"/>
                </a:lnTo>
                <a:lnTo>
                  <a:pt x="1434" y="659"/>
                </a:lnTo>
                <a:lnTo>
                  <a:pt x="1431" y="687"/>
                </a:lnTo>
                <a:lnTo>
                  <a:pt x="1428" y="708"/>
                </a:lnTo>
                <a:lnTo>
                  <a:pt x="1428" y="720"/>
                </a:lnTo>
                <a:lnTo>
                  <a:pt x="1440" y="804"/>
                </a:lnTo>
                <a:lnTo>
                  <a:pt x="1470" y="890"/>
                </a:lnTo>
                <a:lnTo>
                  <a:pt x="1506" y="974"/>
                </a:lnTo>
                <a:lnTo>
                  <a:pt x="1542" y="1058"/>
                </a:lnTo>
                <a:lnTo>
                  <a:pt x="1564" y="1140"/>
                </a:lnTo>
                <a:lnTo>
                  <a:pt x="1567" y="1224"/>
                </a:lnTo>
                <a:lnTo>
                  <a:pt x="1540" y="1308"/>
                </a:lnTo>
                <a:lnTo>
                  <a:pt x="1477" y="1394"/>
                </a:lnTo>
                <a:lnTo>
                  <a:pt x="1473" y="1394"/>
                </a:lnTo>
                <a:lnTo>
                  <a:pt x="1468" y="1397"/>
                </a:lnTo>
                <a:lnTo>
                  <a:pt x="1462" y="1400"/>
                </a:lnTo>
                <a:lnTo>
                  <a:pt x="1456" y="1406"/>
                </a:lnTo>
                <a:lnTo>
                  <a:pt x="1446" y="1412"/>
                </a:lnTo>
                <a:lnTo>
                  <a:pt x="1434" y="1422"/>
                </a:lnTo>
                <a:lnTo>
                  <a:pt x="1416" y="1433"/>
                </a:lnTo>
                <a:lnTo>
                  <a:pt x="1396" y="1448"/>
                </a:lnTo>
                <a:lnTo>
                  <a:pt x="1356" y="1460"/>
                </a:lnTo>
                <a:lnTo>
                  <a:pt x="1317" y="1472"/>
                </a:lnTo>
                <a:lnTo>
                  <a:pt x="1279" y="1481"/>
                </a:lnTo>
                <a:lnTo>
                  <a:pt x="1243" y="1490"/>
                </a:lnTo>
                <a:lnTo>
                  <a:pt x="1206" y="1493"/>
                </a:lnTo>
                <a:lnTo>
                  <a:pt x="1168" y="1493"/>
                </a:lnTo>
                <a:lnTo>
                  <a:pt x="1129" y="1487"/>
                </a:lnTo>
                <a:lnTo>
                  <a:pt x="1090" y="1475"/>
                </a:lnTo>
                <a:lnTo>
                  <a:pt x="1084" y="1475"/>
                </a:lnTo>
                <a:lnTo>
                  <a:pt x="1078" y="1479"/>
                </a:lnTo>
                <a:lnTo>
                  <a:pt x="1080" y="1488"/>
                </a:lnTo>
                <a:lnTo>
                  <a:pt x="1081" y="1499"/>
                </a:lnTo>
                <a:lnTo>
                  <a:pt x="1129" y="1515"/>
                </a:lnTo>
                <a:lnTo>
                  <a:pt x="1182" y="1524"/>
                </a:lnTo>
                <a:lnTo>
                  <a:pt x="1236" y="1523"/>
                </a:lnTo>
                <a:lnTo>
                  <a:pt x="1293" y="1515"/>
                </a:lnTo>
                <a:lnTo>
                  <a:pt x="1347" y="1499"/>
                </a:lnTo>
                <a:lnTo>
                  <a:pt x="1401" y="1479"/>
                </a:lnTo>
                <a:lnTo>
                  <a:pt x="1449" y="1454"/>
                </a:lnTo>
                <a:lnTo>
                  <a:pt x="1494" y="1425"/>
                </a:lnTo>
                <a:lnTo>
                  <a:pt x="1501" y="1419"/>
                </a:lnTo>
                <a:lnTo>
                  <a:pt x="1509" y="1412"/>
                </a:lnTo>
                <a:lnTo>
                  <a:pt x="1516" y="1404"/>
                </a:lnTo>
                <a:lnTo>
                  <a:pt x="1524" y="1397"/>
                </a:lnTo>
                <a:lnTo>
                  <a:pt x="1530" y="1388"/>
                </a:lnTo>
                <a:lnTo>
                  <a:pt x="1539" y="1382"/>
                </a:lnTo>
                <a:lnTo>
                  <a:pt x="1546" y="1376"/>
                </a:lnTo>
                <a:lnTo>
                  <a:pt x="1555" y="1374"/>
                </a:lnTo>
                <a:lnTo>
                  <a:pt x="1600" y="1470"/>
                </a:lnTo>
                <a:lnTo>
                  <a:pt x="1638" y="1574"/>
                </a:lnTo>
                <a:lnTo>
                  <a:pt x="1666" y="1678"/>
                </a:lnTo>
                <a:lnTo>
                  <a:pt x="1692" y="1788"/>
                </a:lnTo>
                <a:lnTo>
                  <a:pt x="1711" y="1896"/>
                </a:lnTo>
                <a:lnTo>
                  <a:pt x="1731" y="2007"/>
                </a:lnTo>
                <a:lnTo>
                  <a:pt x="1750" y="2116"/>
                </a:lnTo>
                <a:lnTo>
                  <a:pt x="1774" y="2224"/>
                </a:lnTo>
                <a:lnTo>
                  <a:pt x="1782" y="2248"/>
                </a:lnTo>
                <a:lnTo>
                  <a:pt x="1791" y="2275"/>
                </a:lnTo>
                <a:lnTo>
                  <a:pt x="1798" y="2301"/>
                </a:lnTo>
                <a:lnTo>
                  <a:pt x="1801" y="2328"/>
                </a:lnTo>
                <a:lnTo>
                  <a:pt x="1798" y="2349"/>
                </a:lnTo>
                <a:lnTo>
                  <a:pt x="1789" y="2370"/>
                </a:lnTo>
                <a:lnTo>
                  <a:pt x="1768" y="2386"/>
                </a:lnTo>
                <a:lnTo>
                  <a:pt x="1738" y="2400"/>
                </a:lnTo>
                <a:lnTo>
                  <a:pt x="1629" y="2443"/>
                </a:lnTo>
                <a:lnTo>
                  <a:pt x="1516" y="2482"/>
                </a:lnTo>
                <a:lnTo>
                  <a:pt x="1398" y="2515"/>
                </a:lnTo>
                <a:lnTo>
                  <a:pt x="1278" y="2544"/>
                </a:lnTo>
                <a:lnTo>
                  <a:pt x="1155" y="2565"/>
                </a:lnTo>
                <a:lnTo>
                  <a:pt x="1035" y="2580"/>
                </a:lnTo>
                <a:lnTo>
                  <a:pt x="916" y="2589"/>
                </a:lnTo>
                <a:lnTo>
                  <a:pt x="804" y="2593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16600" y="5613480"/>
            <a:ext cx="81000" cy="75960"/>
          </a:xfrm>
          <a:custGeom>
            <a:avLst/>
            <a:gdLst/>
            <a:ahLst/>
            <a:rect l="l" t="t" r="r" b="b"/>
            <a:pathLst>
              <a:path w="102" h="98">
                <a:moveTo>
                  <a:pt x="48" y="98"/>
                </a:moveTo>
                <a:lnTo>
                  <a:pt x="30" y="89"/>
                </a:lnTo>
                <a:lnTo>
                  <a:pt x="18" y="80"/>
                </a:lnTo>
                <a:lnTo>
                  <a:pt x="9" y="69"/>
                </a:lnTo>
                <a:lnTo>
                  <a:pt x="4" y="60"/>
                </a:lnTo>
                <a:lnTo>
                  <a:pt x="0" y="47"/>
                </a:lnTo>
                <a:lnTo>
                  <a:pt x="0" y="33"/>
                </a:lnTo>
                <a:lnTo>
                  <a:pt x="0" y="17"/>
                </a:lnTo>
                <a:lnTo>
                  <a:pt x="0" y="0"/>
                </a:lnTo>
                <a:lnTo>
                  <a:pt x="9" y="0"/>
                </a:lnTo>
                <a:lnTo>
                  <a:pt x="19" y="6"/>
                </a:lnTo>
                <a:lnTo>
                  <a:pt x="28" y="14"/>
                </a:lnTo>
                <a:lnTo>
                  <a:pt x="37" y="23"/>
                </a:lnTo>
                <a:lnTo>
                  <a:pt x="46" y="30"/>
                </a:lnTo>
                <a:lnTo>
                  <a:pt x="58" y="39"/>
                </a:lnTo>
                <a:lnTo>
                  <a:pt x="72" y="44"/>
                </a:lnTo>
                <a:lnTo>
                  <a:pt x="90" y="47"/>
                </a:lnTo>
                <a:lnTo>
                  <a:pt x="94" y="44"/>
                </a:lnTo>
                <a:lnTo>
                  <a:pt x="102" y="44"/>
                </a:lnTo>
                <a:lnTo>
                  <a:pt x="102" y="53"/>
                </a:lnTo>
                <a:lnTo>
                  <a:pt x="102" y="62"/>
                </a:lnTo>
                <a:lnTo>
                  <a:pt x="102" y="71"/>
                </a:lnTo>
                <a:lnTo>
                  <a:pt x="102" y="81"/>
                </a:lnTo>
                <a:lnTo>
                  <a:pt x="87" y="90"/>
                </a:lnTo>
                <a:lnTo>
                  <a:pt x="76" y="95"/>
                </a:lnTo>
                <a:lnTo>
                  <a:pt x="70" y="95"/>
                </a:lnTo>
                <a:lnTo>
                  <a:pt x="64" y="96"/>
                </a:lnTo>
                <a:lnTo>
                  <a:pt x="55" y="96"/>
                </a:lnTo>
                <a:lnTo>
                  <a:pt x="48" y="98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8120" y="5549760"/>
            <a:ext cx="39960" cy="135000"/>
          </a:xfrm>
          <a:custGeom>
            <a:avLst/>
            <a:gdLst/>
            <a:ahLst/>
            <a:rect l="l" t="t" r="r" b="b"/>
            <a:pathLst>
              <a:path w="49" h="171">
                <a:moveTo>
                  <a:pt x="21" y="171"/>
                </a:moveTo>
                <a:lnTo>
                  <a:pt x="12" y="166"/>
                </a:lnTo>
                <a:lnTo>
                  <a:pt x="6" y="163"/>
                </a:lnTo>
                <a:lnTo>
                  <a:pt x="3" y="144"/>
                </a:lnTo>
                <a:lnTo>
                  <a:pt x="1" y="129"/>
                </a:lnTo>
                <a:lnTo>
                  <a:pt x="0" y="115"/>
                </a:lnTo>
                <a:lnTo>
                  <a:pt x="1" y="106"/>
                </a:lnTo>
                <a:lnTo>
                  <a:pt x="1" y="96"/>
                </a:lnTo>
                <a:lnTo>
                  <a:pt x="6" y="85"/>
                </a:lnTo>
                <a:lnTo>
                  <a:pt x="12" y="72"/>
                </a:lnTo>
                <a:lnTo>
                  <a:pt x="22" y="58"/>
                </a:lnTo>
                <a:lnTo>
                  <a:pt x="21" y="49"/>
                </a:lnTo>
                <a:lnTo>
                  <a:pt x="21" y="40"/>
                </a:lnTo>
                <a:lnTo>
                  <a:pt x="19" y="33"/>
                </a:lnTo>
                <a:lnTo>
                  <a:pt x="18" y="25"/>
                </a:lnTo>
                <a:lnTo>
                  <a:pt x="15" y="12"/>
                </a:lnTo>
                <a:lnTo>
                  <a:pt x="15" y="1"/>
                </a:lnTo>
                <a:lnTo>
                  <a:pt x="21" y="0"/>
                </a:lnTo>
                <a:lnTo>
                  <a:pt x="30" y="0"/>
                </a:lnTo>
                <a:lnTo>
                  <a:pt x="37" y="0"/>
                </a:lnTo>
                <a:lnTo>
                  <a:pt x="46" y="0"/>
                </a:lnTo>
                <a:lnTo>
                  <a:pt x="46" y="15"/>
                </a:lnTo>
                <a:lnTo>
                  <a:pt x="48" y="39"/>
                </a:lnTo>
                <a:lnTo>
                  <a:pt x="48" y="64"/>
                </a:lnTo>
                <a:lnTo>
                  <a:pt x="49" y="94"/>
                </a:lnTo>
                <a:lnTo>
                  <a:pt x="48" y="120"/>
                </a:lnTo>
                <a:lnTo>
                  <a:pt x="43" y="144"/>
                </a:lnTo>
                <a:lnTo>
                  <a:pt x="34" y="162"/>
                </a:lnTo>
                <a:lnTo>
                  <a:pt x="21" y="171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57920" y="5046840"/>
            <a:ext cx="236520" cy="576000"/>
          </a:xfrm>
          <a:custGeom>
            <a:avLst/>
            <a:gdLst/>
            <a:ahLst/>
            <a:rect l="l" t="t" r="r" b="b"/>
            <a:pathLst>
              <a:path w="297" h="725">
                <a:moveTo>
                  <a:pt x="152" y="725"/>
                </a:moveTo>
                <a:lnTo>
                  <a:pt x="135" y="710"/>
                </a:lnTo>
                <a:lnTo>
                  <a:pt x="120" y="700"/>
                </a:lnTo>
                <a:lnTo>
                  <a:pt x="102" y="691"/>
                </a:lnTo>
                <a:lnTo>
                  <a:pt x="87" y="685"/>
                </a:lnTo>
                <a:lnTo>
                  <a:pt x="71" y="677"/>
                </a:lnTo>
                <a:lnTo>
                  <a:pt x="59" y="670"/>
                </a:lnTo>
                <a:lnTo>
                  <a:pt x="50" y="659"/>
                </a:lnTo>
                <a:lnTo>
                  <a:pt x="45" y="646"/>
                </a:lnTo>
                <a:lnTo>
                  <a:pt x="21" y="587"/>
                </a:lnTo>
                <a:lnTo>
                  <a:pt x="9" y="548"/>
                </a:lnTo>
                <a:lnTo>
                  <a:pt x="6" y="521"/>
                </a:lnTo>
                <a:lnTo>
                  <a:pt x="14" y="505"/>
                </a:lnTo>
                <a:lnTo>
                  <a:pt x="26" y="490"/>
                </a:lnTo>
                <a:lnTo>
                  <a:pt x="47" y="475"/>
                </a:lnTo>
                <a:lnTo>
                  <a:pt x="71" y="452"/>
                </a:lnTo>
                <a:lnTo>
                  <a:pt x="99" y="419"/>
                </a:lnTo>
                <a:lnTo>
                  <a:pt x="101" y="406"/>
                </a:lnTo>
                <a:lnTo>
                  <a:pt x="102" y="394"/>
                </a:lnTo>
                <a:lnTo>
                  <a:pt x="102" y="383"/>
                </a:lnTo>
                <a:lnTo>
                  <a:pt x="102" y="374"/>
                </a:lnTo>
                <a:lnTo>
                  <a:pt x="75" y="343"/>
                </a:lnTo>
                <a:lnTo>
                  <a:pt x="53" y="301"/>
                </a:lnTo>
                <a:lnTo>
                  <a:pt x="35" y="251"/>
                </a:lnTo>
                <a:lnTo>
                  <a:pt x="23" y="197"/>
                </a:lnTo>
                <a:lnTo>
                  <a:pt x="11" y="141"/>
                </a:lnTo>
                <a:lnTo>
                  <a:pt x="5" y="87"/>
                </a:lnTo>
                <a:lnTo>
                  <a:pt x="0" y="39"/>
                </a:lnTo>
                <a:lnTo>
                  <a:pt x="0" y="0"/>
                </a:lnTo>
                <a:lnTo>
                  <a:pt x="38" y="7"/>
                </a:lnTo>
                <a:lnTo>
                  <a:pt x="75" y="18"/>
                </a:lnTo>
                <a:lnTo>
                  <a:pt x="111" y="31"/>
                </a:lnTo>
                <a:lnTo>
                  <a:pt x="147" y="45"/>
                </a:lnTo>
                <a:lnTo>
                  <a:pt x="182" y="58"/>
                </a:lnTo>
                <a:lnTo>
                  <a:pt x="218" y="73"/>
                </a:lnTo>
                <a:lnTo>
                  <a:pt x="255" y="87"/>
                </a:lnTo>
                <a:lnTo>
                  <a:pt x="297" y="100"/>
                </a:lnTo>
                <a:lnTo>
                  <a:pt x="285" y="163"/>
                </a:lnTo>
                <a:lnTo>
                  <a:pt x="278" y="227"/>
                </a:lnTo>
                <a:lnTo>
                  <a:pt x="269" y="292"/>
                </a:lnTo>
                <a:lnTo>
                  <a:pt x="264" y="356"/>
                </a:lnTo>
                <a:lnTo>
                  <a:pt x="258" y="421"/>
                </a:lnTo>
                <a:lnTo>
                  <a:pt x="254" y="487"/>
                </a:lnTo>
                <a:lnTo>
                  <a:pt x="249" y="551"/>
                </a:lnTo>
                <a:lnTo>
                  <a:pt x="246" y="619"/>
                </a:lnTo>
                <a:lnTo>
                  <a:pt x="245" y="619"/>
                </a:lnTo>
                <a:lnTo>
                  <a:pt x="245" y="622"/>
                </a:lnTo>
                <a:lnTo>
                  <a:pt x="230" y="611"/>
                </a:lnTo>
                <a:lnTo>
                  <a:pt x="219" y="608"/>
                </a:lnTo>
                <a:lnTo>
                  <a:pt x="209" y="608"/>
                </a:lnTo>
                <a:lnTo>
                  <a:pt x="200" y="610"/>
                </a:lnTo>
                <a:lnTo>
                  <a:pt x="188" y="589"/>
                </a:lnTo>
                <a:lnTo>
                  <a:pt x="189" y="572"/>
                </a:lnTo>
                <a:lnTo>
                  <a:pt x="195" y="554"/>
                </a:lnTo>
                <a:lnTo>
                  <a:pt x="207" y="541"/>
                </a:lnTo>
                <a:lnTo>
                  <a:pt x="215" y="527"/>
                </a:lnTo>
                <a:lnTo>
                  <a:pt x="219" y="515"/>
                </a:lnTo>
                <a:lnTo>
                  <a:pt x="216" y="505"/>
                </a:lnTo>
                <a:lnTo>
                  <a:pt x="201" y="496"/>
                </a:lnTo>
                <a:lnTo>
                  <a:pt x="197" y="503"/>
                </a:lnTo>
                <a:lnTo>
                  <a:pt x="194" y="512"/>
                </a:lnTo>
                <a:lnTo>
                  <a:pt x="191" y="521"/>
                </a:lnTo>
                <a:lnTo>
                  <a:pt x="188" y="530"/>
                </a:lnTo>
                <a:lnTo>
                  <a:pt x="182" y="538"/>
                </a:lnTo>
                <a:lnTo>
                  <a:pt x="176" y="545"/>
                </a:lnTo>
                <a:lnTo>
                  <a:pt x="168" y="553"/>
                </a:lnTo>
                <a:lnTo>
                  <a:pt x="161" y="560"/>
                </a:lnTo>
                <a:lnTo>
                  <a:pt x="152" y="562"/>
                </a:lnTo>
                <a:lnTo>
                  <a:pt x="146" y="563"/>
                </a:lnTo>
                <a:lnTo>
                  <a:pt x="140" y="563"/>
                </a:lnTo>
                <a:lnTo>
                  <a:pt x="137" y="566"/>
                </a:lnTo>
                <a:lnTo>
                  <a:pt x="134" y="568"/>
                </a:lnTo>
                <a:lnTo>
                  <a:pt x="132" y="574"/>
                </a:lnTo>
                <a:lnTo>
                  <a:pt x="132" y="580"/>
                </a:lnTo>
                <a:lnTo>
                  <a:pt x="132" y="590"/>
                </a:lnTo>
                <a:lnTo>
                  <a:pt x="144" y="602"/>
                </a:lnTo>
                <a:lnTo>
                  <a:pt x="158" y="617"/>
                </a:lnTo>
                <a:lnTo>
                  <a:pt x="171" y="632"/>
                </a:lnTo>
                <a:lnTo>
                  <a:pt x="183" y="650"/>
                </a:lnTo>
                <a:lnTo>
                  <a:pt x="189" y="667"/>
                </a:lnTo>
                <a:lnTo>
                  <a:pt x="191" y="683"/>
                </a:lnTo>
                <a:lnTo>
                  <a:pt x="185" y="700"/>
                </a:lnTo>
                <a:lnTo>
                  <a:pt x="171" y="716"/>
                </a:lnTo>
                <a:lnTo>
                  <a:pt x="167" y="721"/>
                </a:lnTo>
                <a:lnTo>
                  <a:pt x="167" y="725"/>
                </a:lnTo>
                <a:lnTo>
                  <a:pt x="158" y="725"/>
                </a:lnTo>
                <a:lnTo>
                  <a:pt x="152" y="725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05680" y="5222880"/>
            <a:ext cx="20880" cy="38160"/>
          </a:xfrm>
          <a:custGeom>
            <a:avLst/>
            <a:gdLst/>
            <a:ahLst/>
            <a:rect l="l" t="t" r="r" b="b"/>
            <a:pathLst>
              <a:path w="26" h="46">
                <a:moveTo>
                  <a:pt x="14" y="45"/>
                </a:moveTo>
                <a:lnTo>
                  <a:pt x="5" y="30"/>
                </a:lnTo>
                <a:lnTo>
                  <a:pt x="2" y="21"/>
                </a:lnTo>
                <a:lnTo>
                  <a:pt x="0" y="12"/>
                </a:lnTo>
                <a:lnTo>
                  <a:pt x="2" y="4"/>
                </a:lnTo>
                <a:lnTo>
                  <a:pt x="9" y="1"/>
                </a:lnTo>
                <a:lnTo>
                  <a:pt x="15" y="1"/>
                </a:lnTo>
                <a:lnTo>
                  <a:pt x="20" y="0"/>
                </a:lnTo>
                <a:lnTo>
                  <a:pt x="26" y="0"/>
                </a:lnTo>
                <a:lnTo>
                  <a:pt x="23" y="9"/>
                </a:lnTo>
                <a:lnTo>
                  <a:pt x="23" y="21"/>
                </a:lnTo>
                <a:lnTo>
                  <a:pt x="21" y="31"/>
                </a:lnTo>
                <a:lnTo>
                  <a:pt x="21" y="45"/>
                </a:lnTo>
                <a:lnTo>
                  <a:pt x="15" y="46"/>
                </a:lnTo>
                <a:lnTo>
                  <a:pt x="14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4643280"/>
            <a:ext cx="804960" cy="613080"/>
          </a:xfrm>
          <a:custGeom>
            <a:avLst/>
            <a:gdLst/>
            <a:ahLst/>
            <a:rect l="l" t="t" r="r" b="b"/>
            <a:pathLst>
              <a:path w="1014" h="772">
                <a:moveTo>
                  <a:pt x="420" y="772"/>
                </a:moveTo>
                <a:lnTo>
                  <a:pt x="366" y="760"/>
                </a:lnTo>
                <a:lnTo>
                  <a:pt x="314" y="749"/>
                </a:lnTo>
                <a:lnTo>
                  <a:pt x="261" y="737"/>
                </a:lnTo>
                <a:lnTo>
                  <a:pt x="212" y="728"/>
                </a:lnTo>
                <a:lnTo>
                  <a:pt x="161" y="718"/>
                </a:lnTo>
                <a:lnTo>
                  <a:pt x="110" y="710"/>
                </a:lnTo>
                <a:lnTo>
                  <a:pt x="59" y="704"/>
                </a:lnTo>
                <a:lnTo>
                  <a:pt x="8" y="701"/>
                </a:lnTo>
                <a:lnTo>
                  <a:pt x="8" y="664"/>
                </a:lnTo>
                <a:lnTo>
                  <a:pt x="12" y="637"/>
                </a:lnTo>
                <a:lnTo>
                  <a:pt x="20" y="615"/>
                </a:lnTo>
                <a:lnTo>
                  <a:pt x="32" y="601"/>
                </a:lnTo>
                <a:lnTo>
                  <a:pt x="47" y="591"/>
                </a:lnTo>
                <a:lnTo>
                  <a:pt x="68" y="585"/>
                </a:lnTo>
                <a:lnTo>
                  <a:pt x="92" y="583"/>
                </a:lnTo>
                <a:lnTo>
                  <a:pt x="123" y="585"/>
                </a:lnTo>
                <a:lnTo>
                  <a:pt x="126" y="579"/>
                </a:lnTo>
                <a:lnTo>
                  <a:pt x="131" y="576"/>
                </a:lnTo>
                <a:lnTo>
                  <a:pt x="116" y="567"/>
                </a:lnTo>
                <a:lnTo>
                  <a:pt x="101" y="562"/>
                </a:lnTo>
                <a:lnTo>
                  <a:pt x="86" y="561"/>
                </a:lnTo>
                <a:lnTo>
                  <a:pt x="72" y="561"/>
                </a:lnTo>
                <a:lnTo>
                  <a:pt x="57" y="561"/>
                </a:lnTo>
                <a:lnTo>
                  <a:pt x="42" y="564"/>
                </a:lnTo>
                <a:lnTo>
                  <a:pt x="29" y="565"/>
                </a:lnTo>
                <a:lnTo>
                  <a:pt x="15" y="567"/>
                </a:lnTo>
                <a:lnTo>
                  <a:pt x="15" y="556"/>
                </a:lnTo>
                <a:lnTo>
                  <a:pt x="15" y="550"/>
                </a:lnTo>
                <a:lnTo>
                  <a:pt x="24" y="546"/>
                </a:lnTo>
                <a:lnTo>
                  <a:pt x="35" y="543"/>
                </a:lnTo>
                <a:lnTo>
                  <a:pt x="45" y="540"/>
                </a:lnTo>
                <a:lnTo>
                  <a:pt x="56" y="538"/>
                </a:lnTo>
                <a:lnTo>
                  <a:pt x="66" y="535"/>
                </a:lnTo>
                <a:lnTo>
                  <a:pt x="78" y="535"/>
                </a:lnTo>
                <a:lnTo>
                  <a:pt x="90" y="535"/>
                </a:lnTo>
                <a:lnTo>
                  <a:pt x="105" y="535"/>
                </a:lnTo>
                <a:lnTo>
                  <a:pt x="110" y="523"/>
                </a:lnTo>
                <a:lnTo>
                  <a:pt x="102" y="517"/>
                </a:lnTo>
                <a:lnTo>
                  <a:pt x="87" y="514"/>
                </a:lnTo>
                <a:lnTo>
                  <a:pt x="68" y="514"/>
                </a:lnTo>
                <a:lnTo>
                  <a:pt x="45" y="514"/>
                </a:lnTo>
                <a:lnTo>
                  <a:pt x="26" y="517"/>
                </a:lnTo>
                <a:lnTo>
                  <a:pt x="11" y="520"/>
                </a:lnTo>
                <a:lnTo>
                  <a:pt x="5" y="522"/>
                </a:lnTo>
                <a:lnTo>
                  <a:pt x="3" y="490"/>
                </a:lnTo>
                <a:lnTo>
                  <a:pt x="2" y="450"/>
                </a:lnTo>
                <a:lnTo>
                  <a:pt x="0" y="402"/>
                </a:lnTo>
                <a:lnTo>
                  <a:pt x="0" y="354"/>
                </a:lnTo>
                <a:lnTo>
                  <a:pt x="0" y="304"/>
                </a:lnTo>
                <a:lnTo>
                  <a:pt x="2" y="261"/>
                </a:lnTo>
                <a:lnTo>
                  <a:pt x="5" y="226"/>
                </a:lnTo>
                <a:lnTo>
                  <a:pt x="12" y="205"/>
                </a:lnTo>
                <a:lnTo>
                  <a:pt x="56" y="184"/>
                </a:lnTo>
                <a:lnTo>
                  <a:pt x="104" y="163"/>
                </a:lnTo>
                <a:lnTo>
                  <a:pt x="153" y="138"/>
                </a:lnTo>
                <a:lnTo>
                  <a:pt x="203" y="112"/>
                </a:lnTo>
                <a:lnTo>
                  <a:pt x="251" y="84"/>
                </a:lnTo>
                <a:lnTo>
                  <a:pt x="297" y="55"/>
                </a:lnTo>
                <a:lnTo>
                  <a:pt x="342" y="27"/>
                </a:lnTo>
                <a:lnTo>
                  <a:pt x="384" y="0"/>
                </a:lnTo>
                <a:lnTo>
                  <a:pt x="389" y="0"/>
                </a:lnTo>
                <a:lnTo>
                  <a:pt x="393" y="0"/>
                </a:lnTo>
                <a:lnTo>
                  <a:pt x="398" y="3"/>
                </a:lnTo>
                <a:lnTo>
                  <a:pt x="407" y="9"/>
                </a:lnTo>
                <a:lnTo>
                  <a:pt x="462" y="16"/>
                </a:lnTo>
                <a:lnTo>
                  <a:pt x="518" y="28"/>
                </a:lnTo>
                <a:lnTo>
                  <a:pt x="573" y="42"/>
                </a:lnTo>
                <a:lnTo>
                  <a:pt x="629" y="58"/>
                </a:lnTo>
                <a:lnTo>
                  <a:pt x="684" y="70"/>
                </a:lnTo>
                <a:lnTo>
                  <a:pt x="741" y="82"/>
                </a:lnTo>
                <a:lnTo>
                  <a:pt x="800" y="90"/>
                </a:lnTo>
                <a:lnTo>
                  <a:pt x="861" y="94"/>
                </a:lnTo>
                <a:lnTo>
                  <a:pt x="867" y="118"/>
                </a:lnTo>
                <a:lnTo>
                  <a:pt x="870" y="144"/>
                </a:lnTo>
                <a:lnTo>
                  <a:pt x="870" y="171"/>
                </a:lnTo>
                <a:lnTo>
                  <a:pt x="870" y="198"/>
                </a:lnTo>
                <a:lnTo>
                  <a:pt x="870" y="223"/>
                </a:lnTo>
                <a:lnTo>
                  <a:pt x="875" y="250"/>
                </a:lnTo>
                <a:lnTo>
                  <a:pt x="884" y="277"/>
                </a:lnTo>
                <a:lnTo>
                  <a:pt x="900" y="306"/>
                </a:lnTo>
                <a:lnTo>
                  <a:pt x="906" y="325"/>
                </a:lnTo>
                <a:lnTo>
                  <a:pt x="914" y="349"/>
                </a:lnTo>
                <a:lnTo>
                  <a:pt x="918" y="372"/>
                </a:lnTo>
                <a:lnTo>
                  <a:pt x="924" y="399"/>
                </a:lnTo>
                <a:lnTo>
                  <a:pt x="927" y="424"/>
                </a:lnTo>
                <a:lnTo>
                  <a:pt x="927" y="450"/>
                </a:lnTo>
                <a:lnTo>
                  <a:pt x="924" y="475"/>
                </a:lnTo>
                <a:lnTo>
                  <a:pt x="918" y="502"/>
                </a:lnTo>
                <a:lnTo>
                  <a:pt x="908" y="504"/>
                </a:lnTo>
                <a:lnTo>
                  <a:pt x="899" y="504"/>
                </a:lnTo>
                <a:lnTo>
                  <a:pt x="888" y="502"/>
                </a:lnTo>
                <a:lnTo>
                  <a:pt x="879" y="502"/>
                </a:lnTo>
                <a:lnTo>
                  <a:pt x="867" y="499"/>
                </a:lnTo>
                <a:lnTo>
                  <a:pt x="857" y="499"/>
                </a:lnTo>
                <a:lnTo>
                  <a:pt x="848" y="498"/>
                </a:lnTo>
                <a:lnTo>
                  <a:pt x="840" y="498"/>
                </a:lnTo>
                <a:lnTo>
                  <a:pt x="846" y="508"/>
                </a:lnTo>
                <a:lnTo>
                  <a:pt x="863" y="516"/>
                </a:lnTo>
                <a:lnTo>
                  <a:pt x="887" y="522"/>
                </a:lnTo>
                <a:lnTo>
                  <a:pt x="915" y="528"/>
                </a:lnTo>
                <a:lnTo>
                  <a:pt x="944" y="534"/>
                </a:lnTo>
                <a:lnTo>
                  <a:pt x="974" y="544"/>
                </a:lnTo>
                <a:lnTo>
                  <a:pt x="998" y="556"/>
                </a:lnTo>
                <a:lnTo>
                  <a:pt x="1014" y="576"/>
                </a:lnTo>
                <a:lnTo>
                  <a:pt x="1013" y="583"/>
                </a:lnTo>
                <a:lnTo>
                  <a:pt x="1013" y="594"/>
                </a:lnTo>
                <a:lnTo>
                  <a:pt x="1011" y="606"/>
                </a:lnTo>
                <a:lnTo>
                  <a:pt x="1010" y="618"/>
                </a:lnTo>
                <a:lnTo>
                  <a:pt x="1005" y="628"/>
                </a:lnTo>
                <a:lnTo>
                  <a:pt x="1002" y="640"/>
                </a:lnTo>
                <a:lnTo>
                  <a:pt x="996" y="649"/>
                </a:lnTo>
                <a:lnTo>
                  <a:pt x="992" y="656"/>
                </a:lnTo>
                <a:lnTo>
                  <a:pt x="984" y="640"/>
                </a:lnTo>
                <a:lnTo>
                  <a:pt x="977" y="630"/>
                </a:lnTo>
                <a:lnTo>
                  <a:pt x="969" y="621"/>
                </a:lnTo>
                <a:lnTo>
                  <a:pt x="962" y="616"/>
                </a:lnTo>
                <a:lnTo>
                  <a:pt x="951" y="612"/>
                </a:lnTo>
                <a:lnTo>
                  <a:pt x="942" y="613"/>
                </a:lnTo>
                <a:lnTo>
                  <a:pt x="929" y="615"/>
                </a:lnTo>
                <a:lnTo>
                  <a:pt x="917" y="619"/>
                </a:lnTo>
                <a:lnTo>
                  <a:pt x="863" y="645"/>
                </a:lnTo>
                <a:lnTo>
                  <a:pt x="804" y="670"/>
                </a:lnTo>
                <a:lnTo>
                  <a:pt x="740" y="692"/>
                </a:lnTo>
                <a:lnTo>
                  <a:pt x="675" y="715"/>
                </a:lnTo>
                <a:lnTo>
                  <a:pt x="608" y="733"/>
                </a:lnTo>
                <a:lnTo>
                  <a:pt x="542" y="749"/>
                </a:lnTo>
                <a:lnTo>
                  <a:pt x="479" y="763"/>
                </a:lnTo>
                <a:lnTo>
                  <a:pt x="420" y="7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03920" y="4915080"/>
            <a:ext cx="299880" cy="185400"/>
          </a:xfrm>
          <a:custGeom>
            <a:avLst/>
            <a:gdLst/>
            <a:ahLst/>
            <a:rect l="l" t="t" r="r" b="b"/>
            <a:pathLst>
              <a:path w="378" h="234">
                <a:moveTo>
                  <a:pt x="363" y="234"/>
                </a:moveTo>
                <a:lnTo>
                  <a:pt x="339" y="219"/>
                </a:lnTo>
                <a:lnTo>
                  <a:pt x="299" y="202"/>
                </a:lnTo>
                <a:lnTo>
                  <a:pt x="246" y="184"/>
                </a:lnTo>
                <a:lnTo>
                  <a:pt x="189" y="168"/>
                </a:lnTo>
                <a:lnTo>
                  <a:pt x="131" y="153"/>
                </a:lnTo>
                <a:lnTo>
                  <a:pt x="81" y="144"/>
                </a:lnTo>
                <a:lnTo>
                  <a:pt x="42" y="139"/>
                </a:lnTo>
                <a:lnTo>
                  <a:pt x="24" y="144"/>
                </a:lnTo>
                <a:lnTo>
                  <a:pt x="23" y="150"/>
                </a:lnTo>
                <a:lnTo>
                  <a:pt x="21" y="159"/>
                </a:lnTo>
                <a:lnTo>
                  <a:pt x="29" y="159"/>
                </a:lnTo>
                <a:lnTo>
                  <a:pt x="38" y="162"/>
                </a:lnTo>
                <a:lnTo>
                  <a:pt x="45" y="163"/>
                </a:lnTo>
                <a:lnTo>
                  <a:pt x="54" y="168"/>
                </a:lnTo>
                <a:lnTo>
                  <a:pt x="50" y="177"/>
                </a:lnTo>
                <a:lnTo>
                  <a:pt x="50" y="184"/>
                </a:lnTo>
                <a:lnTo>
                  <a:pt x="50" y="190"/>
                </a:lnTo>
                <a:lnTo>
                  <a:pt x="50" y="201"/>
                </a:lnTo>
                <a:lnTo>
                  <a:pt x="45" y="201"/>
                </a:lnTo>
                <a:lnTo>
                  <a:pt x="42" y="201"/>
                </a:lnTo>
                <a:lnTo>
                  <a:pt x="24" y="177"/>
                </a:lnTo>
                <a:lnTo>
                  <a:pt x="14" y="153"/>
                </a:lnTo>
                <a:lnTo>
                  <a:pt x="5" y="129"/>
                </a:lnTo>
                <a:lnTo>
                  <a:pt x="2" y="105"/>
                </a:lnTo>
                <a:lnTo>
                  <a:pt x="0" y="78"/>
                </a:lnTo>
                <a:lnTo>
                  <a:pt x="2" y="52"/>
                </a:lnTo>
                <a:lnTo>
                  <a:pt x="5" y="25"/>
                </a:lnTo>
                <a:lnTo>
                  <a:pt x="9" y="0"/>
                </a:lnTo>
                <a:lnTo>
                  <a:pt x="41" y="0"/>
                </a:lnTo>
                <a:lnTo>
                  <a:pt x="72" y="3"/>
                </a:lnTo>
                <a:lnTo>
                  <a:pt x="102" y="7"/>
                </a:lnTo>
                <a:lnTo>
                  <a:pt x="132" y="15"/>
                </a:lnTo>
                <a:lnTo>
                  <a:pt x="159" y="22"/>
                </a:lnTo>
                <a:lnTo>
                  <a:pt x="189" y="31"/>
                </a:lnTo>
                <a:lnTo>
                  <a:pt x="221" y="40"/>
                </a:lnTo>
                <a:lnTo>
                  <a:pt x="254" y="51"/>
                </a:lnTo>
                <a:lnTo>
                  <a:pt x="258" y="78"/>
                </a:lnTo>
                <a:lnTo>
                  <a:pt x="266" y="105"/>
                </a:lnTo>
                <a:lnTo>
                  <a:pt x="275" y="127"/>
                </a:lnTo>
                <a:lnTo>
                  <a:pt x="290" y="151"/>
                </a:lnTo>
                <a:lnTo>
                  <a:pt x="305" y="169"/>
                </a:lnTo>
                <a:lnTo>
                  <a:pt x="326" y="189"/>
                </a:lnTo>
                <a:lnTo>
                  <a:pt x="350" y="207"/>
                </a:lnTo>
                <a:lnTo>
                  <a:pt x="378" y="225"/>
                </a:lnTo>
                <a:lnTo>
                  <a:pt x="378" y="226"/>
                </a:lnTo>
                <a:lnTo>
                  <a:pt x="378" y="232"/>
                </a:lnTo>
                <a:lnTo>
                  <a:pt x="369" y="232"/>
                </a:lnTo>
                <a:lnTo>
                  <a:pt x="363" y="23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13600" y="4643280"/>
            <a:ext cx="272880" cy="212760"/>
          </a:xfrm>
          <a:custGeom>
            <a:avLst/>
            <a:gdLst/>
            <a:ahLst/>
            <a:rect l="l" t="t" r="r" b="b"/>
            <a:pathLst>
              <a:path w="343" h="267">
                <a:moveTo>
                  <a:pt x="256" y="267"/>
                </a:moveTo>
                <a:lnTo>
                  <a:pt x="252" y="256"/>
                </a:lnTo>
                <a:lnTo>
                  <a:pt x="250" y="246"/>
                </a:lnTo>
                <a:lnTo>
                  <a:pt x="250" y="237"/>
                </a:lnTo>
                <a:lnTo>
                  <a:pt x="250" y="231"/>
                </a:lnTo>
                <a:lnTo>
                  <a:pt x="247" y="223"/>
                </a:lnTo>
                <a:lnTo>
                  <a:pt x="246" y="219"/>
                </a:lnTo>
                <a:lnTo>
                  <a:pt x="240" y="214"/>
                </a:lnTo>
                <a:lnTo>
                  <a:pt x="232" y="213"/>
                </a:lnTo>
                <a:lnTo>
                  <a:pt x="223" y="217"/>
                </a:lnTo>
                <a:lnTo>
                  <a:pt x="216" y="223"/>
                </a:lnTo>
                <a:lnTo>
                  <a:pt x="208" y="226"/>
                </a:lnTo>
                <a:lnTo>
                  <a:pt x="204" y="231"/>
                </a:lnTo>
                <a:lnTo>
                  <a:pt x="196" y="232"/>
                </a:lnTo>
                <a:lnTo>
                  <a:pt x="190" y="234"/>
                </a:lnTo>
                <a:lnTo>
                  <a:pt x="183" y="235"/>
                </a:lnTo>
                <a:lnTo>
                  <a:pt x="175" y="237"/>
                </a:lnTo>
                <a:lnTo>
                  <a:pt x="171" y="228"/>
                </a:lnTo>
                <a:lnTo>
                  <a:pt x="172" y="219"/>
                </a:lnTo>
                <a:lnTo>
                  <a:pt x="175" y="210"/>
                </a:lnTo>
                <a:lnTo>
                  <a:pt x="180" y="204"/>
                </a:lnTo>
                <a:lnTo>
                  <a:pt x="168" y="192"/>
                </a:lnTo>
                <a:lnTo>
                  <a:pt x="156" y="190"/>
                </a:lnTo>
                <a:lnTo>
                  <a:pt x="142" y="192"/>
                </a:lnTo>
                <a:lnTo>
                  <a:pt x="130" y="196"/>
                </a:lnTo>
                <a:lnTo>
                  <a:pt x="117" y="196"/>
                </a:lnTo>
                <a:lnTo>
                  <a:pt x="109" y="190"/>
                </a:lnTo>
                <a:lnTo>
                  <a:pt x="103" y="175"/>
                </a:lnTo>
                <a:lnTo>
                  <a:pt x="102" y="147"/>
                </a:lnTo>
                <a:lnTo>
                  <a:pt x="88" y="139"/>
                </a:lnTo>
                <a:lnTo>
                  <a:pt x="76" y="139"/>
                </a:lnTo>
                <a:lnTo>
                  <a:pt x="64" y="141"/>
                </a:lnTo>
                <a:lnTo>
                  <a:pt x="52" y="144"/>
                </a:lnTo>
                <a:lnTo>
                  <a:pt x="46" y="139"/>
                </a:lnTo>
                <a:lnTo>
                  <a:pt x="42" y="135"/>
                </a:lnTo>
                <a:lnTo>
                  <a:pt x="42" y="118"/>
                </a:lnTo>
                <a:lnTo>
                  <a:pt x="43" y="106"/>
                </a:lnTo>
                <a:lnTo>
                  <a:pt x="43" y="97"/>
                </a:lnTo>
                <a:lnTo>
                  <a:pt x="45" y="91"/>
                </a:lnTo>
                <a:lnTo>
                  <a:pt x="45" y="79"/>
                </a:lnTo>
                <a:lnTo>
                  <a:pt x="46" y="70"/>
                </a:lnTo>
                <a:lnTo>
                  <a:pt x="36" y="63"/>
                </a:lnTo>
                <a:lnTo>
                  <a:pt x="27" y="61"/>
                </a:lnTo>
                <a:lnTo>
                  <a:pt x="16" y="60"/>
                </a:lnTo>
                <a:lnTo>
                  <a:pt x="9" y="58"/>
                </a:lnTo>
                <a:lnTo>
                  <a:pt x="1" y="54"/>
                </a:lnTo>
                <a:lnTo>
                  <a:pt x="0" y="48"/>
                </a:lnTo>
                <a:lnTo>
                  <a:pt x="1" y="37"/>
                </a:lnTo>
                <a:lnTo>
                  <a:pt x="9" y="21"/>
                </a:lnTo>
                <a:lnTo>
                  <a:pt x="4" y="13"/>
                </a:lnTo>
                <a:lnTo>
                  <a:pt x="1" y="6"/>
                </a:lnTo>
                <a:lnTo>
                  <a:pt x="10" y="4"/>
                </a:lnTo>
                <a:lnTo>
                  <a:pt x="21" y="4"/>
                </a:lnTo>
                <a:lnTo>
                  <a:pt x="22" y="0"/>
                </a:lnTo>
                <a:lnTo>
                  <a:pt x="24" y="0"/>
                </a:lnTo>
                <a:lnTo>
                  <a:pt x="42" y="0"/>
                </a:lnTo>
                <a:lnTo>
                  <a:pt x="67" y="4"/>
                </a:lnTo>
                <a:lnTo>
                  <a:pt x="94" y="9"/>
                </a:lnTo>
                <a:lnTo>
                  <a:pt x="124" y="18"/>
                </a:lnTo>
                <a:lnTo>
                  <a:pt x="151" y="27"/>
                </a:lnTo>
                <a:lnTo>
                  <a:pt x="178" y="36"/>
                </a:lnTo>
                <a:lnTo>
                  <a:pt x="201" y="46"/>
                </a:lnTo>
                <a:lnTo>
                  <a:pt x="220" y="58"/>
                </a:lnTo>
                <a:lnTo>
                  <a:pt x="219" y="60"/>
                </a:lnTo>
                <a:lnTo>
                  <a:pt x="219" y="64"/>
                </a:lnTo>
                <a:lnTo>
                  <a:pt x="219" y="70"/>
                </a:lnTo>
                <a:lnTo>
                  <a:pt x="220" y="81"/>
                </a:lnTo>
                <a:lnTo>
                  <a:pt x="235" y="88"/>
                </a:lnTo>
                <a:lnTo>
                  <a:pt x="252" y="100"/>
                </a:lnTo>
                <a:lnTo>
                  <a:pt x="268" y="112"/>
                </a:lnTo>
                <a:lnTo>
                  <a:pt x="286" y="126"/>
                </a:lnTo>
                <a:lnTo>
                  <a:pt x="301" y="139"/>
                </a:lnTo>
                <a:lnTo>
                  <a:pt x="316" y="157"/>
                </a:lnTo>
                <a:lnTo>
                  <a:pt x="330" y="174"/>
                </a:lnTo>
                <a:lnTo>
                  <a:pt x="343" y="193"/>
                </a:lnTo>
                <a:lnTo>
                  <a:pt x="340" y="207"/>
                </a:lnTo>
                <a:lnTo>
                  <a:pt x="334" y="220"/>
                </a:lnTo>
                <a:lnTo>
                  <a:pt x="324" y="232"/>
                </a:lnTo>
                <a:lnTo>
                  <a:pt x="312" y="246"/>
                </a:lnTo>
                <a:lnTo>
                  <a:pt x="297" y="253"/>
                </a:lnTo>
                <a:lnTo>
                  <a:pt x="283" y="262"/>
                </a:lnTo>
                <a:lnTo>
                  <a:pt x="268" y="265"/>
                </a:lnTo>
                <a:lnTo>
                  <a:pt x="256" y="26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27800" y="4824360"/>
            <a:ext cx="15840" cy="19080"/>
          </a:xfrm>
          <a:custGeom>
            <a:avLst/>
            <a:gdLst/>
            <a:ahLst/>
            <a:rect l="l" t="t" r="r" b="b"/>
            <a:pathLst>
              <a:path w="21" h="22">
                <a:moveTo>
                  <a:pt x="6" y="22"/>
                </a:moveTo>
                <a:lnTo>
                  <a:pt x="3" y="19"/>
                </a:lnTo>
                <a:lnTo>
                  <a:pt x="0" y="18"/>
                </a:lnTo>
                <a:lnTo>
                  <a:pt x="0" y="6"/>
                </a:lnTo>
                <a:lnTo>
                  <a:pt x="2" y="1"/>
                </a:lnTo>
                <a:lnTo>
                  <a:pt x="8" y="0"/>
                </a:lnTo>
                <a:lnTo>
                  <a:pt x="18" y="1"/>
                </a:lnTo>
                <a:lnTo>
                  <a:pt x="20" y="3"/>
                </a:lnTo>
                <a:lnTo>
                  <a:pt x="21" y="6"/>
                </a:lnTo>
                <a:lnTo>
                  <a:pt x="21" y="10"/>
                </a:lnTo>
                <a:lnTo>
                  <a:pt x="21" y="21"/>
                </a:lnTo>
                <a:lnTo>
                  <a:pt x="14" y="21"/>
                </a:lnTo>
                <a:lnTo>
                  <a:pt x="6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37240" y="4522680"/>
            <a:ext cx="273240" cy="319320"/>
          </a:xfrm>
          <a:custGeom>
            <a:avLst/>
            <a:gdLst/>
            <a:ahLst/>
            <a:rect l="l" t="t" r="r" b="b"/>
            <a:pathLst>
              <a:path w="345" h="402">
                <a:moveTo>
                  <a:pt x="62" y="402"/>
                </a:moveTo>
                <a:lnTo>
                  <a:pt x="18" y="382"/>
                </a:lnTo>
                <a:lnTo>
                  <a:pt x="0" y="360"/>
                </a:lnTo>
                <a:lnTo>
                  <a:pt x="0" y="334"/>
                </a:lnTo>
                <a:lnTo>
                  <a:pt x="15" y="310"/>
                </a:lnTo>
                <a:lnTo>
                  <a:pt x="36" y="282"/>
                </a:lnTo>
                <a:lnTo>
                  <a:pt x="62" y="256"/>
                </a:lnTo>
                <a:lnTo>
                  <a:pt x="83" y="229"/>
                </a:lnTo>
                <a:lnTo>
                  <a:pt x="96" y="207"/>
                </a:lnTo>
                <a:lnTo>
                  <a:pt x="126" y="192"/>
                </a:lnTo>
                <a:lnTo>
                  <a:pt x="153" y="180"/>
                </a:lnTo>
                <a:lnTo>
                  <a:pt x="176" y="166"/>
                </a:lnTo>
                <a:lnTo>
                  <a:pt x="198" y="153"/>
                </a:lnTo>
                <a:lnTo>
                  <a:pt x="218" y="136"/>
                </a:lnTo>
                <a:lnTo>
                  <a:pt x="239" y="117"/>
                </a:lnTo>
                <a:lnTo>
                  <a:pt x="260" y="94"/>
                </a:lnTo>
                <a:lnTo>
                  <a:pt x="284" y="67"/>
                </a:lnTo>
                <a:lnTo>
                  <a:pt x="288" y="54"/>
                </a:lnTo>
                <a:lnTo>
                  <a:pt x="294" y="43"/>
                </a:lnTo>
                <a:lnTo>
                  <a:pt x="300" y="33"/>
                </a:lnTo>
                <a:lnTo>
                  <a:pt x="306" y="24"/>
                </a:lnTo>
                <a:lnTo>
                  <a:pt x="309" y="15"/>
                </a:lnTo>
                <a:lnTo>
                  <a:pt x="314" y="7"/>
                </a:lnTo>
                <a:lnTo>
                  <a:pt x="318" y="3"/>
                </a:lnTo>
                <a:lnTo>
                  <a:pt x="323" y="0"/>
                </a:lnTo>
                <a:lnTo>
                  <a:pt x="326" y="10"/>
                </a:lnTo>
                <a:lnTo>
                  <a:pt x="330" y="24"/>
                </a:lnTo>
                <a:lnTo>
                  <a:pt x="335" y="37"/>
                </a:lnTo>
                <a:lnTo>
                  <a:pt x="345" y="51"/>
                </a:lnTo>
                <a:lnTo>
                  <a:pt x="344" y="60"/>
                </a:lnTo>
                <a:lnTo>
                  <a:pt x="344" y="72"/>
                </a:lnTo>
                <a:lnTo>
                  <a:pt x="344" y="84"/>
                </a:lnTo>
                <a:lnTo>
                  <a:pt x="344" y="96"/>
                </a:lnTo>
                <a:lnTo>
                  <a:pt x="341" y="106"/>
                </a:lnTo>
                <a:lnTo>
                  <a:pt x="336" y="118"/>
                </a:lnTo>
                <a:lnTo>
                  <a:pt x="327" y="126"/>
                </a:lnTo>
                <a:lnTo>
                  <a:pt x="317" y="133"/>
                </a:lnTo>
                <a:lnTo>
                  <a:pt x="314" y="142"/>
                </a:lnTo>
                <a:lnTo>
                  <a:pt x="314" y="151"/>
                </a:lnTo>
                <a:lnTo>
                  <a:pt x="314" y="160"/>
                </a:lnTo>
                <a:lnTo>
                  <a:pt x="315" y="169"/>
                </a:lnTo>
                <a:lnTo>
                  <a:pt x="314" y="178"/>
                </a:lnTo>
                <a:lnTo>
                  <a:pt x="312" y="187"/>
                </a:lnTo>
                <a:lnTo>
                  <a:pt x="308" y="196"/>
                </a:lnTo>
                <a:lnTo>
                  <a:pt x="300" y="207"/>
                </a:lnTo>
                <a:lnTo>
                  <a:pt x="290" y="205"/>
                </a:lnTo>
                <a:lnTo>
                  <a:pt x="276" y="205"/>
                </a:lnTo>
                <a:lnTo>
                  <a:pt x="267" y="216"/>
                </a:lnTo>
                <a:lnTo>
                  <a:pt x="266" y="229"/>
                </a:lnTo>
                <a:lnTo>
                  <a:pt x="267" y="241"/>
                </a:lnTo>
                <a:lnTo>
                  <a:pt x="269" y="255"/>
                </a:lnTo>
                <a:lnTo>
                  <a:pt x="267" y="265"/>
                </a:lnTo>
                <a:lnTo>
                  <a:pt x="263" y="276"/>
                </a:lnTo>
                <a:lnTo>
                  <a:pt x="251" y="283"/>
                </a:lnTo>
                <a:lnTo>
                  <a:pt x="231" y="288"/>
                </a:lnTo>
                <a:lnTo>
                  <a:pt x="222" y="283"/>
                </a:lnTo>
                <a:lnTo>
                  <a:pt x="218" y="282"/>
                </a:lnTo>
                <a:lnTo>
                  <a:pt x="213" y="282"/>
                </a:lnTo>
                <a:lnTo>
                  <a:pt x="212" y="282"/>
                </a:lnTo>
                <a:lnTo>
                  <a:pt x="206" y="283"/>
                </a:lnTo>
                <a:lnTo>
                  <a:pt x="198" y="292"/>
                </a:lnTo>
                <a:lnTo>
                  <a:pt x="198" y="304"/>
                </a:lnTo>
                <a:lnTo>
                  <a:pt x="200" y="318"/>
                </a:lnTo>
                <a:lnTo>
                  <a:pt x="198" y="324"/>
                </a:lnTo>
                <a:lnTo>
                  <a:pt x="198" y="331"/>
                </a:lnTo>
                <a:lnTo>
                  <a:pt x="197" y="340"/>
                </a:lnTo>
                <a:lnTo>
                  <a:pt x="197" y="349"/>
                </a:lnTo>
                <a:lnTo>
                  <a:pt x="182" y="351"/>
                </a:lnTo>
                <a:lnTo>
                  <a:pt x="171" y="351"/>
                </a:lnTo>
                <a:lnTo>
                  <a:pt x="161" y="346"/>
                </a:lnTo>
                <a:lnTo>
                  <a:pt x="152" y="342"/>
                </a:lnTo>
                <a:lnTo>
                  <a:pt x="149" y="339"/>
                </a:lnTo>
                <a:lnTo>
                  <a:pt x="149" y="336"/>
                </a:lnTo>
                <a:lnTo>
                  <a:pt x="159" y="331"/>
                </a:lnTo>
                <a:lnTo>
                  <a:pt x="165" y="328"/>
                </a:lnTo>
                <a:lnTo>
                  <a:pt x="165" y="319"/>
                </a:lnTo>
                <a:lnTo>
                  <a:pt x="165" y="307"/>
                </a:lnTo>
                <a:lnTo>
                  <a:pt x="152" y="306"/>
                </a:lnTo>
                <a:lnTo>
                  <a:pt x="143" y="309"/>
                </a:lnTo>
                <a:lnTo>
                  <a:pt x="138" y="315"/>
                </a:lnTo>
                <a:lnTo>
                  <a:pt x="140" y="328"/>
                </a:lnTo>
                <a:lnTo>
                  <a:pt x="129" y="331"/>
                </a:lnTo>
                <a:lnTo>
                  <a:pt x="125" y="339"/>
                </a:lnTo>
                <a:lnTo>
                  <a:pt x="122" y="351"/>
                </a:lnTo>
                <a:lnTo>
                  <a:pt x="119" y="364"/>
                </a:lnTo>
                <a:lnTo>
                  <a:pt x="113" y="376"/>
                </a:lnTo>
                <a:lnTo>
                  <a:pt x="104" y="390"/>
                </a:lnTo>
                <a:lnTo>
                  <a:pt x="87" y="397"/>
                </a:lnTo>
                <a:lnTo>
                  <a:pt x="62" y="40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85120" y="4797360"/>
            <a:ext cx="21960" cy="22320"/>
          </a:xfrm>
          <a:custGeom>
            <a:avLst/>
            <a:gdLst/>
            <a:ahLst/>
            <a:rect l="l" t="t" r="r" b="b"/>
            <a:pathLst>
              <a:path w="27" h="29">
                <a:moveTo>
                  <a:pt x="9" y="29"/>
                </a:moveTo>
                <a:lnTo>
                  <a:pt x="1" y="23"/>
                </a:lnTo>
                <a:lnTo>
                  <a:pt x="0" y="18"/>
                </a:lnTo>
                <a:lnTo>
                  <a:pt x="0" y="14"/>
                </a:lnTo>
                <a:lnTo>
                  <a:pt x="0" y="11"/>
                </a:lnTo>
                <a:lnTo>
                  <a:pt x="3" y="5"/>
                </a:lnTo>
                <a:lnTo>
                  <a:pt x="9" y="3"/>
                </a:lnTo>
                <a:lnTo>
                  <a:pt x="13" y="2"/>
                </a:lnTo>
                <a:lnTo>
                  <a:pt x="22" y="0"/>
                </a:lnTo>
                <a:lnTo>
                  <a:pt x="22" y="3"/>
                </a:lnTo>
                <a:lnTo>
                  <a:pt x="24" y="8"/>
                </a:lnTo>
                <a:lnTo>
                  <a:pt x="25" y="12"/>
                </a:lnTo>
                <a:lnTo>
                  <a:pt x="27" y="23"/>
                </a:lnTo>
                <a:lnTo>
                  <a:pt x="16" y="27"/>
                </a:lnTo>
                <a:lnTo>
                  <a:pt x="9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69120" y="4792680"/>
            <a:ext cx="22320" cy="17280"/>
          </a:xfrm>
          <a:custGeom>
            <a:avLst/>
            <a:gdLst/>
            <a:ahLst/>
            <a:rect l="l" t="t" r="r" b="b"/>
            <a:pathLst>
              <a:path w="28" h="21">
                <a:moveTo>
                  <a:pt x="6" y="21"/>
                </a:moveTo>
                <a:lnTo>
                  <a:pt x="3" y="15"/>
                </a:lnTo>
                <a:lnTo>
                  <a:pt x="0" y="12"/>
                </a:lnTo>
                <a:lnTo>
                  <a:pt x="3" y="3"/>
                </a:lnTo>
                <a:lnTo>
                  <a:pt x="6" y="0"/>
                </a:lnTo>
                <a:lnTo>
                  <a:pt x="12" y="0"/>
                </a:lnTo>
                <a:lnTo>
                  <a:pt x="16" y="2"/>
                </a:lnTo>
                <a:lnTo>
                  <a:pt x="21" y="5"/>
                </a:lnTo>
                <a:lnTo>
                  <a:pt x="28" y="14"/>
                </a:lnTo>
                <a:lnTo>
                  <a:pt x="16" y="21"/>
                </a:lnTo>
                <a:lnTo>
                  <a:pt x="6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62760" y="4405320"/>
            <a:ext cx="789120" cy="398520"/>
          </a:xfrm>
          <a:custGeom>
            <a:avLst/>
            <a:gdLst/>
            <a:ahLst/>
            <a:rect l="l" t="t" r="r" b="b"/>
            <a:pathLst>
              <a:path w="993" h="501">
                <a:moveTo>
                  <a:pt x="48" y="501"/>
                </a:moveTo>
                <a:lnTo>
                  <a:pt x="32" y="478"/>
                </a:lnTo>
                <a:lnTo>
                  <a:pt x="20" y="451"/>
                </a:lnTo>
                <a:lnTo>
                  <a:pt x="9" y="421"/>
                </a:lnTo>
                <a:lnTo>
                  <a:pt x="5" y="391"/>
                </a:lnTo>
                <a:lnTo>
                  <a:pt x="0" y="360"/>
                </a:lnTo>
                <a:lnTo>
                  <a:pt x="0" y="330"/>
                </a:lnTo>
                <a:lnTo>
                  <a:pt x="2" y="303"/>
                </a:lnTo>
                <a:lnTo>
                  <a:pt x="8" y="280"/>
                </a:lnTo>
                <a:lnTo>
                  <a:pt x="18" y="292"/>
                </a:lnTo>
                <a:lnTo>
                  <a:pt x="30" y="303"/>
                </a:lnTo>
                <a:lnTo>
                  <a:pt x="38" y="306"/>
                </a:lnTo>
                <a:lnTo>
                  <a:pt x="47" y="310"/>
                </a:lnTo>
                <a:lnTo>
                  <a:pt x="57" y="313"/>
                </a:lnTo>
                <a:lnTo>
                  <a:pt x="71" y="318"/>
                </a:lnTo>
                <a:lnTo>
                  <a:pt x="74" y="343"/>
                </a:lnTo>
                <a:lnTo>
                  <a:pt x="87" y="361"/>
                </a:lnTo>
                <a:lnTo>
                  <a:pt x="105" y="373"/>
                </a:lnTo>
                <a:lnTo>
                  <a:pt x="128" y="379"/>
                </a:lnTo>
                <a:lnTo>
                  <a:pt x="152" y="378"/>
                </a:lnTo>
                <a:lnTo>
                  <a:pt x="177" y="372"/>
                </a:lnTo>
                <a:lnTo>
                  <a:pt x="200" y="361"/>
                </a:lnTo>
                <a:lnTo>
                  <a:pt x="222" y="346"/>
                </a:lnTo>
                <a:lnTo>
                  <a:pt x="245" y="291"/>
                </a:lnTo>
                <a:lnTo>
                  <a:pt x="266" y="250"/>
                </a:lnTo>
                <a:lnTo>
                  <a:pt x="285" y="219"/>
                </a:lnTo>
                <a:lnTo>
                  <a:pt x="309" y="198"/>
                </a:lnTo>
                <a:lnTo>
                  <a:pt x="335" y="177"/>
                </a:lnTo>
                <a:lnTo>
                  <a:pt x="369" y="159"/>
                </a:lnTo>
                <a:lnTo>
                  <a:pt x="411" y="136"/>
                </a:lnTo>
                <a:lnTo>
                  <a:pt x="467" y="108"/>
                </a:lnTo>
                <a:lnTo>
                  <a:pt x="513" y="85"/>
                </a:lnTo>
                <a:lnTo>
                  <a:pt x="567" y="61"/>
                </a:lnTo>
                <a:lnTo>
                  <a:pt x="627" y="37"/>
                </a:lnTo>
                <a:lnTo>
                  <a:pt x="692" y="18"/>
                </a:lnTo>
                <a:lnTo>
                  <a:pt x="755" y="3"/>
                </a:lnTo>
                <a:lnTo>
                  <a:pt x="818" y="0"/>
                </a:lnTo>
                <a:lnTo>
                  <a:pt x="875" y="9"/>
                </a:lnTo>
                <a:lnTo>
                  <a:pt x="927" y="36"/>
                </a:lnTo>
                <a:lnTo>
                  <a:pt x="932" y="43"/>
                </a:lnTo>
                <a:lnTo>
                  <a:pt x="941" y="58"/>
                </a:lnTo>
                <a:lnTo>
                  <a:pt x="951" y="75"/>
                </a:lnTo>
                <a:lnTo>
                  <a:pt x="965" y="96"/>
                </a:lnTo>
                <a:lnTo>
                  <a:pt x="975" y="114"/>
                </a:lnTo>
                <a:lnTo>
                  <a:pt x="984" y="132"/>
                </a:lnTo>
                <a:lnTo>
                  <a:pt x="990" y="145"/>
                </a:lnTo>
                <a:lnTo>
                  <a:pt x="993" y="154"/>
                </a:lnTo>
                <a:lnTo>
                  <a:pt x="947" y="154"/>
                </a:lnTo>
                <a:lnTo>
                  <a:pt x="906" y="150"/>
                </a:lnTo>
                <a:lnTo>
                  <a:pt x="867" y="138"/>
                </a:lnTo>
                <a:lnTo>
                  <a:pt x="834" y="124"/>
                </a:lnTo>
                <a:lnTo>
                  <a:pt x="800" y="105"/>
                </a:lnTo>
                <a:lnTo>
                  <a:pt x="768" y="85"/>
                </a:lnTo>
                <a:lnTo>
                  <a:pt x="734" y="66"/>
                </a:lnTo>
                <a:lnTo>
                  <a:pt x="701" y="48"/>
                </a:lnTo>
                <a:lnTo>
                  <a:pt x="701" y="51"/>
                </a:lnTo>
                <a:lnTo>
                  <a:pt x="701" y="55"/>
                </a:lnTo>
                <a:lnTo>
                  <a:pt x="705" y="63"/>
                </a:lnTo>
                <a:lnTo>
                  <a:pt x="711" y="69"/>
                </a:lnTo>
                <a:lnTo>
                  <a:pt x="716" y="73"/>
                </a:lnTo>
                <a:lnTo>
                  <a:pt x="720" y="78"/>
                </a:lnTo>
                <a:lnTo>
                  <a:pt x="725" y="82"/>
                </a:lnTo>
                <a:lnTo>
                  <a:pt x="729" y="87"/>
                </a:lnTo>
                <a:lnTo>
                  <a:pt x="735" y="93"/>
                </a:lnTo>
                <a:lnTo>
                  <a:pt x="744" y="102"/>
                </a:lnTo>
                <a:lnTo>
                  <a:pt x="728" y="111"/>
                </a:lnTo>
                <a:lnTo>
                  <a:pt x="713" y="126"/>
                </a:lnTo>
                <a:lnTo>
                  <a:pt x="698" y="139"/>
                </a:lnTo>
                <a:lnTo>
                  <a:pt x="684" y="154"/>
                </a:lnTo>
                <a:lnTo>
                  <a:pt x="624" y="201"/>
                </a:lnTo>
                <a:lnTo>
                  <a:pt x="552" y="256"/>
                </a:lnTo>
                <a:lnTo>
                  <a:pt x="470" y="315"/>
                </a:lnTo>
                <a:lnTo>
                  <a:pt x="384" y="373"/>
                </a:lnTo>
                <a:lnTo>
                  <a:pt x="293" y="424"/>
                </a:lnTo>
                <a:lnTo>
                  <a:pt x="204" y="466"/>
                </a:lnTo>
                <a:lnTo>
                  <a:pt x="122" y="492"/>
                </a:lnTo>
                <a:lnTo>
                  <a:pt x="48" y="501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08720" y="4695840"/>
            <a:ext cx="176400" cy="96840"/>
          </a:xfrm>
          <a:custGeom>
            <a:avLst/>
            <a:gdLst/>
            <a:ahLst/>
            <a:rect l="l" t="t" r="r" b="b"/>
            <a:pathLst>
              <a:path w="222" h="121">
                <a:moveTo>
                  <a:pt x="129" y="121"/>
                </a:moveTo>
                <a:lnTo>
                  <a:pt x="114" y="105"/>
                </a:lnTo>
                <a:lnTo>
                  <a:pt x="99" y="90"/>
                </a:lnTo>
                <a:lnTo>
                  <a:pt x="81" y="73"/>
                </a:lnTo>
                <a:lnTo>
                  <a:pt x="64" y="60"/>
                </a:lnTo>
                <a:lnTo>
                  <a:pt x="46" y="43"/>
                </a:lnTo>
                <a:lnTo>
                  <a:pt x="30" y="30"/>
                </a:lnTo>
                <a:lnTo>
                  <a:pt x="13" y="16"/>
                </a:lnTo>
                <a:lnTo>
                  <a:pt x="0" y="7"/>
                </a:lnTo>
                <a:lnTo>
                  <a:pt x="0" y="3"/>
                </a:lnTo>
                <a:lnTo>
                  <a:pt x="0" y="0"/>
                </a:lnTo>
                <a:lnTo>
                  <a:pt x="27" y="7"/>
                </a:lnTo>
                <a:lnTo>
                  <a:pt x="55" y="12"/>
                </a:lnTo>
                <a:lnTo>
                  <a:pt x="81" y="12"/>
                </a:lnTo>
                <a:lnTo>
                  <a:pt x="108" y="12"/>
                </a:lnTo>
                <a:lnTo>
                  <a:pt x="135" y="7"/>
                </a:lnTo>
                <a:lnTo>
                  <a:pt x="162" y="4"/>
                </a:lnTo>
                <a:lnTo>
                  <a:pt x="190" y="1"/>
                </a:lnTo>
                <a:lnTo>
                  <a:pt x="222" y="0"/>
                </a:lnTo>
                <a:lnTo>
                  <a:pt x="213" y="12"/>
                </a:lnTo>
                <a:lnTo>
                  <a:pt x="201" y="28"/>
                </a:lnTo>
                <a:lnTo>
                  <a:pt x="187" y="46"/>
                </a:lnTo>
                <a:lnTo>
                  <a:pt x="174" y="67"/>
                </a:lnTo>
                <a:lnTo>
                  <a:pt x="160" y="84"/>
                </a:lnTo>
                <a:lnTo>
                  <a:pt x="148" y="100"/>
                </a:lnTo>
                <a:lnTo>
                  <a:pt x="141" y="112"/>
                </a:lnTo>
                <a:lnTo>
                  <a:pt x="138" y="121"/>
                </a:lnTo>
                <a:lnTo>
                  <a:pt x="132" y="121"/>
                </a:lnTo>
                <a:lnTo>
                  <a:pt x="129" y="121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13320" y="4759200"/>
            <a:ext cx="16200" cy="23760"/>
          </a:xfrm>
          <a:custGeom>
            <a:avLst/>
            <a:gdLst/>
            <a:ahLst/>
            <a:rect l="l" t="t" r="r" b="b"/>
            <a:pathLst>
              <a:path w="21" h="30">
                <a:moveTo>
                  <a:pt x="8" y="30"/>
                </a:moveTo>
                <a:lnTo>
                  <a:pt x="0" y="21"/>
                </a:lnTo>
                <a:lnTo>
                  <a:pt x="0" y="14"/>
                </a:lnTo>
                <a:lnTo>
                  <a:pt x="3" y="8"/>
                </a:lnTo>
                <a:lnTo>
                  <a:pt x="8" y="2"/>
                </a:lnTo>
                <a:lnTo>
                  <a:pt x="15" y="0"/>
                </a:lnTo>
                <a:lnTo>
                  <a:pt x="20" y="5"/>
                </a:lnTo>
                <a:lnTo>
                  <a:pt x="20" y="11"/>
                </a:lnTo>
                <a:lnTo>
                  <a:pt x="21" y="18"/>
                </a:lnTo>
                <a:lnTo>
                  <a:pt x="15" y="29"/>
                </a:lnTo>
                <a:lnTo>
                  <a:pt x="8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65800" y="4721400"/>
            <a:ext cx="22320" cy="21960"/>
          </a:xfrm>
          <a:custGeom>
            <a:avLst/>
            <a:gdLst/>
            <a:ahLst/>
            <a:rect l="l" t="t" r="r" b="b"/>
            <a:pathLst>
              <a:path w="29" h="29">
                <a:moveTo>
                  <a:pt x="11" y="29"/>
                </a:moveTo>
                <a:lnTo>
                  <a:pt x="3" y="21"/>
                </a:lnTo>
                <a:lnTo>
                  <a:pt x="2" y="17"/>
                </a:lnTo>
                <a:lnTo>
                  <a:pt x="0" y="12"/>
                </a:lnTo>
                <a:lnTo>
                  <a:pt x="0" y="9"/>
                </a:lnTo>
                <a:lnTo>
                  <a:pt x="6" y="3"/>
                </a:lnTo>
                <a:lnTo>
                  <a:pt x="14" y="0"/>
                </a:lnTo>
                <a:lnTo>
                  <a:pt x="20" y="3"/>
                </a:lnTo>
                <a:lnTo>
                  <a:pt x="29" y="6"/>
                </a:lnTo>
                <a:lnTo>
                  <a:pt x="29" y="14"/>
                </a:lnTo>
                <a:lnTo>
                  <a:pt x="29" y="23"/>
                </a:lnTo>
                <a:lnTo>
                  <a:pt x="24" y="24"/>
                </a:lnTo>
                <a:lnTo>
                  <a:pt x="21" y="26"/>
                </a:lnTo>
                <a:lnTo>
                  <a:pt x="17" y="26"/>
                </a:lnTo>
                <a:lnTo>
                  <a:pt x="11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600" y="4700520"/>
            <a:ext cx="20880" cy="28800"/>
          </a:xfrm>
          <a:custGeom>
            <a:avLst/>
            <a:gdLst/>
            <a:ahLst/>
            <a:rect l="l" t="t" r="r" b="b"/>
            <a:pathLst>
              <a:path w="25" h="34">
                <a:moveTo>
                  <a:pt x="7" y="34"/>
                </a:moveTo>
                <a:lnTo>
                  <a:pt x="3" y="31"/>
                </a:lnTo>
                <a:lnTo>
                  <a:pt x="0" y="30"/>
                </a:lnTo>
                <a:lnTo>
                  <a:pt x="0" y="18"/>
                </a:lnTo>
                <a:lnTo>
                  <a:pt x="1" y="10"/>
                </a:lnTo>
                <a:lnTo>
                  <a:pt x="3" y="4"/>
                </a:lnTo>
                <a:lnTo>
                  <a:pt x="7" y="1"/>
                </a:lnTo>
                <a:lnTo>
                  <a:pt x="10" y="0"/>
                </a:lnTo>
                <a:lnTo>
                  <a:pt x="15" y="3"/>
                </a:lnTo>
                <a:lnTo>
                  <a:pt x="19" y="9"/>
                </a:lnTo>
                <a:lnTo>
                  <a:pt x="25" y="19"/>
                </a:lnTo>
                <a:lnTo>
                  <a:pt x="16" y="30"/>
                </a:lnTo>
                <a:lnTo>
                  <a:pt x="7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37600" y="4443480"/>
            <a:ext cx="450720" cy="250920"/>
          </a:xfrm>
          <a:custGeom>
            <a:avLst/>
            <a:gdLst/>
            <a:ahLst/>
            <a:rect l="l" t="t" r="r" b="b"/>
            <a:pathLst>
              <a:path w="567" h="317">
                <a:moveTo>
                  <a:pt x="363" y="317"/>
                </a:moveTo>
                <a:lnTo>
                  <a:pt x="316" y="305"/>
                </a:lnTo>
                <a:lnTo>
                  <a:pt x="270" y="294"/>
                </a:lnTo>
                <a:lnTo>
                  <a:pt x="223" y="281"/>
                </a:lnTo>
                <a:lnTo>
                  <a:pt x="178" y="267"/>
                </a:lnTo>
                <a:lnTo>
                  <a:pt x="133" y="254"/>
                </a:lnTo>
                <a:lnTo>
                  <a:pt x="88" y="243"/>
                </a:lnTo>
                <a:lnTo>
                  <a:pt x="43" y="234"/>
                </a:lnTo>
                <a:lnTo>
                  <a:pt x="0" y="231"/>
                </a:lnTo>
                <a:lnTo>
                  <a:pt x="6" y="222"/>
                </a:lnTo>
                <a:lnTo>
                  <a:pt x="25" y="204"/>
                </a:lnTo>
                <a:lnTo>
                  <a:pt x="51" y="180"/>
                </a:lnTo>
                <a:lnTo>
                  <a:pt x="82" y="155"/>
                </a:lnTo>
                <a:lnTo>
                  <a:pt x="114" y="126"/>
                </a:lnTo>
                <a:lnTo>
                  <a:pt x="144" y="104"/>
                </a:lnTo>
                <a:lnTo>
                  <a:pt x="169" y="86"/>
                </a:lnTo>
                <a:lnTo>
                  <a:pt x="186" y="80"/>
                </a:lnTo>
                <a:lnTo>
                  <a:pt x="211" y="92"/>
                </a:lnTo>
                <a:lnTo>
                  <a:pt x="238" y="105"/>
                </a:lnTo>
                <a:lnTo>
                  <a:pt x="267" y="114"/>
                </a:lnTo>
                <a:lnTo>
                  <a:pt x="295" y="123"/>
                </a:lnTo>
                <a:lnTo>
                  <a:pt x="324" y="129"/>
                </a:lnTo>
                <a:lnTo>
                  <a:pt x="355" y="135"/>
                </a:lnTo>
                <a:lnTo>
                  <a:pt x="387" y="140"/>
                </a:lnTo>
                <a:lnTo>
                  <a:pt x="420" y="144"/>
                </a:lnTo>
                <a:lnTo>
                  <a:pt x="430" y="155"/>
                </a:lnTo>
                <a:lnTo>
                  <a:pt x="444" y="168"/>
                </a:lnTo>
                <a:lnTo>
                  <a:pt x="448" y="168"/>
                </a:lnTo>
                <a:lnTo>
                  <a:pt x="454" y="168"/>
                </a:lnTo>
                <a:lnTo>
                  <a:pt x="456" y="162"/>
                </a:lnTo>
                <a:lnTo>
                  <a:pt x="459" y="158"/>
                </a:lnTo>
                <a:lnTo>
                  <a:pt x="448" y="141"/>
                </a:lnTo>
                <a:lnTo>
                  <a:pt x="438" y="125"/>
                </a:lnTo>
                <a:lnTo>
                  <a:pt x="429" y="107"/>
                </a:lnTo>
                <a:lnTo>
                  <a:pt x="421" y="90"/>
                </a:lnTo>
                <a:lnTo>
                  <a:pt x="412" y="72"/>
                </a:lnTo>
                <a:lnTo>
                  <a:pt x="406" y="56"/>
                </a:lnTo>
                <a:lnTo>
                  <a:pt x="400" y="39"/>
                </a:lnTo>
                <a:lnTo>
                  <a:pt x="397" y="26"/>
                </a:lnTo>
                <a:lnTo>
                  <a:pt x="408" y="23"/>
                </a:lnTo>
                <a:lnTo>
                  <a:pt x="420" y="20"/>
                </a:lnTo>
                <a:lnTo>
                  <a:pt x="430" y="15"/>
                </a:lnTo>
                <a:lnTo>
                  <a:pt x="442" y="11"/>
                </a:lnTo>
                <a:lnTo>
                  <a:pt x="451" y="6"/>
                </a:lnTo>
                <a:lnTo>
                  <a:pt x="460" y="2"/>
                </a:lnTo>
                <a:lnTo>
                  <a:pt x="468" y="0"/>
                </a:lnTo>
                <a:lnTo>
                  <a:pt x="475" y="2"/>
                </a:lnTo>
                <a:lnTo>
                  <a:pt x="489" y="29"/>
                </a:lnTo>
                <a:lnTo>
                  <a:pt x="508" y="65"/>
                </a:lnTo>
                <a:lnTo>
                  <a:pt x="528" y="102"/>
                </a:lnTo>
                <a:lnTo>
                  <a:pt x="547" y="146"/>
                </a:lnTo>
                <a:lnTo>
                  <a:pt x="559" y="186"/>
                </a:lnTo>
                <a:lnTo>
                  <a:pt x="567" y="225"/>
                </a:lnTo>
                <a:lnTo>
                  <a:pt x="564" y="260"/>
                </a:lnTo>
                <a:lnTo>
                  <a:pt x="549" y="288"/>
                </a:lnTo>
                <a:lnTo>
                  <a:pt x="523" y="294"/>
                </a:lnTo>
                <a:lnTo>
                  <a:pt x="499" y="300"/>
                </a:lnTo>
                <a:lnTo>
                  <a:pt x="477" y="305"/>
                </a:lnTo>
                <a:lnTo>
                  <a:pt x="454" y="309"/>
                </a:lnTo>
                <a:lnTo>
                  <a:pt x="430" y="311"/>
                </a:lnTo>
                <a:lnTo>
                  <a:pt x="408" y="314"/>
                </a:lnTo>
                <a:lnTo>
                  <a:pt x="385" y="315"/>
                </a:lnTo>
                <a:lnTo>
                  <a:pt x="363" y="317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39080" y="4492800"/>
            <a:ext cx="212760" cy="196560"/>
          </a:xfrm>
          <a:custGeom>
            <a:avLst/>
            <a:gdLst/>
            <a:ahLst/>
            <a:rect l="l" t="t" r="r" b="b"/>
            <a:pathLst>
              <a:path w="269" h="248">
                <a:moveTo>
                  <a:pt x="45" y="248"/>
                </a:moveTo>
                <a:lnTo>
                  <a:pt x="11" y="227"/>
                </a:lnTo>
                <a:lnTo>
                  <a:pt x="0" y="197"/>
                </a:lnTo>
                <a:lnTo>
                  <a:pt x="6" y="159"/>
                </a:lnTo>
                <a:lnTo>
                  <a:pt x="27" y="120"/>
                </a:lnTo>
                <a:lnTo>
                  <a:pt x="56" y="80"/>
                </a:lnTo>
                <a:lnTo>
                  <a:pt x="89" y="44"/>
                </a:lnTo>
                <a:lnTo>
                  <a:pt x="120" y="15"/>
                </a:lnTo>
                <a:lnTo>
                  <a:pt x="147" y="0"/>
                </a:lnTo>
                <a:lnTo>
                  <a:pt x="158" y="0"/>
                </a:lnTo>
                <a:lnTo>
                  <a:pt x="173" y="0"/>
                </a:lnTo>
                <a:lnTo>
                  <a:pt x="189" y="0"/>
                </a:lnTo>
                <a:lnTo>
                  <a:pt x="207" y="3"/>
                </a:lnTo>
                <a:lnTo>
                  <a:pt x="224" y="5"/>
                </a:lnTo>
                <a:lnTo>
                  <a:pt x="242" y="11"/>
                </a:lnTo>
                <a:lnTo>
                  <a:pt x="257" y="17"/>
                </a:lnTo>
                <a:lnTo>
                  <a:pt x="269" y="27"/>
                </a:lnTo>
                <a:lnTo>
                  <a:pt x="236" y="42"/>
                </a:lnTo>
                <a:lnTo>
                  <a:pt x="207" y="59"/>
                </a:lnTo>
                <a:lnTo>
                  <a:pt x="182" y="75"/>
                </a:lnTo>
                <a:lnTo>
                  <a:pt x="161" y="95"/>
                </a:lnTo>
                <a:lnTo>
                  <a:pt x="141" y="116"/>
                </a:lnTo>
                <a:lnTo>
                  <a:pt x="125" y="141"/>
                </a:lnTo>
                <a:lnTo>
                  <a:pt x="111" y="171"/>
                </a:lnTo>
                <a:lnTo>
                  <a:pt x="102" y="207"/>
                </a:lnTo>
                <a:lnTo>
                  <a:pt x="95" y="215"/>
                </a:lnTo>
                <a:lnTo>
                  <a:pt x="89" y="222"/>
                </a:lnTo>
                <a:lnTo>
                  <a:pt x="83" y="228"/>
                </a:lnTo>
                <a:lnTo>
                  <a:pt x="78" y="234"/>
                </a:lnTo>
                <a:lnTo>
                  <a:pt x="71" y="237"/>
                </a:lnTo>
                <a:lnTo>
                  <a:pt x="63" y="240"/>
                </a:lnTo>
                <a:lnTo>
                  <a:pt x="54" y="243"/>
                </a:lnTo>
                <a:lnTo>
                  <a:pt x="45" y="248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2960" y="4667400"/>
            <a:ext cx="17640" cy="19080"/>
          </a:xfrm>
          <a:custGeom>
            <a:avLst/>
            <a:gdLst/>
            <a:ahLst/>
            <a:rect l="l" t="t" r="r" b="b"/>
            <a:pathLst>
              <a:path w="21" h="24">
                <a:moveTo>
                  <a:pt x="4" y="24"/>
                </a:moveTo>
                <a:lnTo>
                  <a:pt x="1" y="15"/>
                </a:lnTo>
                <a:lnTo>
                  <a:pt x="0" y="10"/>
                </a:lnTo>
                <a:lnTo>
                  <a:pt x="0" y="6"/>
                </a:lnTo>
                <a:lnTo>
                  <a:pt x="1" y="3"/>
                </a:lnTo>
                <a:lnTo>
                  <a:pt x="9" y="1"/>
                </a:lnTo>
                <a:lnTo>
                  <a:pt x="18" y="0"/>
                </a:lnTo>
                <a:lnTo>
                  <a:pt x="18" y="3"/>
                </a:lnTo>
                <a:lnTo>
                  <a:pt x="19" y="7"/>
                </a:lnTo>
                <a:lnTo>
                  <a:pt x="19" y="12"/>
                </a:lnTo>
                <a:lnTo>
                  <a:pt x="21" y="22"/>
                </a:lnTo>
                <a:lnTo>
                  <a:pt x="18" y="22"/>
                </a:lnTo>
                <a:lnTo>
                  <a:pt x="16" y="22"/>
                </a:lnTo>
                <a:lnTo>
                  <a:pt x="10" y="22"/>
                </a:lnTo>
                <a:lnTo>
                  <a:pt x="4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72040" y="4021200"/>
            <a:ext cx="941400" cy="665280"/>
          </a:xfrm>
          <a:custGeom>
            <a:avLst/>
            <a:gdLst/>
            <a:ahLst/>
            <a:rect l="l" t="t" r="r" b="b"/>
            <a:pathLst>
              <a:path w="1187" h="837">
                <a:moveTo>
                  <a:pt x="647" y="837"/>
                </a:moveTo>
                <a:lnTo>
                  <a:pt x="594" y="831"/>
                </a:lnTo>
                <a:lnTo>
                  <a:pt x="539" y="821"/>
                </a:lnTo>
                <a:lnTo>
                  <a:pt x="479" y="807"/>
                </a:lnTo>
                <a:lnTo>
                  <a:pt x="420" y="791"/>
                </a:lnTo>
                <a:lnTo>
                  <a:pt x="359" y="770"/>
                </a:lnTo>
                <a:lnTo>
                  <a:pt x="303" y="749"/>
                </a:lnTo>
                <a:lnTo>
                  <a:pt x="251" y="726"/>
                </a:lnTo>
                <a:lnTo>
                  <a:pt x="207" y="704"/>
                </a:lnTo>
                <a:lnTo>
                  <a:pt x="168" y="675"/>
                </a:lnTo>
                <a:lnTo>
                  <a:pt x="131" y="644"/>
                </a:lnTo>
                <a:lnTo>
                  <a:pt x="92" y="609"/>
                </a:lnTo>
                <a:lnTo>
                  <a:pt x="59" y="572"/>
                </a:lnTo>
                <a:lnTo>
                  <a:pt x="29" y="530"/>
                </a:lnTo>
                <a:lnTo>
                  <a:pt x="9" y="486"/>
                </a:lnTo>
                <a:lnTo>
                  <a:pt x="0" y="440"/>
                </a:lnTo>
                <a:lnTo>
                  <a:pt x="6" y="395"/>
                </a:lnTo>
                <a:lnTo>
                  <a:pt x="18" y="368"/>
                </a:lnTo>
                <a:lnTo>
                  <a:pt x="36" y="341"/>
                </a:lnTo>
                <a:lnTo>
                  <a:pt x="54" y="312"/>
                </a:lnTo>
                <a:lnTo>
                  <a:pt x="77" y="285"/>
                </a:lnTo>
                <a:lnTo>
                  <a:pt x="99" y="258"/>
                </a:lnTo>
                <a:lnTo>
                  <a:pt x="125" y="236"/>
                </a:lnTo>
                <a:lnTo>
                  <a:pt x="150" y="218"/>
                </a:lnTo>
                <a:lnTo>
                  <a:pt x="179" y="206"/>
                </a:lnTo>
                <a:lnTo>
                  <a:pt x="182" y="231"/>
                </a:lnTo>
                <a:lnTo>
                  <a:pt x="186" y="255"/>
                </a:lnTo>
                <a:lnTo>
                  <a:pt x="191" y="273"/>
                </a:lnTo>
                <a:lnTo>
                  <a:pt x="200" y="293"/>
                </a:lnTo>
                <a:lnTo>
                  <a:pt x="210" y="306"/>
                </a:lnTo>
                <a:lnTo>
                  <a:pt x="225" y="321"/>
                </a:lnTo>
                <a:lnTo>
                  <a:pt x="245" y="335"/>
                </a:lnTo>
                <a:lnTo>
                  <a:pt x="272" y="350"/>
                </a:lnTo>
                <a:lnTo>
                  <a:pt x="266" y="357"/>
                </a:lnTo>
                <a:lnTo>
                  <a:pt x="261" y="363"/>
                </a:lnTo>
                <a:lnTo>
                  <a:pt x="255" y="366"/>
                </a:lnTo>
                <a:lnTo>
                  <a:pt x="251" y="371"/>
                </a:lnTo>
                <a:lnTo>
                  <a:pt x="240" y="375"/>
                </a:lnTo>
                <a:lnTo>
                  <a:pt x="227" y="381"/>
                </a:lnTo>
                <a:lnTo>
                  <a:pt x="219" y="393"/>
                </a:lnTo>
                <a:lnTo>
                  <a:pt x="209" y="404"/>
                </a:lnTo>
                <a:lnTo>
                  <a:pt x="192" y="413"/>
                </a:lnTo>
                <a:lnTo>
                  <a:pt x="176" y="423"/>
                </a:lnTo>
                <a:lnTo>
                  <a:pt x="155" y="431"/>
                </a:lnTo>
                <a:lnTo>
                  <a:pt x="137" y="437"/>
                </a:lnTo>
                <a:lnTo>
                  <a:pt x="120" y="441"/>
                </a:lnTo>
                <a:lnTo>
                  <a:pt x="108" y="447"/>
                </a:lnTo>
                <a:lnTo>
                  <a:pt x="117" y="446"/>
                </a:lnTo>
                <a:lnTo>
                  <a:pt x="129" y="444"/>
                </a:lnTo>
                <a:lnTo>
                  <a:pt x="138" y="441"/>
                </a:lnTo>
                <a:lnTo>
                  <a:pt x="150" y="440"/>
                </a:lnTo>
                <a:lnTo>
                  <a:pt x="161" y="437"/>
                </a:lnTo>
                <a:lnTo>
                  <a:pt x="173" y="435"/>
                </a:lnTo>
                <a:lnTo>
                  <a:pt x="183" y="434"/>
                </a:lnTo>
                <a:lnTo>
                  <a:pt x="195" y="434"/>
                </a:lnTo>
                <a:lnTo>
                  <a:pt x="201" y="441"/>
                </a:lnTo>
                <a:lnTo>
                  <a:pt x="213" y="453"/>
                </a:lnTo>
                <a:lnTo>
                  <a:pt x="225" y="468"/>
                </a:lnTo>
                <a:lnTo>
                  <a:pt x="240" y="486"/>
                </a:lnTo>
                <a:lnTo>
                  <a:pt x="254" y="500"/>
                </a:lnTo>
                <a:lnTo>
                  <a:pt x="269" y="515"/>
                </a:lnTo>
                <a:lnTo>
                  <a:pt x="281" y="524"/>
                </a:lnTo>
                <a:lnTo>
                  <a:pt x="293" y="530"/>
                </a:lnTo>
                <a:lnTo>
                  <a:pt x="284" y="512"/>
                </a:lnTo>
                <a:lnTo>
                  <a:pt x="276" y="498"/>
                </a:lnTo>
                <a:lnTo>
                  <a:pt x="267" y="483"/>
                </a:lnTo>
                <a:lnTo>
                  <a:pt x="258" y="471"/>
                </a:lnTo>
                <a:lnTo>
                  <a:pt x="246" y="458"/>
                </a:lnTo>
                <a:lnTo>
                  <a:pt x="237" y="447"/>
                </a:lnTo>
                <a:lnTo>
                  <a:pt x="225" y="437"/>
                </a:lnTo>
                <a:lnTo>
                  <a:pt x="216" y="426"/>
                </a:lnTo>
                <a:lnTo>
                  <a:pt x="218" y="420"/>
                </a:lnTo>
                <a:lnTo>
                  <a:pt x="219" y="417"/>
                </a:lnTo>
                <a:lnTo>
                  <a:pt x="240" y="408"/>
                </a:lnTo>
                <a:lnTo>
                  <a:pt x="267" y="405"/>
                </a:lnTo>
                <a:lnTo>
                  <a:pt x="296" y="407"/>
                </a:lnTo>
                <a:lnTo>
                  <a:pt x="327" y="413"/>
                </a:lnTo>
                <a:lnTo>
                  <a:pt x="357" y="417"/>
                </a:lnTo>
                <a:lnTo>
                  <a:pt x="389" y="425"/>
                </a:lnTo>
                <a:lnTo>
                  <a:pt x="419" y="431"/>
                </a:lnTo>
                <a:lnTo>
                  <a:pt x="447" y="435"/>
                </a:lnTo>
                <a:lnTo>
                  <a:pt x="509" y="420"/>
                </a:lnTo>
                <a:lnTo>
                  <a:pt x="573" y="410"/>
                </a:lnTo>
                <a:lnTo>
                  <a:pt x="636" y="401"/>
                </a:lnTo>
                <a:lnTo>
                  <a:pt x="699" y="392"/>
                </a:lnTo>
                <a:lnTo>
                  <a:pt x="758" y="377"/>
                </a:lnTo>
                <a:lnTo>
                  <a:pt x="816" y="354"/>
                </a:lnTo>
                <a:lnTo>
                  <a:pt x="870" y="321"/>
                </a:lnTo>
                <a:lnTo>
                  <a:pt x="921" y="275"/>
                </a:lnTo>
                <a:lnTo>
                  <a:pt x="933" y="275"/>
                </a:lnTo>
                <a:lnTo>
                  <a:pt x="945" y="278"/>
                </a:lnTo>
                <a:lnTo>
                  <a:pt x="959" y="279"/>
                </a:lnTo>
                <a:lnTo>
                  <a:pt x="972" y="282"/>
                </a:lnTo>
                <a:lnTo>
                  <a:pt x="986" y="284"/>
                </a:lnTo>
                <a:lnTo>
                  <a:pt x="999" y="287"/>
                </a:lnTo>
                <a:lnTo>
                  <a:pt x="1013" y="288"/>
                </a:lnTo>
                <a:lnTo>
                  <a:pt x="1026" y="291"/>
                </a:lnTo>
                <a:lnTo>
                  <a:pt x="1025" y="302"/>
                </a:lnTo>
                <a:lnTo>
                  <a:pt x="1023" y="315"/>
                </a:lnTo>
                <a:lnTo>
                  <a:pt x="1022" y="326"/>
                </a:lnTo>
                <a:lnTo>
                  <a:pt x="1020" y="339"/>
                </a:lnTo>
                <a:lnTo>
                  <a:pt x="1017" y="351"/>
                </a:lnTo>
                <a:lnTo>
                  <a:pt x="1016" y="365"/>
                </a:lnTo>
                <a:lnTo>
                  <a:pt x="1013" y="378"/>
                </a:lnTo>
                <a:lnTo>
                  <a:pt x="1011" y="393"/>
                </a:lnTo>
                <a:lnTo>
                  <a:pt x="1014" y="396"/>
                </a:lnTo>
                <a:lnTo>
                  <a:pt x="1019" y="399"/>
                </a:lnTo>
                <a:lnTo>
                  <a:pt x="1028" y="389"/>
                </a:lnTo>
                <a:lnTo>
                  <a:pt x="1037" y="377"/>
                </a:lnTo>
                <a:lnTo>
                  <a:pt x="1044" y="360"/>
                </a:lnTo>
                <a:lnTo>
                  <a:pt x="1050" y="345"/>
                </a:lnTo>
                <a:lnTo>
                  <a:pt x="1053" y="327"/>
                </a:lnTo>
                <a:lnTo>
                  <a:pt x="1056" y="311"/>
                </a:lnTo>
                <a:lnTo>
                  <a:pt x="1058" y="296"/>
                </a:lnTo>
                <a:lnTo>
                  <a:pt x="1059" y="284"/>
                </a:lnTo>
                <a:lnTo>
                  <a:pt x="1047" y="275"/>
                </a:lnTo>
                <a:lnTo>
                  <a:pt x="1038" y="272"/>
                </a:lnTo>
                <a:lnTo>
                  <a:pt x="1028" y="270"/>
                </a:lnTo>
                <a:lnTo>
                  <a:pt x="1019" y="269"/>
                </a:lnTo>
                <a:lnTo>
                  <a:pt x="1013" y="273"/>
                </a:lnTo>
                <a:lnTo>
                  <a:pt x="1010" y="281"/>
                </a:lnTo>
                <a:lnTo>
                  <a:pt x="989" y="275"/>
                </a:lnTo>
                <a:lnTo>
                  <a:pt x="971" y="270"/>
                </a:lnTo>
                <a:lnTo>
                  <a:pt x="954" y="264"/>
                </a:lnTo>
                <a:lnTo>
                  <a:pt x="941" y="258"/>
                </a:lnTo>
                <a:lnTo>
                  <a:pt x="927" y="249"/>
                </a:lnTo>
                <a:lnTo>
                  <a:pt x="914" y="242"/>
                </a:lnTo>
                <a:lnTo>
                  <a:pt x="900" y="233"/>
                </a:lnTo>
                <a:lnTo>
                  <a:pt x="888" y="224"/>
                </a:lnTo>
                <a:lnTo>
                  <a:pt x="888" y="221"/>
                </a:lnTo>
                <a:lnTo>
                  <a:pt x="888" y="218"/>
                </a:lnTo>
                <a:lnTo>
                  <a:pt x="908" y="198"/>
                </a:lnTo>
                <a:lnTo>
                  <a:pt x="920" y="174"/>
                </a:lnTo>
                <a:lnTo>
                  <a:pt x="923" y="146"/>
                </a:lnTo>
                <a:lnTo>
                  <a:pt x="923" y="116"/>
                </a:lnTo>
                <a:lnTo>
                  <a:pt x="918" y="83"/>
                </a:lnTo>
                <a:lnTo>
                  <a:pt x="914" y="53"/>
                </a:lnTo>
                <a:lnTo>
                  <a:pt x="911" y="24"/>
                </a:lnTo>
                <a:lnTo>
                  <a:pt x="912" y="2"/>
                </a:lnTo>
                <a:lnTo>
                  <a:pt x="929" y="0"/>
                </a:lnTo>
                <a:lnTo>
                  <a:pt x="948" y="3"/>
                </a:lnTo>
                <a:lnTo>
                  <a:pt x="968" y="8"/>
                </a:lnTo>
                <a:lnTo>
                  <a:pt x="990" y="17"/>
                </a:lnTo>
                <a:lnTo>
                  <a:pt x="1010" y="26"/>
                </a:lnTo>
                <a:lnTo>
                  <a:pt x="1031" y="35"/>
                </a:lnTo>
                <a:lnTo>
                  <a:pt x="1052" y="42"/>
                </a:lnTo>
                <a:lnTo>
                  <a:pt x="1073" y="51"/>
                </a:lnTo>
                <a:lnTo>
                  <a:pt x="1143" y="113"/>
                </a:lnTo>
                <a:lnTo>
                  <a:pt x="1179" y="185"/>
                </a:lnTo>
                <a:lnTo>
                  <a:pt x="1187" y="258"/>
                </a:lnTo>
                <a:lnTo>
                  <a:pt x="1173" y="338"/>
                </a:lnTo>
                <a:lnTo>
                  <a:pt x="1140" y="414"/>
                </a:lnTo>
                <a:lnTo>
                  <a:pt x="1097" y="491"/>
                </a:lnTo>
                <a:lnTo>
                  <a:pt x="1047" y="563"/>
                </a:lnTo>
                <a:lnTo>
                  <a:pt x="998" y="630"/>
                </a:lnTo>
                <a:lnTo>
                  <a:pt x="989" y="666"/>
                </a:lnTo>
                <a:lnTo>
                  <a:pt x="966" y="701"/>
                </a:lnTo>
                <a:lnTo>
                  <a:pt x="932" y="731"/>
                </a:lnTo>
                <a:lnTo>
                  <a:pt x="891" y="759"/>
                </a:lnTo>
                <a:lnTo>
                  <a:pt x="846" y="782"/>
                </a:lnTo>
                <a:lnTo>
                  <a:pt x="803" y="801"/>
                </a:lnTo>
                <a:lnTo>
                  <a:pt x="761" y="816"/>
                </a:lnTo>
                <a:lnTo>
                  <a:pt x="729" y="827"/>
                </a:lnTo>
                <a:lnTo>
                  <a:pt x="717" y="827"/>
                </a:lnTo>
                <a:lnTo>
                  <a:pt x="707" y="828"/>
                </a:lnTo>
                <a:lnTo>
                  <a:pt x="696" y="830"/>
                </a:lnTo>
                <a:lnTo>
                  <a:pt x="687" y="831"/>
                </a:lnTo>
                <a:lnTo>
                  <a:pt x="677" y="831"/>
                </a:lnTo>
                <a:lnTo>
                  <a:pt x="666" y="834"/>
                </a:lnTo>
                <a:lnTo>
                  <a:pt x="656" y="834"/>
                </a:lnTo>
                <a:lnTo>
                  <a:pt x="647" y="837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45320" y="4648320"/>
            <a:ext cx="15840" cy="23760"/>
          </a:xfrm>
          <a:custGeom>
            <a:avLst/>
            <a:gdLst/>
            <a:ahLst/>
            <a:rect l="l" t="t" r="r" b="b"/>
            <a:pathLst>
              <a:path w="21" h="28">
                <a:moveTo>
                  <a:pt x="9" y="28"/>
                </a:moveTo>
                <a:lnTo>
                  <a:pt x="4" y="27"/>
                </a:lnTo>
                <a:lnTo>
                  <a:pt x="0" y="24"/>
                </a:lnTo>
                <a:lnTo>
                  <a:pt x="0" y="16"/>
                </a:lnTo>
                <a:lnTo>
                  <a:pt x="0" y="10"/>
                </a:lnTo>
                <a:lnTo>
                  <a:pt x="3" y="4"/>
                </a:lnTo>
                <a:lnTo>
                  <a:pt x="7" y="3"/>
                </a:lnTo>
                <a:lnTo>
                  <a:pt x="12" y="1"/>
                </a:lnTo>
                <a:lnTo>
                  <a:pt x="21" y="0"/>
                </a:lnTo>
                <a:lnTo>
                  <a:pt x="19" y="6"/>
                </a:lnTo>
                <a:lnTo>
                  <a:pt x="19" y="18"/>
                </a:lnTo>
                <a:lnTo>
                  <a:pt x="16" y="27"/>
                </a:lnTo>
                <a:lnTo>
                  <a:pt x="9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99200" y="4632480"/>
            <a:ext cx="12600" cy="20520"/>
          </a:xfrm>
          <a:custGeom>
            <a:avLst/>
            <a:gdLst/>
            <a:ahLst/>
            <a:rect l="l" t="t" r="r" b="b"/>
            <a:pathLst>
              <a:path w="17" h="27">
                <a:moveTo>
                  <a:pt x="0" y="27"/>
                </a:moveTo>
                <a:lnTo>
                  <a:pt x="0" y="13"/>
                </a:lnTo>
                <a:lnTo>
                  <a:pt x="3" y="0"/>
                </a:lnTo>
                <a:lnTo>
                  <a:pt x="6" y="0"/>
                </a:lnTo>
                <a:lnTo>
                  <a:pt x="11" y="0"/>
                </a:lnTo>
                <a:lnTo>
                  <a:pt x="15" y="9"/>
                </a:lnTo>
                <a:lnTo>
                  <a:pt x="17" y="24"/>
                </a:lnTo>
                <a:lnTo>
                  <a:pt x="8" y="25"/>
                </a:lnTo>
                <a:lnTo>
                  <a:pt x="0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96240" y="4468680"/>
            <a:ext cx="157320" cy="169920"/>
          </a:xfrm>
          <a:custGeom>
            <a:avLst/>
            <a:gdLst/>
            <a:ahLst/>
            <a:rect l="l" t="t" r="r" b="b"/>
            <a:pathLst>
              <a:path w="198" h="213">
                <a:moveTo>
                  <a:pt x="17" y="213"/>
                </a:moveTo>
                <a:lnTo>
                  <a:pt x="0" y="188"/>
                </a:lnTo>
                <a:lnTo>
                  <a:pt x="5" y="153"/>
                </a:lnTo>
                <a:lnTo>
                  <a:pt x="23" y="114"/>
                </a:lnTo>
                <a:lnTo>
                  <a:pt x="53" y="77"/>
                </a:lnTo>
                <a:lnTo>
                  <a:pt x="89" y="41"/>
                </a:lnTo>
                <a:lnTo>
                  <a:pt x="128" y="14"/>
                </a:lnTo>
                <a:lnTo>
                  <a:pt x="165" y="0"/>
                </a:lnTo>
                <a:lnTo>
                  <a:pt x="198" y="6"/>
                </a:lnTo>
                <a:lnTo>
                  <a:pt x="194" y="9"/>
                </a:lnTo>
                <a:lnTo>
                  <a:pt x="189" y="14"/>
                </a:lnTo>
                <a:lnTo>
                  <a:pt x="183" y="15"/>
                </a:lnTo>
                <a:lnTo>
                  <a:pt x="179" y="18"/>
                </a:lnTo>
                <a:lnTo>
                  <a:pt x="170" y="21"/>
                </a:lnTo>
                <a:lnTo>
                  <a:pt x="161" y="26"/>
                </a:lnTo>
                <a:lnTo>
                  <a:pt x="140" y="45"/>
                </a:lnTo>
                <a:lnTo>
                  <a:pt x="119" y="66"/>
                </a:lnTo>
                <a:lnTo>
                  <a:pt x="96" y="87"/>
                </a:lnTo>
                <a:lnTo>
                  <a:pt x="78" y="110"/>
                </a:lnTo>
                <a:lnTo>
                  <a:pt x="60" y="132"/>
                </a:lnTo>
                <a:lnTo>
                  <a:pt x="47" y="156"/>
                </a:lnTo>
                <a:lnTo>
                  <a:pt x="35" y="183"/>
                </a:lnTo>
                <a:lnTo>
                  <a:pt x="29" y="213"/>
                </a:lnTo>
                <a:lnTo>
                  <a:pt x="20" y="213"/>
                </a:lnTo>
                <a:lnTo>
                  <a:pt x="17" y="213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77000" y="4572000"/>
            <a:ext cx="22320" cy="23760"/>
          </a:xfrm>
          <a:custGeom>
            <a:avLst/>
            <a:gdLst/>
            <a:ahLst/>
            <a:rect l="l" t="t" r="r" b="b"/>
            <a:pathLst>
              <a:path w="27" h="28">
                <a:moveTo>
                  <a:pt x="8" y="28"/>
                </a:moveTo>
                <a:lnTo>
                  <a:pt x="2" y="18"/>
                </a:lnTo>
                <a:lnTo>
                  <a:pt x="0" y="12"/>
                </a:lnTo>
                <a:lnTo>
                  <a:pt x="3" y="6"/>
                </a:lnTo>
                <a:lnTo>
                  <a:pt x="9" y="0"/>
                </a:lnTo>
                <a:lnTo>
                  <a:pt x="14" y="0"/>
                </a:lnTo>
                <a:lnTo>
                  <a:pt x="20" y="0"/>
                </a:lnTo>
                <a:lnTo>
                  <a:pt x="23" y="3"/>
                </a:lnTo>
                <a:lnTo>
                  <a:pt x="26" y="10"/>
                </a:lnTo>
                <a:lnTo>
                  <a:pt x="27" y="19"/>
                </a:lnTo>
                <a:lnTo>
                  <a:pt x="24" y="28"/>
                </a:lnTo>
                <a:lnTo>
                  <a:pt x="15" y="28"/>
                </a:lnTo>
                <a:lnTo>
                  <a:pt x="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18480" y="4444920"/>
            <a:ext cx="182520" cy="117720"/>
          </a:xfrm>
          <a:custGeom>
            <a:avLst/>
            <a:gdLst/>
            <a:ahLst/>
            <a:rect l="l" t="t" r="r" b="b"/>
            <a:pathLst>
              <a:path w="229" h="149">
                <a:moveTo>
                  <a:pt x="16" y="149"/>
                </a:moveTo>
                <a:lnTo>
                  <a:pt x="0" y="132"/>
                </a:lnTo>
                <a:lnTo>
                  <a:pt x="9" y="108"/>
                </a:lnTo>
                <a:lnTo>
                  <a:pt x="34" y="81"/>
                </a:lnTo>
                <a:lnTo>
                  <a:pt x="73" y="54"/>
                </a:lnTo>
                <a:lnTo>
                  <a:pt x="117" y="29"/>
                </a:lnTo>
                <a:lnTo>
                  <a:pt x="162" y="9"/>
                </a:lnTo>
                <a:lnTo>
                  <a:pt x="201" y="0"/>
                </a:lnTo>
                <a:lnTo>
                  <a:pt x="229" y="6"/>
                </a:lnTo>
                <a:lnTo>
                  <a:pt x="229" y="8"/>
                </a:lnTo>
                <a:lnTo>
                  <a:pt x="229" y="14"/>
                </a:lnTo>
                <a:lnTo>
                  <a:pt x="198" y="32"/>
                </a:lnTo>
                <a:lnTo>
                  <a:pt x="172" y="53"/>
                </a:lnTo>
                <a:lnTo>
                  <a:pt x="148" y="74"/>
                </a:lnTo>
                <a:lnTo>
                  <a:pt x="127" y="96"/>
                </a:lnTo>
                <a:lnTo>
                  <a:pt x="103" y="114"/>
                </a:lnTo>
                <a:lnTo>
                  <a:pt x="79" y="131"/>
                </a:lnTo>
                <a:lnTo>
                  <a:pt x="49" y="141"/>
                </a:lnTo>
                <a:lnTo>
                  <a:pt x="16" y="14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34200" y="4460760"/>
            <a:ext cx="260280" cy="66960"/>
          </a:xfrm>
          <a:custGeom>
            <a:avLst/>
            <a:gdLst/>
            <a:ahLst/>
            <a:rect l="l" t="t" r="r" b="b"/>
            <a:pathLst>
              <a:path w="327" h="84">
                <a:moveTo>
                  <a:pt x="180" y="84"/>
                </a:moveTo>
                <a:lnTo>
                  <a:pt x="155" y="78"/>
                </a:lnTo>
                <a:lnTo>
                  <a:pt x="129" y="70"/>
                </a:lnTo>
                <a:lnTo>
                  <a:pt x="104" y="61"/>
                </a:lnTo>
                <a:lnTo>
                  <a:pt x="81" y="54"/>
                </a:lnTo>
                <a:lnTo>
                  <a:pt x="57" y="42"/>
                </a:lnTo>
                <a:lnTo>
                  <a:pt x="36" y="30"/>
                </a:lnTo>
                <a:lnTo>
                  <a:pt x="17" y="15"/>
                </a:lnTo>
                <a:lnTo>
                  <a:pt x="0" y="0"/>
                </a:lnTo>
                <a:lnTo>
                  <a:pt x="18" y="1"/>
                </a:lnTo>
                <a:lnTo>
                  <a:pt x="41" y="9"/>
                </a:lnTo>
                <a:lnTo>
                  <a:pt x="65" y="18"/>
                </a:lnTo>
                <a:lnTo>
                  <a:pt x="92" y="31"/>
                </a:lnTo>
                <a:lnTo>
                  <a:pt x="119" y="43"/>
                </a:lnTo>
                <a:lnTo>
                  <a:pt x="147" y="55"/>
                </a:lnTo>
                <a:lnTo>
                  <a:pt x="174" y="64"/>
                </a:lnTo>
                <a:lnTo>
                  <a:pt x="203" y="72"/>
                </a:lnTo>
                <a:lnTo>
                  <a:pt x="210" y="67"/>
                </a:lnTo>
                <a:lnTo>
                  <a:pt x="227" y="63"/>
                </a:lnTo>
                <a:lnTo>
                  <a:pt x="246" y="55"/>
                </a:lnTo>
                <a:lnTo>
                  <a:pt x="269" y="49"/>
                </a:lnTo>
                <a:lnTo>
                  <a:pt x="290" y="42"/>
                </a:lnTo>
                <a:lnTo>
                  <a:pt x="308" y="36"/>
                </a:lnTo>
                <a:lnTo>
                  <a:pt x="320" y="31"/>
                </a:lnTo>
                <a:lnTo>
                  <a:pt x="327" y="31"/>
                </a:lnTo>
                <a:lnTo>
                  <a:pt x="309" y="45"/>
                </a:lnTo>
                <a:lnTo>
                  <a:pt x="293" y="57"/>
                </a:lnTo>
                <a:lnTo>
                  <a:pt x="275" y="64"/>
                </a:lnTo>
                <a:lnTo>
                  <a:pt x="258" y="73"/>
                </a:lnTo>
                <a:lnTo>
                  <a:pt x="239" y="76"/>
                </a:lnTo>
                <a:lnTo>
                  <a:pt x="219" y="81"/>
                </a:lnTo>
                <a:lnTo>
                  <a:pt x="200" y="82"/>
                </a:lnTo>
                <a:lnTo>
                  <a:pt x="180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07400" y="3757680"/>
            <a:ext cx="826920" cy="744480"/>
          </a:xfrm>
          <a:custGeom>
            <a:avLst/>
            <a:gdLst/>
            <a:ahLst/>
            <a:rect l="l" t="t" r="r" b="b"/>
            <a:pathLst>
              <a:path w="1042" h="939">
                <a:moveTo>
                  <a:pt x="333" y="939"/>
                </a:moveTo>
                <a:lnTo>
                  <a:pt x="315" y="929"/>
                </a:lnTo>
                <a:lnTo>
                  <a:pt x="298" y="924"/>
                </a:lnTo>
                <a:lnTo>
                  <a:pt x="280" y="918"/>
                </a:lnTo>
                <a:lnTo>
                  <a:pt x="265" y="914"/>
                </a:lnTo>
                <a:lnTo>
                  <a:pt x="249" y="908"/>
                </a:lnTo>
                <a:lnTo>
                  <a:pt x="235" y="903"/>
                </a:lnTo>
                <a:lnTo>
                  <a:pt x="222" y="894"/>
                </a:lnTo>
                <a:lnTo>
                  <a:pt x="211" y="885"/>
                </a:lnTo>
                <a:lnTo>
                  <a:pt x="201" y="881"/>
                </a:lnTo>
                <a:lnTo>
                  <a:pt x="192" y="876"/>
                </a:lnTo>
                <a:lnTo>
                  <a:pt x="183" y="872"/>
                </a:lnTo>
                <a:lnTo>
                  <a:pt x="174" y="869"/>
                </a:lnTo>
                <a:lnTo>
                  <a:pt x="165" y="864"/>
                </a:lnTo>
                <a:lnTo>
                  <a:pt x="157" y="860"/>
                </a:lnTo>
                <a:lnTo>
                  <a:pt x="150" y="857"/>
                </a:lnTo>
                <a:lnTo>
                  <a:pt x="145" y="857"/>
                </a:lnTo>
                <a:lnTo>
                  <a:pt x="147" y="824"/>
                </a:lnTo>
                <a:lnTo>
                  <a:pt x="151" y="792"/>
                </a:lnTo>
                <a:lnTo>
                  <a:pt x="156" y="761"/>
                </a:lnTo>
                <a:lnTo>
                  <a:pt x="162" y="729"/>
                </a:lnTo>
                <a:lnTo>
                  <a:pt x="166" y="698"/>
                </a:lnTo>
                <a:lnTo>
                  <a:pt x="171" y="666"/>
                </a:lnTo>
                <a:lnTo>
                  <a:pt x="174" y="636"/>
                </a:lnTo>
                <a:lnTo>
                  <a:pt x="178" y="608"/>
                </a:lnTo>
                <a:lnTo>
                  <a:pt x="168" y="606"/>
                </a:lnTo>
                <a:lnTo>
                  <a:pt x="162" y="609"/>
                </a:lnTo>
                <a:lnTo>
                  <a:pt x="157" y="612"/>
                </a:lnTo>
                <a:lnTo>
                  <a:pt x="156" y="618"/>
                </a:lnTo>
                <a:lnTo>
                  <a:pt x="153" y="627"/>
                </a:lnTo>
                <a:lnTo>
                  <a:pt x="147" y="638"/>
                </a:lnTo>
                <a:lnTo>
                  <a:pt x="142" y="633"/>
                </a:lnTo>
                <a:lnTo>
                  <a:pt x="141" y="630"/>
                </a:lnTo>
                <a:lnTo>
                  <a:pt x="138" y="623"/>
                </a:lnTo>
                <a:lnTo>
                  <a:pt x="133" y="612"/>
                </a:lnTo>
                <a:lnTo>
                  <a:pt x="126" y="612"/>
                </a:lnTo>
                <a:lnTo>
                  <a:pt x="118" y="612"/>
                </a:lnTo>
                <a:lnTo>
                  <a:pt x="118" y="624"/>
                </a:lnTo>
                <a:lnTo>
                  <a:pt x="121" y="636"/>
                </a:lnTo>
                <a:lnTo>
                  <a:pt x="123" y="641"/>
                </a:lnTo>
                <a:lnTo>
                  <a:pt x="127" y="648"/>
                </a:lnTo>
                <a:lnTo>
                  <a:pt x="132" y="656"/>
                </a:lnTo>
                <a:lnTo>
                  <a:pt x="138" y="665"/>
                </a:lnTo>
                <a:lnTo>
                  <a:pt x="132" y="684"/>
                </a:lnTo>
                <a:lnTo>
                  <a:pt x="127" y="705"/>
                </a:lnTo>
                <a:lnTo>
                  <a:pt x="124" y="725"/>
                </a:lnTo>
                <a:lnTo>
                  <a:pt x="123" y="747"/>
                </a:lnTo>
                <a:lnTo>
                  <a:pt x="118" y="768"/>
                </a:lnTo>
                <a:lnTo>
                  <a:pt x="115" y="789"/>
                </a:lnTo>
                <a:lnTo>
                  <a:pt x="112" y="812"/>
                </a:lnTo>
                <a:lnTo>
                  <a:pt x="109" y="834"/>
                </a:lnTo>
                <a:lnTo>
                  <a:pt x="91" y="831"/>
                </a:lnTo>
                <a:lnTo>
                  <a:pt x="76" y="830"/>
                </a:lnTo>
                <a:lnTo>
                  <a:pt x="63" y="825"/>
                </a:lnTo>
                <a:lnTo>
                  <a:pt x="49" y="821"/>
                </a:lnTo>
                <a:lnTo>
                  <a:pt x="36" y="815"/>
                </a:lnTo>
                <a:lnTo>
                  <a:pt x="22" y="810"/>
                </a:lnTo>
                <a:lnTo>
                  <a:pt x="10" y="804"/>
                </a:lnTo>
                <a:lnTo>
                  <a:pt x="0" y="800"/>
                </a:lnTo>
                <a:lnTo>
                  <a:pt x="0" y="776"/>
                </a:lnTo>
                <a:lnTo>
                  <a:pt x="4" y="755"/>
                </a:lnTo>
                <a:lnTo>
                  <a:pt x="9" y="735"/>
                </a:lnTo>
                <a:lnTo>
                  <a:pt x="18" y="717"/>
                </a:lnTo>
                <a:lnTo>
                  <a:pt x="25" y="699"/>
                </a:lnTo>
                <a:lnTo>
                  <a:pt x="34" y="683"/>
                </a:lnTo>
                <a:lnTo>
                  <a:pt x="43" y="663"/>
                </a:lnTo>
                <a:lnTo>
                  <a:pt x="52" y="645"/>
                </a:lnTo>
                <a:lnTo>
                  <a:pt x="57" y="612"/>
                </a:lnTo>
                <a:lnTo>
                  <a:pt x="61" y="582"/>
                </a:lnTo>
                <a:lnTo>
                  <a:pt x="66" y="552"/>
                </a:lnTo>
                <a:lnTo>
                  <a:pt x="70" y="525"/>
                </a:lnTo>
                <a:lnTo>
                  <a:pt x="73" y="497"/>
                </a:lnTo>
                <a:lnTo>
                  <a:pt x="79" y="468"/>
                </a:lnTo>
                <a:lnTo>
                  <a:pt x="85" y="438"/>
                </a:lnTo>
                <a:lnTo>
                  <a:pt x="97" y="410"/>
                </a:lnTo>
                <a:lnTo>
                  <a:pt x="115" y="369"/>
                </a:lnTo>
                <a:lnTo>
                  <a:pt x="133" y="332"/>
                </a:lnTo>
                <a:lnTo>
                  <a:pt x="148" y="294"/>
                </a:lnTo>
                <a:lnTo>
                  <a:pt x="163" y="258"/>
                </a:lnTo>
                <a:lnTo>
                  <a:pt x="174" y="219"/>
                </a:lnTo>
                <a:lnTo>
                  <a:pt x="187" y="182"/>
                </a:lnTo>
                <a:lnTo>
                  <a:pt x="199" y="143"/>
                </a:lnTo>
                <a:lnTo>
                  <a:pt x="213" y="102"/>
                </a:lnTo>
                <a:lnTo>
                  <a:pt x="222" y="86"/>
                </a:lnTo>
                <a:lnTo>
                  <a:pt x="234" y="75"/>
                </a:lnTo>
                <a:lnTo>
                  <a:pt x="246" y="71"/>
                </a:lnTo>
                <a:lnTo>
                  <a:pt x="261" y="71"/>
                </a:lnTo>
                <a:lnTo>
                  <a:pt x="274" y="72"/>
                </a:lnTo>
                <a:lnTo>
                  <a:pt x="291" y="77"/>
                </a:lnTo>
                <a:lnTo>
                  <a:pt x="307" y="81"/>
                </a:lnTo>
                <a:lnTo>
                  <a:pt x="325" y="87"/>
                </a:lnTo>
                <a:lnTo>
                  <a:pt x="322" y="141"/>
                </a:lnTo>
                <a:lnTo>
                  <a:pt x="322" y="192"/>
                </a:lnTo>
                <a:lnTo>
                  <a:pt x="324" y="239"/>
                </a:lnTo>
                <a:lnTo>
                  <a:pt x="333" y="284"/>
                </a:lnTo>
                <a:lnTo>
                  <a:pt x="346" y="324"/>
                </a:lnTo>
                <a:lnTo>
                  <a:pt x="370" y="366"/>
                </a:lnTo>
                <a:lnTo>
                  <a:pt x="403" y="407"/>
                </a:lnTo>
                <a:lnTo>
                  <a:pt x="451" y="450"/>
                </a:lnTo>
                <a:lnTo>
                  <a:pt x="514" y="465"/>
                </a:lnTo>
                <a:lnTo>
                  <a:pt x="564" y="453"/>
                </a:lnTo>
                <a:lnTo>
                  <a:pt x="603" y="420"/>
                </a:lnTo>
                <a:lnTo>
                  <a:pt x="633" y="372"/>
                </a:lnTo>
                <a:lnTo>
                  <a:pt x="649" y="312"/>
                </a:lnTo>
                <a:lnTo>
                  <a:pt x="660" y="251"/>
                </a:lnTo>
                <a:lnTo>
                  <a:pt x="660" y="191"/>
                </a:lnTo>
                <a:lnTo>
                  <a:pt x="655" y="140"/>
                </a:lnTo>
                <a:lnTo>
                  <a:pt x="649" y="128"/>
                </a:lnTo>
                <a:lnTo>
                  <a:pt x="646" y="119"/>
                </a:lnTo>
                <a:lnTo>
                  <a:pt x="643" y="110"/>
                </a:lnTo>
                <a:lnTo>
                  <a:pt x="643" y="102"/>
                </a:lnTo>
                <a:lnTo>
                  <a:pt x="645" y="99"/>
                </a:lnTo>
                <a:lnTo>
                  <a:pt x="648" y="96"/>
                </a:lnTo>
                <a:lnTo>
                  <a:pt x="645" y="87"/>
                </a:lnTo>
                <a:lnTo>
                  <a:pt x="642" y="80"/>
                </a:lnTo>
                <a:lnTo>
                  <a:pt x="637" y="71"/>
                </a:lnTo>
                <a:lnTo>
                  <a:pt x="634" y="63"/>
                </a:lnTo>
                <a:lnTo>
                  <a:pt x="627" y="48"/>
                </a:lnTo>
                <a:lnTo>
                  <a:pt x="622" y="38"/>
                </a:lnTo>
                <a:lnTo>
                  <a:pt x="633" y="35"/>
                </a:lnTo>
                <a:lnTo>
                  <a:pt x="643" y="29"/>
                </a:lnTo>
                <a:lnTo>
                  <a:pt x="652" y="20"/>
                </a:lnTo>
                <a:lnTo>
                  <a:pt x="663" y="12"/>
                </a:lnTo>
                <a:lnTo>
                  <a:pt x="672" y="3"/>
                </a:lnTo>
                <a:lnTo>
                  <a:pt x="685" y="0"/>
                </a:lnTo>
                <a:lnTo>
                  <a:pt x="699" y="0"/>
                </a:lnTo>
                <a:lnTo>
                  <a:pt x="718" y="9"/>
                </a:lnTo>
                <a:lnTo>
                  <a:pt x="750" y="48"/>
                </a:lnTo>
                <a:lnTo>
                  <a:pt x="777" y="96"/>
                </a:lnTo>
                <a:lnTo>
                  <a:pt x="801" y="150"/>
                </a:lnTo>
                <a:lnTo>
                  <a:pt x="823" y="210"/>
                </a:lnTo>
                <a:lnTo>
                  <a:pt x="841" y="270"/>
                </a:lnTo>
                <a:lnTo>
                  <a:pt x="858" y="332"/>
                </a:lnTo>
                <a:lnTo>
                  <a:pt x="873" y="389"/>
                </a:lnTo>
                <a:lnTo>
                  <a:pt x="889" y="441"/>
                </a:lnTo>
                <a:lnTo>
                  <a:pt x="891" y="467"/>
                </a:lnTo>
                <a:lnTo>
                  <a:pt x="892" y="492"/>
                </a:lnTo>
                <a:lnTo>
                  <a:pt x="895" y="516"/>
                </a:lnTo>
                <a:lnTo>
                  <a:pt x="901" y="540"/>
                </a:lnTo>
                <a:lnTo>
                  <a:pt x="907" y="563"/>
                </a:lnTo>
                <a:lnTo>
                  <a:pt x="919" y="585"/>
                </a:lnTo>
                <a:lnTo>
                  <a:pt x="933" y="608"/>
                </a:lnTo>
                <a:lnTo>
                  <a:pt x="951" y="630"/>
                </a:lnTo>
                <a:lnTo>
                  <a:pt x="961" y="653"/>
                </a:lnTo>
                <a:lnTo>
                  <a:pt x="969" y="677"/>
                </a:lnTo>
                <a:lnTo>
                  <a:pt x="973" y="699"/>
                </a:lnTo>
                <a:lnTo>
                  <a:pt x="979" y="723"/>
                </a:lnTo>
                <a:lnTo>
                  <a:pt x="985" y="743"/>
                </a:lnTo>
                <a:lnTo>
                  <a:pt x="997" y="762"/>
                </a:lnTo>
                <a:lnTo>
                  <a:pt x="1015" y="780"/>
                </a:lnTo>
                <a:lnTo>
                  <a:pt x="1042" y="797"/>
                </a:lnTo>
                <a:lnTo>
                  <a:pt x="1036" y="801"/>
                </a:lnTo>
                <a:lnTo>
                  <a:pt x="1024" y="812"/>
                </a:lnTo>
                <a:lnTo>
                  <a:pt x="1006" y="824"/>
                </a:lnTo>
                <a:lnTo>
                  <a:pt x="987" y="839"/>
                </a:lnTo>
                <a:lnTo>
                  <a:pt x="966" y="851"/>
                </a:lnTo>
                <a:lnTo>
                  <a:pt x="948" y="863"/>
                </a:lnTo>
                <a:lnTo>
                  <a:pt x="934" y="870"/>
                </a:lnTo>
                <a:lnTo>
                  <a:pt x="930" y="875"/>
                </a:lnTo>
                <a:lnTo>
                  <a:pt x="921" y="864"/>
                </a:lnTo>
                <a:lnTo>
                  <a:pt x="916" y="857"/>
                </a:lnTo>
                <a:lnTo>
                  <a:pt x="912" y="849"/>
                </a:lnTo>
                <a:lnTo>
                  <a:pt x="907" y="845"/>
                </a:lnTo>
                <a:lnTo>
                  <a:pt x="900" y="837"/>
                </a:lnTo>
                <a:lnTo>
                  <a:pt x="894" y="831"/>
                </a:lnTo>
                <a:lnTo>
                  <a:pt x="886" y="821"/>
                </a:lnTo>
                <a:lnTo>
                  <a:pt x="877" y="812"/>
                </a:lnTo>
                <a:lnTo>
                  <a:pt x="876" y="774"/>
                </a:lnTo>
                <a:lnTo>
                  <a:pt x="876" y="738"/>
                </a:lnTo>
                <a:lnTo>
                  <a:pt x="874" y="701"/>
                </a:lnTo>
                <a:lnTo>
                  <a:pt x="873" y="665"/>
                </a:lnTo>
                <a:lnTo>
                  <a:pt x="867" y="627"/>
                </a:lnTo>
                <a:lnTo>
                  <a:pt x="861" y="593"/>
                </a:lnTo>
                <a:lnTo>
                  <a:pt x="849" y="560"/>
                </a:lnTo>
                <a:lnTo>
                  <a:pt x="835" y="531"/>
                </a:lnTo>
                <a:lnTo>
                  <a:pt x="829" y="531"/>
                </a:lnTo>
                <a:lnTo>
                  <a:pt x="823" y="531"/>
                </a:lnTo>
                <a:lnTo>
                  <a:pt x="826" y="548"/>
                </a:lnTo>
                <a:lnTo>
                  <a:pt x="832" y="579"/>
                </a:lnTo>
                <a:lnTo>
                  <a:pt x="838" y="620"/>
                </a:lnTo>
                <a:lnTo>
                  <a:pt x="846" y="665"/>
                </a:lnTo>
                <a:lnTo>
                  <a:pt x="850" y="708"/>
                </a:lnTo>
                <a:lnTo>
                  <a:pt x="853" y="749"/>
                </a:lnTo>
                <a:lnTo>
                  <a:pt x="852" y="780"/>
                </a:lnTo>
                <a:lnTo>
                  <a:pt x="847" y="800"/>
                </a:lnTo>
                <a:lnTo>
                  <a:pt x="825" y="798"/>
                </a:lnTo>
                <a:lnTo>
                  <a:pt x="805" y="797"/>
                </a:lnTo>
                <a:lnTo>
                  <a:pt x="787" y="795"/>
                </a:lnTo>
                <a:lnTo>
                  <a:pt x="769" y="795"/>
                </a:lnTo>
                <a:lnTo>
                  <a:pt x="751" y="794"/>
                </a:lnTo>
                <a:lnTo>
                  <a:pt x="733" y="792"/>
                </a:lnTo>
                <a:lnTo>
                  <a:pt x="715" y="792"/>
                </a:lnTo>
                <a:lnTo>
                  <a:pt x="697" y="792"/>
                </a:lnTo>
                <a:lnTo>
                  <a:pt x="649" y="807"/>
                </a:lnTo>
                <a:lnTo>
                  <a:pt x="604" y="824"/>
                </a:lnTo>
                <a:lnTo>
                  <a:pt x="559" y="840"/>
                </a:lnTo>
                <a:lnTo>
                  <a:pt x="516" y="858"/>
                </a:lnTo>
                <a:lnTo>
                  <a:pt x="471" y="876"/>
                </a:lnTo>
                <a:lnTo>
                  <a:pt x="429" y="896"/>
                </a:lnTo>
                <a:lnTo>
                  <a:pt x="385" y="917"/>
                </a:lnTo>
                <a:lnTo>
                  <a:pt x="343" y="939"/>
                </a:lnTo>
                <a:lnTo>
                  <a:pt x="336" y="939"/>
                </a:lnTo>
                <a:lnTo>
                  <a:pt x="333" y="93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04160" y="4419720"/>
            <a:ext cx="31680" cy="28440"/>
          </a:xfrm>
          <a:custGeom>
            <a:avLst/>
            <a:gdLst/>
            <a:ahLst/>
            <a:rect l="l" t="t" r="r" b="b"/>
            <a:pathLst>
              <a:path w="41" h="34">
                <a:moveTo>
                  <a:pt x="0" y="34"/>
                </a:moveTo>
                <a:lnTo>
                  <a:pt x="0" y="24"/>
                </a:lnTo>
                <a:lnTo>
                  <a:pt x="2" y="18"/>
                </a:lnTo>
                <a:lnTo>
                  <a:pt x="3" y="10"/>
                </a:lnTo>
                <a:lnTo>
                  <a:pt x="8" y="1"/>
                </a:lnTo>
                <a:lnTo>
                  <a:pt x="17" y="0"/>
                </a:lnTo>
                <a:lnTo>
                  <a:pt x="24" y="3"/>
                </a:lnTo>
                <a:lnTo>
                  <a:pt x="30" y="7"/>
                </a:lnTo>
                <a:lnTo>
                  <a:pt x="41" y="13"/>
                </a:lnTo>
                <a:lnTo>
                  <a:pt x="29" y="18"/>
                </a:lnTo>
                <a:lnTo>
                  <a:pt x="20" y="24"/>
                </a:lnTo>
                <a:lnTo>
                  <a:pt x="9" y="28"/>
                </a:lnTo>
                <a:lnTo>
                  <a:pt x="0" y="3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88040" y="4286160"/>
            <a:ext cx="173160" cy="66600"/>
          </a:xfrm>
          <a:custGeom>
            <a:avLst/>
            <a:gdLst/>
            <a:ahLst/>
            <a:rect l="l" t="t" r="r" b="b"/>
            <a:pathLst>
              <a:path w="217" h="86">
                <a:moveTo>
                  <a:pt x="142" y="86"/>
                </a:moveTo>
                <a:lnTo>
                  <a:pt x="123" y="81"/>
                </a:lnTo>
                <a:lnTo>
                  <a:pt x="105" y="78"/>
                </a:lnTo>
                <a:lnTo>
                  <a:pt x="85" y="75"/>
                </a:lnTo>
                <a:lnTo>
                  <a:pt x="66" y="72"/>
                </a:lnTo>
                <a:lnTo>
                  <a:pt x="46" y="68"/>
                </a:lnTo>
                <a:lnTo>
                  <a:pt x="28" y="63"/>
                </a:lnTo>
                <a:lnTo>
                  <a:pt x="12" y="59"/>
                </a:lnTo>
                <a:lnTo>
                  <a:pt x="0" y="56"/>
                </a:lnTo>
                <a:lnTo>
                  <a:pt x="0" y="42"/>
                </a:lnTo>
                <a:lnTo>
                  <a:pt x="3" y="35"/>
                </a:lnTo>
                <a:lnTo>
                  <a:pt x="7" y="27"/>
                </a:lnTo>
                <a:lnTo>
                  <a:pt x="16" y="20"/>
                </a:lnTo>
                <a:lnTo>
                  <a:pt x="30" y="18"/>
                </a:lnTo>
                <a:lnTo>
                  <a:pt x="46" y="18"/>
                </a:lnTo>
                <a:lnTo>
                  <a:pt x="61" y="18"/>
                </a:lnTo>
                <a:lnTo>
                  <a:pt x="78" y="18"/>
                </a:lnTo>
                <a:lnTo>
                  <a:pt x="91" y="15"/>
                </a:lnTo>
                <a:lnTo>
                  <a:pt x="108" y="14"/>
                </a:lnTo>
                <a:lnTo>
                  <a:pt x="123" y="8"/>
                </a:lnTo>
                <a:lnTo>
                  <a:pt x="139" y="0"/>
                </a:lnTo>
                <a:lnTo>
                  <a:pt x="142" y="2"/>
                </a:lnTo>
                <a:lnTo>
                  <a:pt x="150" y="8"/>
                </a:lnTo>
                <a:lnTo>
                  <a:pt x="159" y="15"/>
                </a:lnTo>
                <a:lnTo>
                  <a:pt x="171" y="26"/>
                </a:lnTo>
                <a:lnTo>
                  <a:pt x="183" y="36"/>
                </a:lnTo>
                <a:lnTo>
                  <a:pt x="196" y="48"/>
                </a:lnTo>
                <a:lnTo>
                  <a:pt x="207" y="57"/>
                </a:lnTo>
                <a:lnTo>
                  <a:pt x="217" y="66"/>
                </a:lnTo>
                <a:lnTo>
                  <a:pt x="210" y="69"/>
                </a:lnTo>
                <a:lnTo>
                  <a:pt x="202" y="74"/>
                </a:lnTo>
                <a:lnTo>
                  <a:pt x="192" y="77"/>
                </a:lnTo>
                <a:lnTo>
                  <a:pt x="181" y="80"/>
                </a:lnTo>
                <a:lnTo>
                  <a:pt x="169" y="81"/>
                </a:lnTo>
                <a:lnTo>
                  <a:pt x="159" y="83"/>
                </a:lnTo>
                <a:lnTo>
                  <a:pt x="148" y="84"/>
                </a:lnTo>
                <a:lnTo>
                  <a:pt x="142" y="8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13320" y="4081320"/>
            <a:ext cx="260640" cy="243000"/>
          </a:xfrm>
          <a:custGeom>
            <a:avLst/>
            <a:gdLst/>
            <a:ahLst/>
            <a:rect l="l" t="t" r="r" b="b"/>
            <a:pathLst>
              <a:path w="329" h="308">
                <a:moveTo>
                  <a:pt x="128" y="308"/>
                </a:moveTo>
                <a:lnTo>
                  <a:pt x="60" y="284"/>
                </a:lnTo>
                <a:lnTo>
                  <a:pt x="21" y="257"/>
                </a:lnTo>
                <a:lnTo>
                  <a:pt x="2" y="225"/>
                </a:lnTo>
                <a:lnTo>
                  <a:pt x="0" y="189"/>
                </a:lnTo>
                <a:lnTo>
                  <a:pt x="9" y="149"/>
                </a:lnTo>
                <a:lnTo>
                  <a:pt x="29" y="105"/>
                </a:lnTo>
                <a:lnTo>
                  <a:pt x="48" y="59"/>
                </a:lnTo>
                <a:lnTo>
                  <a:pt x="68" y="9"/>
                </a:lnTo>
                <a:lnTo>
                  <a:pt x="102" y="0"/>
                </a:lnTo>
                <a:lnTo>
                  <a:pt x="134" y="0"/>
                </a:lnTo>
                <a:lnTo>
                  <a:pt x="162" y="6"/>
                </a:lnTo>
                <a:lnTo>
                  <a:pt x="191" y="20"/>
                </a:lnTo>
                <a:lnTo>
                  <a:pt x="216" y="35"/>
                </a:lnTo>
                <a:lnTo>
                  <a:pt x="245" y="53"/>
                </a:lnTo>
                <a:lnTo>
                  <a:pt x="272" y="74"/>
                </a:lnTo>
                <a:lnTo>
                  <a:pt x="305" y="95"/>
                </a:lnTo>
                <a:lnTo>
                  <a:pt x="311" y="102"/>
                </a:lnTo>
                <a:lnTo>
                  <a:pt x="317" y="108"/>
                </a:lnTo>
                <a:lnTo>
                  <a:pt x="321" y="114"/>
                </a:lnTo>
                <a:lnTo>
                  <a:pt x="326" y="120"/>
                </a:lnTo>
                <a:lnTo>
                  <a:pt x="326" y="125"/>
                </a:lnTo>
                <a:lnTo>
                  <a:pt x="326" y="132"/>
                </a:lnTo>
                <a:lnTo>
                  <a:pt x="321" y="140"/>
                </a:lnTo>
                <a:lnTo>
                  <a:pt x="317" y="152"/>
                </a:lnTo>
                <a:lnTo>
                  <a:pt x="321" y="156"/>
                </a:lnTo>
                <a:lnTo>
                  <a:pt x="329" y="161"/>
                </a:lnTo>
                <a:lnTo>
                  <a:pt x="320" y="194"/>
                </a:lnTo>
                <a:lnTo>
                  <a:pt x="303" y="224"/>
                </a:lnTo>
                <a:lnTo>
                  <a:pt x="281" y="248"/>
                </a:lnTo>
                <a:lnTo>
                  <a:pt x="254" y="267"/>
                </a:lnTo>
                <a:lnTo>
                  <a:pt x="222" y="281"/>
                </a:lnTo>
                <a:lnTo>
                  <a:pt x="191" y="293"/>
                </a:lnTo>
                <a:lnTo>
                  <a:pt x="158" y="302"/>
                </a:lnTo>
                <a:lnTo>
                  <a:pt x="128" y="308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48400" y="4203720"/>
            <a:ext cx="128520" cy="106200"/>
          </a:xfrm>
          <a:custGeom>
            <a:avLst/>
            <a:gdLst/>
            <a:ahLst/>
            <a:rect l="l" t="t" r="r" b="b"/>
            <a:pathLst>
              <a:path w="162" h="135">
                <a:moveTo>
                  <a:pt x="0" y="135"/>
                </a:moveTo>
                <a:lnTo>
                  <a:pt x="3" y="120"/>
                </a:lnTo>
                <a:lnTo>
                  <a:pt x="11" y="106"/>
                </a:lnTo>
                <a:lnTo>
                  <a:pt x="18" y="90"/>
                </a:lnTo>
                <a:lnTo>
                  <a:pt x="30" y="75"/>
                </a:lnTo>
                <a:lnTo>
                  <a:pt x="41" y="57"/>
                </a:lnTo>
                <a:lnTo>
                  <a:pt x="51" y="39"/>
                </a:lnTo>
                <a:lnTo>
                  <a:pt x="60" y="21"/>
                </a:lnTo>
                <a:lnTo>
                  <a:pt x="69" y="6"/>
                </a:lnTo>
                <a:lnTo>
                  <a:pt x="81" y="3"/>
                </a:lnTo>
                <a:lnTo>
                  <a:pt x="92" y="1"/>
                </a:lnTo>
                <a:lnTo>
                  <a:pt x="102" y="0"/>
                </a:lnTo>
                <a:lnTo>
                  <a:pt x="113" y="1"/>
                </a:lnTo>
                <a:lnTo>
                  <a:pt x="123" y="1"/>
                </a:lnTo>
                <a:lnTo>
                  <a:pt x="135" y="6"/>
                </a:lnTo>
                <a:lnTo>
                  <a:pt x="147" y="12"/>
                </a:lnTo>
                <a:lnTo>
                  <a:pt x="162" y="21"/>
                </a:lnTo>
                <a:lnTo>
                  <a:pt x="162" y="27"/>
                </a:lnTo>
                <a:lnTo>
                  <a:pt x="162" y="33"/>
                </a:lnTo>
                <a:lnTo>
                  <a:pt x="138" y="42"/>
                </a:lnTo>
                <a:lnTo>
                  <a:pt x="119" y="55"/>
                </a:lnTo>
                <a:lnTo>
                  <a:pt x="99" y="69"/>
                </a:lnTo>
                <a:lnTo>
                  <a:pt x="83" y="85"/>
                </a:lnTo>
                <a:lnTo>
                  <a:pt x="63" y="100"/>
                </a:lnTo>
                <a:lnTo>
                  <a:pt x="45" y="114"/>
                </a:lnTo>
                <a:lnTo>
                  <a:pt x="24" y="126"/>
                </a:lnTo>
                <a:lnTo>
                  <a:pt x="0" y="135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35840" y="4033800"/>
            <a:ext cx="253800" cy="243000"/>
          </a:xfrm>
          <a:custGeom>
            <a:avLst/>
            <a:gdLst/>
            <a:ahLst/>
            <a:rect l="l" t="t" r="r" b="b"/>
            <a:pathLst>
              <a:path w="319" h="306">
                <a:moveTo>
                  <a:pt x="82" y="305"/>
                </a:moveTo>
                <a:lnTo>
                  <a:pt x="48" y="287"/>
                </a:lnTo>
                <a:lnTo>
                  <a:pt x="24" y="257"/>
                </a:lnTo>
                <a:lnTo>
                  <a:pt x="7" y="215"/>
                </a:lnTo>
                <a:lnTo>
                  <a:pt x="1" y="168"/>
                </a:lnTo>
                <a:lnTo>
                  <a:pt x="0" y="120"/>
                </a:lnTo>
                <a:lnTo>
                  <a:pt x="9" y="78"/>
                </a:lnTo>
                <a:lnTo>
                  <a:pt x="21" y="44"/>
                </a:lnTo>
                <a:lnTo>
                  <a:pt x="43" y="24"/>
                </a:lnTo>
                <a:lnTo>
                  <a:pt x="70" y="17"/>
                </a:lnTo>
                <a:lnTo>
                  <a:pt x="100" y="9"/>
                </a:lnTo>
                <a:lnTo>
                  <a:pt x="130" y="3"/>
                </a:lnTo>
                <a:lnTo>
                  <a:pt x="160" y="0"/>
                </a:lnTo>
                <a:lnTo>
                  <a:pt x="189" y="0"/>
                </a:lnTo>
                <a:lnTo>
                  <a:pt x="217" y="6"/>
                </a:lnTo>
                <a:lnTo>
                  <a:pt x="243" y="20"/>
                </a:lnTo>
                <a:lnTo>
                  <a:pt x="265" y="44"/>
                </a:lnTo>
                <a:lnTo>
                  <a:pt x="268" y="44"/>
                </a:lnTo>
                <a:lnTo>
                  <a:pt x="271" y="44"/>
                </a:lnTo>
                <a:lnTo>
                  <a:pt x="276" y="42"/>
                </a:lnTo>
                <a:lnTo>
                  <a:pt x="283" y="41"/>
                </a:lnTo>
                <a:lnTo>
                  <a:pt x="289" y="29"/>
                </a:lnTo>
                <a:lnTo>
                  <a:pt x="297" y="27"/>
                </a:lnTo>
                <a:lnTo>
                  <a:pt x="306" y="27"/>
                </a:lnTo>
                <a:lnTo>
                  <a:pt x="319" y="32"/>
                </a:lnTo>
                <a:lnTo>
                  <a:pt x="303" y="38"/>
                </a:lnTo>
                <a:lnTo>
                  <a:pt x="291" y="45"/>
                </a:lnTo>
                <a:lnTo>
                  <a:pt x="277" y="53"/>
                </a:lnTo>
                <a:lnTo>
                  <a:pt x="267" y="65"/>
                </a:lnTo>
                <a:lnTo>
                  <a:pt x="265" y="74"/>
                </a:lnTo>
                <a:lnTo>
                  <a:pt x="261" y="92"/>
                </a:lnTo>
                <a:lnTo>
                  <a:pt x="252" y="114"/>
                </a:lnTo>
                <a:lnTo>
                  <a:pt x="243" y="143"/>
                </a:lnTo>
                <a:lnTo>
                  <a:pt x="231" y="168"/>
                </a:lnTo>
                <a:lnTo>
                  <a:pt x="220" y="195"/>
                </a:lnTo>
                <a:lnTo>
                  <a:pt x="210" y="216"/>
                </a:lnTo>
                <a:lnTo>
                  <a:pt x="205" y="233"/>
                </a:lnTo>
                <a:lnTo>
                  <a:pt x="198" y="261"/>
                </a:lnTo>
                <a:lnTo>
                  <a:pt x="192" y="282"/>
                </a:lnTo>
                <a:lnTo>
                  <a:pt x="186" y="296"/>
                </a:lnTo>
                <a:lnTo>
                  <a:pt x="178" y="303"/>
                </a:lnTo>
                <a:lnTo>
                  <a:pt x="165" y="305"/>
                </a:lnTo>
                <a:lnTo>
                  <a:pt x="145" y="306"/>
                </a:lnTo>
                <a:lnTo>
                  <a:pt x="118" y="305"/>
                </a:lnTo>
                <a:lnTo>
                  <a:pt x="82" y="305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77080" y="4257720"/>
            <a:ext cx="27000" cy="11160"/>
          </a:xfrm>
          <a:custGeom>
            <a:avLst/>
            <a:gdLst/>
            <a:ahLst/>
            <a:rect l="l" t="t" r="r" b="b"/>
            <a:pathLst>
              <a:path w="33" h="15">
                <a:moveTo>
                  <a:pt x="2" y="15"/>
                </a:moveTo>
                <a:lnTo>
                  <a:pt x="0" y="12"/>
                </a:lnTo>
                <a:lnTo>
                  <a:pt x="0" y="11"/>
                </a:lnTo>
                <a:lnTo>
                  <a:pt x="0" y="6"/>
                </a:lnTo>
                <a:lnTo>
                  <a:pt x="0" y="0"/>
                </a:lnTo>
                <a:lnTo>
                  <a:pt x="6" y="0"/>
                </a:lnTo>
                <a:lnTo>
                  <a:pt x="12" y="3"/>
                </a:lnTo>
                <a:lnTo>
                  <a:pt x="20" y="5"/>
                </a:lnTo>
                <a:lnTo>
                  <a:pt x="33" y="8"/>
                </a:lnTo>
                <a:lnTo>
                  <a:pt x="24" y="12"/>
                </a:lnTo>
                <a:lnTo>
                  <a:pt x="17" y="14"/>
                </a:lnTo>
                <a:lnTo>
                  <a:pt x="9" y="14"/>
                </a:lnTo>
                <a:lnTo>
                  <a:pt x="2" y="1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5840" y="3510000"/>
            <a:ext cx="1033560" cy="745920"/>
          </a:xfrm>
          <a:custGeom>
            <a:avLst/>
            <a:gdLst/>
            <a:ahLst/>
            <a:rect l="l" t="t" r="r" b="b"/>
            <a:pathLst>
              <a:path w="1304" h="940">
                <a:moveTo>
                  <a:pt x="110" y="940"/>
                </a:moveTo>
                <a:lnTo>
                  <a:pt x="101" y="931"/>
                </a:lnTo>
                <a:lnTo>
                  <a:pt x="98" y="922"/>
                </a:lnTo>
                <a:lnTo>
                  <a:pt x="95" y="913"/>
                </a:lnTo>
                <a:lnTo>
                  <a:pt x="95" y="907"/>
                </a:lnTo>
                <a:lnTo>
                  <a:pt x="93" y="892"/>
                </a:lnTo>
                <a:lnTo>
                  <a:pt x="89" y="880"/>
                </a:lnTo>
                <a:lnTo>
                  <a:pt x="77" y="881"/>
                </a:lnTo>
                <a:lnTo>
                  <a:pt x="69" y="883"/>
                </a:lnTo>
                <a:lnTo>
                  <a:pt x="69" y="869"/>
                </a:lnTo>
                <a:lnTo>
                  <a:pt x="74" y="859"/>
                </a:lnTo>
                <a:lnTo>
                  <a:pt x="78" y="848"/>
                </a:lnTo>
                <a:lnTo>
                  <a:pt x="83" y="839"/>
                </a:lnTo>
                <a:lnTo>
                  <a:pt x="86" y="829"/>
                </a:lnTo>
                <a:lnTo>
                  <a:pt x="90" y="820"/>
                </a:lnTo>
                <a:lnTo>
                  <a:pt x="93" y="809"/>
                </a:lnTo>
                <a:lnTo>
                  <a:pt x="95" y="799"/>
                </a:lnTo>
                <a:lnTo>
                  <a:pt x="86" y="793"/>
                </a:lnTo>
                <a:lnTo>
                  <a:pt x="80" y="790"/>
                </a:lnTo>
                <a:lnTo>
                  <a:pt x="74" y="785"/>
                </a:lnTo>
                <a:lnTo>
                  <a:pt x="65" y="781"/>
                </a:lnTo>
                <a:lnTo>
                  <a:pt x="35" y="788"/>
                </a:lnTo>
                <a:lnTo>
                  <a:pt x="15" y="785"/>
                </a:lnTo>
                <a:lnTo>
                  <a:pt x="3" y="770"/>
                </a:lnTo>
                <a:lnTo>
                  <a:pt x="0" y="751"/>
                </a:lnTo>
                <a:lnTo>
                  <a:pt x="2" y="725"/>
                </a:lnTo>
                <a:lnTo>
                  <a:pt x="9" y="701"/>
                </a:lnTo>
                <a:lnTo>
                  <a:pt x="18" y="677"/>
                </a:lnTo>
                <a:lnTo>
                  <a:pt x="32" y="662"/>
                </a:lnTo>
                <a:lnTo>
                  <a:pt x="41" y="659"/>
                </a:lnTo>
                <a:lnTo>
                  <a:pt x="47" y="658"/>
                </a:lnTo>
                <a:lnTo>
                  <a:pt x="50" y="655"/>
                </a:lnTo>
                <a:lnTo>
                  <a:pt x="56" y="652"/>
                </a:lnTo>
                <a:lnTo>
                  <a:pt x="56" y="637"/>
                </a:lnTo>
                <a:lnTo>
                  <a:pt x="59" y="628"/>
                </a:lnTo>
                <a:lnTo>
                  <a:pt x="62" y="622"/>
                </a:lnTo>
                <a:lnTo>
                  <a:pt x="66" y="617"/>
                </a:lnTo>
                <a:lnTo>
                  <a:pt x="71" y="613"/>
                </a:lnTo>
                <a:lnTo>
                  <a:pt x="78" y="608"/>
                </a:lnTo>
                <a:lnTo>
                  <a:pt x="84" y="602"/>
                </a:lnTo>
                <a:lnTo>
                  <a:pt x="93" y="595"/>
                </a:lnTo>
                <a:lnTo>
                  <a:pt x="89" y="590"/>
                </a:lnTo>
                <a:lnTo>
                  <a:pt x="86" y="586"/>
                </a:lnTo>
                <a:lnTo>
                  <a:pt x="78" y="586"/>
                </a:lnTo>
                <a:lnTo>
                  <a:pt x="72" y="586"/>
                </a:lnTo>
                <a:lnTo>
                  <a:pt x="68" y="587"/>
                </a:lnTo>
                <a:lnTo>
                  <a:pt x="66" y="590"/>
                </a:lnTo>
                <a:lnTo>
                  <a:pt x="54" y="586"/>
                </a:lnTo>
                <a:lnTo>
                  <a:pt x="48" y="580"/>
                </a:lnTo>
                <a:lnTo>
                  <a:pt x="42" y="572"/>
                </a:lnTo>
                <a:lnTo>
                  <a:pt x="42" y="565"/>
                </a:lnTo>
                <a:lnTo>
                  <a:pt x="42" y="554"/>
                </a:lnTo>
                <a:lnTo>
                  <a:pt x="44" y="545"/>
                </a:lnTo>
                <a:lnTo>
                  <a:pt x="45" y="538"/>
                </a:lnTo>
                <a:lnTo>
                  <a:pt x="48" y="532"/>
                </a:lnTo>
                <a:lnTo>
                  <a:pt x="62" y="529"/>
                </a:lnTo>
                <a:lnTo>
                  <a:pt x="80" y="526"/>
                </a:lnTo>
                <a:lnTo>
                  <a:pt x="96" y="520"/>
                </a:lnTo>
                <a:lnTo>
                  <a:pt x="114" y="514"/>
                </a:lnTo>
                <a:lnTo>
                  <a:pt x="129" y="503"/>
                </a:lnTo>
                <a:lnTo>
                  <a:pt x="143" y="491"/>
                </a:lnTo>
                <a:lnTo>
                  <a:pt x="150" y="476"/>
                </a:lnTo>
                <a:lnTo>
                  <a:pt x="155" y="458"/>
                </a:lnTo>
                <a:lnTo>
                  <a:pt x="150" y="455"/>
                </a:lnTo>
                <a:lnTo>
                  <a:pt x="147" y="454"/>
                </a:lnTo>
                <a:lnTo>
                  <a:pt x="143" y="452"/>
                </a:lnTo>
                <a:lnTo>
                  <a:pt x="138" y="452"/>
                </a:lnTo>
                <a:lnTo>
                  <a:pt x="131" y="451"/>
                </a:lnTo>
                <a:lnTo>
                  <a:pt x="123" y="451"/>
                </a:lnTo>
                <a:lnTo>
                  <a:pt x="105" y="433"/>
                </a:lnTo>
                <a:lnTo>
                  <a:pt x="99" y="415"/>
                </a:lnTo>
                <a:lnTo>
                  <a:pt x="99" y="394"/>
                </a:lnTo>
                <a:lnTo>
                  <a:pt x="107" y="373"/>
                </a:lnTo>
                <a:lnTo>
                  <a:pt x="117" y="350"/>
                </a:lnTo>
                <a:lnTo>
                  <a:pt x="131" y="331"/>
                </a:lnTo>
                <a:lnTo>
                  <a:pt x="144" y="313"/>
                </a:lnTo>
                <a:lnTo>
                  <a:pt x="158" y="301"/>
                </a:lnTo>
                <a:lnTo>
                  <a:pt x="161" y="301"/>
                </a:lnTo>
                <a:lnTo>
                  <a:pt x="167" y="301"/>
                </a:lnTo>
                <a:lnTo>
                  <a:pt x="170" y="307"/>
                </a:lnTo>
                <a:lnTo>
                  <a:pt x="174" y="313"/>
                </a:lnTo>
                <a:lnTo>
                  <a:pt x="182" y="310"/>
                </a:lnTo>
                <a:lnTo>
                  <a:pt x="189" y="307"/>
                </a:lnTo>
                <a:lnTo>
                  <a:pt x="192" y="304"/>
                </a:lnTo>
                <a:lnTo>
                  <a:pt x="195" y="301"/>
                </a:lnTo>
                <a:lnTo>
                  <a:pt x="195" y="295"/>
                </a:lnTo>
                <a:lnTo>
                  <a:pt x="197" y="290"/>
                </a:lnTo>
                <a:lnTo>
                  <a:pt x="197" y="283"/>
                </a:lnTo>
                <a:lnTo>
                  <a:pt x="197" y="275"/>
                </a:lnTo>
                <a:lnTo>
                  <a:pt x="212" y="263"/>
                </a:lnTo>
                <a:lnTo>
                  <a:pt x="228" y="259"/>
                </a:lnTo>
                <a:lnTo>
                  <a:pt x="234" y="256"/>
                </a:lnTo>
                <a:lnTo>
                  <a:pt x="242" y="254"/>
                </a:lnTo>
                <a:lnTo>
                  <a:pt x="251" y="248"/>
                </a:lnTo>
                <a:lnTo>
                  <a:pt x="260" y="242"/>
                </a:lnTo>
                <a:lnTo>
                  <a:pt x="251" y="235"/>
                </a:lnTo>
                <a:lnTo>
                  <a:pt x="245" y="233"/>
                </a:lnTo>
                <a:lnTo>
                  <a:pt x="237" y="232"/>
                </a:lnTo>
                <a:lnTo>
                  <a:pt x="231" y="232"/>
                </a:lnTo>
                <a:lnTo>
                  <a:pt x="231" y="223"/>
                </a:lnTo>
                <a:lnTo>
                  <a:pt x="231" y="214"/>
                </a:lnTo>
                <a:lnTo>
                  <a:pt x="233" y="207"/>
                </a:lnTo>
                <a:lnTo>
                  <a:pt x="236" y="201"/>
                </a:lnTo>
                <a:lnTo>
                  <a:pt x="239" y="193"/>
                </a:lnTo>
                <a:lnTo>
                  <a:pt x="245" y="189"/>
                </a:lnTo>
                <a:lnTo>
                  <a:pt x="251" y="186"/>
                </a:lnTo>
                <a:lnTo>
                  <a:pt x="260" y="186"/>
                </a:lnTo>
                <a:lnTo>
                  <a:pt x="261" y="195"/>
                </a:lnTo>
                <a:lnTo>
                  <a:pt x="263" y="201"/>
                </a:lnTo>
                <a:lnTo>
                  <a:pt x="264" y="202"/>
                </a:lnTo>
                <a:lnTo>
                  <a:pt x="266" y="207"/>
                </a:lnTo>
                <a:lnTo>
                  <a:pt x="270" y="202"/>
                </a:lnTo>
                <a:lnTo>
                  <a:pt x="276" y="195"/>
                </a:lnTo>
                <a:lnTo>
                  <a:pt x="279" y="181"/>
                </a:lnTo>
                <a:lnTo>
                  <a:pt x="284" y="168"/>
                </a:lnTo>
                <a:lnTo>
                  <a:pt x="285" y="151"/>
                </a:lnTo>
                <a:lnTo>
                  <a:pt x="287" y="138"/>
                </a:lnTo>
                <a:lnTo>
                  <a:pt x="288" y="124"/>
                </a:lnTo>
                <a:lnTo>
                  <a:pt x="293" y="117"/>
                </a:lnTo>
                <a:lnTo>
                  <a:pt x="303" y="117"/>
                </a:lnTo>
                <a:lnTo>
                  <a:pt x="315" y="123"/>
                </a:lnTo>
                <a:lnTo>
                  <a:pt x="327" y="130"/>
                </a:lnTo>
                <a:lnTo>
                  <a:pt x="341" y="139"/>
                </a:lnTo>
                <a:lnTo>
                  <a:pt x="353" y="147"/>
                </a:lnTo>
                <a:lnTo>
                  <a:pt x="369" y="154"/>
                </a:lnTo>
                <a:lnTo>
                  <a:pt x="386" y="159"/>
                </a:lnTo>
                <a:lnTo>
                  <a:pt x="407" y="162"/>
                </a:lnTo>
                <a:lnTo>
                  <a:pt x="411" y="150"/>
                </a:lnTo>
                <a:lnTo>
                  <a:pt x="417" y="142"/>
                </a:lnTo>
                <a:lnTo>
                  <a:pt x="420" y="136"/>
                </a:lnTo>
                <a:lnTo>
                  <a:pt x="425" y="136"/>
                </a:lnTo>
                <a:lnTo>
                  <a:pt x="428" y="135"/>
                </a:lnTo>
                <a:lnTo>
                  <a:pt x="435" y="135"/>
                </a:lnTo>
                <a:lnTo>
                  <a:pt x="446" y="132"/>
                </a:lnTo>
                <a:lnTo>
                  <a:pt x="461" y="130"/>
                </a:lnTo>
                <a:lnTo>
                  <a:pt x="462" y="124"/>
                </a:lnTo>
                <a:lnTo>
                  <a:pt x="464" y="120"/>
                </a:lnTo>
                <a:lnTo>
                  <a:pt x="464" y="115"/>
                </a:lnTo>
                <a:lnTo>
                  <a:pt x="465" y="109"/>
                </a:lnTo>
                <a:lnTo>
                  <a:pt x="456" y="99"/>
                </a:lnTo>
                <a:lnTo>
                  <a:pt x="449" y="90"/>
                </a:lnTo>
                <a:lnTo>
                  <a:pt x="440" y="81"/>
                </a:lnTo>
                <a:lnTo>
                  <a:pt x="432" y="75"/>
                </a:lnTo>
                <a:lnTo>
                  <a:pt x="423" y="66"/>
                </a:lnTo>
                <a:lnTo>
                  <a:pt x="414" y="61"/>
                </a:lnTo>
                <a:lnTo>
                  <a:pt x="405" y="57"/>
                </a:lnTo>
                <a:lnTo>
                  <a:pt x="396" y="55"/>
                </a:lnTo>
                <a:lnTo>
                  <a:pt x="398" y="49"/>
                </a:lnTo>
                <a:lnTo>
                  <a:pt x="399" y="45"/>
                </a:lnTo>
                <a:lnTo>
                  <a:pt x="417" y="40"/>
                </a:lnTo>
                <a:lnTo>
                  <a:pt x="435" y="39"/>
                </a:lnTo>
                <a:lnTo>
                  <a:pt x="452" y="37"/>
                </a:lnTo>
                <a:lnTo>
                  <a:pt x="470" y="40"/>
                </a:lnTo>
                <a:lnTo>
                  <a:pt x="483" y="46"/>
                </a:lnTo>
                <a:lnTo>
                  <a:pt x="498" y="57"/>
                </a:lnTo>
                <a:lnTo>
                  <a:pt x="509" y="72"/>
                </a:lnTo>
                <a:lnTo>
                  <a:pt x="518" y="96"/>
                </a:lnTo>
                <a:lnTo>
                  <a:pt x="546" y="94"/>
                </a:lnTo>
                <a:lnTo>
                  <a:pt x="570" y="84"/>
                </a:lnTo>
                <a:lnTo>
                  <a:pt x="588" y="67"/>
                </a:lnTo>
                <a:lnTo>
                  <a:pt x="606" y="49"/>
                </a:lnTo>
                <a:lnTo>
                  <a:pt x="624" y="28"/>
                </a:lnTo>
                <a:lnTo>
                  <a:pt x="647" y="12"/>
                </a:lnTo>
                <a:lnTo>
                  <a:pt x="674" y="1"/>
                </a:lnTo>
                <a:lnTo>
                  <a:pt x="710" y="0"/>
                </a:lnTo>
                <a:lnTo>
                  <a:pt x="714" y="3"/>
                </a:lnTo>
                <a:lnTo>
                  <a:pt x="719" y="9"/>
                </a:lnTo>
                <a:lnTo>
                  <a:pt x="722" y="15"/>
                </a:lnTo>
                <a:lnTo>
                  <a:pt x="725" y="27"/>
                </a:lnTo>
                <a:lnTo>
                  <a:pt x="726" y="28"/>
                </a:lnTo>
                <a:lnTo>
                  <a:pt x="729" y="31"/>
                </a:lnTo>
                <a:lnTo>
                  <a:pt x="734" y="31"/>
                </a:lnTo>
                <a:lnTo>
                  <a:pt x="743" y="33"/>
                </a:lnTo>
                <a:lnTo>
                  <a:pt x="750" y="22"/>
                </a:lnTo>
                <a:lnTo>
                  <a:pt x="758" y="16"/>
                </a:lnTo>
                <a:lnTo>
                  <a:pt x="761" y="15"/>
                </a:lnTo>
                <a:lnTo>
                  <a:pt x="765" y="15"/>
                </a:lnTo>
                <a:lnTo>
                  <a:pt x="773" y="15"/>
                </a:lnTo>
                <a:lnTo>
                  <a:pt x="783" y="15"/>
                </a:lnTo>
                <a:lnTo>
                  <a:pt x="785" y="15"/>
                </a:lnTo>
                <a:lnTo>
                  <a:pt x="786" y="19"/>
                </a:lnTo>
                <a:lnTo>
                  <a:pt x="786" y="24"/>
                </a:lnTo>
                <a:lnTo>
                  <a:pt x="788" y="31"/>
                </a:lnTo>
                <a:lnTo>
                  <a:pt x="789" y="39"/>
                </a:lnTo>
                <a:lnTo>
                  <a:pt x="791" y="52"/>
                </a:lnTo>
                <a:lnTo>
                  <a:pt x="804" y="61"/>
                </a:lnTo>
                <a:lnTo>
                  <a:pt x="819" y="66"/>
                </a:lnTo>
                <a:lnTo>
                  <a:pt x="833" y="66"/>
                </a:lnTo>
                <a:lnTo>
                  <a:pt x="849" y="63"/>
                </a:lnTo>
                <a:lnTo>
                  <a:pt x="863" y="55"/>
                </a:lnTo>
                <a:lnTo>
                  <a:pt x="876" y="48"/>
                </a:lnTo>
                <a:lnTo>
                  <a:pt x="887" y="36"/>
                </a:lnTo>
                <a:lnTo>
                  <a:pt x="897" y="24"/>
                </a:lnTo>
                <a:lnTo>
                  <a:pt x="902" y="24"/>
                </a:lnTo>
                <a:lnTo>
                  <a:pt x="908" y="24"/>
                </a:lnTo>
                <a:lnTo>
                  <a:pt x="903" y="39"/>
                </a:lnTo>
                <a:lnTo>
                  <a:pt x="897" y="54"/>
                </a:lnTo>
                <a:lnTo>
                  <a:pt x="890" y="66"/>
                </a:lnTo>
                <a:lnTo>
                  <a:pt x="887" y="76"/>
                </a:lnTo>
                <a:lnTo>
                  <a:pt x="884" y="84"/>
                </a:lnTo>
                <a:lnTo>
                  <a:pt x="890" y="90"/>
                </a:lnTo>
                <a:lnTo>
                  <a:pt x="905" y="94"/>
                </a:lnTo>
                <a:lnTo>
                  <a:pt x="930" y="100"/>
                </a:lnTo>
                <a:lnTo>
                  <a:pt x="935" y="112"/>
                </a:lnTo>
                <a:lnTo>
                  <a:pt x="941" y="120"/>
                </a:lnTo>
                <a:lnTo>
                  <a:pt x="945" y="121"/>
                </a:lnTo>
                <a:lnTo>
                  <a:pt x="951" y="121"/>
                </a:lnTo>
                <a:lnTo>
                  <a:pt x="956" y="117"/>
                </a:lnTo>
                <a:lnTo>
                  <a:pt x="962" y="114"/>
                </a:lnTo>
                <a:lnTo>
                  <a:pt x="971" y="111"/>
                </a:lnTo>
                <a:lnTo>
                  <a:pt x="981" y="112"/>
                </a:lnTo>
                <a:lnTo>
                  <a:pt x="981" y="118"/>
                </a:lnTo>
                <a:lnTo>
                  <a:pt x="984" y="126"/>
                </a:lnTo>
                <a:lnTo>
                  <a:pt x="989" y="135"/>
                </a:lnTo>
                <a:lnTo>
                  <a:pt x="993" y="145"/>
                </a:lnTo>
                <a:lnTo>
                  <a:pt x="998" y="154"/>
                </a:lnTo>
                <a:lnTo>
                  <a:pt x="1004" y="163"/>
                </a:lnTo>
                <a:lnTo>
                  <a:pt x="1010" y="171"/>
                </a:lnTo>
                <a:lnTo>
                  <a:pt x="1019" y="178"/>
                </a:lnTo>
                <a:lnTo>
                  <a:pt x="1023" y="175"/>
                </a:lnTo>
                <a:lnTo>
                  <a:pt x="1034" y="172"/>
                </a:lnTo>
                <a:lnTo>
                  <a:pt x="1046" y="169"/>
                </a:lnTo>
                <a:lnTo>
                  <a:pt x="1059" y="168"/>
                </a:lnTo>
                <a:lnTo>
                  <a:pt x="1071" y="163"/>
                </a:lnTo>
                <a:lnTo>
                  <a:pt x="1083" y="163"/>
                </a:lnTo>
                <a:lnTo>
                  <a:pt x="1094" y="163"/>
                </a:lnTo>
                <a:lnTo>
                  <a:pt x="1104" y="166"/>
                </a:lnTo>
                <a:lnTo>
                  <a:pt x="1106" y="177"/>
                </a:lnTo>
                <a:lnTo>
                  <a:pt x="1107" y="187"/>
                </a:lnTo>
                <a:lnTo>
                  <a:pt x="1106" y="195"/>
                </a:lnTo>
                <a:lnTo>
                  <a:pt x="1106" y="204"/>
                </a:lnTo>
                <a:lnTo>
                  <a:pt x="1103" y="210"/>
                </a:lnTo>
                <a:lnTo>
                  <a:pt x="1100" y="219"/>
                </a:lnTo>
                <a:lnTo>
                  <a:pt x="1095" y="227"/>
                </a:lnTo>
                <a:lnTo>
                  <a:pt x="1092" y="239"/>
                </a:lnTo>
                <a:lnTo>
                  <a:pt x="1100" y="248"/>
                </a:lnTo>
                <a:lnTo>
                  <a:pt x="1109" y="256"/>
                </a:lnTo>
                <a:lnTo>
                  <a:pt x="1115" y="248"/>
                </a:lnTo>
                <a:lnTo>
                  <a:pt x="1122" y="242"/>
                </a:lnTo>
                <a:lnTo>
                  <a:pt x="1139" y="245"/>
                </a:lnTo>
                <a:lnTo>
                  <a:pt x="1145" y="257"/>
                </a:lnTo>
                <a:lnTo>
                  <a:pt x="1140" y="272"/>
                </a:lnTo>
                <a:lnTo>
                  <a:pt x="1136" y="289"/>
                </a:lnTo>
                <a:lnTo>
                  <a:pt x="1133" y="301"/>
                </a:lnTo>
                <a:lnTo>
                  <a:pt x="1137" y="308"/>
                </a:lnTo>
                <a:lnTo>
                  <a:pt x="1155" y="307"/>
                </a:lnTo>
                <a:lnTo>
                  <a:pt x="1191" y="295"/>
                </a:lnTo>
                <a:lnTo>
                  <a:pt x="1200" y="292"/>
                </a:lnTo>
                <a:lnTo>
                  <a:pt x="1211" y="290"/>
                </a:lnTo>
                <a:lnTo>
                  <a:pt x="1220" y="287"/>
                </a:lnTo>
                <a:lnTo>
                  <a:pt x="1230" y="287"/>
                </a:lnTo>
                <a:lnTo>
                  <a:pt x="1233" y="301"/>
                </a:lnTo>
                <a:lnTo>
                  <a:pt x="1235" y="314"/>
                </a:lnTo>
                <a:lnTo>
                  <a:pt x="1232" y="325"/>
                </a:lnTo>
                <a:lnTo>
                  <a:pt x="1230" y="335"/>
                </a:lnTo>
                <a:lnTo>
                  <a:pt x="1229" y="341"/>
                </a:lnTo>
                <a:lnTo>
                  <a:pt x="1233" y="346"/>
                </a:lnTo>
                <a:lnTo>
                  <a:pt x="1245" y="346"/>
                </a:lnTo>
                <a:lnTo>
                  <a:pt x="1268" y="344"/>
                </a:lnTo>
                <a:lnTo>
                  <a:pt x="1266" y="361"/>
                </a:lnTo>
                <a:lnTo>
                  <a:pt x="1262" y="379"/>
                </a:lnTo>
                <a:lnTo>
                  <a:pt x="1256" y="394"/>
                </a:lnTo>
                <a:lnTo>
                  <a:pt x="1251" y="410"/>
                </a:lnTo>
                <a:lnTo>
                  <a:pt x="1250" y="422"/>
                </a:lnTo>
                <a:lnTo>
                  <a:pt x="1257" y="436"/>
                </a:lnTo>
                <a:lnTo>
                  <a:pt x="1274" y="445"/>
                </a:lnTo>
                <a:lnTo>
                  <a:pt x="1304" y="455"/>
                </a:lnTo>
                <a:lnTo>
                  <a:pt x="1302" y="469"/>
                </a:lnTo>
                <a:lnTo>
                  <a:pt x="1301" y="482"/>
                </a:lnTo>
                <a:lnTo>
                  <a:pt x="1298" y="493"/>
                </a:lnTo>
                <a:lnTo>
                  <a:pt x="1295" y="503"/>
                </a:lnTo>
                <a:lnTo>
                  <a:pt x="1287" y="512"/>
                </a:lnTo>
                <a:lnTo>
                  <a:pt x="1283" y="523"/>
                </a:lnTo>
                <a:lnTo>
                  <a:pt x="1275" y="535"/>
                </a:lnTo>
                <a:lnTo>
                  <a:pt x="1271" y="550"/>
                </a:lnTo>
                <a:lnTo>
                  <a:pt x="1278" y="559"/>
                </a:lnTo>
                <a:lnTo>
                  <a:pt x="1286" y="568"/>
                </a:lnTo>
                <a:lnTo>
                  <a:pt x="1287" y="571"/>
                </a:lnTo>
                <a:lnTo>
                  <a:pt x="1290" y="577"/>
                </a:lnTo>
                <a:lnTo>
                  <a:pt x="1292" y="584"/>
                </a:lnTo>
                <a:lnTo>
                  <a:pt x="1293" y="595"/>
                </a:lnTo>
                <a:lnTo>
                  <a:pt x="1289" y="598"/>
                </a:lnTo>
                <a:lnTo>
                  <a:pt x="1289" y="601"/>
                </a:lnTo>
                <a:lnTo>
                  <a:pt x="1289" y="605"/>
                </a:lnTo>
                <a:lnTo>
                  <a:pt x="1289" y="613"/>
                </a:lnTo>
                <a:lnTo>
                  <a:pt x="1283" y="616"/>
                </a:lnTo>
                <a:lnTo>
                  <a:pt x="1280" y="622"/>
                </a:lnTo>
                <a:lnTo>
                  <a:pt x="1272" y="610"/>
                </a:lnTo>
                <a:lnTo>
                  <a:pt x="1268" y="602"/>
                </a:lnTo>
                <a:lnTo>
                  <a:pt x="1263" y="595"/>
                </a:lnTo>
                <a:lnTo>
                  <a:pt x="1262" y="592"/>
                </a:lnTo>
                <a:lnTo>
                  <a:pt x="1260" y="584"/>
                </a:lnTo>
                <a:lnTo>
                  <a:pt x="1260" y="581"/>
                </a:lnTo>
                <a:lnTo>
                  <a:pt x="1239" y="578"/>
                </a:lnTo>
                <a:lnTo>
                  <a:pt x="1214" y="578"/>
                </a:lnTo>
                <a:lnTo>
                  <a:pt x="1187" y="578"/>
                </a:lnTo>
                <a:lnTo>
                  <a:pt x="1160" y="580"/>
                </a:lnTo>
                <a:lnTo>
                  <a:pt x="1131" y="580"/>
                </a:lnTo>
                <a:lnTo>
                  <a:pt x="1109" y="580"/>
                </a:lnTo>
                <a:lnTo>
                  <a:pt x="1091" y="577"/>
                </a:lnTo>
                <a:lnTo>
                  <a:pt x="1080" y="572"/>
                </a:lnTo>
                <a:lnTo>
                  <a:pt x="1074" y="572"/>
                </a:lnTo>
                <a:lnTo>
                  <a:pt x="1068" y="572"/>
                </a:lnTo>
                <a:lnTo>
                  <a:pt x="1065" y="575"/>
                </a:lnTo>
                <a:lnTo>
                  <a:pt x="1064" y="578"/>
                </a:lnTo>
                <a:lnTo>
                  <a:pt x="1064" y="586"/>
                </a:lnTo>
                <a:lnTo>
                  <a:pt x="1067" y="593"/>
                </a:lnTo>
                <a:lnTo>
                  <a:pt x="1059" y="595"/>
                </a:lnTo>
                <a:lnTo>
                  <a:pt x="1053" y="596"/>
                </a:lnTo>
                <a:lnTo>
                  <a:pt x="1049" y="596"/>
                </a:lnTo>
                <a:lnTo>
                  <a:pt x="1044" y="596"/>
                </a:lnTo>
                <a:lnTo>
                  <a:pt x="1038" y="596"/>
                </a:lnTo>
                <a:lnTo>
                  <a:pt x="1031" y="598"/>
                </a:lnTo>
                <a:lnTo>
                  <a:pt x="1004" y="565"/>
                </a:lnTo>
                <a:lnTo>
                  <a:pt x="971" y="548"/>
                </a:lnTo>
                <a:lnTo>
                  <a:pt x="933" y="542"/>
                </a:lnTo>
                <a:lnTo>
                  <a:pt x="894" y="545"/>
                </a:lnTo>
                <a:lnTo>
                  <a:pt x="851" y="551"/>
                </a:lnTo>
                <a:lnTo>
                  <a:pt x="810" y="563"/>
                </a:lnTo>
                <a:lnTo>
                  <a:pt x="770" y="572"/>
                </a:lnTo>
                <a:lnTo>
                  <a:pt x="734" y="578"/>
                </a:lnTo>
                <a:lnTo>
                  <a:pt x="735" y="575"/>
                </a:lnTo>
                <a:lnTo>
                  <a:pt x="737" y="572"/>
                </a:lnTo>
                <a:lnTo>
                  <a:pt x="744" y="565"/>
                </a:lnTo>
                <a:lnTo>
                  <a:pt x="752" y="557"/>
                </a:lnTo>
                <a:lnTo>
                  <a:pt x="758" y="548"/>
                </a:lnTo>
                <a:lnTo>
                  <a:pt x="765" y="541"/>
                </a:lnTo>
                <a:lnTo>
                  <a:pt x="759" y="541"/>
                </a:lnTo>
                <a:lnTo>
                  <a:pt x="758" y="541"/>
                </a:lnTo>
                <a:lnTo>
                  <a:pt x="749" y="547"/>
                </a:lnTo>
                <a:lnTo>
                  <a:pt x="741" y="553"/>
                </a:lnTo>
                <a:lnTo>
                  <a:pt x="732" y="557"/>
                </a:lnTo>
                <a:lnTo>
                  <a:pt x="723" y="563"/>
                </a:lnTo>
                <a:lnTo>
                  <a:pt x="713" y="566"/>
                </a:lnTo>
                <a:lnTo>
                  <a:pt x="704" y="571"/>
                </a:lnTo>
                <a:lnTo>
                  <a:pt x="695" y="572"/>
                </a:lnTo>
                <a:lnTo>
                  <a:pt x="689" y="574"/>
                </a:lnTo>
                <a:lnTo>
                  <a:pt x="689" y="571"/>
                </a:lnTo>
                <a:lnTo>
                  <a:pt x="689" y="569"/>
                </a:lnTo>
                <a:lnTo>
                  <a:pt x="701" y="562"/>
                </a:lnTo>
                <a:lnTo>
                  <a:pt x="716" y="554"/>
                </a:lnTo>
                <a:lnTo>
                  <a:pt x="725" y="545"/>
                </a:lnTo>
                <a:lnTo>
                  <a:pt x="731" y="532"/>
                </a:lnTo>
                <a:lnTo>
                  <a:pt x="722" y="536"/>
                </a:lnTo>
                <a:lnTo>
                  <a:pt x="713" y="541"/>
                </a:lnTo>
                <a:lnTo>
                  <a:pt x="704" y="547"/>
                </a:lnTo>
                <a:lnTo>
                  <a:pt x="696" y="553"/>
                </a:lnTo>
                <a:lnTo>
                  <a:pt x="689" y="542"/>
                </a:lnTo>
                <a:lnTo>
                  <a:pt x="684" y="536"/>
                </a:lnTo>
                <a:lnTo>
                  <a:pt x="674" y="538"/>
                </a:lnTo>
                <a:lnTo>
                  <a:pt x="666" y="544"/>
                </a:lnTo>
                <a:lnTo>
                  <a:pt x="660" y="551"/>
                </a:lnTo>
                <a:lnTo>
                  <a:pt x="654" y="562"/>
                </a:lnTo>
                <a:lnTo>
                  <a:pt x="647" y="571"/>
                </a:lnTo>
                <a:lnTo>
                  <a:pt x="641" y="583"/>
                </a:lnTo>
                <a:lnTo>
                  <a:pt x="630" y="595"/>
                </a:lnTo>
                <a:lnTo>
                  <a:pt x="620" y="605"/>
                </a:lnTo>
                <a:lnTo>
                  <a:pt x="608" y="598"/>
                </a:lnTo>
                <a:lnTo>
                  <a:pt x="596" y="596"/>
                </a:lnTo>
                <a:lnTo>
                  <a:pt x="584" y="596"/>
                </a:lnTo>
                <a:lnTo>
                  <a:pt x="575" y="598"/>
                </a:lnTo>
                <a:lnTo>
                  <a:pt x="564" y="589"/>
                </a:lnTo>
                <a:lnTo>
                  <a:pt x="555" y="580"/>
                </a:lnTo>
                <a:lnTo>
                  <a:pt x="548" y="572"/>
                </a:lnTo>
                <a:lnTo>
                  <a:pt x="542" y="565"/>
                </a:lnTo>
                <a:lnTo>
                  <a:pt x="528" y="550"/>
                </a:lnTo>
                <a:lnTo>
                  <a:pt x="518" y="536"/>
                </a:lnTo>
                <a:lnTo>
                  <a:pt x="519" y="550"/>
                </a:lnTo>
                <a:lnTo>
                  <a:pt x="525" y="563"/>
                </a:lnTo>
                <a:lnTo>
                  <a:pt x="533" y="572"/>
                </a:lnTo>
                <a:lnTo>
                  <a:pt x="545" y="581"/>
                </a:lnTo>
                <a:lnTo>
                  <a:pt x="555" y="587"/>
                </a:lnTo>
                <a:lnTo>
                  <a:pt x="569" y="596"/>
                </a:lnTo>
                <a:lnTo>
                  <a:pt x="579" y="605"/>
                </a:lnTo>
                <a:lnTo>
                  <a:pt x="591" y="617"/>
                </a:lnTo>
                <a:lnTo>
                  <a:pt x="579" y="619"/>
                </a:lnTo>
                <a:lnTo>
                  <a:pt x="567" y="622"/>
                </a:lnTo>
                <a:lnTo>
                  <a:pt x="555" y="622"/>
                </a:lnTo>
                <a:lnTo>
                  <a:pt x="546" y="622"/>
                </a:lnTo>
                <a:lnTo>
                  <a:pt x="548" y="611"/>
                </a:lnTo>
                <a:lnTo>
                  <a:pt x="549" y="605"/>
                </a:lnTo>
                <a:lnTo>
                  <a:pt x="531" y="599"/>
                </a:lnTo>
                <a:lnTo>
                  <a:pt x="516" y="595"/>
                </a:lnTo>
                <a:lnTo>
                  <a:pt x="503" y="589"/>
                </a:lnTo>
                <a:lnTo>
                  <a:pt x="489" y="583"/>
                </a:lnTo>
                <a:lnTo>
                  <a:pt x="476" y="575"/>
                </a:lnTo>
                <a:lnTo>
                  <a:pt x="464" y="569"/>
                </a:lnTo>
                <a:lnTo>
                  <a:pt x="450" y="563"/>
                </a:lnTo>
                <a:lnTo>
                  <a:pt x="440" y="557"/>
                </a:lnTo>
                <a:lnTo>
                  <a:pt x="440" y="560"/>
                </a:lnTo>
                <a:lnTo>
                  <a:pt x="440" y="565"/>
                </a:lnTo>
                <a:lnTo>
                  <a:pt x="447" y="569"/>
                </a:lnTo>
                <a:lnTo>
                  <a:pt x="455" y="575"/>
                </a:lnTo>
                <a:lnTo>
                  <a:pt x="464" y="581"/>
                </a:lnTo>
                <a:lnTo>
                  <a:pt x="474" y="587"/>
                </a:lnTo>
                <a:lnTo>
                  <a:pt x="483" y="592"/>
                </a:lnTo>
                <a:lnTo>
                  <a:pt x="495" y="598"/>
                </a:lnTo>
                <a:lnTo>
                  <a:pt x="507" y="602"/>
                </a:lnTo>
                <a:lnTo>
                  <a:pt x="521" y="607"/>
                </a:lnTo>
                <a:lnTo>
                  <a:pt x="519" y="610"/>
                </a:lnTo>
                <a:lnTo>
                  <a:pt x="518" y="614"/>
                </a:lnTo>
                <a:lnTo>
                  <a:pt x="509" y="614"/>
                </a:lnTo>
                <a:lnTo>
                  <a:pt x="503" y="616"/>
                </a:lnTo>
                <a:lnTo>
                  <a:pt x="498" y="616"/>
                </a:lnTo>
                <a:lnTo>
                  <a:pt x="494" y="617"/>
                </a:lnTo>
                <a:lnTo>
                  <a:pt x="486" y="617"/>
                </a:lnTo>
                <a:lnTo>
                  <a:pt x="477" y="619"/>
                </a:lnTo>
                <a:lnTo>
                  <a:pt x="471" y="614"/>
                </a:lnTo>
                <a:lnTo>
                  <a:pt x="462" y="611"/>
                </a:lnTo>
                <a:lnTo>
                  <a:pt x="450" y="607"/>
                </a:lnTo>
                <a:lnTo>
                  <a:pt x="440" y="604"/>
                </a:lnTo>
                <a:lnTo>
                  <a:pt x="428" y="599"/>
                </a:lnTo>
                <a:lnTo>
                  <a:pt x="419" y="596"/>
                </a:lnTo>
                <a:lnTo>
                  <a:pt x="411" y="593"/>
                </a:lnTo>
                <a:lnTo>
                  <a:pt x="408" y="593"/>
                </a:lnTo>
                <a:lnTo>
                  <a:pt x="414" y="599"/>
                </a:lnTo>
                <a:lnTo>
                  <a:pt x="423" y="607"/>
                </a:lnTo>
                <a:lnTo>
                  <a:pt x="432" y="613"/>
                </a:lnTo>
                <a:lnTo>
                  <a:pt x="444" y="623"/>
                </a:lnTo>
                <a:lnTo>
                  <a:pt x="425" y="631"/>
                </a:lnTo>
                <a:lnTo>
                  <a:pt x="408" y="635"/>
                </a:lnTo>
                <a:lnTo>
                  <a:pt x="395" y="635"/>
                </a:lnTo>
                <a:lnTo>
                  <a:pt x="383" y="632"/>
                </a:lnTo>
                <a:lnTo>
                  <a:pt x="369" y="626"/>
                </a:lnTo>
                <a:lnTo>
                  <a:pt x="357" y="620"/>
                </a:lnTo>
                <a:lnTo>
                  <a:pt x="342" y="616"/>
                </a:lnTo>
                <a:lnTo>
                  <a:pt x="327" y="613"/>
                </a:lnTo>
                <a:lnTo>
                  <a:pt x="333" y="623"/>
                </a:lnTo>
                <a:lnTo>
                  <a:pt x="348" y="634"/>
                </a:lnTo>
                <a:lnTo>
                  <a:pt x="356" y="638"/>
                </a:lnTo>
                <a:lnTo>
                  <a:pt x="365" y="643"/>
                </a:lnTo>
                <a:lnTo>
                  <a:pt x="374" y="647"/>
                </a:lnTo>
                <a:lnTo>
                  <a:pt x="383" y="652"/>
                </a:lnTo>
                <a:lnTo>
                  <a:pt x="374" y="656"/>
                </a:lnTo>
                <a:lnTo>
                  <a:pt x="366" y="661"/>
                </a:lnTo>
                <a:lnTo>
                  <a:pt x="357" y="665"/>
                </a:lnTo>
                <a:lnTo>
                  <a:pt x="348" y="673"/>
                </a:lnTo>
                <a:lnTo>
                  <a:pt x="339" y="679"/>
                </a:lnTo>
                <a:lnTo>
                  <a:pt x="335" y="688"/>
                </a:lnTo>
                <a:lnTo>
                  <a:pt x="330" y="697"/>
                </a:lnTo>
                <a:lnTo>
                  <a:pt x="330" y="707"/>
                </a:lnTo>
                <a:lnTo>
                  <a:pt x="333" y="704"/>
                </a:lnTo>
                <a:lnTo>
                  <a:pt x="338" y="703"/>
                </a:lnTo>
                <a:lnTo>
                  <a:pt x="336" y="707"/>
                </a:lnTo>
                <a:lnTo>
                  <a:pt x="335" y="716"/>
                </a:lnTo>
                <a:lnTo>
                  <a:pt x="332" y="728"/>
                </a:lnTo>
                <a:lnTo>
                  <a:pt x="329" y="745"/>
                </a:lnTo>
                <a:lnTo>
                  <a:pt x="323" y="760"/>
                </a:lnTo>
                <a:lnTo>
                  <a:pt x="318" y="775"/>
                </a:lnTo>
                <a:lnTo>
                  <a:pt x="315" y="788"/>
                </a:lnTo>
                <a:lnTo>
                  <a:pt x="314" y="799"/>
                </a:lnTo>
                <a:lnTo>
                  <a:pt x="300" y="797"/>
                </a:lnTo>
                <a:lnTo>
                  <a:pt x="291" y="794"/>
                </a:lnTo>
                <a:lnTo>
                  <a:pt x="285" y="788"/>
                </a:lnTo>
                <a:lnTo>
                  <a:pt x="285" y="784"/>
                </a:lnTo>
                <a:lnTo>
                  <a:pt x="285" y="776"/>
                </a:lnTo>
                <a:lnTo>
                  <a:pt x="287" y="769"/>
                </a:lnTo>
                <a:lnTo>
                  <a:pt x="287" y="760"/>
                </a:lnTo>
                <a:lnTo>
                  <a:pt x="288" y="752"/>
                </a:lnTo>
                <a:lnTo>
                  <a:pt x="281" y="748"/>
                </a:lnTo>
                <a:lnTo>
                  <a:pt x="276" y="748"/>
                </a:lnTo>
                <a:lnTo>
                  <a:pt x="270" y="746"/>
                </a:lnTo>
                <a:lnTo>
                  <a:pt x="264" y="745"/>
                </a:lnTo>
                <a:lnTo>
                  <a:pt x="245" y="760"/>
                </a:lnTo>
                <a:lnTo>
                  <a:pt x="221" y="779"/>
                </a:lnTo>
                <a:lnTo>
                  <a:pt x="191" y="799"/>
                </a:lnTo>
                <a:lnTo>
                  <a:pt x="164" y="823"/>
                </a:lnTo>
                <a:lnTo>
                  <a:pt x="138" y="845"/>
                </a:lnTo>
                <a:lnTo>
                  <a:pt x="122" y="872"/>
                </a:lnTo>
                <a:lnTo>
                  <a:pt x="116" y="899"/>
                </a:lnTo>
                <a:lnTo>
                  <a:pt x="126" y="928"/>
                </a:lnTo>
                <a:lnTo>
                  <a:pt x="117" y="935"/>
                </a:lnTo>
                <a:lnTo>
                  <a:pt x="110" y="940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81760" y="4226040"/>
            <a:ext cx="22320" cy="14040"/>
          </a:xfrm>
          <a:custGeom>
            <a:avLst/>
            <a:gdLst/>
            <a:ahLst/>
            <a:rect l="l" t="t" r="r" b="b"/>
            <a:pathLst>
              <a:path w="29" h="18">
                <a:moveTo>
                  <a:pt x="11" y="18"/>
                </a:moveTo>
                <a:lnTo>
                  <a:pt x="5" y="11"/>
                </a:lnTo>
                <a:lnTo>
                  <a:pt x="3" y="6"/>
                </a:lnTo>
                <a:lnTo>
                  <a:pt x="2" y="3"/>
                </a:lnTo>
                <a:lnTo>
                  <a:pt x="0" y="0"/>
                </a:lnTo>
                <a:lnTo>
                  <a:pt x="14" y="3"/>
                </a:lnTo>
                <a:lnTo>
                  <a:pt x="29" y="9"/>
                </a:lnTo>
                <a:lnTo>
                  <a:pt x="20" y="17"/>
                </a:lnTo>
                <a:lnTo>
                  <a:pt x="11" y="1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01000" y="3803760"/>
            <a:ext cx="234720" cy="423720"/>
          </a:xfrm>
          <a:custGeom>
            <a:avLst/>
            <a:gdLst/>
            <a:ahLst/>
            <a:rect l="l" t="t" r="r" b="b"/>
            <a:pathLst>
              <a:path w="296" h="534">
                <a:moveTo>
                  <a:pt x="201" y="534"/>
                </a:moveTo>
                <a:lnTo>
                  <a:pt x="194" y="523"/>
                </a:lnTo>
                <a:lnTo>
                  <a:pt x="188" y="517"/>
                </a:lnTo>
                <a:lnTo>
                  <a:pt x="182" y="511"/>
                </a:lnTo>
                <a:lnTo>
                  <a:pt x="176" y="507"/>
                </a:lnTo>
                <a:lnTo>
                  <a:pt x="159" y="499"/>
                </a:lnTo>
                <a:lnTo>
                  <a:pt x="144" y="493"/>
                </a:lnTo>
                <a:lnTo>
                  <a:pt x="102" y="442"/>
                </a:lnTo>
                <a:lnTo>
                  <a:pt x="65" y="378"/>
                </a:lnTo>
                <a:lnTo>
                  <a:pt x="32" y="306"/>
                </a:lnTo>
                <a:lnTo>
                  <a:pt x="9" y="232"/>
                </a:lnTo>
                <a:lnTo>
                  <a:pt x="0" y="159"/>
                </a:lnTo>
                <a:lnTo>
                  <a:pt x="12" y="93"/>
                </a:lnTo>
                <a:lnTo>
                  <a:pt x="45" y="37"/>
                </a:lnTo>
                <a:lnTo>
                  <a:pt x="105" y="0"/>
                </a:lnTo>
                <a:lnTo>
                  <a:pt x="113" y="40"/>
                </a:lnTo>
                <a:lnTo>
                  <a:pt x="122" y="82"/>
                </a:lnTo>
                <a:lnTo>
                  <a:pt x="134" y="126"/>
                </a:lnTo>
                <a:lnTo>
                  <a:pt x="149" y="169"/>
                </a:lnTo>
                <a:lnTo>
                  <a:pt x="164" y="211"/>
                </a:lnTo>
                <a:lnTo>
                  <a:pt x="183" y="253"/>
                </a:lnTo>
                <a:lnTo>
                  <a:pt x="203" y="294"/>
                </a:lnTo>
                <a:lnTo>
                  <a:pt x="225" y="334"/>
                </a:lnTo>
                <a:lnTo>
                  <a:pt x="249" y="360"/>
                </a:lnTo>
                <a:lnTo>
                  <a:pt x="270" y="381"/>
                </a:lnTo>
                <a:lnTo>
                  <a:pt x="285" y="396"/>
                </a:lnTo>
                <a:lnTo>
                  <a:pt x="296" y="412"/>
                </a:lnTo>
                <a:lnTo>
                  <a:pt x="296" y="426"/>
                </a:lnTo>
                <a:lnTo>
                  <a:pt x="290" y="445"/>
                </a:lnTo>
                <a:lnTo>
                  <a:pt x="275" y="469"/>
                </a:lnTo>
                <a:lnTo>
                  <a:pt x="249" y="504"/>
                </a:lnTo>
                <a:lnTo>
                  <a:pt x="236" y="513"/>
                </a:lnTo>
                <a:lnTo>
                  <a:pt x="225" y="523"/>
                </a:lnTo>
                <a:lnTo>
                  <a:pt x="213" y="529"/>
                </a:lnTo>
                <a:lnTo>
                  <a:pt x="201" y="53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22800" y="4143240"/>
            <a:ext cx="76320" cy="81000"/>
          </a:xfrm>
          <a:custGeom>
            <a:avLst/>
            <a:gdLst/>
            <a:ahLst/>
            <a:rect l="l" t="t" r="r" b="b"/>
            <a:pathLst>
              <a:path w="96" h="102">
                <a:moveTo>
                  <a:pt x="14" y="99"/>
                </a:moveTo>
                <a:lnTo>
                  <a:pt x="9" y="69"/>
                </a:lnTo>
                <a:lnTo>
                  <a:pt x="5" y="50"/>
                </a:lnTo>
                <a:lnTo>
                  <a:pt x="0" y="38"/>
                </a:lnTo>
                <a:lnTo>
                  <a:pt x="0" y="30"/>
                </a:lnTo>
                <a:lnTo>
                  <a:pt x="3" y="24"/>
                </a:lnTo>
                <a:lnTo>
                  <a:pt x="14" y="20"/>
                </a:lnTo>
                <a:lnTo>
                  <a:pt x="30" y="12"/>
                </a:lnTo>
                <a:lnTo>
                  <a:pt x="59" y="0"/>
                </a:lnTo>
                <a:lnTo>
                  <a:pt x="63" y="2"/>
                </a:lnTo>
                <a:lnTo>
                  <a:pt x="72" y="9"/>
                </a:lnTo>
                <a:lnTo>
                  <a:pt x="83" y="17"/>
                </a:lnTo>
                <a:lnTo>
                  <a:pt x="96" y="24"/>
                </a:lnTo>
                <a:lnTo>
                  <a:pt x="92" y="30"/>
                </a:lnTo>
                <a:lnTo>
                  <a:pt x="84" y="39"/>
                </a:lnTo>
                <a:lnTo>
                  <a:pt x="71" y="51"/>
                </a:lnTo>
                <a:lnTo>
                  <a:pt x="59" y="65"/>
                </a:lnTo>
                <a:lnTo>
                  <a:pt x="44" y="77"/>
                </a:lnTo>
                <a:lnTo>
                  <a:pt x="30" y="89"/>
                </a:lnTo>
                <a:lnTo>
                  <a:pt x="21" y="96"/>
                </a:lnTo>
                <a:lnTo>
                  <a:pt x="17" y="102"/>
                </a:lnTo>
                <a:lnTo>
                  <a:pt x="15" y="99"/>
                </a:lnTo>
                <a:lnTo>
                  <a:pt x="14" y="9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27800" y="3962520"/>
            <a:ext cx="247680" cy="223560"/>
          </a:xfrm>
          <a:custGeom>
            <a:avLst/>
            <a:gdLst/>
            <a:ahLst/>
            <a:rect l="l" t="t" r="r" b="b"/>
            <a:pathLst>
              <a:path w="312" h="282">
                <a:moveTo>
                  <a:pt x="222" y="282"/>
                </a:moveTo>
                <a:lnTo>
                  <a:pt x="210" y="258"/>
                </a:lnTo>
                <a:lnTo>
                  <a:pt x="188" y="233"/>
                </a:lnTo>
                <a:lnTo>
                  <a:pt x="156" y="207"/>
                </a:lnTo>
                <a:lnTo>
                  <a:pt x="122" y="185"/>
                </a:lnTo>
                <a:lnTo>
                  <a:pt x="84" y="161"/>
                </a:lnTo>
                <a:lnTo>
                  <a:pt x="50" y="143"/>
                </a:lnTo>
                <a:lnTo>
                  <a:pt x="20" y="126"/>
                </a:lnTo>
                <a:lnTo>
                  <a:pt x="0" y="119"/>
                </a:lnTo>
                <a:lnTo>
                  <a:pt x="0" y="114"/>
                </a:lnTo>
                <a:lnTo>
                  <a:pt x="2" y="111"/>
                </a:lnTo>
                <a:lnTo>
                  <a:pt x="6" y="113"/>
                </a:lnTo>
                <a:lnTo>
                  <a:pt x="12" y="114"/>
                </a:lnTo>
                <a:lnTo>
                  <a:pt x="17" y="116"/>
                </a:lnTo>
                <a:lnTo>
                  <a:pt x="26" y="117"/>
                </a:lnTo>
                <a:lnTo>
                  <a:pt x="32" y="107"/>
                </a:lnTo>
                <a:lnTo>
                  <a:pt x="36" y="96"/>
                </a:lnTo>
                <a:lnTo>
                  <a:pt x="39" y="84"/>
                </a:lnTo>
                <a:lnTo>
                  <a:pt x="44" y="72"/>
                </a:lnTo>
                <a:lnTo>
                  <a:pt x="47" y="60"/>
                </a:lnTo>
                <a:lnTo>
                  <a:pt x="53" y="48"/>
                </a:lnTo>
                <a:lnTo>
                  <a:pt x="60" y="38"/>
                </a:lnTo>
                <a:lnTo>
                  <a:pt x="74" y="29"/>
                </a:lnTo>
                <a:lnTo>
                  <a:pt x="141" y="9"/>
                </a:lnTo>
                <a:lnTo>
                  <a:pt x="194" y="0"/>
                </a:lnTo>
                <a:lnTo>
                  <a:pt x="231" y="0"/>
                </a:lnTo>
                <a:lnTo>
                  <a:pt x="261" y="12"/>
                </a:lnTo>
                <a:lnTo>
                  <a:pt x="279" y="33"/>
                </a:lnTo>
                <a:lnTo>
                  <a:pt x="294" y="69"/>
                </a:lnTo>
                <a:lnTo>
                  <a:pt x="303" y="117"/>
                </a:lnTo>
                <a:lnTo>
                  <a:pt x="312" y="180"/>
                </a:lnTo>
                <a:lnTo>
                  <a:pt x="311" y="207"/>
                </a:lnTo>
                <a:lnTo>
                  <a:pt x="309" y="230"/>
                </a:lnTo>
                <a:lnTo>
                  <a:pt x="305" y="246"/>
                </a:lnTo>
                <a:lnTo>
                  <a:pt x="299" y="258"/>
                </a:lnTo>
                <a:lnTo>
                  <a:pt x="287" y="266"/>
                </a:lnTo>
                <a:lnTo>
                  <a:pt x="272" y="272"/>
                </a:lnTo>
                <a:lnTo>
                  <a:pt x="249" y="276"/>
                </a:lnTo>
                <a:lnTo>
                  <a:pt x="222" y="28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99320" y="2700360"/>
            <a:ext cx="987480" cy="1403280"/>
          </a:xfrm>
          <a:custGeom>
            <a:avLst/>
            <a:gdLst/>
            <a:ahLst/>
            <a:rect l="l" t="t" r="r" b="b"/>
            <a:pathLst>
              <a:path w="1243" h="1768">
                <a:moveTo>
                  <a:pt x="763" y="1768"/>
                </a:moveTo>
                <a:lnTo>
                  <a:pt x="726" y="1754"/>
                </a:lnTo>
                <a:lnTo>
                  <a:pt x="694" y="1738"/>
                </a:lnTo>
                <a:lnTo>
                  <a:pt x="669" y="1715"/>
                </a:lnTo>
                <a:lnTo>
                  <a:pt x="649" y="1690"/>
                </a:lnTo>
                <a:lnTo>
                  <a:pt x="633" y="1658"/>
                </a:lnTo>
                <a:lnTo>
                  <a:pt x="621" y="1628"/>
                </a:lnTo>
                <a:lnTo>
                  <a:pt x="610" y="1595"/>
                </a:lnTo>
                <a:lnTo>
                  <a:pt x="603" y="1564"/>
                </a:lnTo>
                <a:lnTo>
                  <a:pt x="600" y="1526"/>
                </a:lnTo>
                <a:lnTo>
                  <a:pt x="603" y="1490"/>
                </a:lnTo>
                <a:lnTo>
                  <a:pt x="606" y="1453"/>
                </a:lnTo>
                <a:lnTo>
                  <a:pt x="613" y="1417"/>
                </a:lnTo>
                <a:lnTo>
                  <a:pt x="618" y="1381"/>
                </a:lnTo>
                <a:lnTo>
                  <a:pt x="621" y="1345"/>
                </a:lnTo>
                <a:lnTo>
                  <a:pt x="618" y="1310"/>
                </a:lnTo>
                <a:lnTo>
                  <a:pt x="612" y="1279"/>
                </a:lnTo>
                <a:lnTo>
                  <a:pt x="579" y="1243"/>
                </a:lnTo>
                <a:lnTo>
                  <a:pt x="547" y="1207"/>
                </a:lnTo>
                <a:lnTo>
                  <a:pt x="514" y="1171"/>
                </a:lnTo>
                <a:lnTo>
                  <a:pt x="483" y="1135"/>
                </a:lnTo>
                <a:lnTo>
                  <a:pt x="448" y="1099"/>
                </a:lnTo>
                <a:lnTo>
                  <a:pt x="415" y="1066"/>
                </a:lnTo>
                <a:lnTo>
                  <a:pt x="381" y="1036"/>
                </a:lnTo>
                <a:lnTo>
                  <a:pt x="346" y="1011"/>
                </a:lnTo>
                <a:lnTo>
                  <a:pt x="319" y="997"/>
                </a:lnTo>
                <a:lnTo>
                  <a:pt x="300" y="979"/>
                </a:lnTo>
                <a:lnTo>
                  <a:pt x="282" y="958"/>
                </a:lnTo>
                <a:lnTo>
                  <a:pt x="270" y="937"/>
                </a:lnTo>
                <a:lnTo>
                  <a:pt x="259" y="912"/>
                </a:lnTo>
                <a:lnTo>
                  <a:pt x="250" y="888"/>
                </a:lnTo>
                <a:lnTo>
                  <a:pt x="244" y="864"/>
                </a:lnTo>
                <a:lnTo>
                  <a:pt x="240" y="843"/>
                </a:lnTo>
                <a:lnTo>
                  <a:pt x="234" y="829"/>
                </a:lnTo>
                <a:lnTo>
                  <a:pt x="231" y="820"/>
                </a:lnTo>
                <a:lnTo>
                  <a:pt x="226" y="811"/>
                </a:lnTo>
                <a:lnTo>
                  <a:pt x="225" y="807"/>
                </a:lnTo>
                <a:lnTo>
                  <a:pt x="220" y="801"/>
                </a:lnTo>
                <a:lnTo>
                  <a:pt x="217" y="798"/>
                </a:lnTo>
                <a:lnTo>
                  <a:pt x="210" y="798"/>
                </a:lnTo>
                <a:lnTo>
                  <a:pt x="202" y="799"/>
                </a:lnTo>
                <a:lnTo>
                  <a:pt x="207" y="816"/>
                </a:lnTo>
                <a:lnTo>
                  <a:pt x="220" y="844"/>
                </a:lnTo>
                <a:lnTo>
                  <a:pt x="235" y="879"/>
                </a:lnTo>
                <a:lnTo>
                  <a:pt x="250" y="916"/>
                </a:lnTo>
                <a:lnTo>
                  <a:pt x="255" y="948"/>
                </a:lnTo>
                <a:lnTo>
                  <a:pt x="249" y="972"/>
                </a:lnTo>
                <a:lnTo>
                  <a:pt x="223" y="981"/>
                </a:lnTo>
                <a:lnTo>
                  <a:pt x="178" y="970"/>
                </a:lnTo>
                <a:lnTo>
                  <a:pt x="166" y="961"/>
                </a:lnTo>
                <a:lnTo>
                  <a:pt x="160" y="954"/>
                </a:lnTo>
                <a:lnTo>
                  <a:pt x="156" y="946"/>
                </a:lnTo>
                <a:lnTo>
                  <a:pt x="151" y="940"/>
                </a:lnTo>
                <a:lnTo>
                  <a:pt x="129" y="925"/>
                </a:lnTo>
                <a:lnTo>
                  <a:pt x="105" y="913"/>
                </a:lnTo>
                <a:lnTo>
                  <a:pt x="79" y="901"/>
                </a:lnTo>
                <a:lnTo>
                  <a:pt x="57" y="889"/>
                </a:lnTo>
                <a:lnTo>
                  <a:pt x="34" y="874"/>
                </a:lnTo>
                <a:lnTo>
                  <a:pt x="18" y="856"/>
                </a:lnTo>
                <a:lnTo>
                  <a:pt x="4" y="835"/>
                </a:lnTo>
                <a:lnTo>
                  <a:pt x="0" y="810"/>
                </a:lnTo>
                <a:lnTo>
                  <a:pt x="10" y="802"/>
                </a:lnTo>
                <a:lnTo>
                  <a:pt x="21" y="796"/>
                </a:lnTo>
                <a:lnTo>
                  <a:pt x="31" y="790"/>
                </a:lnTo>
                <a:lnTo>
                  <a:pt x="43" y="786"/>
                </a:lnTo>
                <a:lnTo>
                  <a:pt x="43" y="796"/>
                </a:lnTo>
                <a:lnTo>
                  <a:pt x="45" y="805"/>
                </a:lnTo>
                <a:lnTo>
                  <a:pt x="46" y="813"/>
                </a:lnTo>
                <a:lnTo>
                  <a:pt x="51" y="822"/>
                </a:lnTo>
                <a:lnTo>
                  <a:pt x="55" y="826"/>
                </a:lnTo>
                <a:lnTo>
                  <a:pt x="66" y="832"/>
                </a:lnTo>
                <a:lnTo>
                  <a:pt x="76" y="838"/>
                </a:lnTo>
                <a:lnTo>
                  <a:pt x="93" y="844"/>
                </a:lnTo>
                <a:lnTo>
                  <a:pt x="91" y="840"/>
                </a:lnTo>
                <a:lnTo>
                  <a:pt x="88" y="832"/>
                </a:lnTo>
                <a:lnTo>
                  <a:pt x="82" y="822"/>
                </a:lnTo>
                <a:lnTo>
                  <a:pt x="76" y="811"/>
                </a:lnTo>
                <a:lnTo>
                  <a:pt x="67" y="801"/>
                </a:lnTo>
                <a:lnTo>
                  <a:pt x="61" y="792"/>
                </a:lnTo>
                <a:lnTo>
                  <a:pt x="57" y="784"/>
                </a:lnTo>
                <a:lnTo>
                  <a:pt x="57" y="783"/>
                </a:lnTo>
                <a:lnTo>
                  <a:pt x="51" y="783"/>
                </a:lnTo>
                <a:lnTo>
                  <a:pt x="48" y="783"/>
                </a:lnTo>
                <a:lnTo>
                  <a:pt x="52" y="763"/>
                </a:lnTo>
                <a:lnTo>
                  <a:pt x="61" y="745"/>
                </a:lnTo>
                <a:lnTo>
                  <a:pt x="69" y="729"/>
                </a:lnTo>
                <a:lnTo>
                  <a:pt x="76" y="715"/>
                </a:lnTo>
                <a:lnTo>
                  <a:pt x="79" y="700"/>
                </a:lnTo>
                <a:lnTo>
                  <a:pt x="79" y="685"/>
                </a:lnTo>
                <a:lnTo>
                  <a:pt x="72" y="670"/>
                </a:lnTo>
                <a:lnTo>
                  <a:pt x="57" y="657"/>
                </a:lnTo>
                <a:lnTo>
                  <a:pt x="57" y="654"/>
                </a:lnTo>
                <a:lnTo>
                  <a:pt x="57" y="651"/>
                </a:lnTo>
                <a:lnTo>
                  <a:pt x="48" y="648"/>
                </a:lnTo>
                <a:lnTo>
                  <a:pt x="39" y="648"/>
                </a:lnTo>
                <a:lnTo>
                  <a:pt x="30" y="646"/>
                </a:lnTo>
                <a:lnTo>
                  <a:pt x="24" y="645"/>
                </a:lnTo>
                <a:lnTo>
                  <a:pt x="24" y="631"/>
                </a:lnTo>
                <a:lnTo>
                  <a:pt x="27" y="624"/>
                </a:lnTo>
                <a:lnTo>
                  <a:pt x="30" y="619"/>
                </a:lnTo>
                <a:lnTo>
                  <a:pt x="37" y="619"/>
                </a:lnTo>
                <a:lnTo>
                  <a:pt x="43" y="621"/>
                </a:lnTo>
                <a:lnTo>
                  <a:pt x="54" y="625"/>
                </a:lnTo>
                <a:lnTo>
                  <a:pt x="63" y="630"/>
                </a:lnTo>
                <a:lnTo>
                  <a:pt x="76" y="636"/>
                </a:lnTo>
                <a:lnTo>
                  <a:pt x="90" y="663"/>
                </a:lnTo>
                <a:lnTo>
                  <a:pt x="94" y="688"/>
                </a:lnTo>
                <a:lnTo>
                  <a:pt x="90" y="712"/>
                </a:lnTo>
                <a:lnTo>
                  <a:pt x="85" y="738"/>
                </a:lnTo>
                <a:lnTo>
                  <a:pt x="81" y="762"/>
                </a:lnTo>
                <a:lnTo>
                  <a:pt x="84" y="787"/>
                </a:lnTo>
                <a:lnTo>
                  <a:pt x="97" y="814"/>
                </a:lnTo>
                <a:lnTo>
                  <a:pt x="129" y="844"/>
                </a:lnTo>
                <a:lnTo>
                  <a:pt x="135" y="847"/>
                </a:lnTo>
                <a:lnTo>
                  <a:pt x="142" y="852"/>
                </a:lnTo>
                <a:lnTo>
                  <a:pt x="151" y="853"/>
                </a:lnTo>
                <a:lnTo>
                  <a:pt x="162" y="852"/>
                </a:lnTo>
                <a:lnTo>
                  <a:pt x="162" y="847"/>
                </a:lnTo>
                <a:lnTo>
                  <a:pt x="163" y="844"/>
                </a:lnTo>
                <a:lnTo>
                  <a:pt x="150" y="832"/>
                </a:lnTo>
                <a:lnTo>
                  <a:pt x="139" y="823"/>
                </a:lnTo>
                <a:lnTo>
                  <a:pt x="129" y="817"/>
                </a:lnTo>
                <a:lnTo>
                  <a:pt x="121" y="813"/>
                </a:lnTo>
                <a:lnTo>
                  <a:pt x="114" y="805"/>
                </a:lnTo>
                <a:lnTo>
                  <a:pt x="111" y="798"/>
                </a:lnTo>
                <a:lnTo>
                  <a:pt x="109" y="787"/>
                </a:lnTo>
                <a:lnTo>
                  <a:pt x="111" y="774"/>
                </a:lnTo>
                <a:lnTo>
                  <a:pt x="123" y="778"/>
                </a:lnTo>
                <a:lnTo>
                  <a:pt x="141" y="783"/>
                </a:lnTo>
                <a:lnTo>
                  <a:pt x="159" y="786"/>
                </a:lnTo>
                <a:lnTo>
                  <a:pt x="180" y="787"/>
                </a:lnTo>
                <a:lnTo>
                  <a:pt x="199" y="786"/>
                </a:lnTo>
                <a:lnTo>
                  <a:pt x="220" y="781"/>
                </a:lnTo>
                <a:lnTo>
                  <a:pt x="237" y="775"/>
                </a:lnTo>
                <a:lnTo>
                  <a:pt x="253" y="766"/>
                </a:lnTo>
                <a:lnTo>
                  <a:pt x="249" y="735"/>
                </a:lnTo>
                <a:lnTo>
                  <a:pt x="241" y="700"/>
                </a:lnTo>
                <a:lnTo>
                  <a:pt x="229" y="663"/>
                </a:lnTo>
                <a:lnTo>
                  <a:pt x="217" y="625"/>
                </a:lnTo>
                <a:lnTo>
                  <a:pt x="201" y="586"/>
                </a:lnTo>
                <a:lnTo>
                  <a:pt x="187" y="552"/>
                </a:lnTo>
                <a:lnTo>
                  <a:pt x="172" y="519"/>
                </a:lnTo>
                <a:lnTo>
                  <a:pt x="162" y="492"/>
                </a:lnTo>
                <a:lnTo>
                  <a:pt x="150" y="453"/>
                </a:lnTo>
                <a:lnTo>
                  <a:pt x="144" y="427"/>
                </a:lnTo>
                <a:lnTo>
                  <a:pt x="139" y="409"/>
                </a:lnTo>
                <a:lnTo>
                  <a:pt x="141" y="397"/>
                </a:lnTo>
                <a:lnTo>
                  <a:pt x="144" y="385"/>
                </a:lnTo>
                <a:lnTo>
                  <a:pt x="153" y="372"/>
                </a:lnTo>
                <a:lnTo>
                  <a:pt x="166" y="351"/>
                </a:lnTo>
                <a:lnTo>
                  <a:pt x="184" y="322"/>
                </a:lnTo>
                <a:lnTo>
                  <a:pt x="183" y="304"/>
                </a:lnTo>
                <a:lnTo>
                  <a:pt x="183" y="292"/>
                </a:lnTo>
                <a:lnTo>
                  <a:pt x="181" y="282"/>
                </a:lnTo>
                <a:lnTo>
                  <a:pt x="183" y="273"/>
                </a:lnTo>
                <a:lnTo>
                  <a:pt x="184" y="264"/>
                </a:lnTo>
                <a:lnTo>
                  <a:pt x="190" y="255"/>
                </a:lnTo>
                <a:lnTo>
                  <a:pt x="196" y="244"/>
                </a:lnTo>
                <a:lnTo>
                  <a:pt x="208" y="235"/>
                </a:lnTo>
                <a:lnTo>
                  <a:pt x="207" y="213"/>
                </a:lnTo>
                <a:lnTo>
                  <a:pt x="199" y="187"/>
                </a:lnTo>
                <a:lnTo>
                  <a:pt x="187" y="156"/>
                </a:lnTo>
                <a:lnTo>
                  <a:pt x="177" y="126"/>
                </a:lnTo>
                <a:lnTo>
                  <a:pt x="171" y="97"/>
                </a:lnTo>
                <a:lnTo>
                  <a:pt x="175" y="73"/>
                </a:lnTo>
                <a:lnTo>
                  <a:pt x="193" y="57"/>
                </a:lnTo>
                <a:lnTo>
                  <a:pt x="232" y="52"/>
                </a:lnTo>
                <a:lnTo>
                  <a:pt x="268" y="75"/>
                </a:lnTo>
                <a:lnTo>
                  <a:pt x="306" y="85"/>
                </a:lnTo>
                <a:lnTo>
                  <a:pt x="342" y="87"/>
                </a:lnTo>
                <a:lnTo>
                  <a:pt x="378" y="81"/>
                </a:lnTo>
                <a:lnTo>
                  <a:pt x="412" y="67"/>
                </a:lnTo>
                <a:lnTo>
                  <a:pt x="448" y="51"/>
                </a:lnTo>
                <a:lnTo>
                  <a:pt x="484" y="28"/>
                </a:lnTo>
                <a:lnTo>
                  <a:pt x="520" y="7"/>
                </a:lnTo>
                <a:lnTo>
                  <a:pt x="526" y="4"/>
                </a:lnTo>
                <a:lnTo>
                  <a:pt x="532" y="1"/>
                </a:lnTo>
                <a:lnTo>
                  <a:pt x="540" y="0"/>
                </a:lnTo>
                <a:lnTo>
                  <a:pt x="549" y="0"/>
                </a:lnTo>
                <a:lnTo>
                  <a:pt x="549" y="18"/>
                </a:lnTo>
                <a:lnTo>
                  <a:pt x="549" y="36"/>
                </a:lnTo>
                <a:lnTo>
                  <a:pt x="547" y="52"/>
                </a:lnTo>
                <a:lnTo>
                  <a:pt x="546" y="67"/>
                </a:lnTo>
                <a:lnTo>
                  <a:pt x="540" y="79"/>
                </a:lnTo>
                <a:lnTo>
                  <a:pt x="531" y="93"/>
                </a:lnTo>
                <a:lnTo>
                  <a:pt x="516" y="100"/>
                </a:lnTo>
                <a:lnTo>
                  <a:pt x="498" y="109"/>
                </a:lnTo>
                <a:lnTo>
                  <a:pt x="496" y="114"/>
                </a:lnTo>
                <a:lnTo>
                  <a:pt x="496" y="118"/>
                </a:lnTo>
                <a:lnTo>
                  <a:pt x="517" y="132"/>
                </a:lnTo>
                <a:lnTo>
                  <a:pt x="543" y="132"/>
                </a:lnTo>
                <a:lnTo>
                  <a:pt x="567" y="120"/>
                </a:lnTo>
                <a:lnTo>
                  <a:pt x="592" y="100"/>
                </a:lnTo>
                <a:lnTo>
                  <a:pt x="613" y="75"/>
                </a:lnTo>
                <a:lnTo>
                  <a:pt x="631" y="49"/>
                </a:lnTo>
                <a:lnTo>
                  <a:pt x="646" y="25"/>
                </a:lnTo>
                <a:lnTo>
                  <a:pt x="657" y="7"/>
                </a:lnTo>
                <a:lnTo>
                  <a:pt x="660" y="7"/>
                </a:lnTo>
                <a:lnTo>
                  <a:pt x="664" y="7"/>
                </a:lnTo>
                <a:lnTo>
                  <a:pt x="675" y="25"/>
                </a:lnTo>
                <a:lnTo>
                  <a:pt x="682" y="45"/>
                </a:lnTo>
                <a:lnTo>
                  <a:pt x="687" y="64"/>
                </a:lnTo>
                <a:lnTo>
                  <a:pt x="687" y="84"/>
                </a:lnTo>
                <a:lnTo>
                  <a:pt x="681" y="102"/>
                </a:lnTo>
                <a:lnTo>
                  <a:pt x="672" y="120"/>
                </a:lnTo>
                <a:lnTo>
                  <a:pt x="657" y="135"/>
                </a:lnTo>
                <a:lnTo>
                  <a:pt x="639" y="151"/>
                </a:lnTo>
                <a:lnTo>
                  <a:pt x="639" y="159"/>
                </a:lnTo>
                <a:lnTo>
                  <a:pt x="639" y="166"/>
                </a:lnTo>
                <a:lnTo>
                  <a:pt x="654" y="163"/>
                </a:lnTo>
                <a:lnTo>
                  <a:pt x="670" y="159"/>
                </a:lnTo>
                <a:lnTo>
                  <a:pt x="685" y="150"/>
                </a:lnTo>
                <a:lnTo>
                  <a:pt x="700" y="141"/>
                </a:lnTo>
                <a:lnTo>
                  <a:pt x="712" y="127"/>
                </a:lnTo>
                <a:lnTo>
                  <a:pt x="726" y="115"/>
                </a:lnTo>
                <a:lnTo>
                  <a:pt x="735" y="102"/>
                </a:lnTo>
                <a:lnTo>
                  <a:pt x="745" y="88"/>
                </a:lnTo>
                <a:lnTo>
                  <a:pt x="756" y="88"/>
                </a:lnTo>
                <a:lnTo>
                  <a:pt x="766" y="90"/>
                </a:lnTo>
                <a:lnTo>
                  <a:pt x="775" y="91"/>
                </a:lnTo>
                <a:lnTo>
                  <a:pt x="784" y="94"/>
                </a:lnTo>
                <a:lnTo>
                  <a:pt x="793" y="93"/>
                </a:lnTo>
                <a:lnTo>
                  <a:pt x="805" y="93"/>
                </a:lnTo>
                <a:lnTo>
                  <a:pt x="819" y="88"/>
                </a:lnTo>
                <a:lnTo>
                  <a:pt x="838" y="81"/>
                </a:lnTo>
                <a:lnTo>
                  <a:pt x="840" y="87"/>
                </a:lnTo>
                <a:lnTo>
                  <a:pt x="849" y="106"/>
                </a:lnTo>
                <a:lnTo>
                  <a:pt x="862" y="133"/>
                </a:lnTo>
                <a:lnTo>
                  <a:pt x="882" y="166"/>
                </a:lnTo>
                <a:lnTo>
                  <a:pt x="901" y="199"/>
                </a:lnTo>
                <a:lnTo>
                  <a:pt x="925" y="231"/>
                </a:lnTo>
                <a:lnTo>
                  <a:pt x="951" y="256"/>
                </a:lnTo>
                <a:lnTo>
                  <a:pt x="978" y="276"/>
                </a:lnTo>
                <a:lnTo>
                  <a:pt x="975" y="288"/>
                </a:lnTo>
                <a:lnTo>
                  <a:pt x="972" y="301"/>
                </a:lnTo>
                <a:lnTo>
                  <a:pt x="967" y="315"/>
                </a:lnTo>
                <a:lnTo>
                  <a:pt x="963" y="330"/>
                </a:lnTo>
                <a:lnTo>
                  <a:pt x="958" y="342"/>
                </a:lnTo>
                <a:lnTo>
                  <a:pt x="955" y="355"/>
                </a:lnTo>
                <a:lnTo>
                  <a:pt x="954" y="367"/>
                </a:lnTo>
                <a:lnTo>
                  <a:pt x="958" y="379"/>
                </a:lnTo>
                <a:lnTo>
                  <a:pt x="970" y="379"/>
                </a:lnTo>
                <a:lnTo>
                  <a:pt x="982" y="379"/>
                </a:lnTo>
                <a:lnTo>
                  <a:pt x="994" y="379"/>
                </a:lnTo>
                <a:lnTo>
                  <a:pt x="1008" y="379"/>
                </a:lnTo>
                <a:lnTo>
                  <a:pt x="1008" y="382"/>
                </a:lnTo>
                <a:lnTo>
                  <a:pt x="1011" y="387"/>
                </a:lnTo>
                <a:lnTo>
                  <a:pt x="1015" y="393"/>
                </a:lnTo>
                <a:lnTo>
                  <a:pt x="1026" y="399"/>
                </a:lnTo>
                <a:lnTo>
                  <a:pt x="1024" y="408"/>
                </a:lnTo>
                <a:lnTo>
                  <a:pt x="1023" y="417"/>
                </a:lnTo>
                <a:lnTo>
                  <a:pt x="1023" y="427"/>
                </a:lnTo>
                <a:lnTo>
                  <a:pt x="1023" y="438"/>
                </a:lnTo>
                <a:lnTo>
                  <a:pt x="1023" y="447"/>
                </a:lnTo>
                <a:lnTo>
                  <a:pt x="1023" y="456"/>
                </a:lnTo>
                <a:lnTo>
                  <a:pt x="1023" y="466"/>
                </a:lnTo>
                <a:lnTo>
                  <a:pt x="1023" y="477"/>
                </a:lnTo>
                <a:lnTo>
                  <a:pt x="1024" y="478"/>
                </a:lnTo>
                <a:lnTo>
                  <a:pt x="1026" y="480"/>
                </a:lnTo>
                <a:lnTo>
                  <a:pt x="1038" y="441"/>
                </a:lnTo>
                <a:lnTo>
                  <a:pt x="1051" y="402"/>
                </a:lnTo>
                <a:lnTo>
                  <a:pt x="1065" y="367"/>
                </a:lnTo>
                <a:lnTo>
                  <a:pt x="1083" y="342"/>
                </a:lnTo>
                <a:lnTo>
                  <a:pt x="1102" y="324"/>
                </a:lnTo>
                <a:lnTo>
                  <a:pt x="1128" y="321"/>
                </a:lnTo>
                <a:lnTo>
                  <a:pt x="1161" y="333"/>
                </a:lnTo>
                <a:lnTo>
                  <a:pt x="1203" y="367"/>
                </a:lnTo>
                <a:lnTo>
                  <a:pt x="1231" y="418"/>
                </a:lnTo>
                <a:lnTo>
                  <a:pt x="1243" y="472"/>
                </a:lnTo>
                <a:lnTo>
                  <a:pt x="1240" y="528"/>
                </a:lnTo>
                <a:lnTo>
                  <a:pt x="1227" y="585"/>
                </a:lnTo>
                <a:lnTo>
                  <a:pt x="1201" y="637"/>
                </a:lnTo>
                <a:lnTo>
                  <a:pt x="1170" y="690"/>
                </a:lnTo>
                <a:lnTo>
                  <a:pt x="1134" y="738"/>
                </a:lnTo>
                <a:lnTo>
                  <a:pt x="1096" y="781"/>
                </a:lnTo>
                <a:lnTo>
                  <a:pt x="1090" y="795"/>
                </a:lnTo>
                <a:lnTo>
                  <a:pt x="1084" y="807"/>
                </a:lnTo>
                <a:lnTo>
                  <a:pt x="1078" y="814"/>
                </a:lnTo>
                <a:lnTo>
                  <a:pt x="1074" y="820"/>
                </a:lnTo>
                <a:lnTo>
                  <a:pt x="1065" y="823"/>
                </a:lnTo>
                <a:lnTo>
                  <a:pt x="1057" y="826"/>
                </a:lnTo>
                <a:lnTo>
                  <a:pt x="1047" y="828"/>
                </a:lnTo>
                <a:lnTo>
                  <a:pt x="1035" y="831"/>
                </a:lnTo>
                <a:lnTo>
                  <a:pt x="1033" y="837"/>
                </a:lnTo>
                <a:lnTo>
                  <a:pt x="1039" y="847"/>
                </a:lnTo>
                <a:lnTo>
                  <a:pt x="1032" y="853"/>
                </a:lnTo>
                <a:lnTo>
                  <a:pt x="1023" y="856"/>
                </a:lnTo>
                <a:lnTo>
                  <a:pt x="1011" y="856"/>
                </a:lnTo>
                <a:lnTo>
                  <a:pt x="1003" y="856"/>
                </a:lnTo>
                <a:lnTo>
                  <a:pt x="1005" y="837"/>
                </a:lnTo>
                <a:lnTo>
                  <a:pt x="1011" y="813"/>
                </a:lnTo>
                <a:lnTo>
                  <a:pt x="1017" y="783"/>
                </a:lnTo>
                <a:lnTo>
                  <a:pt x="1023" y="753"/>
                </a:lnTo>
                <a:lnTo>
                  <a:pt x="1026" y="721"/>
                </a:lnTo>
                <a:lnTo>
                  <a:pt x="1026" y="696"/>
                </a:lnTo>
                <a:lnTo>
                  <a:pt x="1017" y="676"/>
                </a:lnTo>
                <a:lnTo>
                  <a:pt x="1002" y="667"/>
                </a:lnTo>
                <a:lnTo>
                  <a:pt x="1000" y="690"/>
                </a:lnTo>
                <a:lnTo>
                  <a:pt x="999" y="715"/>
                </a:lnTo>
                <a:lnTo>
                  <a:pt x="994" y="742"/>
                </a:lnTo>
                <a:lnTo>
                  <a:pt x="990" y="769"/>
                </a:lnTo>
                <a:lnTo>
                  <a:pt x="982" y="795"/>
                </a:lnTo>
                <a:lnTo>
                  <a:pt x="973" y="820"/>
                </a:lnTo>
                <a:lnTo>
                  <a:pt x="960" y="843"/>
                </a:lnTo>
                <a:lnTo>
                  <a:pt x="946" y="867"/>
                </a:lnTo>
                <a:lnTo>
                  <a:pt x="937" y="906"/>
                </a:lnTo>
                <a:lnTo>
                  <a:pt x="928" y="945"/>
                </a:lnTo>
                <a:lnTo>
                  <a:pt x="918" y="982"/>
                </a:lnTo>
                <a:lnTo>
                  <a:pt x="907" y="1021"/>
                </a:lnTo>
                <a:lnTo>
                  <a:pt x="895" y="1059"/>
                </a:lnTo>
                <a:lnTo>
                  <a:pt x="885" y="1098"/>
                </a:lnTo>
                <a:lnTo>
                  <a:pt x="874" y="1137"/>
                </a:lnTo>
                <a:lnTo>
                  <a:pt x="867" y="1177"/>
                </a:lnTo>
                <a:lnTo>
                  <a:pt x="862" y="1198"/>
                </a:lnTo>
                <a:lnTo>
                  <a:pt x="859" y="1228"/>
                </a:lnTo>
                <a:lnTo>
                  <a:pt x="856" y="1261"/>
                </a:lnTo>
                <a:lnTo>
                  <a:pt x="855" y="1300"/>
                </a:lnTo>
                <a:lnTo>
                  <a:pt x="853" y="1337"/>
                </a:lnTo>
                <a:lnTo>
                  <a:pt x="858" y="1372"/>
                </a:lnTo>
                <a:lnTo>
                  <a:pt x="864" y="1402"/>
                </a:lnTo>
                <a:lnTo>
                  <a:pt x="877" y="1423"/>
                </a:lnTo>
                <a:lnTo>
                  <a:pt x="879" y="1459"/>
                </a:lnTo>
                <a:lnTo>
                  <a:pt x="882" y="1508"/>
                </a:lnTo>
                <a:lnTo>
                  <a:pt x="880" y="1564"/>
                </a:lnTo>
                <a:lnTo>
                  <a:pt x="876" y="1624"/>
                </a:lnTo>
                <a:lnTo>
                  <a:pt x="862" y="1678"/>
                </a:lnTo>
                <a:lnTo>
                  <a:pt x="841" y="1724"/>
                </a:lnTo>
                <a:lnTo>
                  <a:pt x="808" y="1754"/>
                </a:lnTo>
                <a:lnTo>
                  <a:pt x="763" y="1768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10440" y="3240000"/>
            <a:ext cx="531720" cy="846360"/>
          </a:xfrm>
          <a:custGeom>
            <a:avLst/>
            <a:gdLst/>
            <a:ahLst/>
            <a:rect l="l" t="t" r="r" b="b"/>
            <a:pathLst>
              <a:path w="669" h="1066">
                <a:moveTo>
                  <a:pt x="143" y="1066"/>
                </a:moveTo>
                <a:lnTo>
                  <a:pt x="111" y="1030"/>
                </a:lnTo>
                <a:lnTo>
                  <a:pt x="86" y="991"/>
                </a:lnTo>
                <a:lnTo>
                  <a:pt x="60" y="948"/>
                </a:lnTo>
                <a:lnTo>
                  <a:pt x="41" y="903"/>
                </a:lnTo>
                <a:lnTo>
                  <a:pt x="23" y="855"/>
                </a:lnTo>
                <a:lnTo>
                  <a:pt x="11" y="810"/>
                </a:lnTo>
                <a:lnTo>
                  <a:pt x="2" y="765"/>
                </a:lnTo>
                <a:lnTo>
                  <a:pt x="0" y="726"/>
                </a:lnTo>
                <a:lnTo>
                  <a:pt x="60" y="675"/>
                </a:lnTo>
                <a:lnTo>
                  <a:pt x="117" y="619"/>
                </a:lnTo>
                <a:lnTo>
                  <a:pt x="165" y="558"/>
                </a:lnTo>
                <a:lnTo>
                  <a:pt x="209" y="495"/>
                </a:lnTo>
                <a:lnTo>
                  <a:pt x="240" y="425"/>
                </a:lnTo>
                <a:lnTo>
                  <a:pt x="267" y="353"/>
                </a:lnTo>
                <a:lnTo>
                  <a:pt x="284" y="275"/>
                </a:lnTo>
                <a:lnTo>
                  <a:pt x="291" y="197"/>
                </a:lnTo>
                <a:lnTo>
                  <a:pt x="297" y="174"/>
                </a:lnTo>
                <a:lnTo>
                  <a:pt x="308" y="149"/>
                </a:lnTo>
                <a:lnTo>
                  <a:pt x="320" y="119"/>
                </a:lnTo>
                <a:lnTo>
                  <a:pt x="336" y="89"/>
                </a:lnTo>
                <a:lnTo>
                  <a:pt x="351" y="59"/>
                </a:lnTo>
                <a:lnTo>
                  <a:pt x="368" y="33"/>
                </a:lnTo>
                <a:lnTo>
                  <a:pt x="384" y="12"/>
                </a:lnTo>
                <a:lnTo>
                  <a:pt x="401" y="0"/>
                </a:lnTo>
                <a:lnTo>
                  <a:pt x="419" y="0"/>
                </a:lnTo>
                <a:lnTo>
                  <a:pt x="440" y="3"/>
                </a:lnTo>
                <a:lnTo>
                  <a:pt x="459" y="6"/>
                </a:lnTo>
                <a:lnTo>
                  <a:pt x="482" y="11"/>
                </a:lnTo>
                <a:lnTo>
                  <a:pt x="503" y="14"/>
                </a:lnTo>
                <a:lnTo>
                  <a:pt x="524" y="17"/>
                </a:lnTo>
                <a:lnTo>
                  <a:pt x="546" y="20"/>
                </a:lnTo>
                <a:lnTo>
                  <a:pt x="569" y="23"/>
                </a:lnTo>
                <a:lnTo>
                  <a:pt x="578" y="18"/>
                </a:lnTo>
                <a:lnTo>
                  <a:pt x="590" y="15"/>
                </a:lnTo>
                <a:lnTo>
                  <a:pt x="602" y="12"/>
                </a:lnTo>
                <a:lnTo>
                  <a:pt x="614" y="9"/>
                </a:lnTo>
                <a:lnTo>
                  <a:pt x="626" y="5"/>
                </a:lnTo>
                <a:lnTo>
                  <a:pt x="639" y="3"/>
                </a:lnTo>
                <a:lnTo>
                  <a:pt x="651" y="3"/>
                </a:lnTo>
                <a:lnTo>
                  <a:pt x="665" y="5"/>
                </a:lnTo>
                <a:lnTo>
                  <a:pt x="669" y="20"/>
                </a:lnTo>
                <a:lnTo>
                  <a:pt x="668" y="36"/>
                </a:lnTo>
                <a:lnTo>
                  <a:pt x="660" y="51"/>
                </a:lnTo>
                <a:lnTo>
                  <a:pt x="650" y="68"/>
                </a:lnTo>
                <a:lnTo>
                  <a:pt x="635" y="80"/>
                </a:lnTo>
                <a:lnTo>
                  <a:pt x="620" y="93"/>
                </a:lnTo>
                <a:lnTo>
                  <a:pt x="605" y="104"/>
                </a:lnTo>
                <a:lnTo>
                  <a:pt x="591" y="113"/>
                </a:lnTo>
                <a:lnTo>
                  <a:pt x="582" y="111"/>
                </a:lnTo>
                <a:lnTo>
                  <a:pt x="573" y="111"/>
                </a:lnTo>
                <a:lnTo>
                  <a:pt x="564" y="110"/>
                </a:lnTo>
                <a:lnTo>
                  <a:pt x="558" y="108"/>
                </a:lnTo>
                <a:lnTo>
                  <a:pt x="543" y="105"/>
                </a:lnTo>
                <a:lnTo>
                  <a:pt x="531" y="104"/>
                </a:lnTo>
                <a:lnTo>
                  <a:pt x="521" y="122"/>
                </a:lnTo>
                <a:lnTo>
                  <a:pt x="512" y="135"/>
                </a:lnTo>
                <a:lnTo>
                  <a:pt x="498" y="146"/>
                </a:lnTo>
                <a:lnTo>
                  <a:pt x="486" y="155"/>
                </a:lnTo>
                <a:lnTo>
                  <a:pt x="471" y="158"/>
                </a:lnTo>
                <a:lnTo>
                  <a:pt x="455" y="162"/>
                </a:lnTo>
                <a:lnTo>
                  <a:pt x="435" y="165"/>
                </a:lnTo>
                <a:lnTo>
                  <a:pt x="417" y="170"/>
                </a:lnTo>
                <a:lnTo>
                  <a:pt x="419" y="176"/>
                </a:lnTo>
                <a:lnTo>
                  <a:pt x="426" y="180"/>
                </a:lnTo>
                <a:lnTo>
                  <a:pt x="434" y="183"/>
                </a:lnTo>
                <a:lnTo>
                  <a:pt x="444" y="185"/>
                </a:lnTo>
                <a:lnTo>
                  <a:pt x="453" y="183"/>
                </a:lnTo>
                <a:lnTo>
                  <a:pt x="465" y="183"/>
                </a:lnTo>
                <a:lnTo>
                  <a:pt x="476" y="182"/>
                </a:lnTo>
                <a:lnTo>
                  <a:pt x="486" y="182"/>
                </a:lnTo>
                <a:lnTo>
                  <a:pt x="486" y="192"/>
                </a:lnTo>
                <a:lnTo>
                  <a:pt x="488" y="204"/>
                </a:lnTo>
                <a:lnTo>
                  <a:pt x="488" y="218"/>
                </a:lnTo>
                <a:lnTo>
                  <a:pt x="491" y="233"/>
                </a:lnTo>
                <a:lnTo>
                  <a:pt x="474" y="254"/>
                </a:lnTo>
                <a:lnTo>
                  <a:pt x="473" y="279"/>
                </a:lnTo>
                <a:lnTo>
                  <a:pt x="480" y="300"/>
                </a:lnTo>
                <a:lnTo>
                  <a:pt x="498" y="321"/>
                </a:lnTo>
                <a:lnTo>
                  <a:pt x="521" y="335"/>
                </a:lnTo>
                <a:lnTo>
                  <a:pt x="549" y="342"/>
                </a:lnTo>
                <a:lnTo>
                  <a:pt x="579" y="341"/>
                </a:lnTo>
                <a:lnTo>
                  <a:pt x="612" y="329"/>
                </a:lnTo>
                <a:lnTo>
                  <a:pt x="612" y="320"/>
                </a:lnTo>
                <a:lnTo>
                  <a:pt x="614" y="312"/>
                </a:lnTo>
                <a:lnTo>
                  <a:pt x="599" y="309"/>
                </a:lnTo>
                <a:lnTo>
                  <a:pt x="581" y="309"/>
                </a:lnTo>
                <a:lnTo>
                  <a:pt x="560" y="308"/>
                </a:lnTo>
                <a:lnTo>
                  <a:pt x="540" y="308"/>
                </a:lnTo>
                <a:lnTo>
                  <a:pt x="524" y="303"/>
                </a:lnTo>
                <a:lnTo>
                  <a:pt x="513" y="294"/>
                </a:lnTo>
                <a:lnTo>
                  <a:pt x="509" y="279"/>
                </a:lnTo>
                <a:lnTo>
                  <a:pt x="518" y="258"/>
                </a:lnTo>
                <a:lnTo>
                  <a:pt x="549" y="239"/>
                </a:lnTo>
                <a:lnTo>
                  <a:pt x="584" y="234"/>
                </a:lnTo>
                <a:lnTo>
                  <a:pt x="615" y="242"/>
                </a:lnTo>
                <a:lnTo>
                  <a:pt x="642" y="258"/>
                </a:lnTo>
                <a:lnTo>
                  <a:pt x="659" y="281"/>
                </a:lnTo>
                <a:lnTo>
                  <a:pt x="665" y="309"/>
                </a:lnTo>
                <a:lnTo>
                  <a:pt x="654" y="339"/>
                </a:lnTo>
                <a:lnTo>
                  <a:pt x="626" y="372"/>
                </a:lnTo>
                <a:lnTo>
                  <a:pt x="603" y="378"/>
                </a:lnTo>
                <a:lnTo>
                  <a:pt x="582" y="384"/>
                </a:lnTo>
                <a:lnTo>
                  <a:pt x="558" y="389"/>
                </a:lnTo>
                <a:lnTo>
                  <a:pt x="536" y="393"/>
                </a:lnTo>
                <a:lnTo>
                  <a:pt x="510" y="395"/>
                </a:lnTo>
                <a:lnTo>
                  <a:pt x="488" y="398"/>
                </a:lnTo>
                <a:lnTo>
                  <a:pt x="464" y="399"/>
                </a:lnTo>
                <a:lnTo>
                  <a:pt x="444" y="401"/>
                </a:lnTo>
                <a:lnTo>
                  <a:pt x="429" y="446"/>
                </a:lnTo>
                <a:lnTo>
                  <a:pt x="405" y="531"/>
                </a:lnTo>
                <a:lnTo>
                  <a:pt x="374" y="637"/>
                </a:lnTo>
                <a:lnTo>
                  <a:pt x="336" y="757"/>
                </a:lnTo>
                <a:lnTo>
                  <a:pt x="293" y="871"/>
                </a:lnTo>
                <a:lnTo>
                  <a:pt x="245" y="970"/>
                </a:lnTo>
                <a:lnTo>
                  <a:pt x="194" y="1039"/>
                </a:lnTo>
                <a:lnTo>
                  <a:pt x="143" y="106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64480" y="4046400"/>
            <a:ext cx="12600" cy="20880"/>
          </a:xfrm>
          <a:custGeom>
            <a:avLst/>
            <a:gdLst/>
            <a:ahLst/>
            <a:rect l="l" t="t" r="r" b="b"/>
            <a:pathLst>
              <a:path w="16" h="27">
                <a:moveTo>
                  <a:pt x="12" y="27"/>
                </a:moveTo>
                <a:lnTo>
                  <a:pt x="3" y="19"/>
                </a:lnTo>
                <a:lnTo>
                  <a:pt x="0" y="15"/>
                </a:lnTo>
                <a:lnTo>
                  <a:pt x="0" y="10"/>
                </a:lnTo>
                <a:lnTo>
                  <a:pt x="0" y="7"/>
                </a:lnTo>
                <a:lnTo>
                  <a:pt x="4" y="3"/>
                </a:lnTo>
                <a:lnTo>
                  <a:pt x="13" y="0"/>
                </a:lnTo>
                <a:lnTo>
                  <a:pt x="13" y="7"/>
                </a:lnTo>
                <a:lnTo>
                  <a:pt x="15" y="13"/>
                </a:lnTo>
                <a:lnTo>
                  <a:pt x="15" y="18"/>
                </a:lnTo>
                <a:lnTo>
                  <a:pt x="16" y="24"/>
                </a:lnTo>
                <a:lnTo>
                  <a:pt x="13" y="25"/>
                </a:lnTo>
                <a:lnTo>
                  <a:pt x="12" y="27"/>
                </a:lnTo>
                <a:close/>
              </a:path>
            </a:pathLst>
          </a:cu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18360" y="3978360"/>
            <a:ext cx="128520" cy="68040"/>
          </a:xfrm>
          <a:custGeom>
            <a:avLst/>
            <a:gdLst/>
            <a:ahLst/>
            <a:rect l="l" t="t" r="r" b="b"/>
            <a:pathLst>
              <a:path w="162" h="86">
                <a:moveTo>
                  <a:pt x="43" y="86"/>
                </a:moveTo>
                <a:lnTo>
                  <a:pt x="28" y="78"/>
                </a:lnTo>
                <a:lnTo>
                  <a:pt x="18" y="72"/>
                </a:lnTo>
                <a:lnTo>
                  <a:pt x="7" y="65"/>
                </a:lnTo>
                <a:lnTo>
                  <a:pt x="0" y="60"/>
                </a:lnTo>
                <a:lnTo>
                  <a:pt x="0" y="56"/>
                </a:lnTo>
                <a:lnTo>
                  <a:pt x="0" y="53"/>
                </a:lnTo>
                <a:lnTo>
                  <a:pt x="19" y="42"/>
                </a:lnTo>
                <a:lnTo>
                  <a:pt x="40" y="32"/>
                </a:lnTo>
                <a:lnTo>
                  <a:pt x="58" y="21"/>
                </a:lnTo>
                <a:lnTo>
                  <a:pt x="76" y="12"/>
                </a:lnTo>
                <a:lnTo>
                  <a:pt x="94" y="3"/>
                </a:lnTo>
                <a:lnTo>
                  <a:pt x="115" y="0"/>
                </a:lnTo>
                <a:lnTo>
                  <a:pt x="136" y="2"/>
                </a:lnTo>
                <a:lnTo>
                  <a:pt x="162" y="8"/>
                </a:lnTo>
                <a:lnTo>
                  <a:pt x="157" y="17"/>
                </a:lnTo>
                <a:lnTo>
                  <a:pt x="156" y="26"/>
                </a:lnTo>
                <a:lnTo>
                  <a:pt x="153" y="32"/>
                </a:lnTo>
                <a:lnTo>
                  <a:pt x="151" y="39"/>
                </a:lnTo>
                <a:lnTo>
                  <a:pt x="148" y="50"/>
                </a:lnTo>
                <a:lnTo>
                  <a:pt x="145" y="62"/>
                </a:lnTo>
                <a:lnTo>
                  <a:pt x="138" y="63"/>
                </a:lnTo>
                <a:lnTo>
                  <a:pt x="126" y="66"/>
                </a:lnTo>
                <a:lnTo>
                  <a:pt x="111" y="69"/>
                </a:lnTo>
                <a:lnTo>
                  <a:pt x="96" y="74"/>
                </a:lnTo>
                <a:lnTo>
                  <a:pt x="78" y="77"/>
                </a:lnTo>
                <a:lnTo>
                  <a:pt x="63" y="80"/>
                </a:lnTo>
                <a:lnTo>
                  <a:pt x="51" y="83"/>
                </a:lnTo>
                <a:lnTo>
                  <a:pt x="43" y="8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15040" y="4008600"/>
            <a:ext cx="34920" cy="15840"/>
          </a:xfrm>
          <a:custGeom>
            <a:avLst/>
            <a:gdLst/>
            <a:ahLst/>
            <a:rect l="l" t="t" r="r" b="b"/>
            <a:pathLst>
              <a:path w="44" h="19">
                <a:moveTo>
                  <a:pt x="3" y="19"/>
                </a:moveTo>
                <a:lnTo>
                  <a:pt x="0" y="15"/>
                </a:lnTo>
                <a:lnTo>
                  <a:pt x="2" y="10"/>
                </a:lnTo>
                <a:lnTo>
                  <a:pt x="6" y="4"/>
                </a:lnTo>
                <a:lnTo>
                  <a:pt x="11" y="1"/>
                </a:lnTo>
                <a:lnTo>
                  <a:pt x="18" y="0"/>
                </a:lnTo>
                <a:lnTo>
                  <a:pt x="27" y="0"/>
                </a:lnTo>
                <a:lnTo>
                  <a:pt x="35" y="1"/>
                </a:lnTo>
                <a:lnTo>
                  <a:pt x="44" y="7"/>
                </a:lnTo>
                <a:lnTo>
                  <a:pt x="32" y="10"/>
                </a:lnTo>
                <a:lnTo>
                  <a:pt x="23" y="15"/>
                </a:lnTo>
                <a:lnTo>
                  <a:pt x="12" y="18"/>
                </a:lnTo>
                <a:lnTo>
                  <a:pt x="3" y="1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70480" y="4010040"/>
            <a:ext cx="19080" cy="12600"/>
          </a:xfrm>
          <a:custGeom>
            <a:avLst/>
            <a:gdLst/>
            <a:ahLst/>
            <a:rect l="l" t="t" r="r" b="b"/>
            <a:pathLst>
              <a:path w="24" h="17">
                <a:moveTo>
                  <a:pt x="0" y="17"/>
                </a:moveTo>
                <a:lnTo>
                  <a:pt x="0" y="8"/>
                </a:lnTo>
                <a:lnTo>
                  <a:pt x="5" y="3"/>
                </a:lnTo>
                <a:lnTo>
                  <a:pt x="12" y="0"/>
                </a:lnTo>
                <a:lnTo>
                  <a:pt x="23" y="0"/>
                </a:lnTo>
                <a:lnTo>
                  <a:pt x="23" y="5"/>
                </a:lnTo>
                <a:lnTo>
                  <a:pt x="24" y="9"/>
                </a:lnTo>
                <a:lnTo>
                  <a:pt x="21" y="11"/>
                </a:lnTo>
                <a:lnTo>
                  <a:pt x="20" y="12"/>
                </a:lnTo>
                <a:lnTo>
                  <a:pt x="12" y="14"/>
                </a:lnTo>
                <a:lnTo>
                  <a:pt x="0" y="17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89880" y="3986280"/>
            <a:ext cx="90360" cy="27000"/>
          </a:xfrm>
          <a:custGeom>
            <a:avLst/>
            <a:gdLst/>
            <a:ahLst/>
            <a:rect l="l" t="t" r="r" b="b"/>
            <a:pathLst>
              <a:path w="114" h="35">
                <a:moveTo>
                  <a:pt x="94" y="35"/>
                </a:moveTo>
                <a:lnTo>
                  <a:pt x="79" y="29"/>
                </a:lnTo>
                <a:lnTo>
                  <a:pt x="66" y="26"/>
                </a:lnTo>
                <a:lnTo>
                  <a:pt x="54" y="21"/>
                </a:lnTo>
                <a:lnTo>
                  <a:pt x="45" y="21"/>
                </a:lnTo>
                <a:lnTo>
                  <a:pt x="34" y="20"/>
                </a:lnTo>
                <a:lnTo>
                  <a:pt x="24" y="20"/>
                </a:lnTo>
                <a:lnTo>
                  <a:pt x="12" y="21"/>
                </a:lnTo>
                <a:lnTo>
                  <a:pt x="0" y="24"/>
                </a:lnTo>
                <a:lnTo>
                  <a:pt x="4" y="15"/>
                </a:lnTo>
                <a:lnTo>
                  <a:pt x="19" y="8"/>
                </a:lnTo>
                <a:lnTo>
                  <a:pt x="37" y="2"/>
                </a:lnTo>
                <a:lnTo>
                  <a:pt x="58" y="0"/>
                </a:lnTo>
                <a:lnTo>
                  <a:pt x="78" y="0"/>
                </a:lnTo>
                <a:lnTo>
                  <a:pt x="97" y="6"/>
                </a:lnTo>
                <a:lnTo>
                  <a:pt x="109" y="15"/>
                </a:lnTo>
                <a:lnTo>
                  <a:pt x="114" y="35"/>
                </a:lnTo>
                <a:lnTo>
                  <a:pt x="103" y="35"/>
                </a:lnTo>
                <a:lnTo>
                  <a:pt x="94" y="35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13520" y="3519360"/>
            <a:ext cx="252720" cy="325440"/>
          </a:xfrm>
          <a:custGeom>
            <a:avLst/>
            <a:gdLst/>
            <a:ahLst/>
            <a:rect l="l" t="t" r="r" b="b"/>
            <a:pathLst>
              <a:path w="320" h="410">
                <a:moveTo>
                  <a:pt x="86" y="410"/>
                </a:moveTo>
                <a:lnTo>
                  <a:pt x="83" y="409"/>
                </a:lnTo>
                <a:lnTo>
                  <a:pt x="83" y="401"/>
                </a:lnTo>
                <a:lnTo>
                  <a:pt x="98" y="388"/>
                </a:lnTo>
                <a:lnTo>
                  <a:pt x="114" y="371"/>
                </a:lnTo>
                <a:lnTo>
                  <a:pt x="129" y="349"/>
                </a:lnTo>
                <a:lnTo>
                  <a:pt x="143" y="325"/>
                </a:lnTo>
                <a:lnTo>
                  <a:pt x="153" y="299"/>
                </a:lnTo>
                <a:lnTo>
                  <a:pt x="161" y="274"/>
                </a:lnTo>
                <a:lnTo>
                  <a:pt x="165" y="251"/>
                </a:lnTo>
                <a:lnTo>
                  <a:pt x="167" y="232"/>
                </a:lnTo>
                <a:lnTo>
                  <a:pt x="161" y="230"/>
                </a:lnTo>
                <a:lnTo>
                  <a:pt x="158" y="230"/>
                </a:lnTo>
                <a:lnTo>
                  <a:pt x="153" y="230"/>
                </a:lnTo>
                <a:lnTo>
                  <a:pt x="147" y="230"/>
                </a:lnTo>
                <a:lnTo>
                  <a:pt x="138" y="238"/>
                </a:lnTo>
                <a:lnTo>
                  <a:pt x="132" y="247"/>
                </a:lnTo>
                <a:lnTo>
                  <a:pt x="125" y="253"/>
                </a:lnTo>
                <a:lnTo>
                  <a:pt x="119" y="260"/>
                </a:lnTo>
                <a:lnTo>
                  <a:pt x="110" y="265"/>
                </a:lnTo>
                <a:lnTo>
                  <a:pt x="102" y="269"/>
                </a:lnTo>
                <a:lnTo>
                  <a:pt x="92" y="272"/>
                </a:lnTo>
                <a:lnTo>
                  <a:pt x="81" y="275"/>
                </a:lnTo>
                <a:lnTo>
                  <a:pt x="81" y="271"/>
                </a:lnTo>
                <a:lnTo>
                  <a:pt x="81" y="268"/>
                </a:lnTo>
                <a:lnTo>
                  <a:pt x="92" y="254"/>
                </a:lnTo>
                <a:lnTo>
                  <a:pt x="102" y="242"/>
                </a:lnTo>
                <a:lnTo>
                  <a:pt x="110" y="227"/>
                </a:lnTo>
                <a:lnTo>
                  <a:pt x="116" y="212"/>
                </a:lnTo>
                <a:lnTo>
                  <a:pt x="117" y="196"/>
                </a:lnTo>
                <a:lnTo>
                  <a:pt x="119" y="181"/>
                </a:lnTo>
                <a:lnTo>
                  <a:pt x="116" y="165"/>
                </a:lnTo>
                <a:lnTo>
                  <a:pt x="111" y="150"/>
                </a:lnTo>
                <a:lnTo>
                  <a:pt x="101" y="150"/>
                </a:lnTo>
                <a:lnTo>
                  <a:pt x="95" y="151"/>
                </a:lnTo>
                <a:lnTo>
                  <a:pt x="90" y="154"/>
                </a:lnTo>
                <a:lnTo>
                  <a:pt x="89" y="160"/>
                </a:lnTo>
                <a:lnTo>
                  <a:pt x="86" y="165"/>
                </a:lnTo>
                <a:lnTo>
                  <a:pt x="84" y="172"/>
                </a:lnTo>
                <a:lnTo>
                  <a:pt x="80" y="181"/>
                </a:lnTo>
                <a:lnTo>
                  <a:pt x="75" y="190"/>
                </a:lnTo>
                <a:lnTo>
                  <a:pt x="65" y="195"/>
                </a:lnTo>
                <a:lnTo>
                  <a:pt x="56" y="199"/>
                </a:lnTo>
                <a:lnTo>
                  <a:pt x="47" y="204"/>
                </a:lnTo>
                <a:lnTo>
                  <a:pt x="38" y="208"/>
                </a:lnTo>
                <a:lnTo>
                  <a:pt x="27" y="211"/>
                </a:lnTo>
                <a:lnTo>
                  <a:pt x="18" y="214"/>
                </a:lnTo>
                <a:lnTo>
                  <a:pt x="9" y="217"/>
                </a:lnTo>
                <a:lnTo>
                  <a:pt x="0" y="220"/>
                </a:lnTo>
                <a:lnTo>
                  <a:pt x="0" y="217"/>
                </a:lnTo>
                <a:lnTo>
                  <a:pt x="2" y="214"/>
                </a:lnTo>
                <a:lnTo>
                  <a:pt x="20" y="190"/>
                </a:lnTo>
                <a:lnTo>
                  <a:pt x="33" y="165"/>
                </a:lnTo>
                <a:lnTo>
                  <a:pt x="42" y="138"/>
                </a:lnTo>
                <a:lnTo>
                  <a:pt x="50" y="111"/>
                </a:lnTo>
                <a:lnTo>
                  <a:pt x="53" y="81"/>
                </a:lnTo>
                <a:lnTo>
                  <a:pt x="54" y="54"/>
                </a:lnTo>
                <a:lnTo>
                  <a:pt x="54" y="25"/>
                </a:lnTo>
                <a:lnTo>
                  <a:pt x="54" y="0"/>
                </a:lnTo>
                <a:lnTo>
                  <a:pt x="95" y="21"/>
                </a:lnTo>
                <a:lnTo>
                  <a:pt x="132" y="49"/>
                </a:lnTo>
                <a:lnTo>
                  <a:pt x="164" y="82"/>
                </a:lnTo>
                <a:lnTo>
                  <a:pt x="197" y="121"/>
                </a:lnTo>
                <a:lnTo>
                  <a:pt x="225" y="160"/>
                </a:lnTo>
                <a:lnTo>
                  <a:pt x="255" y="201"/>
                </a:lnTo>
                <a:lnTo>
                  <a:pt x="284" y="239"/>
                </a:lnTo>
                <a:lnTo>
                  <a:pt x="315" y="280"/>
                </a:lnTo>
                <a:lnTo>
                  <a:pt x="315" y="284"/>
                </a:lnTo>
                <a:lnTo>
                  <a:pt x="317" y="293"/>
                </a:lnTo>
                <a:lnTo>
                  <a:pt x="317" y="302"/>
                </a:lnTo>
                <a:lnTo>
                  <a:pt x="318" y="314"/>
                </a:lnTo>
                <a:lnTo>
                  <a:pt x="318" y="323"/>
                </a:lnTo>
                <a:lnTo>
                  <a:pt x="318" y="335"/>
                </a:lnTo>
                <a:lnTo>
                  <a:pt x="318" y="346"/>
                </a:lnTo>
                <a:lnTo>
                  <a:pt x="320" y="358"/>
                </a:lnTo>
                <a:lnTo>
                  <a:pt x="296" y="355"/>
                </a:lnTo>
                <a:lnTo>
                  <a:pt x="278" y="353"/>
                </a:lnTo>
                <a:lnTo>
                  <a:pt x="263" y="350"/>
                </a:lnTo>
                <a:lnTo>
                  <a:pt x="251" y="350"/>
                </a:lnTo>
                <a:lnTo>
                  <a:pt x="236" y="350"/>
                </a:lnTo>
                <a:lnTo>
                  <a:pt x="222" y="355"/>
                </a:lnTo>
                <a:lnTo>
                  <a:pt x="206" y="364"/>
                </a:lnTo>
                <a:lnTo>
                  <a:pt x="188" y="379"/>
                </a:lnTo>
                <a:lnTo>
                  <a:pt x="171" y="379"/>
                </a:lnTo>
                <a:lnTo>
                  <a:pt x="159" y="382"/>
                </a:lnTo>
                <a:lnTo>
                  <a:pt x="149" y="386"/>
                </a:lnTo>
                <a:lnTo>
                  <a:pt x="140" y="392"/>
                </a:lnTo>
                <a:lnTo>
                  <a:pt x="128" y="397"/>
                </a:lnTo>
                <a:lnTo>
                  <a:pt x="117" y="403"/>
                </a:lnTo>
                <a:lnTo>
                  <a:pt x="102" y="406"/>
                </a:lnTo>
                <a:lnTo>
                  <a:pt x="86" y="410"/>
                </a:lnTo>
                <a:close/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96280" y="3498840"/>
            <a:ext cx="165240" cy="258840"/>
          </a:xfrm>
          <a:custGeom>
            <a:avLst/>
            <a:gdLst/>
            <a:ahLst/>
            <a:rect l="l" t="t" r="r" b="b"/>
            <a:pathLst>
              <a:path w="207" h="327">
                <a:moveTo>
                  <a:pt x="0" y="327"/>
                </a:moveTo>
                <a:lnTo>
                  <a:pt x="0" y="300"/>
                </a:lnTo>
                <a:lnTo>
                  <a:pt x="2" y="268"/>
                </a:lnTo>
                <a:lnTo>
                  <a:pt x="3" y="234"/>
                </a:lnTo>
                <a:lnTo>
                  <a:pt x="9" y="201"/>
                </a:lnTo>
                <a:lnTo>
                  <a:pt x="15" y="165"/>
                </a:lnTo>
                <a:lnTo>
                  <a:pt x="24" y="135"/>
                </a:lnTo>
                <a:lnTo>
                  <a:pt x="36" y="108"/>
                </a:lnTo>
                <a:lnTo>
                  <a:pt x="53" y="87"/>
                </a:lnTo>
                <a:lnTo>
                  <a:pt x="54" y="75"/>
                </a:lnTo>
                <a:lnTo>
                  <a:pt x="57" y="65"/>
                </a:lnTo>
                <a:lnTo>
                  <a:pt x="62" y="53"/>
                </a:lnTo>
                <a:lnTo>
                  <a:pt x="68" y="44"/>
                </a:lnTo>
                <a:lnTo>
                  <a:pt x="72" y="32"/>
                </a:lnTo>
                <a:lnTo>
                  <a:pt x="77" y="21"/>
                </a:lnTo>
                <a:lnTo>
                  <a:pt x="80" y="11"/>
                </a:lnTo>
                <a:lnTo>
                  <a:pt x="84" y="0"/>
                </a:lnTo>
                <a:lnTo>
                  <a:pt x="89" y="0"/>
                </a:lnTo>
                <a:lnTo>
                  <a:pt x="93" y="2"/>
                </a:lnTo>
                <a:lnTo>
                  <a:pt x="99" y="20"/>
                </a:lnTo>
                <a:lnTo>
                  <a:pt x="108" y="41"/>
                </a:lnTo>
                <a:lnTo>
                  <a:pt x="117" y="59"/>
                </a:lnTo>
                <a:lnTo>
                  <a:pt x="129" y="77"/>
                </a:lnTo>
                <a:lnTo>
                  <a:pt x="141" y="90"/>
                </a:lnTo>
                <a:lnTo>
                  <a:pt x="159" y="102"/>
                </a:lnTo>
                <a:lnTo>
                  <a:pt x="180" y="108"/>
                </a:lnTo>
                <a:lnTo>
                  <a:pt x="207" y="111"/>
                </a:lnTo>
                <a:lnTo>
                  <a:pt x="197" y="125"/>
                </a:lnTo>
                <a:lnTo>
                  <a:pt x="180" y="143"/>
                </a:lnTo>
                <a:lnTo>
                  <a:pt x="158" y="159"/>
                </a:lnTo>
                <a:lnTo>
                  <a:pt x="140" y="176"/>
                </a:lnTo>
                <a:lnTo>
                  <a:pt x="125" y="189"/>
                </a:lnTo>
                <a:lnTo>
                  <a:pt x="123" y="203"/>
                </a:lnTo>
                <a:lnTo>
                  <a:pt x="138" y="212"/>
                </a:lnTo>
                <a:lnTo>
                  <a:pt x="176" y="218"/>
                </a:lnTo>
                <a:lnTo>
                  <a:pt x="173" y="225"/>
                </a:lnTo>
                <a:lnTo>
                  <a:pt x="165" y="235"/>
                </a:lnTo>
                <a:lnTo>
                  <a:pt x="153" y="246"/>
                </a:lnTo>
                <a:lnTo>
                  <a:pt x="141" y="258"/>
                </a:lnTo>
                <a:lnTo>
                  <a:pt x="128" y="268"/>
                </a:lnTo>
                <a:lnTo>
                  <a:pt x="116" y="280"/>
                </a:lnTo>
                <a:lnTo>
                  <a:pt x="104" y="291"/>
                </a:lnTo>
                <a:lnTo>
                  <a:pt x="98" y="301"/>
                </a:lnTo>
                <a:lnTo>
                  <a:pt x="78" y="300"/>
                </a:lnTo>
                <a:lnTo>
                  <a:pt x="65" y="301"/>
                </a:lnTo>
                <a:lnTo>
                  <a:pt x="53" y="306"/>
                </a:lnTo>
                <a:lnTo>
                  <a:pt x="44" y="310"/>
                </a:lnTo>
                <a:lnTo>
                  <a:pt x="33" y="315"/>
                </a:lnTo>
                <a:lnTo>
                  <a:pt x="24" y="319"/>
                </a:lnTo>
                <a:lnTo>
                  <a:pt x="12" y="322"/>
                </a:lnTo>
                <a:lnTo>
                  <a:pt x="0" y="327"/>
                </a:lnTo>
                <a:close/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17000" y="3559320"/>
            <a:ext cx="162000" cy="102960"/>
          </a:xfrm>
          <a:custGeom>
            <a:avLst/>
            <a:gdLst/>
            <a:ahLst/>
            <a:rect l="l" t="t" r="r" b="b"/>
            <a:pathLst>
              <a:path w="204" h="131">
                <a:moveTo>
                  <a:pt x="67" y="131"/>
                </a:moveTo>
                <a:lnTo>
                  <a:pt x="55" y="126"/>
                </a:lnTo>
                <a:lnTo>
                  <a:pt x="46" y="123"/>
                </a:lnTo>
                <a:lnTo>
                  <a:pt x="37" y="119"/>
                </a:lnTo>
                <a:lnTo>
                  <a:pt x="28" y="116"/>
                </a:lnTo>
                <a:lnTo>
                  <a:pt x="12" y="107"/>
                </a:lnTo>
                <a:lnTo>
                  <a:pt x="0" y="98"/>
                </a:lnTo>
                <a:lnTo>
                  <a:pt x="0" y="89"/>
                </a:lnTo>
                <a:lnTo>
                  <a:pt x="0" y="80"/>
                </a:lnTo>
                <a:lnTo>
                  <a:pt x="7" y="81"/>
                </a:lnTo>
                <a:lnTo>
                  <a:pt x="16" y="86"/>
                </a:lnTo>
                <a:lnTo>
                  <a:pt x="25" y="93"/>
                </a:lnTo>
                <a:lnTo>
                  <a:pt x="37" y="101"/>
                </a:lnTo>
                <a:lnTo>
                  <a:pt x="66" y="105"/>
                </a:lnTo>
                <a:lnTo>
                  <a:pt x="93" y="104"/>
                </a:lnTo>
                <a:lnTo>
                  <a:pt x="115" y="96"/>
                </a:lnTo>
                <a:lnTo>
                  <a:pt x="136" y="84"/>
                </a:lnTo>
                <a:lnTo>
                  <a:pt x="154" y="66"/>
                </a:lnTo>
                <a:lnTo>
                  <a:pt x="172" y="47"/>
                </a:lnTo>
                <a:lnTo>
                  <a:pt x="187" y="24"/>
                </a:lnTo>
                <a:lnTo>
                  <a:pt x="204" y="0"/>
                </a:lnTo>
                <a:lnTo>
                  <a:pt x="199" y="26"/>
                </a:lnTo>
                <a:lnTo>
                  <a:pt x="190" y="50"/>
                </a:lnTo>
                <a:lnTo>
                  <a:pt x="177" y="71"/>
                </a:lnTo>
                <a:lnTo>
                  <a:pt x="160" y="92"/>
                </a:lnTo>
                <a:lnTo>
                  <a:pt x="138" y="107"/>
                </a:lnTo>
                <a:lnTo>
                  <a:pt x="117" y="120"/>
                </a:lnTo>
                <a:lnTo>
                  <a:pt x="91" y="128"/>
                </a:lnTo>
                <a:lnTo>
                  <a:pt x="67" y="1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10640" y="2854440"/>
            <a:ext cx="507960" cy="766800"/>
          </a:xfrm>
          <a:custGeom>
            <a:avLst/>
            <a:gdLst/>
            <a:ahLst/>
            <a:rect l="l" t="t" r="r" b="b"/>
            <a:pathLst>
              <a:path w="641" h="966">
                <a:moveTo>
                  <a:pt x="305" y="966"/>
                </a:moveTo>
                <a:lnTo>
                  <a:pt x="270" y="945"/>
                </a:lnTo>
                <a:lnTo>
                  <a:pt x="242" y="910"/>
                </a:lnTo>
                <a:lnTo>
                  <a:pt x="215" y="867"/>
                </a:lnTo>
                <a:lnTo>
                  <a:pt x="192" y="819"/>
                </a:lnTo>
                <a:lnTo>
                  <a:pt x="174" y="766"/>
                </a:lnTo>
                <a:lnTo>
                  <a:pt x="165" y="718"/>
                </a:lnTo>
                <a:lnTo>
                  <a:pt x="161" y="675"/>
                </a:lnTo>
                <a:lnTo>
                  <a:pt x="167" y="640"/>
                </a:lnTo>
                <a:lnTo>
                  <a:pt x="167" y="619"/>
                </a:lnTo>
                <a:lnTo>
                  <a:pt x="170" y="603"/>
                </a:lnTo>
                <a:lnTo>
                  <a:pt x="174" y="588"/>
                </a:lnTo>
                <a:lnTo>
                  <a:pt x="182" y="576"/>
                </a:lnTo>
                <a:lnTo>
                  <a:pt x="188" y="562"/>
                </a:lnTo>
                <a:lnTo>
                  <a:pt x="197" y="552"/>
                </a:lnTo>
                <a:lnTo>
                  <a:pt x="206" y="537"/>
                </a:lnTo>
                <a:lnTo>
                  <a:pt x="215" y="523"/>
                </a:lnTo>
                <a:lnTo>
                  <a:pt x="215" y="511"/>
                </a:lnTo>
                <a:lnTo>
                  <a:pt x="215" y="501"/>
                </a:lnTo>
                <a:lnTo>
                  <a:pt x="215" y="490"/>
                </a:lnTo>
                <a:lnTo>
                  <a:pt x="215" y="481"/>
                </a:lnTo>
                <a:lnTo>
                  <a:pt x="215" y="471"/>
                </a:lnTo>
                <a:lnTo>
                  <a:pt x="215" y="460"/>
                </a:lnTo>
                <a:lnTo>
                  <a:pt x="215" y="450"/>
                </a:lnTo>
                <a:lnTo>
                  <a:pt x="216" y="441"/>
                </a:lnTo>
                <a:lnTo>
                  <a:pt x="182" y="441"/>
                </a:lnTo>
                <a:lnTo>
                  <a:pt x="156" y="444"/>
                </a:lnTo>
                <a:lnTo>
                  <a:pt x="134" y="444"/>
                </a:lnTo>
                <a:lnTo>
                  <a:pt x="117" y="442"/>
                </a:lnTo>
                <a:lnTo>
                  <a:pt x="99" y="433"/>
                </a:lnTo>
                <a:lnTo>
                  <a:pt x="84" y="420"/>
                </a:lnTo>
                <a:lnTo>
                  <a:pt x="68" y="396"/>
                </a:lnTo>
                <a:lnTo>
                  <a:pt x="50" y="363"/>
                </a:lnTo>
                <a:lnTo>
                  <a:pt x="47" y="360"/>
                </a:lnTo>
                <a:lnTo>
                  <a:pt x="44" y="360"/>
                </a:lnTo>
                <a:lnTo>
                  <a:pt x="36" y="375"/>
                </a:lnTo>
                <a:lnTo>
                  <a:pt x="36" y="391"/>
                </a:lnTo>
                <a:lnTo>
                  <a:pt x="42" y="405"/>
                </a:lnTo>
                <a:lnTo>
                  <a:pt x="53" y="420"/>
                </a:lnTo>
                <a:lnTo>
                  <a:pt x="62" y="430"/>
                </a:lnTo>
                <a:lnTo>
                  <a:pt x="72" y="442"/>
                </a:lnTo>
                <a:lnTo>
                  <a:pt x="78" y="451"/>
                </a:lnTo>
                <a:lnTo>
                  <a:pt x="81" y="462"/>
                </a:lnTo>
                <a:lnTo>
                  <a:pt x="62" y="447"/>
                </a:lnTo>
                <a:lnTo>
                  <a:pt x="48" y="435"/>
                </a:lnTo>
                <a:lnTo>
                  <a:pt x="38" y="421"/>
                </a:lnTo>
                <a:lnTo>
                  <a:pt x="32" y="411"/>
                </a:lnTo>
                <a:lnTo>
                  <a:pt x="26" y="396"/>
                </a:lnTo>
                <a:lnTo>
                  <a:pt x="24" y="382"/>
                </a:lnTo>
                <a:lnTo>
                  <a:pt x="23" y="364"/>
                </a:lnTo>
                <a:lnTo>
                  <a:pt x="23" y="346"/>
                </a:lnTo>
                <a:lnTo>
                  <a:pt x="12" y="340"/>
                </a:lnTo>
                <a:lnTo>
                  <a:pt x="6" y="334"/>
                </a:lnTo>
                <a:lnTo>
                  <a:pt x="2" y="330"/>
                </a:lnTo>
                <a:lnTo>
                  <a:pt x="0" y="325"/>
                </a:lnTo>
                <a:lnTo>
                  <a:pt x="8" y="325"/>
                </a:lnTo>
                <a:lnTo>
                  <a:pt x="17" y="325"/>
                </a:lnTo>
                <a:lnTo>
                  <a:pt x="21" y="325"/>
                </a:lnTo>
                <a:lnTo>
                  <a:pt x="27" y="325"/>
                </a:lnTo>
                <a:lnTo>
                  <a:pt x="36" y="325"/>
                </a:lnTo>
                <a:lnTo>
                  <a:pt x="48" y="327"/>
                </a:lnTo>
                <a:lnTo>
                  <a:pt x="71" y="310"/>
                </a:lnTo>
                <a:lnTo>
                  <a:pt x="96" y="288"/>
                </a:lnTo>
                <a:lnTo>
                  <a:pt x="122" y="259"/>
                </a:lnTo>
                <a:lnTo>
                  <a:pt x="147" y="229"/>
                </a:lnTo>
                <a:lnTo>
                  <a:pt x="168" y="195"/>
                </a:lnTo>
                <a:lnTo>
                  <a:pt x="189" y="162"/>
                </a:lnTo>
                <a:lnTo>
                  <a:pt x="206" y="130"/>
                </a:lnTo>
                <a:lnTo>
                  <a:pt x="219" y="103"/>
                </a:lnTo>
                <a:lnTo>
                  <a:pt x="221" y="90"/>
                </a:lnTo>
                <a:lnTo>
                  <a:pt x="222" y="76"/>
                </a:lnTo>
                <a:lnTo>
                  <a:pt x="224" y="63"/>
                </a:lnTo>
                <a:lnTo>
                  <a:pt x="228" y="51"/>
                </a:lnTo>
                <a:lnTo>
                  <a:pt x="230" y="39"/>
                </a:lnTo>
                <a:lnTo>
                  <a:pt x="234" y="28"/>
                </a:lnTo>
                <a:lnTo>
                  <a:pt x="240" y="19"/>
                </a:lnTo>
                <a:lnTo>
                  <a:pt x="249" y="13"/>
                </a:lnTo>
                <a:lnTo>
                  <a:pt x="254" y="15"/>
                </a:lnTo>
                <a:lnTo>
                  <a:pt x="261" y="21"/>
                </a:lnTo>
                <a:lnTo>
                  <a:pt x="266" y="27"/>
                </a:lnTo>
                <a:lnTo>
                  <a:pt x="269" y="37"/>
                </a:lnTo>
                <a:lnTo>
                  <a:pt x="254" y="57"/>
                </a:lnTo>
                <a:lnTo>
                  <a:pt x="248" y="81"/>
                </a:lnTo>
                <a:lnTo>
                  <a:pt x="246" y="108"/>
                </a:lnTo>
                <a:lnTo>
                  <a:pt x="249" y="139"/>
                </a:lnTo>
                <a:lnTo>
                  <a:pt x="255" y="168"/>
                </a:lnTo>
                <a:lnTo>
                  <a:pt x="263" y="198"/>
                </a:lnTo>
                <a:lnTo>
                  <a:pt x="269" y="223"/>
                </a:lnTo>
                <a:lnTo>
                  <a:pt x="276" y="249"/>
                </a:lnTo>
                <a:lnTo>
                  <a:pt x="275" y="282"/>
                </a:lnTo>
                <a:lnTo>
                  <a:pt x="272" y="312"/>
                </a:lnTo>
                <a:lnTo>
                  <a:pt x="266" y="339"/>
                </a:lnTo>
                <a:lnTo>
                  <a:pt x="261" y="366"/>
                </a:lnTo>
                <a:lnTo>
                  <a:pt x="254" y="390"/>
                </a:lnTo>
                <a:lnTo>
                  <a:pt x="246" y="417"/>
                </a:lnTo>
                <a:lnTo>
                  <a:pt x="239" y="445"/>
                </a:lnTo>
                <a:lnTo>
                  <a:pt x="231" y="478"/>
                </a:lnTo>
                <a:lnTo>
                  <a:pt x="234" y="489"/>
                </a:lnTo>
                <a:lnTo>
                  <a:pt x="237" y="499"/>
                </a:lnTo>
                <a:lnTo>
                  <a:pt x="240" y="505"/>
                </a:lnTo>
                <a:lnTo>
                  <a:pt x="245" y="511"/>
                </a:lnTo>
                <a:lnTo>
                  <a:pt x="245" y="517"/>
                </a:lnTo>
                <a:lnTo>
                  <a:pt x="240" y="526"/>
                </a:lnTo>
                <a:lnTo>
                  <a:pt x="230" y="537"/>
                </a:lnTo>
                <a:lnTo>
                  <a:pt x="216" y="555"/>
                </a:lnTo>
                <a:lnTo>
                  <a:pt x="210" y="562"/>
                </a:lnTo>
                <a:lnTo>
                  <a:pt x="206" y="571"/>
                </a:lnTo>
                <a:lnTo>
                  <a:pt x="201" y="579"/>
                </a:lnTo>
                <a:lnTo>
                  <a:pt x="198" y="588"/>
                </a:lnTo>
                <a:lnTo>
                  <a:pt x="194" y="595"/>
                </a:lnTo>
                <a:lnTo>
                  <a:pt x="192" y="604"/>
                </a:lnTo>
                <a:lnTo>
                  <a:pt x="191" y="613"/>
                </a:lnTo>
                <a:lnTo>
                  <a:pt x="192" y="625"/>
                </a:lnTo>
                <a:lnTo>
                  <a:pt x="203" y="631"/>
                </a:lnTo>
                <a:lnTo>
                  <a:pt x="215" y="637"/>
                </a:lnTo>
                <a:lnTo>
                  <a:pt x="219" y="639"/>
                </a:lnTo>
                <a:lnTo>
                  <a:pt x="227" y="640"/>
                </a:lnTo>
                <a:lnTo>
                  <a:pt x="236" y="640"/>
                </a:lnTo>
                <a:lnTo>
                  <a:pt x="245" y="640"/>
                </a:lnTo>
                <a:lnTo>
                  <a:pt x="257" y="645"/>
                </a:lnTo>
                <a:lnTo>
                  <a:pt x="270" y="654"/>
                </a:lnTo>
                <a:lnTo>
                  <a:pt x="276" y="658"/>
                </a:lnTo>
                <a:lnTo>
                  <a:pt x="284" y="664"/>
                </a:lnTo>
                <a:lnTo>
                  <a:pt x="293" y="669"/>
                </a:lnTo>
                <a:lnTo>
                  <a:pt x="305" y="673"/>
                </a:lnTo>
                <a:lnTo>
                  <a:pt x="305" y="676"/>
                </a:lnTo>
                <a:lnTo>
                  <a:pt x="305" y="681"/>
                </a:lnTo>
                <a:lnTo>
                  <a:pt x="314" y="681"/>
                </a:lnTo>
                <a:lnTo>
                  <a:pt x="323" y="684"/>
                </a:lnTo>
                <a:lnTo>
                  <a:pt x="329" y="688"/>
                </a:lnTo>
                <a:lnTo>
                  <a:pt x="338" y="693"/>
                </a:lnTo>
                <a:lnTo>
                  <a:pt x="345" y="694"/>
                </a:lnTo>
                <a:lnTo>
                  <a:pt x="357" y="694"/>
                </a:lnTo>
                <a:lnTo>
                  <a:pt x="374" y="690"/>
                </a:lnTo>
                <a:lnTo>
                  <a:pt x="396" y="681"/>
                </a:lnTo>
                <a:lnTo>
                  <a:pt x="402" y="667"/>
                </a:lnTo>
                <a:lnTo>
                  <a:pt x="410" y="655"/>
                </a:lnTo>
                <a:lnTo>
                  <a:pt x="416" y="642"/>
                </a:lnTo>
                <a:lnTo>
                  <a:pt x="425" y="630"/>
                </a:lnTo>
                <a:lnTo>
                  <a:pt x="432" y="616"/>
                </a:lnTo>
                <a:lnTo>
                  <a:pt x="443" y="607"/>
                </a:lnTo>
                <a:lnTo>
                  <a:pt x="453" y="601"/>
                </a:lnTo>
                <a:lnTo>
                  <a:pt x="468" y="600"/>
                </a:lnTo>
                <a:lnTo>
                  <a:pt x="470" y="606"/>
                </a:lnTo>
                <a:lnTo>
                  <a:pt x="471" y="610"/>
                </a:lnTo>
                <a:lnTo>
                  <a:pt x="473" y="612"/>
                </a:lnTo>
                <a:lnTo>
                  <a:pt x="476" y="615"/>
                </a:lnTo>
                <a:lnTo>
                  <a:pt x="494" y="600"/>
                </a:lnTo>
                <a:lnTo>
                  <a:pt x="507" y="585"/>
                </a:lnTo>
                <a:lnTo>
                  <a:pt x="513" y="567"/>
                </a:lnTo>
                <a:lnTo>
                  <a:pt x="516" y="550"/>
                </a:lnTo>
                <a:lnTo>
                  <a:pt x="510" y="532"/>
                </a:lnTo>
                <a:lnTo>
                  <a:pt x="501" y="519"/>
                </a:lnTo>
                <a:lnTo>
                  <a:pt x="486" y="507"/>
                </a:lnTo>
                <a:lnTo>
                  <a:pt x="468" y="501"/>
                </a:lnTo>
                <a:lnTo>
                  <a:pt x="468" y="508"/>
                </a:lnTo>
                <a:lnTo>
                  <a:pt x="470" y="517"/>
                </a:lnTo>
                <a:lnTo>
                  <a:pt x="470" y="526"/>
                </a:lnTo>
                <a:lnTo>
                  <a:pt x="471" y="535"/>
                </a:lnTo>
                <a:lnTo>
                  <a:pt x="470" y="543"/>
                </a:lnTo>
                <a:lnTo>
                  <a:pt x="470" y="550"/>
                </a:lnTo>
                <a:lnTo>
                  <a:pt x="467" y="559"/>
                </a:lnTo>
                <a:lnTo>
                  <a:pt x="464" y="568"/>
                </a:lnTo>
                <a:lnTo>
                  <a:pt x="453" y="567"/>
                </a:lnTo>
                <a:lnTo>
                  <a:pt x="449" y="564"/>
                </a:lnTo>
                <a:lnTo>
                  <a:pt x="447" y="532"/>
                </a:lnTo>
                <a:lnTo>
                  <a:pt x="443" y="511"/>
                </a:lnTo>
                <a:lnTo>
                  <a:pt x="437" y="498"/>
                </a:lnTo>
                <a:lnTo>
                  <a:pt x="429" y="489"/>
                </a:lnTo>
                <a:lnTo>
                  <a:pt x="419" y="480"/>
                </a:lnTo>
                <a:lnTo>
                  <a:pt x="410" y="472"/>
                </a:lnTo>
                <a:lnTo>
                  <a:pt x="401" y="462"/>
                </a:lnTo>
                <a:lnTo>
                  <a:pt x="395" y="448"/>
                </a:lnTo>
                <a:lnTo>
                  <a:pt x="395" y="426"/>
                </a:lnTo>
                <a:lnTo>
                  <a:pt x="395" y="409"/>
                </a:lnTo>
                <a:lnTo>
                  <a:pt x="392" y="394"/>
                </a:lnTo>
                <a:lnTo>
                  <a:pt x="389" y="382"/>
                </a:lnTo>
                <a:lnTo>
                  <a:pt x="383" y="369"/>
                </a:lnTo>
                <a:lnTo>
                  <a:pt x="375" y="357"/>
                </a:lnTo>
                <a:lnTo>
                  <a:pt x="366" y="342"/>
                </a:lnTo>
                <a:lnTo>
                  <a:pt x="357" y="327"/>
                </a:lnTo>
                <a:lnTo>
                  <a:pt x="348" y="295"/>
                </a:lnTo>
                <a:lnTo>
                  <a:pt x="345" y="268"/>
                </a:lnTo>
                <a:lnTo>
                  <a:pt x="342" y="241"/>
                </a:lnTo>
                <a:lnTo>
                  <a:pt x="344" y="216"/>
                </a:lnTo>
                <a:lnTo>
                  <a:pt x="344" y="190"/>
                </a:lnTo>
                <a:lnTo>
                  <a:pt x="348" y="165"/>
                </a:lnTo>
                <a:lnTo>
                  <a:pt x="353" y="138"/>
                </a:lnTo>
                <a:lnTo>
                  <a:pt x="362" y="111"/>
                </a:lnTo>
                <a:lnTo>
                  <a:pt x="357" y="93"/>
                </a:lnTo>
                <a:lnTo>
                  <a:pt x="351" y="75"/>
                </a:lnTo>
                <a:lnTo>
                  <a:pt x="344" y="55"/>
                </a:lnTo>
                <a:lnTo>
                  <a:pt x="339" y="37"/>
                </a:lnTo>
                <a:lnTo>
                  <a:pt x="335" y="19"/>
                </a:lnTo>
                <a:lnTo>
                  <a:pt x="336" y="7"/>
                </a:lnTo>
                <a:lnTo>
                  <a:pt x="344" y="0"/>
                </a:lnTo>
                <a:lnTo>
                  <a:pt x="362" y="1"/>
                </a:lnTo>
                <a:lnTo>
                  <a:pt x="375" y="19"/>
                </a:lnTo>
                <a:lnTo>
                  <a:pt x="389" y="42"/>
                </a:lnTo>
                <a:lnTo>
                  <a:pt x="402" y="64"/>
                </a:lnTo>
                <a:lnTo>
                  <a:pt x="416" y="90"/>
                </a:lnTo>
                <a:lnTo>
                  <a:pt x="429" y="114"/>
                </a:lnTo>
                <a:lnTo>
                  <a:pt x="444" y="139"/>
                </a:lnTo>
                <a:lnTo>
                  <a:pt x="462" y="163"/>
                </a:lnTo>
                <a:lnTo>
                  <a:pt x="482" y="189"/>
                </a:lnTo>
                <a:lnTo>
                  <a:pt x="483" y="193"/>
                </a:lnTo>
                <a:lnTo>
                  <a:pt x="485" y="201"/>
                </a:lnTo>
                <a:lnTo>
                  <a:pt x="489" y="201"/>
                </a:lnTo>
                <a:lnTo>
                  <a:pt x="494" y="204"/>
                </a:lnTo>
                <a:lnTo>
                  <a:pt x="498" y="214"/>
                </a:lnTo>
                <a:lnTo>
                  <a:pt x="507" y="225"/>
                </a:lnTo>
                <a:lnTo>
                  <a:pt x="519" y="231"/>
                </a:lnTo>
                <a:lnTo>
                  <a:pt x="536" y="238"/>
                </a:lnTo>
                <a:lnTo>
                  <a:pt x="549" y="244"/>
                </a:lnTo>
                <a:lnTo>
                  <a:pt x="564" y="253"/>
                </a:lnTo>
                <a:lnTo>
                  <a:pt x="576" y="264"/>
                </a:lnTo>
                <a:lnTo>
                  <a:pt x="587" y="279"/>
                </a:lnTo>
                <a:lnTo>
                  <a:pt x="590" y="277"/>
                </a:lnTo>
                <a:lnTo>
                  <a:pt x="599" y="277"/>
                </a:lnTo>
                <a:lnTo>
                  <a:pt x="611" y="276"/>
                </a:lnTo>
                <a:lnTo>
                  <a:pt x="623" y="277"/>
                </a:lnTo>
                <a:lnTo>
                  <a:pt x="632" y="277"/>
                </a:lnTo>
                <a:lnTo>
                  <a:pt x="639" y="282"/>
                </a:lnTo>
                <a:lnTo>
                  <a:pt x="641" y="288"/>
                </a:lnTo>
                <a:lnTo>
                  <a:pt x="635" y="298"/>
                </a:lnTo>
                <a:lnTo>
                  <a:pt x="623" y="300"/>
                </a:lnTo>
                <a:lnTo>
                  <a:pt x="614" y="301"/>
                </a:lnTo>
                <a:lnTo>
                  <a:pt x="603" y="303"/>
                </a:lnTo>
                <a:lnTo>
                  <a:pt x="594" y="306"/>
                </a:lnTo>
                <a:lnTo>
                  <a:pt x="593" y="324"/>
                </a:lnTo>
                <a:lnTo>
                  <a:pt x="591" y="343"/>
                </a:lnTo>
                <a:lnTo>
                  <a:pt x="588" y="363"/>
                </a:lnTo>
                <a:lnTo>
                  <a:pt x="584" y="382"/>
                </a:lnTo>
                <a:lnTo>
                  <a:pt x="575" y="399"/>
                </a:lnTo>
                <a:lnTo>
                  <a:pt x="564" y="412"/>
                </a:lnTo>
                <a:lnTo>
                  <a:pt x="546" y="420"/>
                </a:lnTo>
                <a:lnTo>
                  <a:pt x="525" y="424"/>
                </a:lnTo>
                <a:lnTo>
                  <a:pt x="525" y="423"/>
                </a:lnTo>
                <a:lnTo>
                  <a:pt x="525" y="421"/>
                </a:lnTo>
                <a:lnTo>
                  <a:pt x="533" y="412"/>
                </a:lnTo>
                <a:lnTo>
                  <a:pt x="542" y="408"/>
                </a:lnTo>
                <a:lnTo>
                  <a:pt x="552" y="403"/>
                </a:lnTo>
                <a:lnTo>
                  <a:pt x="566" y="400"/>
                </a:lnTo>
                <a:lnTo>
                  <a:pt x="569" y="388"/>
                </a:lnTo>
                <a:lnTo>
                  <a:pt x="572" y="376"/>
                </a:lnTo>
                <a:lnTo>
                  <a:pt x="575" y="364"/>
                </a:lnTo>
                <a:lnTo>
                  <a:pt x="578" y="352"/>
                </a:lnTo>
                <a:lnTo>
                  <a:pt x="578" y="339"/>
                </a:lnTo>
                <a:lnTo>
                  <a:pt x="579" y="327"/>
                </a:lnTo>
                <a:lnTo>
                  <a:pt x="579" y="315"/>
                </a:lnTo>
                <a:lnTo>
                  <a:pt x="579" y="303"/>
                </a:lnTo>
                <a:lnTo>
                  <a:pt x="576" y="301"/>
                </a:lnTo>
                <a:lnTo>
                  <a:pt x="573" y="301"/>
                </a:lnTo>
                <a:lnTo>
                  <a:pt x="566" y="330"/>
                </a:lnTo>
                <a:lnTo>
                  <a:pt x="557" y="355"/>
                </a:lnTo>
                <a:lnTo>
                  <a:pt x="543" y="376"/>
                </a:lnTo>
                <a:lnTo>
                  <a:pt x="527" y="394"/>
                </a:lnTo>
                <a:lnTo>
                  <a:pt x="506" y="405"/>
                </a:lnTo>
                <a:lnTo>
                  <a:pt x="482" y="412"/>
                </a:lnTo>
                <a:lnTo>
                  <a:pt x="455" y="414"/>
                </a:lnTo>
                <a:lnTo>
                  <a:pt x="425" y="412"/>
                </a:lnTo>
                <a:lnTo>
                  <a:pt x="425" y="421"/>
                </a:lnTo>
                <a:lnTo>
                  <a:pt x="425" y="430"/>
                </a:lnTo>
                <a:lnTo>
                  <a:pt x="425" y="439"/>
                </a:lnTo>
                <a:lnTo>
                  <a:pt x="425" y="450"/>
                </a:lnTo>
                <a:lnTo>
                  <a:pt x="444" y="465"/>
                </a:lnTo>
                <a:lnTo>
                  <a:pt x="471" y="480"/>
                </a:lnTo>
                <a:lnTo>
                  <a:pt x="501" y="493"/>
                </a:lnTo>
                <a:lnTo>
                  <a:pt x="533" y="510"/>
                </a:lnTo>
                <a:lnTo>
                  <a:pt x="560" y="526"/>
                </a:lnTo>
                <a:lnTo>
                  <a:pt x="584" y="550"/>
                </a:lnTo>
                <a:lnTo>
                  <a:pt x="599" y="580"/>
                </a:lnTo>
                <a:lnTo>
                  <a:pt x="606" y="619"/>
                </a:lnTo>
                <a:lnTo>
                  <a:pt x="600" y="621"/>
                </a:lnTo>
                <a:lnTo>
                  <a:pt x="596" y="624"/>
                </a:lnTo>
                <a:lnTo>
                  <a:pt x="588" y="615"/>
                </a:lnTo>
                <a:lnTo>
                  <a:pt x="584" y="606"/>
                </a:lnTo>
                <a:lnTo>
                  <a:pt x="579" y="592"/>
                </a:lnTo>
                <a:lnTo>
                  <a:pt x="575" y="580"/>
                </a:lnTo>
                <a:lnTo>
                  <a:pt x="569" y="567"/>
                </a:lnTo>
                <a:lnTo>
                  <a:pt x="561" y="556"/>
                </a:lnTo>
                <a:lnTo>
                  <a:pt x="551" y="547"/>
                </a:lnTo>
                <a:lnTo>
                  <a:pt x="539" y="543"/>
                </a:lnTo>
                <a:lnTo>
                  <a:pt x="536" y="559"/>
                </a:lnTo>
                <a:lnTo>
                  <a:pt x="533" y="574"/>
                </a:lnTo>
                <a:lnTo>
                  <a:pt x="527" y="586"/>
                </a:lnTo>
                <a:lnTo>
                  <a:pt x="521" y="600"/>
                </a:lnTo>
                <a:lnTo>
                  <a:pt x="510" y="609"/>
                </a:lnTo>
                <a:lnTo>
                  <a:pt x="498" y="618"/>
                </a:lnTo>
                <a:lnTo>
                  <a:pt x="485" y="625"/>
                </a:lnTo>
                <a:lnTo>
                  <a:pt x="471" y="633"/>
                </a:lnTo>
                <a:lnTo>
                  <a:pt x="453" y="669"/>
                </a:lnTo>
                <a:lnTo>
                  <a:pt x="434" y="699"/>
                </a:lnTo>
                <a:lnTo>
                  <a:pt x="411" y="718"/>
                </a:lnTo>
                <a:lnTo>
                  <a:pt x="389" y="730"/>
                </a:lnTo>
                <a:lnTo>
                  <a:pt x="362" y="732"/>
                </a:lnTo>
                <a:lnTo>
                  <a:pt x="335" y="726"/>
                </a:lnTo>
                <a:lnTo>
                  <a:pt x="305" y="711"/>
                </a:lnTo>
                <a:lnTo>
                  <a:pt x="276" y="688"/>
                </a:lnTo>
                <a:lnTo>
                  <a:pt x="263" y="685"/>
                </a:lnTo>
                <a:lnTo>
                  <a:pt x="249" y="682"/>
                </a:lnTo>
                <a:lnTo>
                  <a:pt x="236" y="679"/>
                </a:lnTo>
                <a:lnTo>
                  <a:pt x="222" y="678"/>
                </a:lnTo>
                <a:lnTo>
                  <a:pt x="209" y="673"/>
                </a:lnTo>
                <a:lnTo>
                  <a:pt x="197" y="672"/>
                </a:lnTo>
                <a:lnTo>
                  <a:pt x="185" y="670"/>
                </a:lnTo>
                <a:lnTo>
                  <a:pt x="176" y="672"/>
                </a:lnTo>
                <a:lnTo>
                  <a:pt x="176" y="694"/>
                </a:lnTo>
                <a:lnTo>
                  <a:pt x="177" y="721"/>
                </a:lnTo>
                <a:lnTo>
                  <a:pt x="182" y="748"/>
                </a:lnTo>
                <a:lnTo>
                  <a:pt x="189" y="778"/>
                </a:lnTo>
                <a:lnTo>
                  <a:pt x="197" y="805"/>
                </a:lnTo>
                <a:lnTo>
                  <a:pt x="210" y="832"/>
                </a:lnTo>
                <a:lnTo>
                  <a:pt x="224" y="855"/>
                </a:lnTo>
                <a:lnTo>
                  <a:pt x="243" y="877"/>
                </a:lnTo>
                <a:lnTo>
                  <a:pt x="260" y="879"/>
                </a:lnTo>
                <a:lnTo>
                  <a:pt x="272" y="886"/>
                </a:lnTo>
                <a:lnTo>
                  <a:pt x="278" y="894"/>
                </a:lnTo>
                <a:lnTo>
                  <a:pt x="284" y="904"/>
                </a:lnTo>
                <a:lnTo>
                  <a:pt x="285" y="915"/>
                </a:lnTo>
                <a:lnTo>
                  <a:pt x="291" y="927"/>
                </a:lnTo>
                <a:lnTo>
                  <a:pt x="299" y="939"/>
                </a:lnTo>
                <a:lnTo>
                  <a:pt x="312" y="951"/>
                </a:lnTo>
                <a:lnTo>
                  <a:pt x="312" y="955"/>
                </a:lnTo>
                <a:lnTo>
                  <a:pt x="312" y="961"/>
                </a:lnTo>
                <a:lnTo>
                  <a:pt x="305" y="964"/>
                </a:lnTo>
                <a:lnTo>
                  <a:pt x="305" y="9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90000" y="3389400"/>
            <a:ext cx="142920" cy="139680"/>
          </a:xfrm>
          <a:custGeom>
            <a:avLst/>
            <a:gdLst/>
            <a:ahLst/>
            <a:rect l="l" t="t" r="r" b="b"/>
            <a:pathLst>
              <a:path w="180" h="176">
                <a:moveTo>
                  <a:pt x="0" y="176"/>
                </a:moveTo>
                <a:lnTo>
                  <a:pt x="3" y="156"/>
                </a:lnTo>
                <a:lnTo>
                  <a:pt x="17" y="134"/>
                </a:lnTo>
                <a:lnTo>
                  <a:pt x="35" y="107"/>
                </a:lnTo>
                <a:lnTo>
                  <a:pt x="57" y="81"/>
                </a:lnTo>
                <a:lnTo>
                  <a:pt x="80" y="54"/>
                </a:lnTo>
                <a:lnTo>
                  <a:pt x="104" y="32"/>
                </a:lnTo>
                <a:lnTo>
                  <a:pt x="125" y="12"/>
                </a:lnTo>
                <a:lnTo>
                  <a:pt x="141" y="0"/>
                </a:lnTo>
                <a:lnTo>
                  <a:pt x="153" y="0"/>
                </a:lnTo>
                <a:lnTo>
                  <a:pt x="164" y="5"/>
                </a:lnTo>
                <a:lnTo>
                  <a:pt x="173" y="8"/>
                </a:lnTo>
                <a:lnTo>
                  <a:pt x="179" y="15"/>
                </a:lnTo>
                <a:lnTo>
                  <a:pt x="180" y="20"/>
                </a:lnTo>
                <a:lnTo>
                  <a:pt x="177" y="29"/>
                </a:lnTo>
                <a:lnTo>
                  <a:pt x="168" y="38"/>
                </a:lnTo>
                <a:lnTo>
                  <a:pt x="155" y="48"/>
                </a:lnTo>
                <a:lnTo>
                  <a:pt x="120" y="53"/>
                </a:lnTo>
                <a:lnTo>
                  <a:pt x="96" y="65"/>
                </a:lnTo>
                <a:lnTo>
                  <a:pt x="77" y="81"/>
                </a:lnTo>
                <a:lnTo>
                  <a:pt x="63" y="102"/>
                </a:lnTo>
                <a:lnTo>
                  <a:pt x="48" y="122"/>
                </a:lnTo>
                <a:lnTo>
                  <a:pt x="35" y="143"/>
                </a:lnTo>
                <a:lnTo>
                  <a:pt x="20" y="161"/>
                </a:lnTo>
                <a:lnTo>
                  <a:pt x="0" y="1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493120" y="3424320"/>
            <a:ext cx="73080" cy="48960"/>
          </a:xfrm>
          <a:custGeom>
            <a:avLst/>
            <a:gdLst/>
            <a:ahLst/>
            <a:rect l="l" t="t" r="r" b="b"/>
            <a:pathLst>
              <a:path w="93" h="63">
                <a:moveTo>
                  <a:pt x="16" y="63"/>
                </a:moveTo>
                <a:lnTo>
                  <a:pt x="7" y="58"/>
                </a:lnTo>
                <a:lnTo>
                  <a:pt x="4" y="54"/>
                </a:lnTo>
                <a:lnTo>
                  <a:pt x="1" y="49"/>
                </a:lnTo>
                <a:lnTo>
                  <a:pt x="0" y="46"/>
                </a:lnTo>
                <a:lnTo>
                  <a:pt x="13" y="45"/>
                </a:lnTo>
                <a:lnTo>
                  <a:pt x="25" y="45"/>
                </a:lnTo>
                <a:lnTo>
                  <a:pt x="34" y="42"/>
                </a:lnTo>
                <a:lnTo>
                  <a:pt x="43" y="39"/>
                </a:lnTo>
                <a:lnTo>
                  <a:pt x="49" y="31"/>
                </a:lnTo>
                <a:lnTo>
                  <a:pt x="57" y="24"/>
                </a:lnTo>
                <a:lnTo>
                  <a:pt x="64" y="13"/>
                </a:lnTo>
                <a:lnTo>
                  <a:pt x="73" y="0"/>
                </a:lnTo>
                <a:lnTo>
                  <a:pt x="78" y="0"/>
                </a:lnTo>
                <a:lnTo>
                  <a:pt x="82" y="0"/>
                </a:lnTo>
                <a:lnTo>
                  <a:pt x="91" y="12"/>
                </a:lnTo>
                <a:lnTo>
                  <a:pt x="93" y="25"/>
                </a:lnTo>
                <a:lnTo>
                  <a:pt x="85" y="34"/>
                </a:lnTo>
                <a:lnTo>
                  <a:pt x="75" y="45"/>
                </a:lnTo>
                <a:lnTo>
                  <a:pt x="58" y="52"/>
                </a:lnTo>
                <a:lnTo>
                  <a:pt x="43" y="58"/>
                </a:lnTo>
                <a:lnTo>
                  <a:pt x="27" y="61"/>
                </a:lnTo>
                <a:lnTo>
                  <a:pt x="16" y="63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56480" y="2368440"/>
            <a:ext cx="928800" cy="933480"/>
          </a:xfrm>
          <a:custGeom>
            <a:avLst/>
            <a:gdLst/>
            <a:ahLst/>
            <a:rect l="l" t="t" r="r" b="b"/>
            <a:pathLst>
              <a:path w="1170" h="1176">
                <a:moveTo>
                  <a:pt x="238" y="1176"/>
                </a:moveTo>
                <a:lnTo>
                  <a:pt x="228" y="1174"/>
                </a:lnTo>
                <a:lnTo>
                  <a:pt x="223" y="1174"/>
                </a:lnTo>
                <a:lnTo>
                  <a:pt x="222" y="1173"/>
                </a:lnTo>
                <a:lnTo>
                  <a:pt x="222" y="1171"/>
                </a:lnTo>
                <a:lnTo>
                  <a:pt x="228" y="1150"/>
                </a:lnTo>
                <a:lnTo>
                  <a:pt x="229" y="1126"/>
                </a:lnTo>
                <a:lnTo>
                  <a:pt x="226" y="1098"/>
                </a:lnTo>
                <a:lnTo>
                  <a:pt x="220" y="1071"/>
                </a:lnTo>
                <a:lnTo>
                  <a:pt x="210" y="1042"/>
                </a:lnTo>
                <a:lnTo>
                  <a:pt x="199" y="1018"/>
                </a:lnTo>
                <a:lnTo>
                  <a:pt x="187" y="1002"/>
                </a:lnTo>
                <a:lnTo>
                  <a:pt x="175" y="994"/>
                </a:lnTo>
                <a:lnTo>
                  <a:pt x="175" y="975"/>
                </a:lnTo>
                <a:lnTo>
                  <a:pt x="175" y="954"/>
                </a:lnTo>
                <a:lnTo>
                  <a:pt x="174" y="931"/>
                </a:lnTo>
                <a:lnTo>
                  <a:pt x="174" y="909"/>
                </a:lnTo>
                <a:lnTo>
                  <a:pt x="169" y="886"/>
                </a:lnTo>
                <a:lnTo>
                  <a:pt x="162" y="867"/>
                </a:lnTo>
                <a:lnTo>
                  <a:pt x="150" y="850"/>
                </a:lnTo>
                <a:lnTo>
                  <a:pt x="135" y="841"/>
                </a:lnTo>
                <a:lnTo>
                  <a:pt x="105" y="837"/>
                </a:lnTo>
                <a:lnTo>
                  <a:pt x="90" y="831"/>
                </a:lnTo>
                <a:lnTo>
                  <a:pt x="85" y="822"/>
                </a:lnTo>
                <a:lnTo>
                  <a:pt x="88" y="811"/>
                </a:lnTo>
                <a:lnTo>
                  <a:pt x="94" y="798"/>
                </a:lnTo>
                <a:lnTo>
                  <a:pt x="100" y="786"/>
                </a:lnTo>
                <a:lnTo>
                  <a:pt x="102" y="772"/>
                </a:lnTo>
                <a:lnTo>
                  <a:pt x="97" y="759"/>
                </a:lnTo>
                <a:lnTo>
                  <a:pt x="82" y="759"/>
                </a:lnTo>
                <a:lnTo>
                  <a:pt x="70" y="759"/>
                </a:lnTo>
                <a:lnTo>
                  <a:pt x="76" y="742"/>
                </a:lnTo>
                <a:lnTo>
                  <a:pt x="87" y="729"/>
                </a:lnTo>
                <a:lnTo>
                  <a:pt x="96" y="717"/>
                </a:lnTo>
                <a:lnTo>
                  <a:pt x="108" y="706"/>
                </a:lnTo>
                <a:lnTo>
                  <a:pt x="117" y="694"/>
                </a:lnTo>
                <a:lnTo>
                  <a:pt x="127" y="684"/>
                </a:lnTo>
                <a:lnTo>
                  <a:pt x="133" y="670"/>
                </a:lnTo>
                <a:lnTo>
                  <a:pt x="136" y="658"/>
                </a:lnTo>
                <a:lnTo>
                  <a:pt x="123" y="652"/>
                </a:lnTo>
                <a:lnTo>
                  <a:pt x="106" y="657"/>
                </a:lnTo>
                <a:lnTo>
                  <a:pt x="87" y="664"/>
                </a:lnTo>
                <a:lnTo>
                  <a:pt x="67" y="678"/>
                </a:lnTo>
                <a:lnTo>
                  <a:pt x="46" y="691"/>
                </a:lnTo>
                <a:lnTo>
                  <a:pt x="28" y="706"/>
                </a:lnTo>
                <a:lnTo>
                  <a:pt x="13" y="718"/>
                </a:lnTo>
                <a:lnTo>
                  <a:pt x="4" y="726"/>
                </a:lnTo>
                <a:lnTo>
                  <a:pt x="0" y="724"/>
                </a:lnTo>
                <a:lnTo>
                  <a:pt x="0" y="723"/>
                </a:lnTo>
                <a:lnTo>
                  <a:pt x="4" y="697"/>
                </a:lnTo>
                <a:lnTo>
                  <a:pt x="13" y="676"/>
                </a:lnTo>
                <a:lnTo>
                  <a:pt x="24" y="657"/>
                </a:lnTo>
                <a:lnTo>
                  <a:pt x="40" y="642"/>
                </a:lnTo>
                <a:lnTo>
                  <a:pt x="57" y="625"/>
                </a:lnTo>
                <a:lnTo>
                  <a:pt x="75" y="610"/>
                </a:lnTo>
                <a:lnTo>
                  <a:pt x="93" y="595"/>
                </a:lnTo>
                <a:lnTo>
                  <a:pt x="111" y="580"/>
                </a:lnTo>
                <a:lnTo>
                  <a:pt x="108" y="570"/>
                </a:lnTo>
                <a:lnTo>
                  <a:pt x="106" y="564"/>
                </a:lnTo>
                <a:lnTo>
                  <a:pt x="97" y="564"/>
                </a:lnTo>
                <a:lnTo>
                  <a:pt x="88" y="565"/>
                </a:lnTo>
                <a:lnTo>
                  <a:pt x="81" y="567"/>
                </a:lnTo>
                <a:lnTo>
                  <a:pt x="73" y="571"/>
                </a:lnTo>
                <a:lnTo>
                  <a:pt x="58" y="577"/>
                </a:lnTo>
                <a:lnTo>
                  <a:pt x="45" y="583"/>
                </a:lnTo>
                <a:lnTo>
                  <a:pt x="49" y="570"/>
                </a:lnTo>
                <a:lnTo>
                  <a:pt x="61" y="561"/>
                </a:lnTo>
                <a:lnTo>
                  <a:pt x="75" y="555"/>
                </a:lnTo>
                <a:lnTo>
                  <a:pt x="93" y="553"/>
                </a:lnTo>
                <a:lnTo>
                  <a:pt x="109" y="552"/>
                </a:lnTo>
                <a:lnTo>
                  <a:pt x="127" y="553"/>
                </a:lnTo>
                <a:lnTo>
                  <a:pt x="144" y="553"/>
                </a:lnTo>
                <a:lnTo>
                  <a:pt x="159" y="555"/>
                </a:lnTo>
                <a:lnTo>
                  <a:pt x="160" y="547"/>
                </a:lnTo>
                <a:lnTo>
                  <a:pt x="162" y="535"/>
                </a:lnTo>
                <a:lnTo>
                  <a:pt x="162" y="525"/>
                </a:lnTo>
                <a:lnTo>
                  <a:pt x="163" y="519"/>
                </a:lnTo>
                <a:lnTo>
                  <a:pt x="144" y="498"/>
                </a:lnTo>
                <a:lnTo>
                  <a:pt x="130" y="472"/>
                </a:lnTo>
                <a:lnTo>
                  <a:pt x="120" y="442"/>
                </a:lnTo>
                <a:lnTo>
                  <a:pt x="114" y="412"/>
                </a:lnTo>
                <a:lnTo>
                  <a:pt x="109" y="379"/>
                </a:lnTo>
                <a:lnTo>
                  <a:pt x="108" y="348"/>
                </a:lnTo>
                <a:lnTo>
                  <a:pt x="108" y="319"/>
                </a:lnTo>
                <a:lnTo>
                  <a:pt x="111" y="295"/>
                </a:lnTo>
                <a:lnTo>
                  <a:pt x="114" y="295"/>
                </a:lnTo>
                <a:lnTo>
                  <a:pt x="118" y="301"/>
                </a:lnTo>
                <a:lnTo>
                  <a:pt x="124" y="309"/>
                </a:lnTo>
                <a:lnTo>
                  <a:pt x="130" y="318"/>
                </a:lnTo>
                <a:lnTo>
                  <a:pt x="139" y="318"/>
                </a:lnTo>
                <a:lnTo>
                  <a:pt x="148" y="319"/>
                </a:lnTo>
                <a:lnTo>
                  <a:pt x="153" y="310"/>
                </a:lnTo>
                <a:lnTo>
                  <a:pt x="159" y="298"/>
                </a:lnTo>
                <a:lnTo>
                  <a:pt x="163" y="285"/>
                </a:lnTo>
                <a:lnTo>
                  <a:pt x="169" y="271"/>
                </a:lnTo>
                <a:lnTo>
                  <a:pt x="174" y="255"/>
                </a:lnTo>
                <a:lnTo>
                  <a:pt x="178" y="241"/>
                </a:lnTo>
                <a:lnTo>
                  <a:pt x="183" y="229"/>
                </a:lnTo>
                <a:lnTo>
                  <a:pt x="187" y="222"/>
                </a:lnTo>
                <a:lnTo>
                  <a:pt x="190" y="222"/>
                </a:lnTo>
                <a:lnTo>
                  <a:pt x="193" y="222"/>
                </a:lnTo>
                <a:lnTo>
                  <a:pt x="190" y="231"/>
                </a:lnTo>
                <a:lnTo>
                  <a:pt x="190" y="243"/>
                </a:lnTo>
                <a:lnTo>
                  <a:pt x="187" y="255"/>
                </a:lnTo>
                <a:lnTo>
                  <a:pt x="187" y="268"/>
                </a:lnTo>
                <a:lnTo>
                  <a:pt x="186" y="280"/>
                </a:lnTo>
                <a:lnTo>
                  <a:pt x="187" y="292"/>
                </a:lnTo>
                <a:lnTo>
                  <a:pt x="190" y="303"/>
                </a:lnTo>
                <a:lnTo>
                  <a:pt x="196" y="315"/>
                </a:lnTo>
                <a:lnTo>
                  <a:pt x="204" y="315"/>
                </a:lnTo>
                <a:lnTo>
                  <a:pt x="216" y="318"/>
                </a:lnTo>
                <a:lnTo>
                  <a:pt x="235" y="295"/>
                </a:lnTo>
                <a:lnTo>
                  <a:pt x="255" y="267"/>
                </a:lnTo>
                <a:lnTo>
                  <a:pt x="276" y="235"/>
                </a:lnTo>
                <a:lnTo>
                  <a:pt x="298" y="205"/>
                </a:lnTo>
                <a:lnTo>
                  <a:pt x="321" y="177"/>
                </a:lnTo>
                <a:lnTo>
                  <a:pt x="346" y="156"/>
                </a:lnTo>
                <a:lnTo>
                  <a:pt x="373" y="142"/>
                </a:lnTo>
                <a:lnTo>
                  <a:pt x="405" y="142"/>
                </a:lnTo>
                <a:lnTo>
                  <a:pt x="429" y="132"/>
                </a:lnTo>
                <a:lnTo>
                  <a:pt x="451" y="117"/>
                </a:lnTo>
                <a:lnTo>
                  <a:pt x="471" y="99"/>
                </a:lnTo>
                <a:lnTo>
                  <a:pt x="492" y="79"/>
                </a:lnTo>
                <a:lnTo>
                  <a:pt x="510" y="57"/>
                </a:lnTo>
                <a:lnTo>
                  <a:pt x="531" y="36"/>
                </a:lnTo>
                <a:lnTo>
                  <a:pt x="552" y="16"/>
                </a:lnTo>
                <a:lnTo>
                  <a:pt x="576" y="0"/>
                </a:lnTo>
                <a:lnTo>
                  <a:pt x="598" y="3"/>
                </a:lnTo>
                <a:lnTo>
                  <a:pt x="625" y="13"/>
                </a:lnTo>
                <a:lnTo>
                  <a:pt x="652" y="25"/>
                </a:lnTo>
                <a:lnTo>
                  <a:pt x="681" y="43"/>
                </a:lnTo>
                <a:lnTo>
                  <a:pt x="708" y="60"/>
                </a:lnTo>
                <a:lnTo>
                  <a:pt x="736" y="79"/>
                </a:lnTo>
                <a:lnTo>
                  <a:pt x="762" y="96"/>
                </a:lnTo>
                <a:lnTo>
                  <a:pt x="787" y="114"/>
                </a:lnTo>
                <a:lnTo>
                  <a:pt x="808" y="117"/>
                </a:lnTo>
                <a:lnTo>
                  <a:pt x="834" y="126"/>
                </a:lnTo>
                <a:lnTo>
                  <a:pt x="859" y="135"/>
                </a:lnTo>
                <a:lnTo>
                  <a:pt x="886" y="150"/>
                </a:lnTo>
                <a:lnTo>
                  <a:pt x="910" y="163"/>
                </a:lnTo>
                <a:lnTo>
                  <a:pt x="934" y="181"/>
                </a:lnTo>
                <a:lnTo>
                  <a:pt x="954" y="199"/>
                </a:lnTo>
                <a:lnTo>
                  <a:pt x="970" y="222"/>
                </a:lnTo>
                <a:lnTo>
                  <a:pt x="982" y="255"/>
                </a:lnTo>
                <a:lnTo>
                  <a:pt x="999" y="280"/>
                </a:lnTo>
                <a:lnTo>
                  <a:pt x="1018" y="295"/>
                </a:lnTo>
                <a:lnTo>
                  <a:pt x="1042" y="307"/>
                </a:lnTo>
                <a:lnTo>
                  <a:pt x="1068" y="312"/>
                </a:lnTo>
                <a:lnTo>
                  <a:pt x="1099" y="316"/>
                </a:lnTo>
                <a:lnTo>
                  <a:pt x="1132" y="319"/>
                </a:lnTo>
                <a:lnTo>
                  <a:pt x="1170" y="327"/>
                </a:lnTo>
                <a:lnTo>
                  <a:pt x="1170" y="331"/>
                </a:lnTo>
                <a:lnTo>
                  <a:pt x="1170" y="336"/>
                </a:lnTo>
                <a:lnTo>
                  <a:pt x="1153" y="346"/>
                </a:lnTo>
                <a:lnTo>
                  <a:pt x="1138" y="361"/>
                </a:lnTo>
                <a:lnTo>
                  <a:pt x="1123" y="378"/>
                </a:lnTo>
                <a:lnTo>
                  <a:pt x="1111" y="396"/>
                </a:lnTo>
                <a:lnTo>
                  <a:pt x="1102" y="414"/>
                </a:lnTo>
                <a:lnTo>
                  <a:pt x="1099" y="435"/>
                </a:lnTo>
                <a:lnTo>
                  <a:pt x="1104" y="453"/>
                </a:lnTo>
                <a:lnTo>
                  <a:pt x="1119" y="474"/>
                </a:lnTo>
                <a:lnTo>
                  <a:pt x="1117" y="486"/>
                </a:lnTo>
                <a:lnTo>
                  <a:pt x="1116" y="501"/>
                </a:lnTo>
                <a:lnTo>
                  <a:pt x="1114" y="510"/>
                </a:lnTo>
                <a:lnTo>
                  <a:pt x="1114" y="519"/>
                </a:lnTo>
                <a:lnTo>
                  <a:pt x="1114" y="528"/>
                </a:lnTo>
                <a:lnTo>
                  <a:pt x="1114" y="538"/>
                </a:lnTo>
                <a:lnTo>
                  <a:pt x="1117" y="546"/>
                </a:lnTo>
                <a:lnTo>
                  <a:pt x="1125" y="559"/>
                </a:lnTo>
                <a:lnTo>
                  <a:pt x="1132" y="576"/>
                </a:lnTo>
                <a:lnTo>
                  <a:pt x="1140" y="595"/>
                </a:lnTo>
                <a:lnTo>
                  <a:pt x="1144" y="613"/>
                </a:lnTo>
                <a:lnTo>
                  <a:pt x="1147" y="631"/>
                </a:lnTo>
                <a:lnTo>
                  <a:pt x="1144" y="645"/>
                </a:lnTo>
                <a:lnTo>
                  <a:pt x="1135" y="657"/>
                </a:lnTo>
                <a:lnTo>
                  <a:pt x="1123" y="651"/>
                </a:lnTo>
                <a:lnTo>
                  <a:pt x="1114" y="652"/>
                </a:lnTo>
                <a:lnTo>
                  <a:pt x="1113" y="664"/>
                </a:lnTo>
                <a:lnTo>
                  <a:pt x="1113" y="679"/>
                </a:lnTo>
                <a:lnTo>
                  <a:pt x="1110" y="693"/>
                </a:lnTo>
                <a:lnTo>
                  <a:pt x="1108" y="709"/>
                </a:lnTo>
                <a:lnTo>
                  <a:pt x="1104" y="724"/>
                </a:lnTo>
                <a:lnTo>
                  <a:pt x="1101" y="739"/>
                </a:lnTo>
                <a:lnTo>
                  <a:pt x="1095" y="753"/>
                </a:lnTo>
                <a:lnTo>
                  <a:pt x="1089" y="768"/>
                </a:lnTo>
                <a:lnTo>
                  <a:pt x="1077" y="768"/>
                </a:lnTo>
                <a:lnTo>
                  <a:pt x="1066" y="769"/>
                </a:lnTo>
                <a:lnTo>
                  <a:pt x="1056" y="769"/>
                </a:lnTo>
                <a:lnTo>
                  <a:pt x="1045" y="771"/>
                </a:lnTo>
                <a:lnTo>
                  <a:pt x="1047" y="756"/>
                </a:lnTo>
                <a:lnTo>
                  <a:pt x="1050" y="742"/>
                </a:lnTo>
                <a:lnTo>
                  <a:pt x="1051" y="729"/>
                </a:lnTo>
                <a:lnTo>
                  <a:pt x="1054" y="715"/>
                </a:lnTo>
                <a:lnTo>
                  <a:pt x="1056" y="702"/>
                </a:lnTo>
                <a:lnTo>
                  <a:pt x="1059" y="690"/>
                </a:lnTo>
                <a:lnTo>
                  <a:pt x="1059" y="678"/>
                </a:lnTo>
                <a:lnTo>
                  <a:pt x="1060" y="666"/>
                </a:lnTo>
                <a:lnTo>
                  <a:pt x="1014" y="652"/>
                </a:lnTo>
                <a:lnTo>
                  <a:pt x="981" y="627"/>
                </a:lnTo>
                <a:lnTo>
                  <a:pt x="957" y="591"/>
                </a:lnTo>
                <a:lnTo>
                  <a:pt x="942" y="550"/>
                </a:lnTo>
                <a:lnTo>
                  <a:pt x="931" y="508"/>
                </a:lnTo>
                <a:lnTo>
                  <a:pt x="927" y="474"/>
                </a:lnTo>
                <a:lnTo>
                  <a:pt x="925" y="450"/>
                </a:lnTo>
                <a:lnTo>
                  <a:pt x="925" y="442"/>
                </a:lnTo>
                <a:lnTo>
                  <a:pt x="912" y="441"/>
                </a:lnTo>
                <a:lnTo>
                  <a:pt x="898" y="448"/>
                </a:lnTo>
                <a:lnTo>
                  <a:pt x="883" y="460"/>
                </a:lnTo>
                <a:lnTo>
                  <a:pt x="868" y="475"/>
                </a:lnTo>
                <a:lnTo>
                  <a:pt x="852" y="486"/>
                </a:lnTo>
                <a:lnTo>
                  <a:pt x="838" y="490"/>
                </a:lnTo>
                <a:lnTo>
                  <a:pt x="825" y="483"/>
                </a:lnTo>
                <a:lnTo>
                  <a:pt x="816" y="462"/>
                </a:lnTo>
                <a:lnTo>
                  <a:pt x="814" y="451"/>
                </a:lnTo>
                <a:lnTo>
                  <a:pt x="814" y="444"/>
                </a:lnTo>
                <a:lnTo>
                  <a:pt x="814" y="438"/>
                </a:lnTo>
                <a:lnTo>
                  <a:pt x="814" y="435"/>
                </a:lnTo>
                <a:lnTo>
                  <a:pt x="813" y="429"/>
                </a:lnTo>
                <a:lnTo>
                  <a:pt x="813" y="426"/>
                </a:lnTo>
                <a:lnTo>
                  <a:pt x="808" y="424"/>
                </a:lnTo>
                <a:lnTo>
                  <a:pt x="805" y="423"/>
                </a:lnTo>
                <a:lnTo>
                  <a:pt x="799" y="421"/>
                </a:lnTo>
                <a:lnTo>
                  <a:pt x="790" y="421"/>
                </a:lnTo>
                <a:lnTo>
                  <a:pt x="787" y="429"/>
                </a:lnTo>
                <a:lnTo>
                  <a:pt x="787" y="439"/>
                </a:lnTo>
                <a:lnTo>
                  <a:pt x="786" y="453"/>
                </a:lnTo>
                <a:lnTo>
                  <a:pt x="786" y="466"/>
                </a:lnTo>
                <a:lnTo>
                  <a:pt x="783" y="477"/>
                </a:lnTo>
                <a:lnTo>
                  <a:pt x="780" y="489"/>
                </a:lnTo>
                <a:lnTo>
                  <a:pt x="774" y="498"/>
                </a:lnTo>
                <a:lnTo>
                  <a:pt x="768" y="507"/>
                </a:lnTo>
                <a:lnTo>
                  <a:pt x="765" y="487"/>
                </a:lnTo>
                <a:lnTo>
                  <a:pt x="762" y="468"/>
                </a:lnTo>
                <a:lnTo>
                  <a:pt x="756" y="447"/>
                </a:lnTo>
                <a:lnTo>
                  <a:pt x="748" y="429"/>
                </a:lnTo>
                <a:lnTo>
                  <a:pt x="736" y="411"/>
                </a:lnTo>
                <a:lnTo>
                  <a:pt x="724" y="397"/>
                </a:lnTo>
                <a:lnTo>
                  <a:pt x="711" y="387"/>
                </a:lnTo>
                <a:lnTo>
                  <a:pt x="697" y="384"/>
                </a:lnTo>
                <a:lnTo>
                  <a:pt x="687" y="394"/>
                </a:lnTo>
                <a:lnTo>
                  <a:pt x="682" y="411"/>
                </a:lnTo>
                <a:lnTo>
                  <a:pt x="676" y="427"/>
                </a:lnTo>
                <a:lnTo>
                  <a:pt x="672" y="448"/>
                </a:lnTo>
                <a:lnTo>
                  <a:pt x="663" y="468"/>
                </a:lnTo>
                <a:lnTo>
                  <a:pt x="652" y="487"/>
                </a:lnTo>
                <a:lnTo>
                  <a:pt x="634" y="504"/>
                </a:lnTo>
                <a:lnTo>
                  <a:pt x="612" y="519"/>
                </a:lnTo>
                <a:lnTo>
                  <a:pt x="616" y="496"/>
                </a:lnTo>
                <a:lnTo>
                  <a:pt x="622" y="472"/>
                </a:lnTo>
                <a:lnTo>
                  <a:pt x="625" y="447"/>
                </a:lnTo>
                <a:lnTo>
                  <a:pt x="625" y="424"/>
                </a:lnTo>
                <a:lnTo>
                  <a:pt x="618" y="403"/>
                </a:lnTo>
                <a:lnTo>
                  <a:pt x="607" y="390"/>
                </a:lnTo>
                <a:lnTo>
                  <a:pt x="589" y="382"/>
                </a:lnTo>
                <a:lnTo>
                  <a:pt x="564" y="384"/>
                </a:lnTo>
                <a:lnTo>
                  <a:pt x="535" y="399"/>
                </a:lnTo>
                <a:lnTo>
                  <a:pt x="510" y="415"/>
                </a:lnTo>
                <a:lnTo>
                  <a:pt x="486" y="430"/>
                </a:lnTo>
                <a:lnTo>
                  <a:pt x="462" y="444"/>
                </a:lnTo>
                <a:lnTo>
                  <a:pt x="436" y="454"/>
                </a:lnTo>
                <a:lnTo>
                  <a:pt x="411" y="463"/>
                </a:lnTo>
                <a:lnTo>
                  <a:pt x="384" y="468"/>
                </a:lnTo>
                <a:lnTo>
                  <a:pt x="355" y="469"/>
                </a:lnTo>
                <a:lnTo>
                  <a:pt x="306" y="451"/>
                </a:lnTo>
                <a:lnTo>
                  <a:pt x="267" y="450"/>
                </a:lnTo>
                <a:lnTo>
                  <a:pt x="235" y="459"/>
                </a:lnTo>
                <a:lnTo>
                  <a:pt x="213" y="481"/>
                </a:lnTo>
                <a:lnTo>
                  <a:pt x="199" y="510"/>
                </a:lnTo>
                <a:lnTo>
                  <a:pt x="201" y="546"/>
                </a:lnTo>
                <a:lnTo>
                  <a:pt x="211" y="585"/>
                </a:lnTo>
                <a:lnTo>
                  <a:pt x="238" y="628"/>
                </a:lnTo>
                <a:lnTo>
                  <a:pt x="235" y="636"/>
                </a:lnTo>
                <a:lnTo>
                  <a:pt x="232" y="645"/>
                </a:lnTo>
                <a:lnTo>
                  <a:pt x="228" y="652"/>
                </a:lnTo>
                <a:lnTo>
                  <a:pt x="223" y="661"/>
                </a:lnTo>
                <a:lnTo>
                  <a:pt x="217" y="669"/>
                </a:lnTo>
                <a:lnTo>
                  <a:pt x="213" y="681"/>
                </a:lnTo>
                <a:lnTo>
                  <a:pt x="208" y="693"/>
                </a:lnTo>
                <a:lnTo>
                  <a:pt x="208" y="709"/>
                </a:lnTo>
                <a:lnTo>
                  <a:pt x="210" y="727"/>
                </a:lnTo>
                <a:lnTo>
                  <a:pt x="205" y="745"/>
                </a:lnTo>
                <a:lnTo>
                  <a:pt x="195" y="760"/>
                </a:lnTo>
                <a:lnTo>
                  <a:pt x="184" y="777"/>
                </a:lnTo>
                <a:lnTo>
                  <a:pt x="172" y="793"/>
                </a:lnTo>
                <a:lnTo>
                  <a:pt x="166" y="814"/>
                </a:lnTo>
                <a:lnTo>
                  <a:pt x="166" y="838"/>
                </a:lnTo>
                <a:lnTo>
                  <a:pt x="177" y="870"/>
                </a:lnTo>
                <a:lnTo>
                  <a:pt x="184" y="904"/>
                </a:lnTo>
                <a:lnTo>
                  <a:pt x="199" y="940"/>
                </a:lnTo>
                <a:lnTo>
                  <a:pt x="216" y="978"/>
                </a:lnTo>
                <a:lnTo>
                  <a:pt x="235" y="1017"/>
                </a:lnTo>
                <a:lnTo>
                  <a:pt x="252" y="1056"/>
                </a:lnTo>
                <a:lnTo>
                  <a:pt x="267" y="1095"/>
                </a:lnTo>
                <a:lnTo>
                  <a:pt x="277" y="1134"/>
                </a:lnTo>
                <a:lnTo>
                  <a:pt x="282" y="1174"/>
                </a:lnTo>
                <a:lnTo>
                  <a:pt x="277" y="1174"/>
                </a:lnTo>
                <a:lnTo>
                  <a:pt x="273" y="1174"/>
                </a:lnTo>
                <a:lnTo>
                  <a:pt x="267" y="1174"/>
                </a:lnTo>
                <a:lnTo>
                  <a:pt x="259" y="1174"/>
                </a:lnTo>
                <a:lnTo>
                  <a:pt x="250" y="1174"/>
                </a:lnTo>
                <a:lnTo>
                  <a:pt x="238" y="1176"/>
                </a:lnTo>
                <a:close/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794720" y="3225960"/>
            <a:ext cx="27000" cy="75960"/>
          </a:xfrm>
          <a:custGeom>
            <a:avLst/>
            <a:gdLst/>
            <a:ahLst/>
            <a:rect l="l" t="t" r="r" b="b"/>
            <a:pathLst>
              <a:path w="35" h="96">
                <a:moveTo>
                  <a:pt x="0" y="96"/>
                </a:moveTo>
                <a:lnTo>
                  <a:pt x="3" y="81"/>
                </a:lnTo>
                <a:lnTo>
                  <a:pt x="6" y="69"/>
                </a:lnTo>
                <a:lnTo>
                  <a:pt x="9" y="57"/>
                </a:lnTo>
                <a:lnTo>
                  <a:pt x="12" y="48"/>
                </a:lnTo>
                <a:lnTo>
                  <a:pt x="14" y="36"/>
                </a:lnTo>
                <a:lnTo>
                  <a:pt x="17" y="26"/>
                </a:lnTo>
                <a:lnTo>
                  <a:pt x="17" y="14"/>
                </a:lnTo>
                <a:lnTo>
                  <a:pt x="17" y="0"/>
                </a:lnTo>
                <a:lnTo>
                  <a:pt x="20" y="0"/>
                </a:lnTo>
                <a:lnTo>
                  <a:pt x="24" y="0"/>
                </a:lnTo>
                <a:lnTo>
                  <a:pt x="27" y="15"/>
                </a:lnTo>
                <a:lnTo>
                  <a:pt x="32" y="30"/>
                </a:lnTo>
                <a:lnTo>
                  <a:pt x="33" y="42"/>
                </a:lnTo>
                <a:lnTo>
                  <a:pt x="35" y="54"/>
                </a:lnTo>
                <a:lnTo>
                  <a:pt x="30" y="65"/>
                </a:lnTo>
                <a:lnTo>
                  <a:pt x="26" y="75"/>
                </a:lnTo>
                <a:lnTo>
                  <a:pt x="15" y="84"/>
                </a:lnTo>
                <a:lnTo>
                  <a:pt x="0" y="9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528040" y="3006720"/>
            <a:ext cx="131760" cy="285840"/>
          </a:xfrm>
          <a:custGeom>
            <a:avLst/>
            <a:gdLst/>
            <a:ahLst/>
            <a:rect l="l" t="t" r="r" b="b"/>
            <a:pathLst>
              <a:path w="165" h="358">
                <a:moveTo>
                  <a:pt x="45" y="358"/>
                </a:moveTo>
                <a:lnTo>
                  <a:pt x="36" y="355"/>
                </a:lnTo>
                <a:lnTo>
                  <a:pt x="27" y="355"/>
                </a:lnTo>
                <a:lnTo>
                  <a:pt x="18" y="354"/>
                </a:lnTo>
                <a:lnTo>
                  <a:pt x="9" y="354"/>
                </a:lnTo>
                <a:lnTo>
                  <a:pt x="9" y="348"/>
                </a:lnTo>
                <a:lnTo>
                  <a:pt x="9" y="343"/>
                </a:lnTo>
                <a:lnTo>
                  <a:pt x="16" y="336"/>
                </a:lnTo>
                <a:lnTo>
                  <a:pt x="27" y="330"/>
                </a:lnTo>
                <a:lnTo>
                  <a:pt x="45" y="330"/>
                </a:lnTo>
                <a:lnTo>
                  <a:pt x="58" y="330"/>
                </a:lnTo>
                <a:lnTo>
                  <a:pt x="66" y="327"/>
                </a:lnTo>
                <a:lnTo>
                  <a:pt x="72" y="322"/>
                </a:lnTo>
                <a:lnTo>
                  <a:pt x="75" y="313"/>
                </a:lnTo>
                <a:lnTo>
                  <a:pt x="78" y="303"/>
                </a:lnTo>
                <a:lnTo>
                  <a:pt x="79" y="289"/>
                </a:lnTo>
                <a:lnTo>
                  <a:pt x="85" y="274"/>
                </a:lnTo>
                <a:lnTo>
                  <a:pt x="108" y="241"/>
                </a:lnTo>
                <a:lnTo>
                  <a:pt x="120" y="213"/>
                </a:lnTo>
                <a:lnTo>
                  <a:pt x="123" y="189"/>
                </a:lnTo>
                <a:lnTo>
                  <a:pt x="120" y="166"/>
                </a:lnTo>
                <a:lnTo>
                  <a:pt x="111" y="142"/>
                </a:lnTo>
                <a:lnTo>
                  <a:pt x="102" y="117"/>
                </a:lnTo>
                <a:lnTo>
                  <a:pt x="93" y="87"/>
                </a:lnTo>
                <a:lnTo>
                  <a:pt x="88" y="52"/>
                </a:lnTo>
                <a:lnTo>
                  <a:pt x="75" y="55"/>
                </a:lnTo>
                <a:lnTo>
                  <a:pt x="69" y="69"/>
                </a:lnTo>
                <a:lnTo>
                  <a:pt x="64" y="87"/>
                </a:lnTo>
                <a:lnTo>
                  <a:pt x="64" y="109"/>
                </a:lnTo>
                <a:lnTo>
                  <a:pt x="64" y="132"/>
                </a:lnTo>
                <a:lnTo>
                  <a:pt x="67" y="154"/>
                </a:lnTo>
                <a:lnTo>
                  <a:pt x="70" y="174"/>
                </a:lnTo>
                <a:lnTo>
                  <a:pt x="72" y="190"/>
                </a:lnTo>
                <a:lnTo>
                  <a:pt x="67" y="198"/>
                </a:lnTo>
                <a:lnTo>
                  <a:pt x="60" y="214"/>
                </a:lnTo>
                <a:lnTo>
                  <a:pt x="49" y="231"/>
                </a:lnTo>
                <a:lnTo>
                  <a:pt x="39" y="252"/>
                </a:lnTo>
                <a:lnTo>
                  <a:pt x="27" y="268"/>
                </a:lnTo>
                <a:lnTo>
                  <a:pt x="18" y="286"/>
                </a:lnTo>
                <a:lnTo>
                  <a:pt x="10" y="297"/>
                </a:lnTo>
                <a:lnTo>
                  <a:pt x="7" y="303"/>
                </a:lnTo>
                <a:lnTo>
                  <a:pt x="0" y="291"/>
                </a:lnTo>
                <a:lnTo>
                  <a:pt x="0" y="280"/>
                </a:lnTo>
                <a:lnTo>
                  <a:pt x="3" y="270"/>
                </a:lnTo>
                <a:lnTo>
                  <a:pt x="10" y="259"/>
                </a:lnTo>
                <a:lnTo>
                  <a:pt x="18" y="247"/>
                </a:lnTo>
                <a:lnTo>
                  <a:pt x="27" y="237"/>
                </a:lnTo>
                <a:lnTo>
                  <a:pt x="36" y="228"/>
                </a:lnTo>
                <a:lnTo>
                  <a:pt x="45" y="220"/>
                </a:lnTo>
                <a:lnTo>
                  <a:pt x="51" y="186"/>
                </a:lnTo>
                <a:lnTo>
                  <a:pt x="48" y="150"/>
                </a:lnTo>
                <a:lnTo>
                  <a:pt x="42" y="112"/>
                </a:lnTo>
                <a:lnTo>
                  <a:pt x="37" y="78"/>
                </a:lnTo>
                <a:lnTo>
                  <a:pt x="39" y="46"/>
                </a:lnTo>
                <a:lnTo>
                  <a:pt x="54" y="22"/>
                </a:lnTo>
                <a:lnTo>
                  <a:pt x="85" y="4"/>
                </a:lnTo>
                <a:lnTo>
                  <a:pt x="142" y="0"/>
                </a:lnTo>
                <a:lnTo>
                  <a:pt x="153" y="4"/>
                </a:lnTo>
                <a:lnTo>
                  <a:pt x="163" y="13"/>
                </a:lnTo>
                <a:lnTo>
                  <a:pt x="165" y="18"/>
                </a:lnTo>
                <a:lnTo>
                  <a:pt x="165" y="24"/>
                </a:lnTo>
                <a:lnTo>
                  <a:pt x="162" y="31"/>
                </a:lnTo>
                <a:lnTo>
                  <a:pt x="157" y="40"/>
                </a:lnTo>
                <a:lnTo>
                  <a:pt x="126" y="36"/>
                </a:lnTo>
                <a:lnTo>
                  <a:pt x="109" y="45"/>
                </a:lnTo>
                <a:lnTo>
                  <a:pt x="103" y="63"/>
                </a:lnTo>
                <a:lnTo>
                  <a:pt x="106" y="88"/>
                </a:lnTo>
                <a:lnTo>
                  <a:pt x="114" y="115"/>
                </a:lnTo>
                <a:lnTo>
                  <a:pt x="126" y="145"/>
                </a:lnTo>
                <a:lnTo>
                  <a:pt x="136" y="172"/>
                </a:lnTo>
                <a:lnTo>
                  <a:pt x="145" y="195"/>
                </a:lnTo>
                <a:lnTo>
                  <a:pt x="142" y="211"/>
                </a:lnTo>
                <a:lnTo>
                  <a:pt x="136" y="234"/>
                </a:lnTo>
                <a:lnTo>
                  <a:pt x="126" y="261"/>
                </a:lnTo>
                <a:lnTo>
                  <a:pt x="114" y="288"/>
                </a:lnTo>
                <a:lnTo>
                  <a:pt x="97" y="313"/>
                </a:lnTo>
                <a:lnTo>
                  <a:pt x="81" y="334"/>
                </a:lnTo>
                <a:lnTo>
                  <a:pt x="63" y="351"/>
                </a:lnTo>
                <a:lnTo>
                  <a:pt x="45" y="3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43880" y="3097080"/>
            <a:ext cx="149040" cy="133560"/>
          </a:xfrm>
          <a:custGeom>
            <a:avLst/>
            <a:gdLst/>
            <a:ahLst/>
            <a:rect l="l" t="t" r="r" b="b"/>
            <a:pathLst>
              <a:path w="188" h="168">
                <a:moveTo>
                  <a:pt x="12" y="168"/>
                </a:moveTo>
                <a:lnTo>
                  <a:pt x="0" y="119"/>
                </a:lnTo>
                <a:lnTo>
                  <a:pt x="0" y="77"/>
                </a:lnTo>
                <a:lnTo>
                  <a:pt x="8" y="42"/>
                </a:lnTo>
                <a:lnTo>
                  <a:pt x="26" y="18"/>
                </a:lnTo>
                <a:lnTo>
                  <a:pt x="50" y="2"/>
                </a:lnTo>
                <a:lnTo>
                  <a:pt x="81" y="0"/>
                </a:lnTo>
                <a:lnTo>
                  <a:pt x="119" y="9"/>
                </a:lnTo>
                <a:lnTo>
                  <a:pt x="164" y="32"/>
                </a:lnTo>
                <a:lnTo>
                  <a:pt x="167" y="32"/>
                </a:lnTo>
                <a:lnTo>
                  <a:pt x="173" y="32"/>
                </a:lnTo>
                <a:lnTo>
                  <a:pt x="168" y="51"/>
                </a:lnTo>
                <a:lnTo>
                  <a:pt x="168" y="66"/>
                </a:lnTo>
                <a:lnTo>
                  <a:pt x="170" y="75"/>
                </a:lnTo>
                <a:lnTo>
                  <a:pt x="174" y="84"/>
                </a:lnTo>
                <a:lnTo>
                  <a:pt x="177" y="90"/>
                </a:lnTo>
                <a:lnTo>
                  <a:pt x="182" y="98"/>
                </a:lnTo>
                <a:lnTo>
                  <a:pt x="185" y="108"/>
                </a:lnTo>
                <a:lnTo>
                  <a:pt x="188" y="125"/>
                </a:lnTo>
                <a:lnTo>
                  <a:pt x="176" y="120"/>
                </a:lnTo>
                <a:lnTo>
                  <a:pt x="167" y="113"/>
                </a:lnTo>
                <a:lnTo>
                  <a:pt x="158" y="105"/>
                </a:lnTo>
                <a:lnTo>
                  <a:pt x="153" y="101"/>
                </a:lnTo>
                <a:lnTo>
                  <a:pt x="134" y="90"/>
                </a:lnTo>
                <a:lnTo>
                  <a:pt x="117" y="86"/>
                </a:lnTo>
                <a:lnTo>
                  <a:pt x="102" y="83"/>
                </a:lnTo>
                <a:lnTo>
                  <a:pt x="89" y="84"/>
                </a:lnTo>
                <a:lnTo>
                  <a:pt x="75" y="86"/>
                </a:lnTo>
                <a:lnTo>
                  <a:pt x="62" y="90"/>
                </a:lnTo>
                <a:lnTo>
                  <a:pt x="45" y="98"/>
                </a:lnTo>
                <a:lnTo>
                  <a:pt x="30" y="108"/>
                </a:lnTo>
                <a:lnTo>
                  <a:pt x="30" y="116"/>
                </a:lnTo>
                <a:lnTo>
                  <a:pt x="30" y="125"/>
                </a:lnTo>
                <a:lnTo>
                  <a:pt x="36" y="128"/>
                </a:lnTo>
                <a:lnTo>
                  <a:pt x="48" y="129"/>
                </a:lnTo>
                <a:lnTo>
                  <a:pt x="60" y="126"/>
                </a:lnTo>
                <a:lnTo>
                  <a:pt x="74" y="125"/>
                </a:lnTo>
                <a:lnTo>
                  <a:pt x="71" y="131"/>
                </a:lnTo>
                <a:lnTo>
                  <a:pt x="69" y="140"/>
                </a:lnTo>
                <a:lnTo>
                  <a:pt x="68" y="149"/>
                </a:lnTo>
                <a:lnTo>
                  <a:pt x="68" y="158"/>
                </a:lnTo>
                <a:lnTo>
                  <a:pt x="53" y="162"/>
                </a:lnTo>
                <a:lnTo>
                  <a:pt x="38" y="167"/>
                </a:lnTo>
                <a:lnTo>
                  <a:pt x="23" y="167"/>
                </a:lnTo>
                <a:lnTo>
                  <a:pt x="12" y="168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72560" y="2987640"/>
            <a:ext cx="141120" cy="206280"/>
          </a:xfrm>
          <a:custGeom>
            <a:avLst/>
            <a:gdLst/>
            <a:ahLst/>
            <a:rect l="l" t="t" r="r" b="b"/>
            <a:pathLst>
              <a:path w="179" h="261">
                <a:moveTo>
                  <a:pt x="105" y="261"/>
                </a:moveTo>
                <a:lnTo>
                  <a:pt x="102" y="233"/>
                </a:lnTo>
                <a:lnTo>
                  <a:pt x="98" y="215"/>
                </a:lnTo>
                <a:lnTo>
                  <a:pt x="87" y="203"/>
                </a:lnTo>
                <a:lnTo>
                  <a:pt x="77" y="198"/>
                </a:lnTo>
                <a:lnTo>
                  <a:pt x="63" y="198"/>
                </a:lnTo>
                <a:lnTo>
                  <a:pt x="51" y="207"/>
                </a:lnTo>
                <a:lnTo>
                  <a:pt x="39" y="221"/>
                </a:lnTo>
                <a:lnTo>
                  <a:pt x="32" y="243"/>
                </a:lnTo>
                <a:lnTo>
                  <a:pt x="18" y="230"/>
                </a:lnTo>
                <a:lnTo>
                  <a:pt x="9" y="221"/>
                </a:lnTo>
                <a:lnTo>
                  <a:pt x="2" y="210"/>
                </a:lnTo>
                <a:lnTo>
                  <a:pt x="0" y="203"/>
                </a:lnTo>
                <a:lnTo>
                  <a:pt x="0" y="194"/>
                </a:lnTo>
                <a:lnTo>
                  <a:pt x="6" y="188"/>
                </a:lnTo>
                <a:lnTo>
                  <a:pt x="15" y="179"/>
                </a:lnTo>
                <a:lnTo>
                  <a:pt x="32" y="173"/>
                </a:lnTo>
                <a:lnTo>
                  <a:pt x="45" y="152"/>
                </a:lnTo>
                <a:lnTo>
                  <a:pt x="63" y="131"/>
                </a:lnTo>
                <a:lnTo>
                  <a:pt x="81" y="110"/>
                </a:lnTo>
                <a:lnTo>
                  <a:pt x="101" y="90"/>
                </a:lnTo>
                <a:lnTo>
                  <a:pt x="117" y="68"/>
                </a:lnTo>
                <a:lnTo>
                  <a:pt x="134" y="47"/>
                </a:lnTo>
                <a:lnTo>
                  <a:pt x="146" y="23"/>
                </a:lnTo>
                <a:lnTo>
                  <a:pt x="153" y="0"/>
                </a:lnTo>
                <a:lnTo>
                  <a:pt x="155" y="0"/>
                </a:lnTo>
                <a:lnTo>
                  <a:pt x="159" y="2"/>
                </a:lnTo>
                <a:lnTo>
                  <a:pt x="168" y="29"/>
                </a:lnTo>
                <a:lnTo>
                  <a:pt x="177" y="63"/>
                </a:lnTo>
                <a:lnTo>
                  <a:pt x="179" y="101"/>
                </a:lnTo>
                <a:lnTo>
                  <a:pt x="177" y="140"/>
                </a:lnTo>
                <a:lnTo>
                  <a:pt x="168" y="177"/>
                </a:lnTo>
                <a:lnTo>
                  <a:pt x="155" y="212"/>
                </a:lnTo>
                <a:lnTo>
                  <a:pt x="132" y="240"/>
                </a:lnTo>
                <a:lnTo>
                  <a:pt x="105" y="2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028000" y="3166920"/>
            <a:ext cx="11160" cy="12960"/>
          </a:xfrm>
          <a:custGeom>
            <a:avLst/>
            <a:gdLst/>
            <a:ahLst/>
            <a:rect l="l" t="t" r="r" b="b"/>
            <a:pathLst>
              <a:path w="15" h="16">
                <a:moveTo>
                  <a:pt x="0" y="16"/>
                </a:moveTo>
                <a:lnTo>
                  <a:pt x="2" y="9"/>
                </a:lnTo>
                <a:lnTo>
                  <a:pt x="3" y="3"/>
                </a:lnTo>
                <a:lnTo>
                  <a:pt x="8" y="1"/>
                </a:lnTo>
                <a:lnTo>
                  <a:pt x="15" y="0"/>
                </a:lnTo>
                <a:lnTo>
                  <a:pt x="12" y="7"/>
                </a:lnTo>
                <a:lnTo>
                  <a:pt x="12" y="15"/>
                </a:lnTo>
                <a:lnTo>
                  <a:pt x="6" y="15"/>
                </a:lnTo>
                <a:lnTo>
                  <a:pt x="0" y="16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99360" y="2952720"/>
            <a:ext cx="146160" cy="214200"/>
          </a:xfrm>
          <a:custGeom>
            <a:avLst/>
            <a:gdLst/>
            <a:ahLst/>
            <a:rect l="l" t="t" r="r" b="b"/>
            <a:pathLst>
              <a:path w="185" h="270">
                <a:moveTo>
                  <a:pt x="96" y="270"/>
                </a:moveTo>
                <a:lnTo>
                  <a:pt x="98" y="259"/>
                </a:lnTo>
                <a:lnTo>
                  <a:pt x="104" y="253"/>
                </a:lnTo>
                <a:lnTo>
                  <a:pt x="108" y="246"/>
                </a:lnTo>
                <a:lnTo>
                  <a:pt x="114" y="240"/>
                </a:lnTo>
                <a:lnTo>
                  <a:pt x="108" y="217"/>
                </a:lnTo>
                <a:lnTo>
                  <a:pt x="102" y="201"/>
                </a:lnTo>
                <a:lnTo>
                  <a:pt x="93" y="189"/>
                </a:lnTo>
                <a:lnTo>
                  <a:pt x="86" y="184"/>
                </a:lnTo>
                <a:lnTo>
                  <a:pt x="74" y="183"/>
                </a:lnTo>
                <a:lnTo>
                  <a:pt x="63" y="189"/>
                </a:lnTo>
                <a:lnTo>
                  <a:pt x="51" y="198"/>
                </a:lnTo>
                <a:lnTo>
                  <a:pt x="39" y="216"/>
                </a:lnTo>
                <a:lnTo>
                  <a:pt x="35" y="216"/>
                </a:lnTo>
                <a:lnTo>
                  <a:pt x="33" y="216"/>
                </a:lnTo>
                <a:lnTo>
                  <a:pt x="18" y="189"/>
                </a:lnTo>
                <a:lnTo>
                  <a:pt x="9" y="163"/>
                </a:lnTo>
                <a:lnTo>
                  <a:pt x="3" y="135"/>
                </a:lnTo>
                <a:lnTo>
                  <a:pt x="2" y="108"/>
                </a:lnTo>
                <a:lnTo>
                  <a:pt x="0" y="79"/>
                </a:lnTo>
                <a:lnTo>
                  <a:pt x="3" y="51"/>
                </a:lnTo>
                <a:lnTo>
                  <a:pt x="6" y="24"/>
                </a:lnTo>
                <a:lnTo>
                  <a:pt x="11" y="0"/>
                </a:lnTo>
                <a:lnTo>
                  <a:pt x="14" y="1"/>
                </a:lnTo>
                <a:lnTo>
                  <a:pt x="21" y="9"/>
                </a:lnTo>
                <a:lnTo>
                  <a:pt x="30" y="16"/>
                </a:lnTo>
                <a:lnTo>
                  <a:pt x="39" y="27"/>
                </a:lnTo>
                <a:lnTo>
                  <a:pt x="47" y="36"/>
                </a:lnTo>
                <a:lnTo>
                  <a:pt x="56" y="48"/>
                </a:lnTo>
                <a:lnTo>
                  <a:pt x="60" y="57"/>
                </a:lnTo>
                <a:lnTo>
                  <a:pt x="65" y="66"/>
                </a:lnTo>
                <a:lnTo>
                  <a:pt x="68" y="69"/>
                </a:lnTo>
                <a:lnTo>
                  <a:pt x="77" y="76"/>
                </a:lnTo>
                <a:lnTo>
                  <a:pt x="86" y="87"/>
                </a:lnTo>
                <a:lnTo>
                  <a:pt x="98" y="100"/>
                </a:lnTo>
                <a:lnTo>
                  <a:pt x="108" y="112"/>
                </a:lnTo>
                <a:lnTo>
                  <a:pt x="120" y="126"/>
                </a:lnTo>
                <a:lnTo>
                  <a:pt x="129" y="138"/>
                </a:lnTo>
                <a:lnTo>
                  <a:pt x="138" y="147"/>
                </a:lnTo>
                <a:lnTo>
                  <a:pt x="165" y="160"/>
                </a:lnTo>
                <a:lnTo>
                  <a:pt x="180" y="178"/>
                </a:lnTo>
                <a:lnTo>
                  <a:pt x="185" y="196"/>
                </a:lnTo>
                <a:lnTo>
                  <a:pt x="180" y="217"/>
                </a:lnTo>
                <a:lnTo>
                  <a:pt x="165" y="235"/>
                </a:lnTo>
                <a:lnTo>
                  <a:pt x="147" y="252"/>
                </a:lnTo>
                <a:lnTo>
                  <a:pt x="122" y="262"/>
                </a:lnTo>
                <a:lnTo>
                  <a:pt x="96" y="2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53360" y="3116160"/>
            <a:ext cx="17640" cy="20880"/>
          </a:xfrm>
          <a:custGeom>
            <a:avLst/>
            <a:gdLst/>
            <a:ahLst/>
            <a:rect l="l" t="t" r="r" b="b"/>
            <a:pathLst>
              <a:path w="23" h="25">
                <a:moveTo>
                  <a:pt x="5" y="25"/>
                </a:moveTo>
                <a:lnTo>
                  <a:pt x="0" y="18"/>
                </a:lnTo>
                <a:lnTo>
                  <a:pt x="2" y="10"/>
                </a:lnTo>
                <a:lnTo>
                  <a:pt x="2" y="3"/>
                </a:lnTo>
                <a:lnTo>
                  <a:pt x="3" y="0"/>
                </a:lnTo>
                <a:lnTo>
                  <a:pt x="11" y="0"/>
                </a:lnTo>
                <a:lnTo>
                  <a:pt x="20" y="4"/>
                </a:lnTo>
                <a:lnTo>
                  <a:pt x="23" y="12"/>
                </a:lnTo>
                <a:lnTo>
                  <a:pt x="20" y="25"/>
                </a:lnTo>
                <a:lnTo>
                  <a:pt x="12" y="25"/>
                </a:lnTo>
                <a:lnTo>
                  <a:pt x="5" y="25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80240" y="2760840"/>
            <a:ext cx="28800" cy="2880"/>
          </a:xfrm>
          <a:custGeom>
            <a:avLst/>
            <a:gdLst/>
            <a:ahLst/>
            <a:rect l="l" t="t" r="r" b="b"/>
            <a:pathLst>
              <a:path w="36" h="5">
                <a:moveTo>
                  <a:pt x="0" y="5"/>
                </a:moveTo>
                <a:lnTo>
                  <a:pt x="6" y="0"/>
                </a:lnTo>
                <a:lnTo>
                  <a:pt x="12" y="0"/>
                </a:lnTo>
                <a:lnTo>
                  <a:pt x="15" y="0"/>
                </a:lnTo>
                <a:lnTo>
                  <a:pt x="19" y="0"/>
                </a:lnTo>
                <a:lnTo>
                  <a:pt x="25" y="0"/>
                </a:lnTo>
                <a:lnTo>
                  <a:pt x="36" y="0"/>
                </a:lnTo>
                <a:lnTo>
                  <a:pt x="27" y="3"/>
                </a:lnTo>
                <a:lnTo>
                  <a:pt x="15" y="5"/>
                </a:lnTo>
                <a:lnTo>
                  <a:pt x="4" y="5"/>
                </a:lnTo>
                <a:lnTo>
                  <a:pt x="0" y="5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7848720" cy="5562720"/>
          </a:xfrm>
          <a:prstGeom prst="irregularSeal2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сли  есть  сомнение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казывать или не наказывать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не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наказывай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400800" y="1905120"/>
            <a:ext cx="2268360" cy="4876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 flipH="1">
            <a:off x="3885840" y="4191120"/>
            <a:ext cx="2336760" cy="26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0"/>
            <a:ext cx="7086600" cy="4648320"/>
          </a:xfrm>
          <a:prstGeom prst="irregularSeal2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За  один  раз – од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501600" y="3748680"/>
            <a:ext cx="2439360" cy="2964600"/>
            <a:chOff x="6501600" y="3748680"/>
            <a:chExt cx="2439360" cy="2964600"/>
          </a:xfrm>
        </p:grpSpPr>
        <p:sp>
          <p:nvSpPr>
            <p:cNvPr id="206" name=""/>
            <p:cNvSpPr/>
            <p:nvPr/>
          </p:nvSpPr>
          <p:spPr>
            <a:xfrm>
              <a:off x="7765200" y="6482160"/>
              <a:ext cx="345600" cy="231120"/>
            </a:xfrm>
            <a:custGeom>
              <a:avLst/>
              <a:gdLst/>
              <a:ahLst/>
              <a:rect l="l" t="t" r="r" b="b"/>
              <a:pathLst>
                <a:path w="568" h="364">
                  <a:moveTo>
                    <a:pt x="181" y="364"/>
                  </a:moveTo>
                  <a:lnTo>
                    <a:pt x="144" y="360"/>
                  </a:lnTo>
                  <a:lnTo>
                    <a:pt x="113" y="356"/>
                  </a:lnTo>
                  <a:lnTo>
                    <a:pt x="86" y="349"/>
                  </a:lnTo>
                  <a:lnTo>
                    <a:pt x="63" y="341"/>
                  </a:lnTo>
                  <a:lnTo>
                    <a:pt x="43" y="326"/>
                  </a:lnTo>
                  <a:lnTo>
                    <a:pt x="27" y="307"/>
                  </a:lnTo>
                  <a:lnTo>
                    <a:pt x="12" y="283"/>
                  </a:lnTo>
                  <a:lnTo>
                    <a:pt x="0" y="253"/>
                  </a:lnTo>
                  <a:lnTo>
                    <a:pt x="1" y="216"/>
                  </a:lnTo>
                  <a:lnTo>
                    <a:pt x="6" y="188"/>
                  </a:lnTo>
                  <a:lnTo>
                    <a:pt x="16" y="168"/>
                  </a:lnTo>
                  <a:lnTo>
                    <a:pt x="31" y="153"/>
                  </a:lnTo>
                  <a:lnTo>
                    <a:pt x="48" y="141"/>
                  </a:lnTo>
                  <a:lnTo>
                    <a:pt x="71" y="132"/>
                  </a:lnTo>
                  <a:lnTo>
                    <a:pt x="100" y="124"/>
                  </a:lnTo>
                  <a:lnTo>
                    <a:pt x="134" y="119"/>
                  </a:lnTo>
                  <a:lnTo>
                    <a:pt x="155" y="99"/>
                  </a:lnTo>
                  <a:lnTo>
                    <a:pt x="184" y="76"/>
                  </a:lnTo>
                  <a:lnTo>
                    <a:pt x="216" y="50"/>
                  </a:lnTo>
                  <a:lnTo>
                    <a:pt x="253" y="28"/>
                  </a:lnTo>
                  <a:lnTo>
                    <a:pt x="288" y="9"/>
                  </a:lnTo>
                  <a:lnTo>
                    <a:pt x="324" y="0"/>
                  </a:lnTo>
                  <a:lnTo>
                    <a:pt x="357" y="3"/>
                  </a:lnTo>
                  <a:lnTo>
                    <a:pt x="388" y="22"/>
                  </a:lnTo>
                  <a:lnTo>
                    <a:pt x="415" y="35"/>
                  </a:lnTo>
                  <a:lnTo>
                    <a:pt x="447" y="51"/>
                  </a:lnTo>
                  <a:lnTo>
                    <a:pt x="480" y="69"/>
                  </a:lnTo>
                  <a:lnTo>
                    <a:pt x="514" y="92"/>
                  </a:lnTo>
                  <a:lnTo>
                    <a:pt x="541" y="116"/>
                  </a:lnTo>
                  <a:lnTo>
                    <a:pt x="560" y="147"/>
                  </a:lnTo>
                  <a:lnTo>
                    <a:pt x="568" y="183"/>
                  </a:lnTo>
                  <a:lnTo>
                    <a:pt x="562" y="226"/>
                  </a:lnTo>
                  <a:lnTo>
                    <a:pt x="525" y="273"/>
                  </a:lnTo>
                  <a:lnTo>
                    <a:pt x="485" y="310"/>
                  </a:lnTo>
                  <a:lnTo>
                    <a:pt x="441" y="334"/>
                  </a:lnTo>
                  <a:lnTo>
                    <a:pt x="396" y="350"/>
                  </a:lnTo>
                  <a:lnTo>
                    <a:pt x="347" y="358"/>
                  </a:lnTo>
                  <a:lnTo>
                    <a:pt x="295" y="362"/>
                  </a:lnTo>
                  <a:lnTo>
                    <a:pt x="239" y="362"/>
                  </a:lnTo>
                  <a:lnTo>
                    <a:pt x="181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73480" y="6498720"/>
              <a:ext cx="322200" cy="207000"/>
            </a:xfrm>
            <a:custGeom>
              <a:avLst/>
              <a:gdLst/>
              <a:ahLst/>
              <a:rect l="l" t="t" r="r" b="b"/>
              <a:pathLst>
                <a:path w="529" h="326">
                  <a:moveTo>
                    <a:pt x="154" y="326"/>
                  </a:moveTo>
                  <a:lnTo>
                    <a:pt x="110" y="318"/>
                  </a:lnTo>
                  <a:lnTo>
                    <a:pt x="73" y="309"/>
                  </a:lnTo>
                  <a:lnTo>
                    <a:pt x="43" y="295"/>
                  </a:lnTo>
                  <a:lnTo>
                    <a:pt x="22" y="279"/>
                  </a:lnTo>
                  <a:lnTo>
                    <a:pt x="7" y="256"/>
                  </a:lnTo>
                  <a:lnTo>
                    <a:pt x="0" y="229"/>
                  </a:lnTo>
                  <a:lnTo>
                    <a:pt x="3" y="195"/>
                  </a:lnTo>
                  <a:lnTo>
                    <a:pt x="16" y="154"/>
                  </a:lnTo>
                  <a:lnTo>
                    <a:pt x="29" y="142"/>
                  </a:lnTo>
                  <a:lnTo>
                    <a:pt x="42" y="134"/>
                  </a:lnTo>
                  <a:lnTo>
                    <a:pt x="57" y="127"/>
                  </a:lnTo>
                  <a:lnTo>
                    <a:pt x="73" y="122"/>
                  </a:lnTo>
                  <a:lnTo>
                    <a:pt x="89" y="115"/>
                  </a:lnTo>
                  <a:lnTo>
                    <a:pt x="106" y="110"/>
                  </a:lnTo>
                  <a:lnTo>
                    <a:pt x="122" y="103"/>
                  </a:lnTo>
                  <a:lnTo>
                    <a:pt x="138" y="95"/>
                  </a:lnTo>
                  <a:lnTo>
                    <a:pt x="154" y="75"/>
                  </a:lnTo>
                  <a:lnTo>
                    <a:pt x="176" y="57"/>
                  </a:lnTo>
                  <a:lnTo>
                    <a:pt x="200" y="41"/>
                  </a:lnTo>
                  <a:lnTo>
                    <a:pt x="229" y="27"/>
                  </a:lnTo>
                  <a:lnTo>
                    <a:pt x="257" y="15"/>
                  </a:lnTo>
                  <a:lnTo>
                    <a:pt x="286" y="7"/>
                  </a:lnTo>
                  <a:lnTo>
                    <a:pt x="313" y="2"/>
                  </a:lnTo>
                  <a:lnTo>
                    <a:pt x="340" y="0"/>
                  </a:lnTo>
                  <a:lnTo>
                    <a:pt x="342" y="7"/>
                  </a:lnTo>
                  <a:lnTo>
                    <a:pt x="344" y="12"/>
                  </a:lnTo>
                  <a:lnTo>
                    <a:pt x="344" y="14"/>
                  </a:lnTo>
                  <a:lnTo>
                    <a:pt x="345" y="16"/>
                  </a:lnTo>
                  <a:lnTo>
                    <a:pt x="355" y="16"/>
                  </a:lnTo>
                  <a:lnTo>
                    <a:pt x="374" y="22"/>
                  </a:lnTo>
                  <a:lnTo>
                    <a:pt x="395" y="29"/>
                  </a:lnTo>
                  <a:lnTo>
                    <a:pt x="420" y="39"/>
                  </a:lnTo>
                  <a:lnTo>
                    <a:pt x="443" y="49"/>
                  </a:lnTo>
                  <a:lnTo>
                    <a:pt x="464" y="61"/>
                  </a:lnTo>
                  <a:lnTo>
                    <a:pt x="480" y="73"/>
                  </a:lnTo>
                  <a:lnTo>
                    <a:pt x="491" y="85"/>
                  </a:lnTo>
                  <a:lnTo>
                    <a:pt x="493" y="81"/>
                  </a:lnTo>
                  <a:lnTo>
                    <a:pt x="494" y="75"/>
                  </a:lnTo>
                  <a:lnTo>
                    <a:pt x="506" y="80"/>
                  </a:lnTo>
                  <a:lnTo>
                    <a:pt x="514" y="91"/>
                  </a:lnTo>
                  <a:lnTo>
                    <a:pt x="520" y="104"/>
                  </a:lnTo>
                  <a:lnTo>
                    <a:pt x="525" y="122"/>
                  </a:lnTo>
                  <a:lnTo>
                    <a:pt x="526" y="138"/>
                  </a:lnTo>
                  <a:lnTo>
                    <a:pt x="528" y="157"/>
                  </a:lnTo>
                  <a:lnTo>
                    <a:pt x="528" y="172"/>
                  </a:lnTo>
                  <a:lnTo>
                    <a:pt x="529" y="188"/>
                  </a:lnTo>
                  <a:lnTo>
                    <a:pt x="502" y="236"/>
                  </a:lnTo>
                  <a:lnTo>
                    <a:pt x="464" y="271"/>
                  </a:lnTo>
                  <a:lnTo>
                    <a:pt x="417" y="295"/>
                  </a:lnTo>
                  <a:lnTo>
                    <a:pt x="367" y="311"/>
                  </a:lnTo>
                  <a:lnTo>
                    <a:pt x="310" y="320"/>
                  </a:lnTo>
                  <a:lnTo>
                    <a:pt x="254" y="325"/>
                  </a:lnTo>
                  <a:lnTo>
                    <a:pt x="202" y="325"/>
                  </a:lnTo>
                  <a:lnTo>
                    <a:pt x="154" y="326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42680" y="6654960"/>
              <a:ext cx="8280" cy="1656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3" y="28"/>
                  </a:moveTo>
                  <a:lnTo>
                    <a:pt x="6" y="19"/>
                  </a:lnTo>
                  <a:lnTo>
                    <a:pt x="3" y="11"/>
                  </a:lnTo>
                  <a:lnTo>
                    <a:pt x="0" y="5"/>
                  </a:lnTo>
                  <a:lnTo>
                    <a:pt x="2" y="0"/>
                  </a:lnTo>
                  <a:lnTo>
                    <a:pt x="6" y="7"/>
                  </a:lnTo>
                  <a:lnTo>
                    <a:pt x="11" y="18"/>
                  </a:lnTo>
                  <a:lnTo>
                    <a:pt x="14" y="26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19640" y="6657480"/>
              <a:ext cx="16920" cy="1260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13" y="19"/>
                  </a:moveTo>
                  <a:lnTo>
                    <a:pt x="6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12" y="7"/>
                  </a:lnTo>
                  <a:lnTo>
                    <a:pt x="17" y="8"/>
                  </a:lnTo>
                  <a:lnTo>
                    <a:pt x="28" y="8"/>
                  </a:lnTo>
                  <a:lnTo>
                    <a:pt x="27" y="13"/>
                  </a:lnTo>
                  <a:lnTo>
                    <a:pt x="25" y="19"/>
                  </a:lnTo>
                  <a:lnTo>
                    <a:pt x="19" y="19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963200" y="6651360"/>
              <a:ext cx="1080" cy="10080"/>
            </a:xfrm>
            <a:custGeom>
              <a:avLst/>
              <a:gdLst/>
              <a:ahLst/>
              <a:rect l="l" t="t" r="r" b="b"/>
              <a:pathLst>
                <a:path w="0" h="16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839360" y="6601680"/>
              <a:ext cx="5760" cy="24120"/>
            </a:xfrm>
            <a:custGeom>
              <a:avLst/>
              <a:gdLst/>
              <a:ahLst/>
              <a:rect l="l" t="t" r="r" b="b"/>
              <a:pathLst>
                <a:path w="11" h="38">
                  <a:moveTo>
                    <a:pt x="3" y="38"/>
                  </a:moveTo>
                  <a:lnTo>
                    <a:pt x="1" y="28"/>
                  </a:lnTo>
                  <a:lnTo>
                    <a:pt x="1" y="22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5"/>
                  </a:lnTo>
                  <a:lnTo>
                    <a:pt x="11" y="16"/>
                  </a:lnTo>
                  <a:lnTo>
                    <a:pt x="11" y="2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01600" y="3748680"/>
              <a:ext cx="2410560" cy="2849040"/>
            </a:xfrm>
            <a:custGeom>
              <a:avLst/>
              <a:gdLst/>
              <a:ahLst/>
              <a:rect l="l" t="t" r="r" b="b"/>
              <a:pathLst>
                <a:path w="3966" h="4485">
                  <a:moveTo>
                    <a:pt x="1552" y="4485"/>
                  </a:moveTo>
                  <a:lnTo>
                    <a:pt x="1552" y="4482"/>
                  </a:lnTo>
                  <a:lnTo>
                    <a:pt x="1555" y="4480"/>
                  </a:lnTo>
                  <a:lnTo>
                    <a:pt x="1544" y="4478"/>
                  </a:lnTo>
                  <a:lnTo>
                    <a:pt x="1529" y="4478"/>
                  </a:lnTo>
                  <a:lnTo>
                    <a:pt x="1510" y="4477"/>
                  </a:lnTo>
                  <a:lnTo>
                    <a:pt x="1491" y="4477"/>
                  </a:lnTo>
                  <a:lnTo>
                    <a:pt x="1471" y="4476"/>
                  </a:lnTo>
                  <a:lnTo>
                    <a:pt x="1453" y="4476"/>
                  </a:lnTo>
                  <a:lnTo>
                    <a:pt x="1441" y="4476"/>
                  </a:lnTo>
                  <a:lnTo>
                    <a:pt x="1436" y="4477"/>
                  </a:lnTo>
                  <a:lnTo>
                    <a:pt x="1436" y="4474"/>
                  </a:lnTo>
                  <a:lnTo>
                    <a:pt x="1436" y="4472"/>
                  </a:lnTo>
                  <a:lnTo>
                    <a:pt x="1425" y="4474"/>
                  </a:lnTo>
                  <a:lnTo>
                    <a:pt x="1414" y="4477"/>
                  </a:lnTo>
                  <a:lnTo>
                    <a:pt x="1414" y="4473"/>
                  </a:lnTo>
                  <a:lnTo>
                    <a:pt x="1414" y="4469"/>
                  </a:lnTo>
                  <a:lnTo>
                    <a:pt x="1359" y="4465"/>
                  </a:lnTo>
                  <a:lnTo>
                    <a:pt x="1303" y="4459"/>
                  </a:lnTo>
                  <a:lnTo>
                    <a:pt x="1248" y="4451"/>
                  </a:lnTo>
                  <a:lnTo>
                    <a:pt x="1195" y="4443"/>
                  </a:lnTo>
                  <a:lnTo>
                    <a:pt x="1141" y="4431"/>
                  </a:lnTo>
                  <a:lnTo>
                    <a:pt x="1088" y="4419"/>
                  </a:lnTo>
                  <a:lnTo>
                    <a:pt x="1035" y="4404"/>
                  </a:lnTo>
                  <a:lnTo>
                    <a:pt x="986" y="4389"/>
                  </a:lnTo>
                  <a:lnTo>
                    <a:pt x="945" y="4359"/>
                  </a:lnTo>
                  <a:lnTo>
                    <a:pt x="915" y="4327"/>
                  </a:lnTo>
                  <a:lnTo>
                    <a:pt x="894" y="4290"/>
                  </a:lnTo>
                  <a:lnTo>
                    <a:pt x="882" y="4251"/>
                  </a:lnTo>
                  <a:lnTo>
                    <a:pt x="873" y="4208"/>
                  </a:lnTo>
                  <a:lnTo>
                    <a:pt x="867" y="4165"/>
                  </a:lnTo>
                  <a:lnTo>
                    <a:pt x="862" y="4120"/>
                  </a:lnTo>
                  <a:lnTo>
                    <a:pt x="857" y="4075"/>
                  </a:lnTo>
                  <a:lnTo>
                    <a:pt x="844" y="4035"/>
                  </a:lnTo>
                  <a:lnTo>
                    <a:pt x="832" y="3995"/>
                  </a:lnTo>
                  <a:lnTo>
                    <a:pt x="820" y="3956"/>
                  </a:lnTo>
                  <a:lnTo>
                    <a:pt x="808" y="3918"/>
                  </a:lnTo>
                  <a:lnTo>
                    <a:pt x="794" y="3879"/>
                  </a:lnTo>
                  <a:lnTo>
                    <a:pt x="782" y="3841"/>
                  </a:lnTo>
                  <a:lnTo>
                    <a:pt x="771" y="3805"/>
                  </a:lnTo>
                  <a:lnTo>
                    <a:pt x="763" y="3768"/>
                  </a:lnTo>
                  <a:lnTo>
                    <a:pt x="717" y="3770"/>
                  </a:lnTo>
                  <a:lnTo>
                    <a:pt x="660" y="3775"/>
                  </a:lnTo>
                  <a:lnTo>
                    <a:pt x="598" y="3779"/>
                  </a:lnTo>
                  <a:lnTo>
                    <a:pt x="537" y="3780"/>
                  </a:lnTo>
                  <a:lnTo>
                    <a:pt x="479" y="3774"/>
                  </a:lnTo>
                  <a:lnTo>
                    <a:pt x="430" y="3760"/>
                  </a:lnTo>
                  <a:lnTo>
                    <a:pt x="395" y="3734"/>
                  </a:lnTo>
                  <a:lnTo>
                    <a:pt x="380" y="3696"/>
                  </a:lnTo>
                  <a:lnTo>
                    <a:pt x="333" y="3696"/>
                  </a:lnTo>
                  <a:lnTo>
                    <a:pt x="282" y="3692"/>
                  </a:lnTo>
                  <a:lnTo>
                    <a:pt x="228" y="3683"/>
                  </a:lnTo>
                  <a:lnTo>
                    <a:pt x="176" y="3668"/>
                  </a:lnTo>
                  <a:lnTo>
                    <a:pt x="127" y="3646"/>
                  </a:lnTo>
                  <a:lnTo>
                    <a:pt x="88" y="3618"/>
                  </a:lnTo>
                  <a:lnTo>
                    <a:pt x="57" y="3583"/>
                  </a:lnTo>
                  <a:lnTo>
                    <a:pt x="41" y="3542"/>
                  </a:lnTo>
                  <a:lnTo>
                    <a:pt x="14" y="3519"/>
                  </a:lnTo>
                  <a:lnTo>
                    <a:pt x="2" y="3500"/>
                  </a:lnTo>
                  <a:lnTo>
                    <a:pt x="0" y="3483"/>
                  </a:lnTo>
                  <a:lnTo>
                    <a:pt x="8" y="3471"/>
                  </a:lnTo>
                  <a:lnTo>
                    <a:pt x="22" y="3457"/>
                  </a:lnTo>
                  <a:lnTo>
                    <a:pt x="41" y="3446"/>
                  </a:lnTo>
                  <a:lnTo>
                    <a:pt x="62" y="3434"/>
                  </a:lnTo>
                  <a:lnTo>
                    <a:pt x="84" y="3423"/>
                  </a:lnTo>
                  <a:lnTo>
                    <a:pt x="76" y="3395"/>
                  </a:lnTo>
                  <a:lnTo>
                    <a:pt x="67" y="3370"/>
                  </a:lnTo>
                  <a:lnTo>
                    <a:pt x="58" y="3346"/>
                  </a:lnTo>
                  <a:lnTo>
                    <a:pt x="53" y="3322"/>
                  </a:lnTo>
                  <a:lnTo>
                    <a:pt x="50" y="3297"/>
                  </a:lnTo>
                  <a:lnTo>
                    <a:pt x="56" y="3274"/>
                  </a:lnTo>
                  <a:lnTo>
                    <a:pt x="69" y="3251"/>
                  </a:lnTo>
                  <a:lnTo>
                    <a:pt x="92" y="3228"/>
                  </a:lnTo>
                  <a:lnTo>
                    <a:pt x="85" y="3190"/>
                  </a:lnTo>
                  <a:lnTo>
                    <a:pt x="79" y="3165"/>
                  </a:lnTo>
                  <a:lnTo>
                    <a:pt x="72" y="3144"/>
                  </a:lnTo>
                  <a:lnTo>
                    <a:pt x="71" y="3131"/>
                  </a:lnTo>
                  <a:lnTo>
                    <a:pt x="72" y="3117"/>
                  </a:lnTo>
                  <a:lnTo>
                    <a:pt x="83" y="3105"/>
                  </a:lnTo>
                  <a:lnTo>
                    <a:pt x="102" y="3089"/>
                  </a:lnTo>
                  <a:lnTo>
                    <a:pt x="134" y="3070"/>
                  </a:lnTo>
                  <a:lnTo>
                    <a:pt x="134" y="3047"/>
                  </a:lnTo>
                  <a:lnTo>
                    <a:pt x="136" y="3023"/>
                  </a:lnTo>
                  <a:lnTo>
                    <a:pt x="137" y="2996"/>
                  </a:lnTo>
                  <a:lnTo>
                    <a:pt x="142" y="2973"/>
                  </a:lnTo>
                  <a:lnTo>
                    <a:pt x="150" y="2951"/>
                  </a:lnTo>
                  <a:lnTo>
                    <a:pt x="165" y="2937"/>
                  </a:lnTo>
                  <a:lnTo>
                    <a:pt x="186" y="2929"/>
                  </a:lnTo>
                  <a:lnTo>
                    <a:pt x="214" y="2932"/>
                  </a:lnTo>
                  <a:lnTo>
                    <a:pt x="217" y="2933"/>
                  </a:lnTo>
                  <a:lnTo>
                    <a:pt x="222" y="2933"/>
                  </a:lnTo>
                  <a:lnTo>
                    <a:pt x="230" y="2931"/>
                  </a:lnTo>
                  <a:lnTo>
                    <a:pt x="240" y="2928"/>
                  </a:lnTo>
                  <a:lnTo>
                    <a:pt x="248" y="2923"/>
                  </a:lnTo>
                  <a:lnTo>
                    <a:pt x="257" y="2919"/>
                  </a:lnTo>
                  <a:lnTo>
                    <a:pt x="264" y="2914"/>
                  </a:lnTo>
                  <a:lnTo>
                    <a:pt x="269" y="2913"/>
                  </a:lnTo>
                  <a:lnTo>
                    <a:pt x="265" y="2901"/>
                  </a:lnTo>
                  <a:lnTo>
                    <a:pt x="257" y="2893"/>
                  </a:lnTo>
                  <a:lnTo>
                    <a:pt x="246" y="2885"/>
                  </a:lnTo>
                  <a:lnTo>
                    <a:pt x="240" y="2881"/>
                  </a:lnTo>
                  <a:lnTo>
                    <a:pt x="219" y="2854"/>
                  </a:lnTo>
                  <a:lnTo>
                    <a:pt x="199" y="2824"/>
                  </a:lnTo>
                  <a:lnTo>
                    <a:pt x="180" y="2789"/>
                  </a:lnTo>
                  <a:lnTo>
                    <a:pt x="168" y="2755"/>
                  </a:lnTo>
                  <a:lnTo>
                    <a:pt x="163" y="2721"/>
                  </a:lnTo>
                  <a:lnTo>
                    <a:pt x="171" y="2695"/>
                  </a:lnTo>
                  <a:lnTo>
                    <a:pt x="192" y="2676"/>
                  </a:lnTo>
                  <a:lnTo>
                    <a:pt x="236" y="2671"/>
                  </a:lnTo>
                  <a:lnTo>
                    <a:pt x="248" y="2634"/>
                  </a:lnTo>
                  <a:lnTo>
                    <a:pt x="261" y="2607"/>
                  </a:lnTo>
                  <a:lnTo>
                    <a:pt x="276" y="2586"/>
                  </a:lnTo>
                  <a:lnTo>
                    <a:pt x="295" y="2572"/>
                  </a:lnTo>
                  <a:lnTo>
                    <a:pt x="315" y="2561"/>
                  </a:lnTo>
                  <a:lnTo>
                    <a:pt x="341" y="2556"/>
                  </a:lnTo>
                  <a:lnTo>
                    <a:pt x="370" y="2553"/>
                  </a:lnTo>
                  <a:lnTo>
                    <a:pt x="407" y="2555"/>
                  </a:lnTo>
                  <a:lnTo>
                    <a:pt x="407" y="2552"/>
                  </a:lnTo>
                  <a:lnTo>
                    <a:pt x="409" y="2549"/>
                  </a:lnTo>
                  <a:lnTo>
                    <a:pt x="407" y="2545"/>
                  </a:lnTo>
                  <a:lnTo>
                    <a:pt x="406" y="2542"/>
                  </a:lnTo>
                  <a:lnTo>
                    <a:pt x="403" y="2537"/>
                  </a:lnTo>
                  <a:lnTo>
                    <a:pt x="402" y="2530"/>
                  </a:lnTo>
                  <a:lnTo>
                    <a:pt x="394" y="2513"/>
                  </a:lnTo>
                  <a:lnTo>
                    <a:pt x="386" y="2496"/>
                  </a:lnTo>
                  <a:lnTo>
                    <a:pt x="379" y="2478"/>
                  </a:lnTo>
                  <a:lnTo>
                    <a:pt x="375" y="2460"/>
                  </a:lnTo>
                  <a:lnTo>
                    <a:pt x="372" y="2440"/>
                  </a:lnTo>
                  <a:lnTo>
                    <a:pt x="374" y="2423"/>
                  </a:lnTo>
                  <a:lnTo>
                    <a:pt x="378" y="2407"/>
                  </a:lnTo>
                  <a:lnTo>
                    <a:pt x="386" y="2395"/>
                  </a:lnTo>
                  <a:lnTo>
                    <a:pt x="394" y="2390"/>
                  </a:lnTo>
                  <a:lnTo>
                    <a:pt x="403" y="2386"/>
                  </a:lnTo>
                  <a:lnTo>
                    <a:pt x="407" y="2381"/>
                  </a:lnTo>
                  <a:lnTo>
                    <a:pt x="413" y="2377"/>
                  </a:lnTo>
                  <a:lnTo>
                    <a:pt x="413" y="2372"/>
                  </a:lnTo>
                  <a:lnTo>
                    <a:pt x="413" y="2365"/>
                  </a:lnTo>
                  <a:lnTo>
                    <a:pt x="410" y="2354"/>
                  </a:lnTo>
                  <a:lnTo>
                    <a:pt x="407" y="2342"/>
                  </a:lnTo>
                  <a:lnTo>
                    <a:pt x="405" y="2300"/>
                  </a:lnTo>
                  <a:lnTo>
                    <a:pt x="406" y="2257"/>
                  </a:lnTo>
                  <a:lnTo>
                    <a:pt x="410" y="2214"/>
                  </a:lnTo>
                  <a:lnTo>
                    <a:pt x="421" y="2174"/>
                  </a:lnTo>
                  <a:lnTo>
                    <a:pt x="437" y="2138"/>
                  </a:lnTo>
                  <a:lnTo>
                    <a:pt x="462" y="2108"/>
                  </a:lnTo>
                  <a:lnTo>
                    <a:pt x="495" y="2087"/>
                  </a:lnTo>
                  <a:lnTo>
                    <a:pt x="543" y="2077"/>
                  </a:lnTo>
                  <a:lnTo>
                    <a:pt x="545" y="2078"/>
                  </a:lnTo>
                  <a:lnTo>
                    <a:pt x="551" y="2082"/>
                  </a:lnTo>
                  <a:lnTo>
                    <a:pt x="558" y="2087"/>
                  </a:lnTo>
                  <a:lnTo>
                    <a:pt x="566" y="2092"/>
                  </a:lnTo>
                  <a:lnTo>
                    <a:pt x="573" y="2095"/>
                  </a:lnTo>
                  <a:lnTo>
                    <a:pt x="581" y="2099"/>
                  </a:lnTo>
                  <a:lnTo>
                    <a:pt x="587" y="2101"/>
                  </a:lnTo>
                  <a:lnTo>
                    <a:pt x="593" y="2103"/>
                  </a:lnTo>
                  <a:lnTo>
                    <a:pt x="601" y="2078"/>
                  </a:lnTo>
                  <a:lnTo>
                    <a:pt x="608" y="2062"/>
                  </a:lnTo>
                  <a:lnTo>
                    <a:pt x="613" y="2047"/>
                  </a:lnTo>
                  <a:lnTo>
                    <a:pt x="621" y="2038"/>
                  </a:lnTo>
                  <a:lnTo>
                    <a:pt x="629" y="2028"/>
                  </a:lnTo>
                  <a:lnTo>
                    <a:pt x="642" y="2023"/>
                  </a:lnTo>
                  <a:lnTo>
                    <a:pt x="658" y="2018"/>
                  </a:lnTo>
                  <a:lnTo>
                    <a:pt x="683" y="2013"/>
                  </a:lnTo>
                  <a:lnTo>
                    <a:pt x="690" y="1992"/>
                  </a:lnTo>
                  <a:lnTo>
                    <a:pt x="692" y="1967"/>
                  </a:lnTo>
                  <a:lnTo>
                    <a:pt x="687" y="1940"/>
                  </a:lnTo>
                  <a:lnTo>
                    <a:pt x="681" y="1915"/>
                  </a:lnTo>
                  <a:lnTo>
                    <a:pt x="671" y="1886"/>
                  </a:lnTo>
                  <a:lnTo>
                    <a:pt x="663" y="1858"/>
                  </a:lnTo>
                  <a:lnTo>
                    <a:pt x="656" y="1831"/>
                  </a:lnTo>
                  <a:lnTo>
                    <a:pt x="655" y="1808"/>
                  </a:lnTo>
                  <a:lnTo>
                    <a:pt x="662" y="1788"/>
                  </a:lnTo>
                  <a:lnTo>
                    <a:pt x="674" y="1763"/>
                  </a:lnTo>
                  <a:lnTo>
                    <a:pt x="690" y="1735"/>
                  </a:lnTo>
                  <a:lnTo>
                    <a:pt x="712" y="1710"/>
                  </a:lnTo>
                  <a:lnTo>
                    <a:pt x="732" y="1689"/>
                  </a:lnTo>
                  <a:lnTo>
                    <a:pt x="755" y="1677"/>
                  </a:lnTo>
                  <a:lnTo>
                    <a:pt x="777" y="1677"/>
                  </a:lnTo>
                  <a:lnTo>
                    <a:pt x="798" y="1694"/>
                  </a:lnTo>
                  <a:lnTo>
                    <a:pt x="809" y="1690"/>
                  </a:lnTo>
                  <a:lnTo>
                    <a:pt x="819" y="1686"/>
                  </a:lnTo>
                  <a:lnTo>
                    <a:pt x="827" y="1679"/>
                  </a:lnTo>
                  <a:lnTo>
                    <a:pt x="836" y="1674"/>
                  </a:lnTo>
                  <a:lnTo>
                    <a:pt x="843" y="1666"/>
                  </a:lnTo>
                  <a:lnTo>
                    <a:pt x="851" y="1658"/>
                  </a:lnTo>
                  <a:lnTo>
                    <a:pt x="859" y="1650"/>
                  </a:lnTo>
                  <a:lnTo>
                    <a:pt x="870" y="1644"/>
                  </a:lnTo>
                  <a:lnTo>
                    <a:pt x="886" y="1644"/>
                  </a:lnTo>
                  <a:lnTo>
                    <a:pt x="904" y="1646"/>
                  </a:lnTo>
                  <a:lnTo>
                    <a:pt x="922" y="1647"/>
                  </a:lnTo>
                  <a:lnTo>
                    <a:pt x="939" y="1650"/>
                  </a:lnTo>
                  <a:lnTo>
                    <a:pt x="957" y="1650"/>
                  </a:lnTo>
                  <a:lnTo>
                    <a:pt x="976" y="1651"/>
                  </a:lnTo>
                  <a:lnTo>
                    <a:pt x="993" y="1650"/>
                  </a:lnTo>
                  <a:lnTo>
                    <a:pt x="1014" y="1647"/>
                  </a:lnTo>
                  <a:lnTo>
                    <a:pt x="1018" y="1635"/>
                  </a:lnTo>
                  <a:lnTo>
                    <a:pt x="1022" y="1624"/>
                  </a:lnTo>
                  <a:lnTo>
                    <a:pt x="1026" y="1613"/>
                  </a:lnTo>
                  <a:lnTo>
                    <a:pt x="1030" y="1604"/>
                  </a:lnTo>
                  <a:lnTo>
                    <a:pt x="1032" y="1593"/>
                  </a:lnTo>
                  <a:lnTo>
                    <a:pt x="1037" y="1583"/>
                  </a:lnTo>
                  <a:lnTo>
                    <a:pt x="1038" y="1574"/>
                  </a:lnTo>
                  <a:lnTo>
                    <a:pt x="1039" y="1564"/>
                  </a:lnTo>
                  <a:lnTo>
                    <a:pt x="1023" y="1540"/>
                  </a:lnTo>
                  <a:lnTo>
                    <a:pt x="1007" y="1520"/>
                  </a:lnTo>
                  <a:lnTo>
                    <a:pt x="991" y="1499"/>
                  </a:lnTo>
                  <a:lnTo>
                    <a:pt x="978" y="1479"/>
                  </a:lnTo>
                  <a:lnTo>
                    <a:pt x="968" y="1457"/>
                  </a:lnTo>
                  <a:lnTo>
                    <a:pt x="963" y="1437"/>
                  </a:lnTo>
                  <a:lnTo>
                    <a:pt x="965" y="1414"/>
                  </a:lnTo>
                  <a:lnTo>
                    <a:pt x="976" y="1391"/>
                  </a:lnTo>
                  <a:lnTo>
                    <a:pt x="1003" y="1372"/>
                  </a:lnTo>
                  <a:lnTo>
                    <a:pt x="1024" y="1356"/>
                  </a:lnTo>
                  <a:lnTo>
                    <a:pt x="1039" y="1340"/>
                  </a:lnTo>
                  <a:lnTo>
                    <a:pt x="1049" y="1324"/>
                  </a:lnTo>
                  <a:lnTo>
                    <a:pt x="1051" y="1305"/>
                  </a:lnTo>
                  <a:lnTo>
                    <a:pt x="1051" y="1284"/>
                  </a:lnTo>
                  <a:lnTo>
                    <a:pt x="1047" y="1259"/>
                  </a:lnTo>
                  <a:lnTo>
                    <a:pt x="1039" y="1230"/>
                  </a:lnTo>
                  <a:lnTo>
                    <a:pt x="1039" y="1210"/>
                  </a:lnTo>
                  <a:lnTo>
                    <a:pt x="1041" y="1190"/>
                  </a:lnTo>
                  <a:lnTo>
                    <a:pt x="1042" y="1168"/>
                  </a:lnTo>
                  <a:lnTo>
                    <a:pt x="1046" y="1148"/>
                  </a:lnTo>
                  <a:lnTo>
                    <a:pt x="1049" y="1127"/>
                  </a:lnTo>
                  <a:lnTo>
                    <a:pt x="1054" y="1107"/>
                  </a:lnTo>
                  <a:lnTo>
                    <a:pt x="1060" y="1089"/>
                  </a:lnTo>
                  <a:lnTo>
                    <a:pt x="1069" y="1076"/>
                  </a:lnTo>
                  <a:lnTo>
                    <a:pt x="1073" y="1037"/>
                  </a:lnTo>
                  <a:lnTo>
                    <a:pt x="1080" y="1010"/>
                  </a:lnTo>
                  <a:lnTo>
                    <a:pt x="1089" y="993"/>
                  </a:lnTo>
                  <a:lnTo>
                    <a:pt x="1103" y="985"/>
                  </a:lnTo>
                  <a:lnTo>
                    <a:pt x="1119" y="983"/>
                  </a:lnTo>
                  <a:lnTo>
                    <a:pt x="1139" y="985"/>
                  </a:lnTo>
                  <a:lnTo>
                    <a:pt x="1165" y="988"/>
                  </a:lnTo>
                  <a:lnTo>
                    <a:pt x="1196" y="993"/>
                  </a:lnTo>
                  <a:lnTo>
                    <a:pt x="1207" y="973"/>
                  </a:lnTo>
                  <a:lnTo>
                    <a:pt x="1212" y="951"/>
                  </a:lnTo>
                  <a:lnTo>
                    <a:pt x="1214" y="927"/>
                  </a:lnTo>
                  <a:lnTo>
                    <a:pt x="1216" y="904"/>
                  </a:lnTo>
                  <a:lnTo>
                    <a:pt x="1221" y="880"/>
                  </a:lnTo>
                  <a:lnTo>
                    <a:pt x="1231" y="861"/>
                  </a:lnTo>
                  <a:lnTo>
                    <a:pt x="1252" y="845"/>
                  </a:lnTo>
                  <a:lnTo>
                    <a:pt x="1287" y="836"/>
                  </a:lnTo>
                  <a:lnTo>
                    <a:pt x="1315" y="822"/>
                  </a:lnTo>
                  <a:lnTo>
                    <a:pt x="1334" y="809"/>
                  </a:lnTo>
                  <a:lnTo>
                    <a:pt x="1344" y="797"/>
                  </a:lnTo>
                  <a:lnTo>
                    <a:pt x="1349" y="786"/>
                  </a:lnTo>
                  <a:lnTo>
                    <a:pt x="1346" y="773"/>
                  </a:lnTo>
                  <a:lnTo>
                    <a:pt x="1342" y="757"/>
                  </a:lnTo>
                  <a:lnTo>
                    <a:pt x="1336" y="736"/>
                  </a:lnTo>
                  <a:lnTo>
                    <a:pt x="1329" y="712"/>
                  </a:lnTo>
                  <a:lnTo>
                    <a:pt x="1330" y="667"/>
                  </a:lnTo>
                  <a:lnTo>
                    <a:pt x="1336" y="624"/>
                  </a:lnTo>
                  <a:lnTo>
                    <a:pt x="1345" y="585"/>
                  </a:lnTo>
                  <a:lnTo>
                    <a:pt x="1363" y="552"/>
                  </a:lnTo>
                  <a:lnTo>
                    <a:pt x="1386" y="527"/>
                  </a:lnTo>
                  <a:lnTo>
                    <a:pt x="1415" y="513"/>
                  </a:lnTo>
                  <a:lnTo>
                    <a:pt x="1453" y="513"/>
                  </a:lnTo>
                  <a:lnTo>
                    <a:pt x="1502" y="529"/>
                  </a:lnTo>
                  <a:lnTo>
                    <a:pt x="1509" y="529"/>
                  </a:lnTo>
                  <a:lnTo>
                    <a:pt x="1517" y="529"/>
                  </a:lnTo>
                  <a:lnTo>
                    <a:pt x="1536" y="493"/>
                  </a:lnTo>
                  <a:lnTo>
                    <a:pt x="1552" y="460"/>
                  </a:lnTo>
                  <a:lnTo>
                    <a:pt x="1566" y="432"/>
                  </a:lnTo>
                  <a:lnTo>
                    <a:pt x="1580" y="409"/>
                  </a:lnTo>
                  <a:lnTo>
                    <a:pt x="1598" y="385"/>
                  </a:lnTo>
                  <a:lnTo>
                    <a:pt x="1621" y="364"/>
                  </a:lnTo>
                  <a:lnTo>
                    <a:pt x="1649" y="344"/>
                  </a:lnTo>
                  <a:lnTo>
                    <a:pt x="1690" y="326"/>
                  </a:lnTo>
                  <a:lnTo>
                    <a:pt x="1709" y="321"/>
                  </a:lnTo>
                  <a:lnTo>
                    <a:pt x="1727" y="316"/>
                  </a:lnTo>
                  <a:lnTo>
                    <a:pt x="1741" y="309"/>
                  </a:lnTo>
                  <a:lnTo>
                    <a:pt x="1756" y="302"/>
                  </a:lnTo>
                  <a:lnTo>
                    <a:pt x="1768" y="293"/>
                  </a:lnTo>
                  <a:lnTo>
                    <a:pt x="1782" y="282"/>
                  </a:lnTo>
                  <a:lnTo>
                    <a:pt x="1797" y="270"/>
                  </a:lnTo>
                  <a:lnTo>
                    <a:pt x="1814" y="257"/>
                  </a:lnTo>
                  <a:lnTo>
                    <a:pt x="1821" y="220"/>
                  </a:lnTo>
                  <a:lnTo>
                    <a:pt x="1833" y="174"/>
                  </a:lnTo>
                  <a:lnTo>
                    <a:pt x="1850" y="124"/>
                  </a:lnTo>
                  <a:lnTo>
                    <a:pt x="1871" y="78"/>
                  </a:lnTo>
                  <a:lnTo>
                    <a:pt x="1897" y="37"/>
                  </a:lnTo>
                  <a:lnTo>
                    <a:pt x="1929" y="10"/>
                  </a:lnTo>
                  <a:lnTo>
                    <a:pt x="1969" y="0"/>
                  </a:lnTo>
                  <a:lnTo>
                    <a:pt x="2016" y="17"/>
                  </a:lnTo>
                  <a:lnTo>
                    <a:pt x="2019" y="19"/>
                  </a:lnTo>
                  <a:lnTo>
                    <a:pt x="2025" y="27"/>
                  </a:lnTo>
                  <a:lnTo>
                    <a:pt x="2034" y="36"/>
                  </a:lnTo>
                  <a:lnTo>
                    <a:pt x="2046" y="46"/>
                  </a:lnTo>
                  <a:lnTo>
                    <a:pt x="2055" y="55"/>
                  </a:lnTo>
                  <a:lnTo>
                    <a:pt x="2066" y="63"/>
                  </a:lnTo>
                  <a:lnTo>
                    <a:pt x="2076" y="69"/>
                  </a:lnTo>
                  <a:lnTo>
                    <a:pt x="2085" y="72"/>
                  </a:lnTo>
                  <a:lnTo>
                    <a:pt x="2113" y="41"/>
                  </a:lnTo>
                  <a:lnTo>
                    <a:pt x="2142" y="25"/>
                  </a:lnTo>
                  <a:lnTo>
                    <a:pt x="2168" y="18"/>
                  </a:lnTo>
                  <a:lnTo>
                    <a:pt x="2195" y="23"/>
                  </a:lnTo>
                  <a:lnTo>
                    <a:pt x="2219" y="36"/>
                  </a:lnTo>
                  <a:lnTo>
                    <a:pt x="2245" y="56"/>
                  </a:lnTo>
                  <a:lnTo>
                    <a:pt x="2269" y="82"/>
                  </a:lnTo>
                  <a:lnTo>
                    <a:pt x="2295" y="114"/>
                  </a:lnTo>
                  <a:lnTo>
                    <a:pt x="2327" y="118"/>
                  </a:lnTo>
                  <a:lnTo>
                    <a:pt x="2364" y="114"/>
                  </a:lnTo>
                  <a:lnTo>
                    <a:pt x="2403" y="105"/>
                  </a:lnTo>
                  <a:lnTo>
                    <a:pt x="2444" y="99"/>
                  </a:lnTo>
                  <a:lnTo>
                    <a:pt x="2481" y="96"/>
                  </a:lnTo>
                  <a:lnTo>
                    <a:pt x="2518" y="107"/>
                  </a:lnTo>
                  <a:lnTo>
                    <a:pt x="2549" y="132"/>
                  </a:lnTo>
                  <a:lnTo>
                    <a:pt x="2576" y="176"/>
                  </a:lnTo>
                  <a:lnTo>
                    <a:pt x="2572" y="190"/>
                  </a:lnTo>
                  <a:lnTo>
                    <a:pt x="2568" y="205"/>
                  </a:lnTo>
                  <a:lnTo>
                    <a:pt x="2563" y="218"/>
                  </a:lnTo>
                  <a:lnTo>
                    <a:pt x="2559" y="233"/>
                  </a:lnTo>
                  <a:lnTo>
                    <a:pt x="2553" y="247"/>
                  </a:lnTo>
                  <a:lnTo>
                    <a:pt x="2552" y="263"/>
                  </a:lnTo>
                  <a:lnTo>
                    <a:pt x="2552" y="279"/>
                  </a:lnTo>
                  <a:lnTo>
                    <a:pt x="2556" y="298"/>
                  </a:lnTo>
                  <a:lnTo>
                    <a:pt x="2573" y="291"/>
                  </a:lnTo>
                  <a:lnTo>
                    <a:pt x="2591" y="285"/>
                  </a:lnTo>
                  <a:lnTo>
                    <a:pt x="2607" y="276"/>
                  </a:lnTo>
                  <a:lnTo>
                    <a:pt x="2623" y="271"/>
                  </a:lnTo>
                  <a:lnTo>
                    <a:pt x="2638" y="267"/>
                  </a:lnTo>
                  <a:lnTo>
                    <a:pt x="2655" y="270"/>
                  </a:lnTo>
                  <a:lnTo>
                    <a:pt x="2671" y="278"/>
                  </a:lnTo>
                  <a:lnTo>
                    <a:pt x="2691" y="298"/>
                  </a:lnTo>
                  <a:lnTo>
                    <a:pt x="2706" y="328"/>
                  </a:lnTo>
                  <a:lnTo>
                    <a:pt x="2724" y="348"/>
                  </a:lnTo>
                  <a:lnTo>
                    <a:pt x="2738" y="362"/>
                  </a:lnTo>
                  <a:lnTo>
                    <a:pt x="2752" y="374"/>
                  </a:lnTo>
                  <a:lnTo>
                    <a:pt x="2760" y="386"/>
                  </a:lnTo>
                  <a:lnTo>
                    <a:pt x="2764" y="405"/>
                  </a:lnTo>
                  <a:lnTo>
                    <a:pt x="2760" y="432"/>
                  </a:lnTo>
                  <a:lnTo>
                    <a:pt x="2749" y="475"/>
                  </a:lnTo>
                  <a:lnTo>
                    <a:pt x="2752" y="479"/>
                  </a:lnTo>
                  <a:lnTo>
                    <a:pt x="2755" y="486"/>
                  </a:lnTo>
                  <a:lnTo>
                    <a:pt x="2794" y="486"/>
                  </a:lnTo>
                  <a:lnTo>
                    <a:pt x="2826" y="489"/>
                  </a:lnTo>
                  <a:lnTo>
                    <a:pt x="2849" y="496"/>
                  </a:lnTo>
                  <a:lnTo>
                    <a:pt x="2867" y="508"/>
                  </a:lnTo>
                  <a:lnTo>
                    <a:pt x="2875" y="525"/>
                  </a:lnTo>
                  <a:lnTo>
                    <a:pt x="2879" y="551"/>
                  </a:lnTo>
                  <a:lnTo>
                    <a:pt x="2875" y="583"/>
                  </a:lnTo>
                  <a:lnTo>
                    <a:pt x="2868" y="627"/>
                  </a:lnTo>
                  <a:lnTo>
                    <a:pt x="2868" y="671"/>
                  </a:lnTo>
                  <a:lnTo>
                    <a:pt x="2876" y="701"/>
                  </a:lnTo>
                  <a:lnTo>
                    <a:pt x="2889" y="717"/>
                  </a:lnTo>
                  <a:lnTo>
                    <a:pt x="2908" y="728"/>
                  </a:lnTo>
                  <a:lnTo>
                    <a:pt x="2931" y="735"/>
                  </a:lnTo>
                  <a:lnTo>
                    <a:pt x="2958" y="744"/>
                  </a:lnTo>
                  <a:lnTo>
                    <a:pt x="2989" y="761"/>
                  </a:lnTo>
                  <a:lnTo>
                    <a:pt x="3025" y="789"/>
                  </a:lnTo>
                  <a:lnTo>
                    <a:pt x="3059" y="797"/>
                  </a:lnTo>
                  <a:lnTo>
                    <a:pt x="3097" y="804"/>
                  </a:lnTo>
                  <a:lnTo>
                    <a:pt x="3134" y="808"/>
                  </a:lnTo>
                  <a:lnTo>
                    <a:pt x="3166" y="816"/>
                  </a:lnTo>
                  <a:lnTo>
                    <a:pt x="3190" y="828"/>
                  </a:lnTo>
                  <a:lnTo>
                    <a:pt x="3205" y="850"/>
                  </a:lnTo>
                  <a:lnTo>
                    <a:pt x="3207" y="882"/>
                  </a:lnTo>
                  <a:lnTo>
                    <a:pt x="3193" y="933"/>
                  </a:lnTo>
                  <a:lnTo>
                    <a:pt x="3186" y="939"/>
                  </a:lnTo>
                  <a:lnTo>
                    <a:pt x="3182" y="946"/>
                  </a:lnTo>
                  <a:lnTo>
                    <a:pt x="3177" y="953"/>
                  </a:lnTo>
                  <a:lnTo>
                    <a:pt x="3173" y="961"/>
                  </a:lnTo>
                  <a:lnTo>
                    <a:pt x="3167" y="966"/>
                  </a:lnTo>
                  <a:lnTo>
                    <a:pt x="3165" y="974"/>
                  </a:lnTo>
                  <a:lnTo>
                    <a:pt x="3161" y="983"/>
                  </a:lnTo>
                  <a:lnTo>
                    <a:pt x="3161" y="993"/>
                  </a:lnTo>
                  <a:lnTo>
                    <a:pt x="3181" y="991"/>
                  </a:lnTo>
                  <a:lnTo>
                    <a:pt x="3201" y="988"/>
                  </a:lnTo>
                  <a:lnTo>
                    <a:pt x="3217" y="984"/>
                  </a:lnTo>
                  <a:lnTo>
                    <a:pt x="3235" y="981"/>
                  </a:lnTo>
                  <a:lnTo>
                    <a:pt x="3251" y="979"/>
                  </a:lnTo>
                  <a:lnTo>
                    <a:pt x="3269" y="981"/>
                  </a:lnTo>
                  <a:lnTo>
                    <a:pt x="3288" y="988"/>
                  </a:lnTo>
                  <a:lnTo>
                    <a:pt x="3312" y="1002"/>
                  </a:lnTo>
                  <a:lnTo>
                    <a:pt x="3331" y="1018"/>
                  </a:lnTo>
                  <a:lnTo>
                    <a:pt x="3354" y="1026"/>
                  </a:lnTo>
                  <a:lnTo>
                    <a:pt x="3378" y="1027"/>
                  </a:lnTo>
                  <a:lnTo>
                    <a:pt x="3403" y="1029"/>
                  </a:lnTo>
                  <a:lnTo>
                    <a:pt x="3423" y="1031"/>
                  </a:lnTo>
                  <a:lnTo>
                    <a:pt x="3441" y="1043"/>
                  </a:lnTo>
                  <a:lnTo>
                    <a:pt x="3453" y="1069"/>
                  </a:lnTo>
                  <a:lnTo>
                    <a:pt x="3458" y="1112"/>
                  </a:lnTo>
                  <a:lnTo>
                    <a:pt x="3451" y="1141"/>
                  </a:lnTo>
                  <a:lnTo>
                    <a:pt x="3446" y="1164"/>
                  </a:lnTo>
                  <a:lnTo>
                    <a:pt x="3443" y="1181"/>
                  </a:lnTo>
                  <a:lnTo>
                    <a:pt x="3445" y="1195"/>
                  </a:lnTo>
                  <a:lnTo>
                    <a:pt x="3451" y="1203"/>
                  </a:lnTo>
                  <a:lnTo>
                    <a:pt x="3466" y="1211"/>
                  </a:lnTo>
                  <a:lnTo>
                    <a:pt x="3491" y="1217"/>
                  </a:lnTo>
                  <a:lnTo>
                    <a:pt x="3527" y="1225"/>
                  </a:lnTo>
                  <a:lnTo>
                    <a:pt x="3539" y="1232"/>
                  </a:lnTo>
                  <a:lnTo>
                    <a:pt x="3552" y="1240"/>
                  </a:lnTo>
                  <a:lnTo>
                    <a:pt x="3562" y="1250"/>
                  </a:lnTo>
                  <a:lnTo>
                    <a:pt x="3572" y="1264"/>
                  </a:lnTo>
                  <a:lnTo>
                    <a:pt x="3579" y="1276"/>
                  </a:lnTo>
                  <a:lnTo>
                    <a:pt x="3584" y="1292"/>
                  </a:lnTo>
                  <a:lnTo>
                    <a:pt x="3587" y="1309"/>
                  </a:lnTo>
                  <a:lnTo>
                    <a:pt x="3588" y="1328"/>
                  </a:lnTo>
                  <a:lnTo>
                    <a:pt x="3576" y="1340"/>
                  </a:lnTo>
                  <a:lnTo>
                    <a:pt x="3566" y="1356"/>
                  </a:lnTo>
                  <a:lnTo>
                    <a:pt x="3556" y="1374"/>
                  </a:lnTo>
                  <a:lnTo>
                    <a:pt x="3549" y="1394"/>
                  </a:lnTo>
                  <a:lnTo>
                    <a:pt x="3541" y="1413"/>
                  </a:lnTo>
                  <a:lnTo>
                    <a:pt x="3537" y="1433"/>
                  </a:lnTo>
                  <a:lnTo>
                    <a:pt x="3533" y="1453"/>
                  </a:lnTo>
                  <a:lnTo>
                    <a:pt x="3533" y="1474"/>
                  </a:lnTo>
                  <a:lnTo>
                    <a:pt x="3545" y="1485"/>
                  </a:lnTo>
                  <a:lnTo>
                    <a:pt x="3556" y="1495"/>
                  </a:lnTo>
                  <a:lnTo>
                    <a:pt x="3564" y="1505"/>
                  </a:lnTo>
                  <a:lnTo>
                    <a:pt x="3572" y="1516"/>
                  </a:lnTo>
                  <a:lnTo>
                    <a:pt x="3576" y="1525"/>
                  </a:lnTo>
                  <a:lnTo>
                    <a:pt x="3580" y="1540"/>
                  </a:lnTo>
                  <a:lnTo>
                    <a:pt x="3580" y="1556"/>
                  </a:lnTo>
                  <a:lnTo>
                    <a:pt x="3580" y="1578"/>
                  </a:lnTo>
                  <a:lnTo>
                    <a:pt x="3566" y="1600"/>
                  </a:lnTo>
                  <a:lnTo>
                    <a:pt x="3553" y="1629"/>
                  </a:lnTo>
                  <a:lnTo>
                    <a:pt x="3537" y="1663"/>
                  </a:lnTo>
                  <a:lnTo>
                    <a:pt x="3522" y="1701"/>
                  </a:lnTo>
                  <a:lnTo>
                    <a:pt x="3510" y="1736"/>
                  </a:lnTo>
                  <a:lnTo>
                    <a:pt x="3504" y="1773"/>
                  </a:lnTo>
                  <a:lnTo>
                    <a:pt x="3504" y="1804"/>
                  </a:lnTo>
                  <a:lnTo>
                    <a:pt x="3516" y="1832"/>
                  </a:lnTo>
                  <a:lnTo>
                    <a:pt x="3543" y="1829"/>
                  </a:lnTo>
                  <a:lnTo>
                    <a:pt x="3573" y="1827"/>
                  </a:lnTo>
                  <a:lnTo>
                    <a:pt x="3600" y="1825"/>
                  </a:lnTo>
                  <a:lnTo>
                    <a:pt x="3626" y="1829"/>
                  </a:lnTo>
                  <a:lnTo>
                    <a:pt x="3645" y="1836"/>
                  </a:lnTo>
                  <a:lnTo>
                    <a:pt x="3661" y="1852"/>
                  </a:lnTo>
                  <a:lnTo>
                    <a:pt x="3668" y="1877"/>
                  </a:lnTo>
                  <a:lnTo>
                    <a:pt x="3668" y="1912"/>
                  </a:lnTo>
                  <a:lnTo>
                    <a:pt x="3644" y="1955"/>
                  </a:lnTo>
                  <a:lnTo>
                    <a:pt x="3629" y="1990"/>
                  </a:lnTo>
                  <a:lnTo>
                    <a:pt x="3619" y="2020"/>
                  </a:lnTo>
                  <a:lnTo>
                    <a:pt x="3618" y="2047"/>
                  </a:lnTo>
                  <a:lnTo>
                    <a:pt x="3619" y="2074"/>
                  </a:lnTo>
                  <a:lnTo>
                    <a:pt x="3627" y="2105"/>
                  </a:lnTo>
                  <a:lnTo>
                    <a:pt x="3639" y="2143"/>
                  </a:lnTo>
                  <a:lnTo>
                    <a:pt x="3657" y="2191"/>
                  </a:lnTo>
                  <a:lnTo>
                    <a:pt x="3654" y="2206"/>
                  </a:lnTo>
                  <a:lnTo>
                    <a:pt x="3653" y="2226"/>
                  </a:lnTo>
                  <a:lnTo>
                    <a:pt x="3649" y="2249"/>
                  </a:lnTo>
                  <a:lnTo>
                    <a:pt x="3648" y="2273"/>
                  </a:lnTo>
                  <a:lnTo>
                    <a:pt x="3646" y="2295"/>
                  </a:lnTo>
                  <a:lnTo>
                    <a:pt x="3648" y="2317"/>
                  </a:lnTo>
                  <a:lnTo>
                    <a:pt x="3653" y="2334"/>
                  </a:lnTo>
                  <a:lnTo>
                    <a:pt x="3665" y="2348"/>
                  </a:lnTo>
                  <a:lnTo>
                    <a:pt x="3675" y="2346"/>
                  </a:lnTo>
                  <a:lnTo>
                    <a:pt x="3687" y="2346"/>
                  </a:lnTo>
                  <a:lnTo>
                    <a:pt x="3698" y="2345"/>
                  </a:lnTo>
                  <a:lnTo>
                    <a:pt x="3710" y="2345"/>
                  </a:lnTo>
                  <a:lnTo>
                    <a:pt x="3721" y="2344"/>
                  </a:lnTo>
                  <a:lnTo>
                    <a:pt x="3734" y="2342"/>
                  </a:lnTo>
                  <a:lnTo>
                    <a:pt x="3749" y="2342"/>
                  </a:lnTo>
                  <a:lnTo>
                    <a:pt x="3767" y="2342"/>
                  </a:lnTo>
                  <a:lnTo>
                    <a:pt x="3807" y="2361"/>
                  </a:lnTo>
                  <a:lnTo>
                    <a:pt x="3830" y="2388"/>
                  </a:lnTo>
                  <a:lnTo>
                    <a:pt x="3838" y="2418"/>
                  </a:lnTo>
                  <a:lnTo>
                    <a:pt x="3838" y="2453"/>
                  </a:lnTo>
                  <a:lnTo>
                    <a:pt x="3829" y="2488"/>
                  </a:lnTo>
                  <a:lnTo>
                    <a:pt x="3817" y="2528"/>
                  </a:lnTo>
                  <a:lnTo>
                    <a:pt x="3806" y="2565"/>
                  </a:lnTo>
                  <a:lnTo>
                    <a:pt x="3800" y="2605"/>
                  </a:lnTo>
                  <a:lnTo>
                    <a:pt x="3810" y="2622"/>
                  </a:lnTo>
                  <a:lnTo>
                    <a:pt x="3819" y="2636"/>
                  </a:lnTo>
                  <a:lnTo>
                    <a:pt x="3826" y="2644"/>
                  </a:lnTo>
                  <a:lnTo>
                    <a:pt x="3830" y="2653"/>
                  </a:lnTo>
                  <a:lnTo>
                    <a:pt x="3829" y="2663"/>
                  </a:lnTo>
                  <a:lnTo>
                    <a:pt x="3823" y="2679"/>
                  </a:lnTo>
                  <a:lnTo>
                    <a:pt x="3810" y="2702"/>
                  </a:lnTo>
                  <a:lnTo>
                    <a:pt x="3790" y="2737"/>
                  </a:lnTo>
                  <a:lnTo>
                    <a:pt x="3780" y="2785"/>
                  </a:lnTo>
                  <a:lnTo>
                    <a:pt x="3779" y="2824"/>
                  </a:lnTo>
                  <a:lnTo>
                    <a:pt x="3782" y="2856"/>
                  </a:lnTo>
                  <a:lnTo>
                    <a:pt x="3792" y="2883"/>
                  </a:lnTo>
                  <a:lnTo>
                    <a:pt x="3810" y="2905"/>
                  </a:lnTo>
                  <a:lnTo>
                    <a:pt x="3836" y="2927"/>
                  </a:lnTo>
                  <a:lnTo>
                    <a:pt x="3868" y="2948"/>
                  </a:lnTo>
                  <a:lnTo>
                    <a:pt x="3911" y="2974"/>
                  </a:lnTo>
                  <a:lnTo>
                    <a:pt x="3933" y="3000"/>
                  </a:lnTo>
                  <a:lnTo>
                    <a:pt x="3943" y="3025"/>
                  </a:lnTo>
                  <a:lnTo>
                    <a:pt x="3944" y="3047"/>
                  </a:lnTo>
                  <a:lnTo>
                    <a:pt x="3938" y="3070"/>
                  </a:lnTo>
                  <a:lnTo>
                    <a:pt x="3929" y="3090"/>
                  </a:lnTo>
                  <a:lnTo>
                    <a:pt x="3921" y="3112"/>
                  </a:lnTo>
                  <a:lnTo>
                    <a:pt x="3914" y="3135"/>
                  </a:lnTo>
                  <a:lnTo>
                    <a:pt x="3917" y="3162"/>
                  </a:lnTo>
                  <a:lnTo>
                    <a:pt x="3932" y="3178"/>
                  </a:lnTo>
                  <a:lnTo>
                    <a:pt x="3944" y="3192"/>
                  </a:lnTo>
                  <a:lnTo>
                    <a:pt x="3952" y="3200"/>
                  </a:lnTo>
                  <a:lnTo>
                    <a:pt x="3959" y="3208"/>
                  </a:lnTo>
                  <a:lnTo>
                    <a:pt x="3961" y="3216"/>
                  </a:lnTo>
                  <a:lnTo>
                    <a:pt x="3964" y="3228"/>
                  </a:lnTo>
                  <a:lnTo>
                    <a:pt x="3964" y="3246"/>
                  </a:lnTo>
                  <a:lnTo>
                    <a:pt x="3966" y="3272"/>
                  </a:lnTo>
                  <a:lnTo>
                    <a:pt x="3960" y="3300"/>
                  </a:lnTo>
                  <a:lnTo>
                    <a:pt x="3957" y="3326"/>
                  </a:lnTo>
                  <a:lnTo>
                    <a:pt x="3953" y="3347"/>
                  </a:lnTo>
                  <a:lnTo>
                    <a:pt x="3949" y="3368"/>
                  </a:lnTo>
                  <a:lnTo>
                    <a:pt x="3940" y="3384"/>
                  </a:lnTo>
                  <a:lnTo>
                    <a:pt x="3926" y="3396"/>
                  </a:lnTo>
                  <a:lnTo>
                    <a:pt x="3906" y="3406"/>
                  </a:lnTo>
                  <a:lnTo>
                    <a:pt x="3878" y="3412"/>
                  </a:lnTo>
                  <a:lnTo>
                    <a:pt x="3876" y="3443"/>
                  </a:lnTo>
                  <a:lnTo>
                    <a:pt x="3876" y="3475"/>
                  </a:lnTo>
                  <a:lnTo>
                    <a:pt x="3876" y="3502"/>
                  </a:lnTo>
                  <a:lnTo>
                    <a:pt x="3876" y="3530"/>
                  </a:lnTo>
                  <a:lnTo>
                    <a:pt x="3871" y="3556"/>
                  </a:lnTo>
                  <a:lnTo>
                    <a:pt x="3863" y="3581"/>
                  </a:lnTo>
                  <a:lnTo>
                    <a:pt x="3846" y="3607"/>
                  </a:lnTo>
                  <a:lnTo>
                    <a:pt x="3825" y="3636"/>
                  </a:lnTo>
                  <a:lnTo>
                    <a:pt x="3814" y="3640"/>
                  </a:lnTo>
                  <a:lnTo>
                    <a:pt x="3806" y="3645"/>
                  </a:lnTo>
                  <a:lnTo>
                    <a:pt x="3798" y="3649"/>
                  </a:lnTo>
                  <a:lnTo>
                    <a:pt x="3794" y="3655"/>
                  </a:lnTo>
                  <a:lnTo>
                    <a:pt x="3788" y="3660"/>
                  </a:lnTo>
                  <a:lnTo>
                    <a:pt x="3783" y="3667"/>
                  </a:lnTo>
                  <a:lnTo>
                    <a:pt x="3777" y="3673"/>
                  </a:lnTo>
                  <a:lnTo>
                    <a:pt x="3773" y="3683"/>
                  </a:lnTo>
                  <a:lnTo>
                    <a:pt x="3754" y="3690"/>
                  </a:lnTo>
                  <a:lnTo>
                    <a:pt x="3736" y="3698"/>
                  </a:lnTo>
                  <a:lnTo>
                    <a:pt x="3717" y="3703"/>
                  </a:lnTo>
                  <a:lnTo>
                    <a:pt x="3698" y="3709"/>
                  </a:lnTo>
                  <a:lnTo>
                    <a:pt x="3679" y="3711"/>
                  </a:lnTo>
                  <a:lnTo>
                    <a:pt x="3660" y="3715"/>
                  </a:lnTo>
                  <a:lnTo>
                    <a:pt x="3642" y="3718"/>
                  </a:lnTo>
                  <a:lnTo>
                    <a:pt x="3626" y="3722"/>
                  </a:lnTo>
                  <a:lnTo>
                    <a:pt x="3608" y="3715"/>
                  </a:lnTo>
                  <a:lnTo>
                    <a:pt x="3595" y="3714"/>
                  </a:lnTo>
                  <a:lnTo>
                    <a:pt x="3584" y="3714"/>
                  </a:lnTo>
                  <a:lnTo>
                    <a:pt x="3576" y="3718"/>
                  </a:lnTo>
                  <a:lnTo>
                    <a:pt x="3566" y="3722"/>
                  </a:lnTo>
                  <a:lnTo>
                    <a:pt x="3558" y="3730"/>
                  </a:lnTo>
                  <a:lnTo>
                    <a:pt x="3549" y="3738"/>
                  </a:lnTo>
                  <a:lnTo>
                    <a:pt x="3538" y="3749"/>
                  </a:lnTo>
                  <a:lnTo>
                    <a:pt x="3552" y="3794"/>
                  </a:lnTo>
                  <a:lnTo>
                    <a:pt x="3573" y="3848"/>
                  </a:lnTo>
                  <a:lnTo>
                    <a:pt x="3598" y="3906"/>
                  </a:lnTo>
                  <a:lnTo>
                    <a:pt x="3622" y="3970"/>
                  </a:lnTo>
                  <a:lnTo>
                    <a:pt x="3638" y="4032"/>
                  </a:lnTo>
                  <a:lnTo>
                    <a:pt x="3645" y="4091"/>
                  </a:lnTo>
                  <a:lnTo>
                    <a:pt x="3635" y="4146"/>
                  </a:lnTo>
                  <a:lnTo>
                    <a:pt x="3607" y="4193"/>
                  </a:lnTo>
                  <a:lnTo>
                    <a:pt x="3564" y="4186"/>
                  </a:lnTo>
                  <a:lnTo>
                    <a:pt x="3524" y="4148"/>
                  </a:lnTo>
                  <a:lnTo>
                    <a:pt x="3489" y="4089"/>
                  </a:lnTo>
                  <a:lnTo>
                    <a:pt x="3461" y="4018"/>
                  </a:lnTo>
                  <a:lnTo>
                    <a:pt x="3437" y="3944"/>
                  </a:lnTo>
                  <a:lnTo>
                    <a:pt x="3419" y="3878"/>
                  </a:lnTo>
                  <a:lnTo>
                    <a:pt x="3407" y="3828"/>
                  </a:lnTo>
                  <a:lnTo>
                    <a:pt x="3403" y="3807"/>
                  </a:lnTo>
                  <a:lnTo>
                    <a:pt x="3392" y="3807"/>
                  </a:lnTo>
                  <a:lnTo>
                    <a:pt x="3382" y="3807"/>
                  </a:lnTo>
                  <a:lnTo>
                    <a:pt x="3372" y="3809"/>
                  </a:lnTo>
                  <a:lnTo>
                    <a:pt x="3364" y="3811"/>
                  </a:lnTo>
                  <a:lnTo>
                    <a:pt x="3354" y="3813"/>
                  </a:lnTo>
                  <a:lnTo>
                    <a:pt x="3345" y="3814"/>
                  </a:lnTo>
                  <a:lnTo>
                    <a:pt x="3336" y="3816"/>
                  </a:lnTo>
                  <a:lnTo>
                    <a:pt x="3328" y="3818"/>
                  </a:lnTo>
                  <a:lnTo>
                    <a:pt x="3330" y="3879"/>
                  </a:lnTo>
                  <a:lnTo>
                    <a:pt x="3335" y="3941"/>
                  </a:lnTo>
                  <a:lnTo>
                    <a:pt x="3341" y="4002"/>
                  </a:lnTo>
                  <a:lnTo>
                    <a:pt x="3347" y="4064"/>
                  </a:lnTo>
                  <a:lnTo>
                    <a:pt x="3350" y="4125"/>
                  </a:lnTo>
                  <a:lnTo>
                    <a:pt x="3349" y="4188"/>
                  </a:lnTo>
                  <a:lnTo>
                    <a:pt x="3341" y="4250"/>
                  </a:lnTo>
                  <a:lnTo>
                    <a:pt x="3326" y="4312"/>
                  </a:lnTo>
                  <a:lnTo>
                    <a:pt x="3303" y="4321"/>
                  </a:lnTo>
                  <a:lnTo>
                    <a:pt x="3282" y="4327"/>
                  </a:lnTo>
                  <a:lnTo>
                    <a:pt x="3261" y="4326"/>
                  </a:lnTo>
                  <a:lnTo>
                    <a:pt x="3242" y="4321"/>
                  </a:lnTo>
                  <a:lnTo>
                    <a:pt x="3221" y="4311"/>
                  </a:lnTo>
                  <a:lnTo>
                    <a:pt x="3207" y="4297"/>
                  </a:lnTo>
                  <a:lnTo>
                    <a:pt x="3192" y="4281"/>
                  </a:lnTo>
                  <a:lnTo>
                    <a:pt x="3182" y="4262"/>
                  </a:lnTo>
                  <a:lnTo>
                    <a:pt x="3178" y="4262"/>
                  </a:lnTo>
                  <a:lnTo>
                    <a:pt x="3174" y="4262"/>
                  </a:lnTo>
                  <a:lnTo>
                    <a:pt x="3140" y="4332"/>
                  </a:lnTo>
                  <a:lnTo>
                    <a:pt x="3079" y="4385"/>
                  </a:lnTo>
                  <a:lnTo>
                    <a:pt x="3001" y="4418"/>
                  </a:lnTo>
                  <a:lnTo>
                    <a:pt x="2918" y="4432"/>
                  </a:lnTo>
                  <a:lnTo>
                    <a:pt x="2843" y="4426"/>
                  </a:lnTo>
                  <a:lnTo>
                    <a:pt x="2787" y="4399"/>
                  </a:lnTo>
                  <a:lnTo>
                    <a:pt x="2763" y="4349"/>
                  </a:lnTo>
                  <a:lnTo>
                    <a:pt x="2783" y="4280"/>
                  </a:lnTo>
                  <a:lnTo>
                    <a:pt x="2787" y="4280"/>
                  </a:lnTo>
                  <a:lnTo>
                    <a:pt x="2791" y="4280"/>
                  </a:lnTo>
                  <a:lnTo>
                    <a:pt x="2791" y="4274"/>
                  </a:lnTo>
                  <a:lnTo>
                    <a:pt x="2791" y="4270"/>
                  </a:lnTo>
                  <a:lnTo>
                    <a:pt x="2798" y="4267"/>
                  </a:lnTo>
                  <a:lnTo>
                    <a:pt x="2810" y="4262"/>
                  </a:lnTo>
                  <a:lnTo>
                    <a:pt x="2824" y="4254"/>
                  </a:lnTo>
                  <a:lnTo>
                    <a:pt x="2840" y="4247"/>
                  </a:lnTo>
                  <a:lnTo>
                    <a:pt x="2855" y="4236"/>
                  </a:lnTo>
                  <a:lnTo>
                    <a:pt x="2870" y="4228"/>
                  </a:lnTo>
                  <a:lnTo>
                    <a:pt x="2882" y="4220"/>
                  </a:lnTo>
                  <a:lnTo>
                    <a:pt x="2893" y="4213"/>
                  </a:lnTo>
                  <a:lnTo>
                    <a:pt x="2932" y="4204"/>
                  </a:lnTo>
                  <a:lnTo>
                    <a:pt x="2970" y="4194"/>
                  </a:lnTo>
                  <a:lnTo>
                    <a:pt x="3005" y="4185"/>
                  </a:lnTo>
                  <a:lnTo>
                    <a:pt x="3042" y="4181"/>
                  </a:lnTo>
                  <a:lnTo>
                    <a:pt x="3074" y="4181"/>
                  </a:lnTo>
                  <a:lnTo>
                    <a:pt x="3108" y="4192"/>
                  </a:lnTo>
                  <a:lnTo>
                    <a:pt x="3139" y="4215"/>
                  </a:lnTo>
                  <a:lnTo>
                    <a:pt x="3171" y="4254"/>
                  </a:lnTo>
                  <a:lnTo>
                    <a:pt x="3170" y="4242"/>
                  </a:lnTo>
                  <a:lnTo>
                    <a:pt x="3169" y="4229"/>
                  </a:lnTo>
                  <a:lnTo>
                    <a:pt x="3165" y="4219"/>
                  </a:lnTo>
                  <a:lnTo>
                    <a:pt x="3162" y="4211"/>
                  </a:lnTo>
                  <a:lnTo>
                    <a:pt x="3158" y="4200"/>
                  </a:lnTo>
                  <a:lnTo>
                    <a:pt x="3155" y="4190"/>
                  </a:lnTo>
                  <a:lnTo>
                    <a:pt x="3152" y="4181"/>
                  </a:lnTo>
                  <a:lnTo>
                    <a:pt x="3152" y="4171"/>
                  </a:lnTo>
                  <a:lnTo>
                    <a:pt x="3144" y="4155"/>
                  </a:lnTo>
                  <a:lnTo>
                    <a:pt x="3140" y="4140"/>
                  </a:lnTo>
                  <a:lnTo>
                    <a:pt x="3136" y="4124"/>
                  </a:lnTo>
                  <a:lnTo>
                    <a:pt x="3136" y="4109"/>
                  </a:lnTo>
                  <a:lnTo>
                    <a:pt x="3135" y="4093"/>
                  </a:lnTo>
                  <a:lnTo>
                    <a:pt x="3135" y="4077"/>
                  </a:lnTo>
                  <a:lnTo>
                    <a:pt x="3135" y="4062"/>
                  </a:lnTo>
                  <a:lnTo>
                    <a:pt x="3136" y="4050"/>
                  </a:lnTo>
                  <a:lnTo>
                    <a:pt x="3134" y="4048"/>
                  </a:lnTo>
                  <a:lnTo>
                    <a:pt x="3129" y="4047"/>
                  </a:lnTo>
                  <a:lnTo>
                    <a:pt x="3134" y="4047"/>
                  </a:lnTo>
                  <a:lnTo>
                    <a:pt x="3136" y="4047"/>
                  </a:lnTo>
                  <a:lnTo>
                    <a:pt x="3131" y="3997"/>
                  </a:lnTo>
                  <a:lnTo>
                    <a:pt x="3128" y="3960"/>
                  </a:lnTo>
                  <a:lnTo>
                    <a:pt x="3125" y="3932"/>
                  </a:lnTo>
                  <a:lnTo>
                    <a:pt x="3124" y="3910"/>
                  </a:lnTo>
                  <a:lnTo>
                    <a:pt x="3123" y="3891"/>
                  </a:lnTo>
                  <a:lnTo>
                    <a:pt x="3123" y="3875"/>
                  </a:lnTo>
                  <a:lnTo>
                    <a:pt x="3121" y="3857"/>
                  </a:lnTo>
                  <a:lnTo>
                    <a:pt x="3121" y="3837"/>
                  </a:lnTo>
                  <a:lnTo>
                    <a:pt x="3104" y="3836"/>
                  </a:lnTo>
                  <a:lnTo>
                    <a:pt x="3086" y="3836"/>
                  </a:lnTo>
                  <a:lnTo>
                    <a:pt x="3067" y="3834"/>
                  </a:lnTo>
                  <a:lnTo>
                    <a:pt x="3048" y="3834"/>
                  </a:lnTo>
                  <a:lnTo>
                    <a:pt x="3028" y="3834"/>
                  </a:lnTo>
                  <a:lnTo>
                    <a:pt x="3010" y="3834"/>
                  </a:lnTo>
                  <a:lnTo>
                    <a:pt x="2993" y="3836"/>
                  </a:lnTo>
                  <a:lnTo>
                    <a:pt x="2981" y="3840"/>
                  </a:lnTo>
                  <a:lnTo>
                    <a:pt x="2966" y="3872"/>
                  </a:lnTo>
                  <a:lnTo>
                    <a:pt x="2952" y="3906"/>
                  </a:lnTo>
                  <a:lnTo>
                    <a:pt x="2937" y="3940"/>
                  </a:lnTo>
                  <a:lnTo>
                    <a:pt x="2924" y="3974"/>
                  </a:lnTo>
                  <a:lnTo>
                    <a:pt x="2908" y="4006"/>
                  </a:lnTo>
                  <a:lnTo>
                    <a:pt x="2893" y="4040"/>
                  </a:lnTo>
                  <a:lnTo>
                    <a:pt x="2878" y="4074"/>
                  </a:lnTo>
                  <a:lnTo>
                    <a:pt x="2863" y="4108"/>
                  </a:lnTo>
                  <a:lnTo>
                    <a:pt x="2859" y="4108"/>
                  </a:lnTo>
                  <a:lnTo>
                    <a:pt x="2855" y="4108"/>
                  </a:lnTo>
                  <a:lnTo>
                    <a:pt x="2845" y="4137"/>
                  </a:lnTo>
                  <a:lnTo>
                    <a:pt x="2828" y="4165"/>
                  </a:lnTo>
                  <a:lnTo>
                    <a:pt x="2805" y="4188"/>
                  </a:lnTo>
                  <a:lnTo>
                    <a:pt x="2779" y="4204"/>
                  </a:lnTo>
                  <a:lnTo>
                    <a:pt x="2751" y="4209"/>
                  </a:lnTo>
                  <a:lnTo>
                    <a:pt x="2725" y="4202"/>
                  </a:lnTo>
                  <a:lnTo>
                    <a:pt x="2703" y="4181"/>
                  </a:lnTo>
                  <a:lnTo>
                    <a:pt x="2691" y="4144"/>
                  </a:lnTo>
                  <a:lnTo>
                    <a:pt x="2679" y="4148"/>
                  </a:lnTo>
                  <a:lnTo>
                    <a:pt x="2671" y="4158"/>
                  </a:lnTo>
                  <a:lnTo>
                    <a:pt x="2661" y="4169"/>
                  </a:lnTo>
                  <a:lnTo>
                    <a:pt x="2653" y="4179"/>
                  </a:lnTo>
                  <a:lnTo>
                    <a:pt x="2632" y="4188"/>
                  </a:lnTo>
                  <a:lnTo>
                    <a:pt x="2605" y="4200"/>
                  </a:lnTo>
                  <a:lnTo>
                    <a:pt x="2572" y="4211"/>
                  </a:lnTo>
                  <a:lnTo>
                    <a:pt x="2540" y="4220"/>
                  </a:lnTo>
                  <a:lnTo>
                    <a:pt x="2506" y="4224"/>
                  </a:lnTo>
                  <a:lnTo>
                    <a:pt x="2477" y="4224"/>
                  </a:lnTo>
                  <a:lnTo>
                    <a:pt x="2454" y="4215"/>
                  </a:lnTo>
                  <a:lnTo>
                    <a:pt x="2444" y="4198"/>
                  </a:lnTo>
                  <a:lnTo>
                    <a:pt x="2435" y="4193"/>
                  </a:lnTo>
                  <a:lnTo>
                    <a:pt x="2431" y="4190"/>
                  </a:lnTo>
                  <a:lnTo>
                    <a:pt x="2427" y="4190"/>
                  </a:lnTo>
                  <a:lnTo>
                    <a:pt x="2423" y="4190"/>
                  </a:lnTo>
                  <a:lnTo>
                    <a:pt x="2389" y="4208"/>
                  </a:lnTo>
                  <a:lnTo>
                    <a:pt x="2354" y="4227"/>
                  </a:lnTo>
                  <a:lnTo>
                    <a:pt x="2315" y="4243"/>
                  </a:lnTo>
                  <a:lnTo>
                    <a:pt x="2276" y="4259"/>
                  </a:lnTo>
                  <a:lnTo>
                    <a:pt x="2234" y="4271"/>
                  </a:lnTo>
                  <a:lnTo>
                    <a:pt x="2193" y="4284"/>
                  </a:lnTo>
                  <a:lnTo>
                    <a:pt x="2153" y="4292"/>
                  </a:lnTo>
                  <a:lnTo>
                    <a:pt x="2117" y="4298"/>
                  </a:lnTo>
                  <a:lnTo>
                    <a:pt x="2115" y="4312"/>
                  </a:lnTo>
                  <a:lnTo>
                    <a:pt x="2113" y="4324"/>
                  </a:lnTo>
                  <a:lnTo>
                    <a:pt x="2112" y="4334"/>
                  </a:lnTo>
                  <a:lnTo>
                    <a:pt x="2112" y="4343"/>
                  </a:lnTo>
                  <a:lnTo>
                    <a:pt x="2111" y="4351"/>
                  </a:lnTo>
                  <a:lnTo>
                    <a:pt x="2111" y="4363"/>
                  </a:lnTo>
                  <a:lnTo>
                    <a:pt x="2109" y="4377"/>
                  </a:lnTo>
                  <a:lnTo>
                    <a:pt x="2109" y="4397"/>
                  </a:lnTo>
                  <a:lnTo>
                    <a:pt x="2077" y="4419"/>
                  </a:lnTo>
                  <a:lnTo>
                    <a:pt x="2039" y="4435"/>
                  </a:lnTo>
                  <a:lnTo>
                    <a:pt x="1996" y="4446"/>
                  </a:lnTo>
                  <a:lnTo>
                    <a:pt x="1952" y="4453"/>
                  </a:lnTo>
                  <a:lnTo>
                    <a:pt x="1905" y="4455"/>
                  </a:lnTo>
                  <a:lnTo>
                    <a:pt x="1862" y="4458"/>
                  </a:lnTo>
                  <a:lnTo>
                    <a:pt x="1819" y="4458"/>
                  </a:lnTo>
                  <a:lnTo>
                    <a:pt x="1783" y="4461"/>
                  </a:lnTo>
                  <a:lnTo>
                    <a:pt x="1763" y="4464"/>
                  </a:lnTo>
                  <a:lnTo>
                    <a:pt x="1736" y="4468"/>
                  </a:lnTo>
                  <a:lnTo>
                    <a:pt x="1702" y="4472"/>
                  </a:lnTo>
                  <a:lnTo>
                    <a:pt x="1668" y="4476"/>
                  </a:lnTo>
                  <a:lnTo>
                    <a:pt x="1632" y="4477"/>
                  </a:lnTo>
                  <a:lnTo>
                    <a:pt x="1601" y="4480"/>
                  </a:lnTo>
                  <a:lnTo>
                    <a:pt x="1575" y="4480"/>
                  </a:lnTo>
                  <a:lnTo>
                    <a:pt x="1557" y="4480"/>
                  </a:lnTo>
                  <a:lnTo>
                    <a:pt x="1555" y="4482"/>
                  </a:lnTo>
                  <a:lnTo>
                    <a:pt x="1555" y="4485"/>
                  </a:lnTo>
                  <a:lnTo>
                    <a:pt x="1552" y="4485"/>
                  </a:lnTo>
                  <a:close/>
                  <a:moveTo>
                    <a:pt x="2705" y="4060"/>
                  </a:moveTo>
                  <a:lnTo>
                    <a:pt x="2717" y="4027"/>
                  </a:lnTo>
                  <a:lnTo>
                    <a:pt x="2730" y="3994"/>
                  </a:lnTo>
                  <a:lnTo>
                    <a:pt x="2744" y="3962"/>
                  </a:lnTo>
                  <a:lnTo>
                    <a:pt x="2757" y="3929"/>
                  </a:lnTo>
                  <a:lnTo>
                    <a:pt x="2770" y="3897"/>
                  </a:lnTo>
                  <a:lnTo>
                    <a:pt x="2784" y="3864"/>
                  </a:lnTo>
                  <a:lnTo>
                    <a:pt x="2798" y="3832"/>
                  </a:lnTo>
                  <a:lnTo>
                    <a:pt x="2816" y="3802"/>
                  </a:lnTo>
                  <a:lnTo>
                    <a:pt x="2814" y="3793"/>
                  </a:lnTo>
                  <a:lnTo>
                    <a:pt x="2814" y="3784"/>
                  </a:lnTo>
                  <a:lnTo>
                    <a:pt x="2812" y="3778"/>
                  </a:lnTo>
                  <a:lnTo>
                    <a:pt x="2809" y="3771"/>
                  </a:lnTo>
                  <a:lnTo>
                    <a:pt x="2802" y="3759"/>
                  </a:lnTo>
                  <a:lnTo>
                    <a:pt x="2797" y="3747"/>
                  </a:lnTo>
                  <a:lnTo>
                    <a:pt x="2793" y="3747"/>
                  </a:lnTo>
                  <a:lnTo>
                    <a:pt x="2791" y="3747"/>
                  </a:lnTo>
                  <a:lnTo>
                    <a:pt x="2760" y="3788"/>
                  </a:lnTo>
                  <a:lnTo>
                    <a:pt x="2737" y="3826"/>
                  </a:lnTo>
                  <a:lnTo>
                    <a:pt x="2718" y="3860"/>
                  </a:lnTo>
                  <a:lnTo>
                    <a:pt x="2707" y="3895"/>
                  </a:lnTo>
                  <a:lnTo>
                    <a:pt x="2699" y="3929"/>
                  </a:lnTo>
                  <a:lnTo>
                    <a:pt x="2697" y="3967"/>
                  </a:lnTo>
                  <a:lnTo>
                    <a:pt x="2698" y="4009"/>
                  </a:lnTo>
                  <a:lnTo>
                    <a:pt x="2705" y="4060"/>
                  </a:lnTo>
                  <a:close/>
                  <a:moveTo>
                    <a:pt x="2686" y="4119"/>
                  </a:moveTo>
                  <a:lnTo>
                    <a:pt x="2688" y="4120"/>
                  </a:lnTo>
                  <a:lnTo>
                    <a:pt x="2691" y="4119"/>
                  </a:lnTo>
                  <a:lnTo>
                    <a:pt x="2692" y="4105"/>
                  </a:lnTo>
                  <a:lnTo>
                    <a:pt x="2694" y="4096"/>
                  </a:lnTo>
                  <a:lnTo>
                    <a:pt x="2694" y="4089"/>
                  </a:lnTo>
                  <a:lnTo>
                    <a:pt x="2695" y="4085"/>
                  </a:lnTo>
                  <a:lnTo>
                    <a:pt x="2695" y="4079"/>
                  </a:lnTo>
                  <a:lnTo>
                    <a:pt x="2697" y="4078"/>
                  </a:lnTo>
                  <a:lnTo>
                    <a:pt x="2690" y="4085"/>
                  </a:lnTo>
                  <a:lnTo>
                    <a:pt x="2684" y="4097"/>
                  </a:lnTo>
                  <a:lnTo>
                    <a:pt x="2682" y="4108"/>
                  </a:lnTo>
                  <a:lnTo>
                    <a:pt x="2686" y="4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09920" y="6562080"/>
              <a:ext cx="6840" cy="24120"/>
            </a:xfrm>
            <a:custGeom>
              <a:avLst/>
              <a:gdLst/>
              <a:ahLst/>
              <a:rect l="l" t="t" r="r" b="b"/>
              <a:pathLst>
                <a:path w="11" h="38">
                  <a:moveTo>
                    <a:pt x="1" y="38"/>
                  </a:moveTo>
                  <a:lnTo>
                    <a:pt x="1" y="26"/>
                  </a:lnTo>
                  <a:lnTo>
                    <a:pt x="1" y="15"/>
                  </a:lnTo>
                  <a:lnTo>
                    <a:pt x="0" y="7"/>
                  </a:lnTo>
                  <a:lnTo>
                    <a:pt x="1" y="0"/>
                  </a:lnTo>
                  <a:lnTo>
                    <a:pt x="5" y="6"/>
                  </a:lnTo>
                  <a:lnTo>
                    <a:pt x="9" y="15"/>
                  </a:lnTo>
                  <a:lnTo>
                    <a:pt x="11" y="25"/>
                  </a:lnTo>
                  <a:lnTo>
                    <a:pt x="6" y="38"/>
                  </a:lnTo>
                  <a:lnTo>
                    <a:pt x="4" y="38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73560" y="6121440"/>
              <a:ext cx="887760" cy="456120"/>
            </a:xfrm>
            <a:custGeom>
              <a:avLst/>
              <a:gdLst/>
              <a:ahLst/>
              <a:rect l="l" t="t" r="r" b="b"/>
              <a:pathLst>
                <a:path w="1460" h="717">
                  <a:moveTo>
                    <a:pt x="772" y="717"/>
                  </a:moveTo>
                  <a:lnTo>
                    <a:pt x="701" y="711"/>
                  </a:lnTo>
                  <a:lnTo>
                    <a:pt x="630" y="706"/>
                  </a:lnTo>
                  <a:lnTo>
                    <a:pt x="559" y="698"/>
                  </a:lnTo>
                  <a:lnTo>
                    <a:pt x="488" y="688"/>
                  </a:lnTo>
                  <a:lnTo>
                    <a:pt x="416" y="675"/>
                  </a:lnTo>
                  <a:lnTo>
                    <a:pt x="349" y="661"/>
                  </a:lnTo>
                  <a:lnTo>
                    <a:pt x="281" y="644"/>
                  </a:lnTo>
                  <a:lnTo>
                    <a:pt x="218" y="626"/>
                  </a:lnTo>
                  <a:lnTo>
                    <a:pt x="184" y="603"/>
                  </a:lnTo>
                  <a:lnTo>
                    <a:pt x="159" y="579"/>
                  </a:lnTo>
                  <a:lnTo>
                    <a:pt x="143" y="550"/>
                  </a:lnTo>
                  <a:lnTo>
                    <a:pt x="134" y="522"/>
                  </a:lnTo>
                  <a:lnTo>
                    <a:pt x="127" y="489"/>
                  </a:lnTo>
                  <a:lnTo>
                    <a:pt x="124" y="456"/>
                  </a:lnTo>
                  <a:lnTo>
                    <a:pt x="120" y="419"/>
                  </a:lnTo>
                  <a:lnTo>
                    <a:pt x="116" y="383"/>
                  </a:lnTo>
                  <a:lnTo>
                    <a:pt x="101" y="335"/>
                  </a:lnTo>
                  <a:lnTo>
                    <a:pt x="88" y="291"/>
                  </a:lnTo>
                  <a:lnTo>
                    <a:pt x="73" y="246"/>
                  </a:lnTo>
                  <a:lnTo>
                    <a:pt x="58" y="201"/>
                  </a:lnTo>
                  <a:lnTo>
                    <a:pt x="42" y="157"/>
                  </a:lnTo>
                  <a:lnTo>
                    <a:pt x="27" y="115"/>
                  </a:lnTo>
                  <a:lnTo>
                    <a:pt x="12" y="71"/>
                  </a:lnTo>
                  <a:lnTo>
                    <a:pt x="0" y="29"/>
                  </a:lnTo>
                  <a:lnTo>
                    <a:pt x="117" y="63"/>
                  </a:lnTo>
                  <a:lnTo>
                    <a:pt x="237" y="89"/>
                  </a:lnTo>
                  <a:lnTo>
                    <a:pt x="354" y="107"/>
                  </a:lnTo>
                  <a:lnTo>
                    <a:pt x="475" y="119"/>
                  </a:lnTo>
                  <a:lnTo>
                    <a:pt x="592" y="123"/>
                  </a:lnTo>
                  <a:lnTo>
                    <a:pt x="714" y="124"/>
                  </a:lnTo>
                  <a:lnTo>
                    <a:pt x="837" y="121"/>
                  </a:lnTo>
                  <a:lnTo>
                    <a:pt x="966" y="119"/>
                  </a:lnTo>
                  <a:lnTo>
                    <a:pt x="967" y="116"/>
                  </a:lnTo>
                  <a:lnTo>
                    <a:pt x="968" y="115"/>
                  </a:lnTo>
                  <a:lnTo>
                    <a:pt x="1010" y="116"/>
                  </a:lnTo>
                  <a:lnTo>
                    <a:pt x="1060" y="113"/>
                  </a:lnTo>
                  <a:lnTo>
                    <a:pt x="1115" y="107"/>
                  </a:lnTo>
                  <a:lnTo>
                    <a:pt x="1174" y="96"/>
                  </a:lnTo>
                  <a:lnTo>
                    <a:pt x="1231" y="81"/>
                  </a:lnTo>
                  <a:lnTo>
                    <a:pt x="1288" y="67"/>
                  </a:lnTo>
                  <a:lnTo>
                    <a:pt x="1339" y="54"/>
                  </a:lnTo>
                  <a:lnTo>
                    <a:pt x="1385" y="43"/>
                  </a:lnTo>
                  <a:lnTo>
                    <a:pt x="1401" y="32"/>
                  </a:lnTo>
                  <a:lnTo>
                    <a:pt x="1414" y="25"/>
                  </a:lnTo>
                  <a:lnTo>
                    <a:pt x="1424" y="17"/>
                  </a:lnTo>
                  <a:lnTo>
                    <a:pt x="1434" y="13"/>
                  </a:lnTo>
                  <a:lnTo>
                    <a:pt x="1441" y="9"/>
                  </a:lnTo>
                  <a:lnTo>
                    <a:pt x="1447" y="5"/>
                  </a:lnTo>
                  <a:lnTo>
                    <a:pt x="1453" y="2"/>
                  </a:lnTo>
                  <a:lnTo>
                    <a:pt x="1460" y="0"/>
                  </a:lnTo>
                  <a:lnTo>
                    <a:pt x="1457" y="8"/>
                  </a:lnTo>
                  <a:lnTo>
                    <a:pt x="1451" y="34"/>
                  </a:lnTo>
                  <a:lnTo>
                    <a:pt x="1441" y="67"/>
                  </a:lnTo>
                  <a:lnTo>
                    <a:pt x="1430" y="109"/>
                  </a:lnTo>
                  <a:lnTo>
                    <a:pt x="1415" y="153"/>
                  </a:lnTo>
                  <a:lnTo>
                    <a:pt x="1403" y="195"/>
                  </a:lnTo>
                  <a:lnTo>
                    <a:pt x="1392" y="230"/>
                  </a:lnTo>
                  <a:lnTo>
                    <a:pt x="1385" y="255"/>
                  </a:lnTo>
                  <a:lnTo>
                    <a:pt x="1377" y="304"/>
                  </a:lnTo>
                  <a:lnTo>
                    <a:pt x="1366" y="353"/>
                  </a:lnTo>
                  <a:lnTo>
                    <a:pt x="1354" y="401"/>
                  </a:lnTo>
                  <a:lnTo>
                    <a:pt x="1343" y="450"/>
                  </a:lnTo>
                  <a:lnTo>
                    <a:pt x="1331" y="499"/>
                  </a:lnTo>
                  <a:lnTo>
                    <a:pt x="1322" y="549"/>
                  </a:lnTo>
                  <a:lnTo>
                    <a:pt x="1315" y="600"/>
                  </a:lnTo>
                  <a:lnTo>
                    <a:pt x="1313" y="653"/>
                  </a:lnTo>
                  <a:lnTo>
                    <a:pt x="1296" y="660"/>
                  </a:lnTo>
                  <a:lnTo>
                    <a:pt x="1282" y="665"/>
                  </a:lnTo>
                  <a:lnTo>
                    <a:pt x="1270" y="669"/>
                  </a:lnTo>
                  <a:lnTo>
                    <a:pt x="1258" y="673"/>
                  </a:lnTo>
                  <a:lnTo>
                    <a:pt x="1244" y="675"/>
                  </a:lnTo>
                  <a:lnTo>
                    <a:pt x="1232" y="676"/>
                  </a:lnTo>
                  <a:lnTo>
                    <a:pt x="1219" y="676"/>
                  </a:lnTo>
                  <a:lnTo>
                    <a:pt x="1205" y="677"/>
                  </a:lnTo>
                  <a:lnTo>
                    <a:pt x="1150" y="684"/>
                  </a:lnTo>
                  <a:lnTo>
                    <a:pt x="1094" y="691"/>
                  </a:lnTo>
                  <a:lnTo>
                    <a:pt x="1039" y="696"/>
                  </a:lnTo>
                  <a:lnTo>
                    <a:pt x="985" y="703"/>
                  </a:lnTo>
                  <a:lnTo>
                    <a:pt x="931" y="707"/>
                  </a:lnTo>
                  <a:lnTo>
                    <a:pt x="876" y="711"/>
                  </a:lnTo>
                  <a:lnTo>
                    <a:pt x="824" y="714"/>
                  </a:lnTo>
                  <a:lnTo>
                    <a:pt x="772" y="717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95240" y="6554880"/>
              <a:ext cx="5760" cy="1368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8" y="23"/>
                  </a:moveTo>
                  <a:lnTo>
                    <a:pt x="4" y="15"/>
                  </a:lnTo>
                  <a:lnTo>
                    <a:pt x="1" y="8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3"/>
                  </a:lnTo>
                  <a:lnTo>
                    <a:pt x="8" y="11"/>
                  </a:lnTo>
                  <a:lnTo>
                    <a:pt x="10" y="19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30200" y="6342480"/>
              <a:ext cx="261360" cy="217080"/>
            </a:xfrm>
            <a:custGeom>
              <a:avLst/>
              <a:gdLst/>
              <a:ahLst/>
              <a:rect l="l" t="t" r="r" b="b"/>
              <a:pathLst>
                <a:path w="432" h="343">
                  <a:moveTo>
                    <a:pt x="169" y="343"/>
                  </a:moveTo>
                  <a:lnTo>
                    <a:pt x="117" y="330"/>
                  </a:lnTo>
                  <a:lnTo>
                    <a:pt x="72" y="316"/>
                  </a:lnTo>
                  <a:lnTo>
                    <a:pt x="36" y="295"/>
                  </a:lnTo>
                  <a:lnTo>
                    <a:pt x="13" y="272"/>
                  </a:lnTo>
                  <a:lnTo>
                    <a:pt x="0" y="243"/>
                  </a:lnTo>
                  <a:lnTo>
                    <a:pt x="6" y="210"/>
                  </a:lnTo>
                  <a:lnTo>
                    <a:pt x="25" y="174"/>
                  </a:lnTo>
                  <a:lnTo>
                    <a:pt x="64" y="136"/>
                  </a:lnTo>
                  <a:lnTo>
                    <a:pt x="109" y="106"/>
                  </a:lnTo>
                  <a:lnTo>
                    <a:pt x="146" y="77"/>
                  </a:lnTo>
                  <a:lnTo>
                    <a:pt x="179" y="48"/>
                  </a:lnTo>
                  <a:lnTo>
                    <a:pt x="210" y="25"/>
                  </a:lnTo>
                  <a:lnTo>
                    <a:pt x="241" y="6"/>
                  </a:lnTo>
                  <a:lnTo>
                    <a:pt x="280" y="0"/>
                  </a:lnTo>
                  <a:lnTo>
                    <a:pt x="328" y="6"/>
                  </a:lnTo>
                  <a:lnTo>
                    <a:pt x="387" y="30"/>
                  </a:lnTo>
                  <a:lnTo>
                    <a:pt x="394" y="34"/>
                  </a:lnTo>
                  <a:lnTo>
                    <a:pt x="402" y="41"/>
                  </a:lnTo>
                  <a:lnTo>
                    <a:pt x="405" y="45"/>
                  </a:lnTo>
                  <a:lnTo>
                    <a:pt x="410" y="52"/>
                  </a:lnTo>
                  <a:lnTo>
                    <a:pt x="416" y="61"/>
                  </a:lnTo>
                  <a:lnTo>
                    <a:pt x="425" y="75"/>
                  </a:lnTo>
                  <a:lnTo>
                    <a:pt x="432" y="134"/>
                  </a:lnTo>
                  <a:lnTo>
                    <a:pt x="424" y="187"/>
                  </a:lnTo>
                  <a:lnTo>
                    <a:pt x="402" y="230"/>
                  </a:lnTo>
                  <a:lnTo>
                    <a:pt x="370" y="267"/>
                  </a:lnTo>
                  <a:lnTo>
                    <a:pt x="326" y="294"/>
                  </a:lnTo>
                  <a:lnTo>
                    <a:pt x="279" y="316"/>
                  </a:lnTo>
                  <a:lnTo>
                    <a:pt x="225" y="330"/>
                  </a:lnTo>
                  <a:lnTo>
                    <a:pt x="169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37400" y="6346440"/>
              <a:ext cx="245520" cy="200520"/>
            </a:xfrm>
            <a:custGeom>
              <a:avLst/>
              <a:gdLst/>
              <a:ahLst/>
              <a:rect l="l" t="t" r="r" b="b"/>
              <a:pathLst>
                <a:path w="404" h="316">
                  <a:moveTo>
                    <a:pt x="132" y="316"/>
                  </a:moveTo>
                  <a:lnTo>
                    <a:pt x="87" y="306"/>
                  </a:lnTo>
                  <a:lnTo>
                    <a:pt x="51" y="292"/>
                  </a:lnTo>
                  <a:lnTo>
                    <a:pt x="23" y="274"/>
                  </a:lnTo>
                  <a:lnTo>
                    <a:pt x="6" y="255"/>
                  </a:lnTo>
                  <a:lnTo>
                    <a:pt x="0" y="231"/>
                  </a:lnTo>
                  <a:lnTo>
                    <a:pt x="5" y="204"/>
                  </a:lnTo>
                  <a:lnTo>
                    <a:pt x="24" y="174"/>
                  </a:lnTo>
                  <a:lnTo>
                    <a:pt x="59" y="143"/>
                  </a:lnTo>
                  <a:lnTo>
                    <a:pt x="74" y="132"/>
                  </a:lnTo>
                  <a:lnTo>
                    <a:pt x="101" y="116"/>
                  </a:lnTo>
                  <a:lnTo>
                    <a:pt x="133" y="93"/>
                  </a:lnTo>
                  <a:lnTo>
                    <a:pt x="169" y="69"/>
                  </a:lnTo>
                  <a:lnTo>
                    <a:pt x="201" y="44"/>
                  </a:lnTo>
                  <a:lnTo>
                    <a:pt x="231" y="23"/>
                  </a:lnTo>
                  <a:lnTo>
                    <a:pt x="251" y="7"/>
                  </a:lnTo>
                  <a:lnTo>
                    <a:pt x="261" y="0"/>
                  </a:lnTo>
                  <a:lnTo>
                    <a:pt x="284" y="4"/>
                  </a:lnTo>
                  <a:lnTo>
                    <a:pt x="305" y="9"/>
                  </a:lnTo>
                  <a:lnTo>
                    <a:pt x="324" y="13"/>
                  </a:lnTo>
                  <a:lnTo>
                    <a:pt x="342" y="20"/>
                  </a:lnTo>
                  <a:lnTo>
                    <a:pt x="358" y="28"/>
                  </a:lnTo>
                  <a:lnTo>
                    <a:pt x="374" y="40"/>
                  </a:lnTo>
                  <a:lnTo>
                    <a:pt x="389" y="57"/>
                  </a:lnTo>
                  <a:lnTo>
                    <a:pt x="404" y="80"/>
                  </a:lnTo>
                  <a:lnTo>
                    <a:pt x="400" y="100"/>
                  </a:lnTo>
                  <a:lnTo>
                    <a:pt x="396" y="122"/>
                  </a:lnTo>
                  <a:lnTo>
                    <a:pt x="392" y="140"/>
                  </a:lnTo>
                  <a:lnTo>
                    <a:pt x="388" y="159"/>
                  </a:lnTo>
                  <a:lnTo>
                    <a:pt x="381" y="176"/>
                  </a:lnTo>
                  <a:lnTo>
                    <a:pt x="374" y="193"/>
                  </a:lnTo>
                  <a:lnTo>
                    <a:pt x="365" y="211"/>
                  </a:lnTo>
                  <a:lnTo>
                    <a:pt x="355" y="231"/>
                  </a:lnTo>
                  <a:lnTo>
                    <a:pt x="330" y="250"/>
                  </a:lnTo>
                  <a:lnTo>
                    <a:pt x="304" y="266"/>
                  </a:lnTo>
                  <a:lnTo>
                    <a:pt x="277" y="281"/>
                  </a:lnTo>
                  <a:lnTo>
                    <a:pt x="250" y="293"/>
                  </a:lnTo>
                  <a:lnTo>
                    <a:pt x="219" y="301"/>
                  </a:lnTo>
                  <a:lnTo>
                    <a:pt x="190" y="310"/>
                  </a:lnTo>
                  <a:lnTo>
                    <a:pt x="161" y="314"/>
                  </a:lnTo>
                  <a:lnTo>
                    <a:pt x="132" y="316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93240" y="6421320"/>
              <a:ext cx="223920" cy="125640"/>
            </a:xfrm>
            <a:custGeom>
              <a:avLst/>
              <a:gdLst/>
              <a:ahLst/>
              <a:rect l="l" t="t" r="r" b="b"/>
              <a:pathLst>
                <a:path w="368" h="197">
                  <a:moveTo>
                    <a:pt x="80" y="197"/>
                  </a:moveTo>
                  <a:lnTo>
                    <a:pt x="38" y="187"/>
                  </a:lnTo>
                  <a:lnTo>
                    <a:pt x="14" y="173"/>
                  </a:lnTo>
                  <a:lnTo>
                    <a:pt x="0" y="155"/>
                  </a:lnTo>
                  <a:lnTo>
                    <a:pt x="0" y="136"/>
                  </a:lnTo>
                  <a:lnTo>
                    <a:pt x="8" y="115"/>
                  </a:lnTo>
                  <a:lnTo>
                    <a:pt x="27" y="93"/>
                  </a:lnTo>
                  <a:lnTo>
                    <a:pt x="52" y="72"/>
                  </a:lnTo>
                  <a:lnTo>
                    <a:pt x="83" y="51"/>
                  </a:lnTo>
                  <a:lnTo>
                    <a:pt x="98" y="44"/>
                  </a:lnTo>
                  <a:lnTo>
                    <a:pt x="122" y="35"/>
                  </a:lnTo>
                  <a:lnTo>
                    <a:pt x="149" y="26"/>
                  </a:lnTo>
                  <a:lnTo>
                    <a:pt x="181" y="16"/>
                  </a:lnTo>
                  <a:lnTo>
                    <a:pt x="213" y="7"/>
                  </a:lnTo>
                  <a:lnTo>
                    <a:pt x="244" y="3"/>
                  </a:lnTo>
                  <a:lnTo>
                    <a:pt x="269" y="3"/>
                  </a:lnTo>
                  <a:lnTo>
                    <a:pt x="290" y="11"/>
                  </a:lnTo>
                  <a:lnTo>
                    <a:pt x="295" y="11"/>
                  </a:lnTo>
                  <a:lnTo>
                    <a:pt x="300" y="11"/>
                  </a:lnTo>
                  <a:lnTo>
                    <a:pt x="302" y="5"/>
                  </a:lnTo>
                  <a:lnTo>
                    <a:pt x="306" y="0"/>
                  </a:lnTo>
                  <a:lnTo>
                    <a:pt x="317" y="1"/>
                  </a:lnTo>
                  <a:lnTo>
                    <a:pt x="330" y="7"/>
                  </a:lnTo>
                  <a:lnTo>
                    <a:pt x="342" y="13"/>
                  </a:lnTo>
                  <a:lnTo>
                    <a:pt x="355" y="26"/>
                  </a:lnTo>
                  <a:lnTo>
                    <a:pt x="363" y="38"/>
                  </a:lnTo>
                  <a:lnTo>
                    <a:pt x="368" y="51"/>
                  </a:lnTo>
                  <a:lnTo>
                    <a:pt x="367" y="66"/>
                  </a:lnTo>
                  <a:lnTo>
                    <a:pt x="361" y="82"/>
                  </a:lnTo>
                  <a:lnTo>
                    <a:pt x="349" y="82"/>
                  </a:lnTo>
                  <a:lnTo>
                    <a:pt x="340" y="82"/>
                  </a:lnTo>
                  <a:lnTo>
                    <a:pt x="329" y="84"/>
                  </a:lnTo>
                  <a:lnTo>
                    <a:pt x="319" y="86"/>
                  </a:lnTo>
                  <a:lnTo>
                    <a:pt x="309" y="88"/>
                  </a:lnTo>
                  <a:lnTo>
                    <a:pt x="299" y="89"/>
                  </a:lnTo>
                  <a:lnTo>
                    <a:pt x="290" y="90"/>
                  </a:lnTo>
                  <a:lnTo>
                    <a:pt x="282" y="93"/>
                  </a:lnTo>
                  <a:lnTo>
                    <a:pt x="283" y="101"/>
                  </a:lnTo>
                  <a:lnTo>
                    <a:pt x="284" y="109"/>
                  </a:lnTo>
                  <a:lnTo>
                    <a:pt x="288" y="112"/>
                  </a:lnTo>
                  <a:lnTo>
                    <a:pt x="292" y="115"/>
                  </a:lnTo>
                  <a:lnTo>
                    <a:pt x="300" y="104"/>
                  </a:lnTo>
                  <a:lnTo>
                    <a:pt x="310" y="97"/>
                  </a:lnTo>
                  <a:lnTo>
                    <a:pt x="314" y="93"/>
                  </a:lnTo>
                  <a:lnTo>
                    <a:pt x="319" y="92"/>
                  </a:lnTo>
                  <a:lnTo>
                    <a:pt x="326" y="90"/>
                  </a:lnTo>
                  <a:lnTo>
                    <a:pt x="336" y="90"/>
                  </a:lnTo>
                  <a:lnTo>
                    <a:pt x="340" y="99"/>
                  </a:lnTo>
                  <a:lnTo>
                    <a:pt x="344" y="107"/>
                  </a:lnTo>
                  <a:lnTo>
                    <a:pt x="318" y="128"/>
                  </a:lnTo>
                  <a:lnTo>
                    <a:pt x="294" y="147"/>
                  </a:lnTo>
                  <a:lnTo>
                    <a:pt x="269" y="162"/>
                  </a:lnTo>
                  <a:lnTo>
                    <a:pt x="245" y="174"/>
                  </a:lnTo>
                  <a:lnTo>
                    <a:pt x="218" y="182"/>
                  </a:lnTo>
                  <a:lnTo>
                    <a:pt x="191" y="189"/>
                  </a:lnTo>
                  <a:lnTo>
                    <a:pt x="161" y="193"/>
                  </a:lnTo>
                  <a:lnTo>
                    <a:pt x="131" y="197"/>
                  </a:lnTo>
                  <a:lnTo>
                    <a:pt x="131" y="189"/>
                  </a:lnTo>
                  <a:lnTo>
                    <a:pt x="131" y="184"/>
                  </a:lnTo>
                  <a:lnTo>
                    <a:pt x="121" y="177"/>
                  </a:lnTo>
                  <a:lnTo>
                    <a:pt x="114" y="172"/>
                  </a:lnTo>
                  <a:lnTo>
                    <a:pt x="108" y="165"/>
                  </a:lnTo>
                  <a:lnTo>
                    <a:pt x="106" y="159"/>
                  </a:lnTo>
                  <a:lnTo>
                    <a:pt x="100" y="146"/>
                  </a:lnTo>
                  <a:lnTo>
                    <a:pt x="93" y="134"/>
                  </a:lnTo>
                  <a:lnTo>
                    <a:pt x="91" y="141"/>
                  </a:lnTo>
                  <a:lnTo>
                    <a:pt x="91" y="149"/>
                  </a:lnTo>
                  <a:lnTo>
                    <a:pt x="91" y="157"/>
                  </a:lnTo>
                  <a:lnTo>
                    <a:pt x="95" y="165"/>
                  </a:lnTo>
                  <a:lnTo>
                    <a:pt x="96" y="173"/>
                  </a:lnTo>
                  <a:lnTo>
                    <a:pt x="102" y="181"/>
                  </a:lnTo>
                  <a:lnTo>
                    <a:pt x="106" y="189"/>
                  </a:lnTo>
                  <a:lnTo>
                    <a:pt x="112" y="197"/>
                  </a:lnTo>
                  <a:lnTo>
                    <a:pt x="104" y="197"/>
                  </a:lnTo>
                  <a:lnTo>
                    <a:pt x="96" y="197"/>
                  </a:lnTo>
                  <a:lnTo>
                    <a:pt x="88" y="197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289360" y="6512760"/>
              <a:ext cx="27720" cy="1512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19" y="25"/>
                  </a:moveTo>
                  <a:lnTo>
                    <a:pt x="8" y="21"/>
                  </a:lnTo>
                  <a:lnTo>
                    <a:pt x="3" y="15"/>
                  </a:lnTo>
                  <a:lnTo>
                    <a:pt x="0" y="7"/>
                  </a:lnTo>
                  <a:lnTo>
                    <a:pt x="0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33" y="11"/>
                  </a:lnTo>
                  <a:lnTo>
                    <a:pt x="46" y="14"/>
                  </a:lnTo>
                  <a:lnTo>
                    <a:pt x="45" y="18"/>
                  </a:lnTo>
                  <a:lnTo>
                    <a:pt x="43" y="22"/>
                  </a:lnTo>
                  <a:lnTo>
                    <a:pt x="39" y="22"/>
                  </a:lnTo>
                  <a:lnTo>
                    <a:pt x="35" y="23"/>
                  </a:lnTo>
                  <a:lnTo>
                    <a:pt x="28" y="23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15440" y="6267600"/>
              <a:ext cx="169920" cy="257760"/>
            </a:xfrm>
            <a:custGeom>
              <a:avLst/>
              <a:gdLst/>
              <a:ahLst/>
              <a:rect l="l" t="t" r="r" b="b"/>
              <a:pathLst>
                <a:path w="280" h="406">
                  <a:moveTo>
                    <a:pt x="54" y="406"/>
                  </a:moveTo>
                  <a:lnTo>
                    <a:pt x="41" y="399"/>
                  </a:lnTo>
                  <a:lnTo>
                    <a:pt x="28" y="395"/>
                  </a:lnTo>
                  <a:lnTo>
                    <a:pt x="30" y="393"/>
                  </a:lnTo>
                  <a:lnTo>
                    <a:pt x="35" y="390"/>
                  </a:lnTo>
                  <a:lnTo>
                    <a:pt x="24" y="386"/>
                  </a:lnTo>
                  <a:lnTo>
                    <a:pt x="23" y="387"/>
                  </a:lnTo>
                  <a:lnTo>
                    <a:pt x="23" y="390"/>
                  </a:lnTo>
                  <a:lnTo>
                    <a:pt x="23" y="393"/>
                  </a:lnTo>
                  <a:lnTo>
                    <a:pt x="19" y="394"/>
                  </a:lnTo>
                  <a:lnTo>
                    <a:pt x="18" y="395"/>
                  </a:lnTo>
                  <a:lnTo>
                    <a:pt x="18" y="391"/>
                  </a:lnTo>
                  <a:lnTo>
                    <a:pt x="18" y="387"/>
                  </a:lnTo>
                  <a:lnTo>
                    <a:pt x="11" y="387"/>
                  </a:lnTo>
                  <a:lnTo>
                    <a:pt x="7" y="387"/>
                  </a:lnTo>
                  <a:lnTo>
                    <a:pt x="1" y="380"/>
                  </a:lnTo>
                  <a:lnTo>
                    <a:pt x="0" y="376"/>
                  </a:lnTo>
                  <a:lnTo>
                    <a:pt x="0" y="372"/>
                  </a:lnTo>
                  <a:lnTo>
                    <a:pt x="1" y="370"/>
                  </a:lnTo>
                  <a:lnTo>
                    <a:pt x="23" y="363"/>
                  </a:lnTo>
                  <a:lnTo>
                    <a:pt x="46" y="357"/>
                  </a:lnTo>
                  <a:lnTo>
                    <a:pt x="68" y="353"/>
                  </a:lnTo>
                  <a:lnTo>
                    <a:pt x="91" y="349"/>
                  </a:lnTo>
                  <a:lnTo>
                    <a:pt x="112" y="345"/>
                  </a:lnTo>
                  <a:lnTo>
                    <a:pt x="135" y="343"/>
                  </a:lnTo>
                  <a:lnTo>
                    <a:pt x="158" y="340"/>
                  </a:lnTo>
                  <a:lnTo>
                    <a:pt x="184" y="337"/>
                  </a:lnTo>
                  <a:lnTo>
                    <a:pt x="185" y="330"/>
                  </a:lnTo>
                  <a:lnTo>
                    <a:pt x="188" y="316"/>
                  </a:lnTo>
                  <a:lnTo>
                    <a:pt x="189" y="295"/>
                  </a:lnTo>
                  <a:lnTo>
                    <a:pt x="193" y="272"/>
                  </a:lnTo>
                  <a:lnTo>
                    <a:pt x="196" y="245"/>
                  </a:lnTo>
                  <a:lnTo>
                    <a:pt x="199" y="221"/>
                  </a:lnTo>
                  <a:lnTo>
                    <a:pt x="202" y="196"/>
                  </a:lnTo>
                  <a:lnTo>
                    <a:pt x="206" y="178"/>
                  </a:lnTo>
                  <a:lnTo>
                    <a:pt x="212" y="153"/>
                  </a:lnTo>
                  <a:lnTo>
                    <a:pt x="221" y="130"/>
                  </a:lnTo>
                  <a:lnTo>
                    <a:pt x="227" y="107"/>
                  </a:lnTo>
                  <a:lnTo>
                    <a:pt x="235" y="86"/>
                  </a:lnTo>
                  <a:lnTo>
                    <a:pt x="244" y="63"/>
                  </a:lnTo>
                  <a:lnTo>
                    <a:pt x="253" y="41"/>
                  </a:lnTo>
                  <a:lnTo>
                    <a:pt x="265" y="21"/>
                  </a:lnTo>
                  <a:lnTo>
                    <a:pt x="280" y="0"/>
                  </a:lnTo>
                  <a:lnTo>
                    <a:pt x="277" y="23"/>
                  </a:lnTo>
                  <a:lnTo>
                    <a:pt x="272" y="49"/>
                  </a:lnTo>
                  <a:lnTo>
                    <a:pt x="264" y="77"/>
                  </a:lnTo>
                  <a:lnTo>
                    <a:pt x="257" y="106"/>
                  </a:lnTo>
                  <a:lnTo>
                    <a:pt x="246" y="134"/>
                  </a:lnTo>
                  <a:lnTo>
                    <a:pt x="238" y="163"/>
                  </a:lnTo>
                  <a:lnTo>
                    <a:pt x="230" y="190"/>
                  </a:lnTo>
                  <a:lnTo>
                    <a:pt x="225" y="218"/>
                  </a:lnTo>
                  <a:lnTo>
                    <a:pt x="222" y="274"/>
                  </a:lnTo>
                  <a:lnTo>
                    <a:pt x="219" y="318"/>
                  </a:lnTo>
                  <a:lnTo>
                    <a:pt x="214" y="351"/>
                  </a:lnTo>
                  <a:lnTo>
                    <a:pt x="204" y="375"/>
                  </a:lnTo>
                  <a:lnTo>
                    <a:pt x="185" y="390"/>
                  </a:lnTo>
                  <a:lnTo>
                    <a:pt x="157" y="399"/>
                  </a:lnTo>
                  <a:lnTo>
                    <a:pt x="114" y="405"/>
                  </a:lnTo>
                  <a:lnTo>
                    <a:pt x="54" y="4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27160" y="6501600"/>
              <a:ext cx="6840" cy="1260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2" y="20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1"/>
                  </a:lnTo>
                  <a:lnTo>
                    <a:pt x="10" y="2"/>
                  </a:lnTo>
                  <a:lnTo>
                    <a:pt x="10" y="10"/>
                  </a:lnTo>
                  <a:lnTo>
                    <a:pt x="10" y="17"/>
                  </a:lnTo>
                  <a:lnTo>
                    <a:pt x="6" y="19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76280" y="6480000"/>
              <a:ext cx="19440" cy="187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9" y="30"/>
                  </a:moveTo>
                  <a:lnTo>
                    <a:pt x="10" y="21"/>
                  </a:lnTo>
                  <a:lnTo>
                    <a:pt x="4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6"/>
                  </a:lnTo>
                  <a:lnTo>
                    <a:pt x="14" y="11"/>
                  </a:lnTo>
                  <a:lnTo>
                    <a:pt x="22" y="18"/>
                  </a:lnTo>
                  <a:lnTo>
                    <a:pt x="33" y="28"/>
                  </a:lnTo>
                  <a:lnTo>
                    <a:pt x="30" y="28"/>
                  </a:lnTo>
                  <a:lnTo>
                    <a:pt x="29" y="29"/>
                  </a:lnTo>
                  <a:lnTo>
                    <a:pt x="24" y="29"/>
                  </a:lnTo>
                  <a:lnTo>
                    <a:pt x="1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58000" y="6469560"/>
              <a:ext cx="9360" cy="266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44"/>
                  </a:moveTo>
                  <a:lnTo>
                    <a:pt x="4" y="30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2" y="0"/>
                  </a:lnTo>
                  <a:lnTo>
                    <a:pt x="2" y="3"/>
                  </a:lnTo>
                  <a:lnTo>
                    <a:pt x="6" y="11"/>
                  </a:lnTo>
                  <a:lnTo>
                    <a:pt x="9" y="18"/>
                  </a:lnTo>
                  <a:lnTo>
                    <a:pt x="11" y="26"/>
                  </a:lnTo>
                  <a:lnTo>
                    <a:pt x="13" y="33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409600" y="6177240"/>
              <a:ext cx="114120" cy="313560"/>
            </a:xfrm>
            <a:custGeom>
              <a:avLst/>
              <a:gdLst/>
              <a:ahLst/>
              <a:rect l="l" t="t" r="r" b="b"/>
              <a:pathLst>
                <a:path w="188" h="493">
                  <a:moveTo>
                    <a:pt x="138" y="493"/>
                  </a:moveTo>
                  <a:lnTo>
                    <a:pt x="92" y="461"/>
                  </a:lnTo>
                  <a:lnTo>
                    <a:pt x="58" y="410"/>
                  </a:lnTo>
                  <a:lnTo>
                    <a:pt x="34" y="343"/>
                  </a:lnTo>
                  <a:lnTo>
                    <a:pt x="19" y="269"/>
                  </a:lnTo>
                  <a:lnTo>
                    <a:pt x="9" y="190"/>
                  </a:lnTo>
                  <a:lnTo>
                    <a:pt x="4" y="117"/>
                  </a:lnTo>
                  <a:lnTo>
                    <a:pt x="1" y="54"/>
                  </a:lnTo>
                  <a:lnTo>
                    <a:pt x="0" y="8"/>
                  </a:lnTo>
                  <a:lnTo>
                    <a:pt x="18" y="6"/>
                  </a:lnTo>
                  <a:lnTo>
                    <a:pt x="36" y="6"/>
                  </a:lnTo>
                  <a:lnTo>
                    <a:pt x="54" y="5"/>
                  </a:lnTo>
                  <a:lnTo>
                    <a:pt x="74" y="5"/>
                  </a:lnTo>
                  <a:lnTo>
                    <a:pt x="93" y="4"/>
                  </a:lnTo>
                  <a:lnTo>
                    <a:pt x="112" y="2"/>
                  </a:lnTo>
                  <a:lnTo>
                    <a:pt x="133" y="1"/>
                  </a:lnTo>
                  <a:lnTo>
                    <a:pt x="154" y="0"/>
                  </a:lnTo>
                  <a:lnTo>
                    <a:pt x="154" y="10"/>
                  </a:lnTo>
                  <a:lnTo>
                    <a:pt x="154" y="23"/>
                  </a:lnTo>
                  <a:lnTo>
                    <a:pt x="156" y="36"/>
                  </a:lnTo>
                  <a:lnTo>
                    <a:pt x="157" y="51"/>
                  </a:lnTo>
                  <a:lnTo>
                    <a:pt x="158" y="65"/>
                  </a:lnTo>
                  <a:lnTo>
                    <a:pt x="161" y="79"/>
                  </a:lnTo>
                  <a:lnTo>
                    <a:pt x="162" y="94"/>
                  </a:lnTo>
                  <a:lnTo>
                    <a:pt x="165" y="111"/>
                  </a:lnTo>
                  <a:lnTo>
                    <a:pt x="168" y="111"/>
                  </a:lnTo>
                  <a:lnTo>
                    <a:pt x="170" y="111"/>
                  </a:lnTo>
                  <a:lnTo>
                    <a:pt x="172" y="128"/>
                  </a:lnTo>
                  <a:lnTo>
                    <a:pt x="177" y="173"/>
                  </a:lnTo>
                  <a:lnTo>
                    <a:pt x="183" y="234"/>
                  </a:lnTo>
                  <a:lnTo>
                    <a:pt x="188" y="304"/>
                  </a:lnTo>
                  <a:lnTo>
                    <a:pt x="187" y="373"/>
                  </a:lnTo>
                  <a:lnTo>
                    <a:pt x="181" y="434"/>
                  </a:lnTo>
                  <a:lnTo>
                    <a:pt x="165" y="476"/>
                  </a:lnTo>
                  <a:lnTo>
                    <a:pt x="138" y="493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96880" y="6453000"/>
              <a:ext cx="10440" cy="187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3" y="31"/>
                  </a:moveTo>
                  <a:lnTo>
                    <a:pt x="5" y="20"/>
                  </a:lnTo>
                  <a:lnTo>
                    <a:pt x="3" y="12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6"/>
                  </a:lnTo>
                  <a:lnTo>
                    <a:pt x="11" y="13"/>
                  </a:lnTo>
                  <a:lnTo>
                    <a:pt x="13" y="17"/>
                  </a:lnTo>
                  <a:lnTo>
                    <a:pt x="16" y="21"/>
                  </a:lnTo>
                  <a:lnTo>
                    <a:pt x="18" y="25"/>
                  </a:lnTo>
                  <a:lnTo>
                    <a:pt x="19" y="28"/>
                  </a:lnTo>
                  <a:lnTo>
                    <a:pt x="16" y="29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90760" y="6400800"/>
              <a:ext cx="174960" cy="68400"/>
            </a:xfrm>
            <a:custGeom>
              <a:avLst/>
              <a:gdLst/>
              <a:ahLst/>
              <a:rect l="l" t="t" r="r" b="b"/>
              <a:pathLst>
                <a:path w="290" h="108">
                  <a:moveTo>
                    <a:pt x="16" y="108"/>
                  </a:moveTo>
                  <a:lnTo>
                    <a:pt x="8" y="106"/>
                  </a:lnTo>
                  <a:lnTo>
                    <a:pt x="0" y="106"/>
                  </a:lnTo>
                  <a:lnTo>
                    <a:pt x="2" y="95"/>
                  </a:lnTo>
                  <a:lnTo>
                    <a:pt x="4" y="85"/>
                  </a:lnTo>
                  <a:lnTo>
                    <a:pt x="6" y="77"/>
                  </a:lnTo>
                  <a:lnTo>
                    <a:pt x="8" y="69"/>
                  </a:lnTo>
                  <a:lnTo>
                    <a:pt x="10" y="61"/>
                  </a:lnTo>
                  <a:lnTo>
                    <a:pt x="12" y="53"/>
                  </a:lnTo>
                  <a:lnTo>
                    <a:pt x="14" y="45"/>
                  </a:lnTo>
                  <a:lnTo>
                    <a:pt x="16" y="37"/>
                  </a:lnTo>
                  <a:lnTo>
                    <a:pt x="22" y="37"/>
                  </a:lnTo>
                  <a:lnTo>
                    <a:pt x="29" y="38"/>
                  </a:lnTo>
                  <a:lnTo>
                    <a:pt x="37" y="41"/>
                  </a:lnTo>
                  <a:lnTo>
                    <a:pt x="45" y="45"/>
                  </a:lnTo>
                  <a:lnTo>
                    <a:pt x="53" y="49"/>
                  </a:lnTo>
                  <a:lnTo>
                    <a:pt x="61" y="53"/>
                  </a:lnTo>
                  <a:lnTo>
                    <a:pt x="69" y="57"/>
                  </a:lnTo>
                  <a:lnTo>
                    <a:pt x="77" y="61"/>
                  </a:lnTo>
                  <a:lnTo>
                    <a:pt x="104" y="57"/>
                  </a:lnTo>
                  <a:lnTo>
                    <a:pt x="134" y="50"/>
                  </a:lnTo>
                  <a:lnTo>
                    <a:pt x="163" y="39"/>
                  </a:lnTo>
                  <a:lnTo>
                    <a:pt x="192" y="28"/>
                  </a:lnTo>
                  <a:lnTo>
                    <a:pt x="219" y="16"/>
                  </a:lnTo>
                  <a:lnTo>
                    <a:pt x="245" y="7"/>
                  </a:lnTo>
                  <a:lnTo>
                    <a:pt x="269" y="0"/>
                  </a:lnTo>
                  <a:lnTo>
                    <a:pt x="290" y="0"/>
                  </a:lnTo>
                  <a:lnTo>
                    <a:pt x="271" y="11"/>
                  </a:lnTo>
                  <a:lnTo>
                    <a:pt x="241" y="27"/>
                  </a:lnTo>
                  <a:lnTo>
                    <a:pt x="203" y="45"/>
                  </a:lnTo>
                  <a:lnTo>
                    <a:pt x="161" y="64"/>
                  </a:lnTo>
                  <a:lnTo>
                    <a:pt x="117" y="80"/>
                  </a:lnTo>
                  <a:lnTo>
                    <a:pt x="76" y="95"/>
                  </a:lnTo>
                  <a:lnTo>
                    <a:pt x="41" y="104"/>
                  </a:lnTo>
                  <a:lnTo>
                    <a:pt x="16" y="10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23240" y="6191280"/>
              <a:ext cx="158040" cy="275760"/>
            </a:xfrm>
            <a:custGeom>
              <a:avLst/>
              <a:gdLst/>
              <a:ahLst/>
              <a:rect l="l" t="t" r="r" b="b"/>
              <a:pathLst>
                <a:path w="260" h="435">
                  <a:moveTo>
                    <a:pt x="228" y="435"/>
                  </a:moveTo>
                  <a:lnTo>
                    <a:pt x="214" y="430"/>
                  </a:lnTo>
                  <a:lnTo>
                    <a:pt x="201" y="426"/>
                  </a:lnTo>
                  <a:lnTo>
                    <a:pt x="188" y="422"/>
                  </a:lnTo>
                  <a:lnTo>
                    <a:pt x="176" y="418"/>
                  </a:lnTo>
                  <a:lnTo>
                    <a:pt x="164" y="414"/>
                  </a:lnTo>
                  <a:lnTo>
                    <a:pt x="152" y="410"/>
                  </a:lnTo>
                  <a:lnTo>
                    <a:pt x="141" y="406"/>
                  </a:lnTo>
                  <a:lnTo>
                    <a:pt x="133" y="403"/>
                  </a:lnTo>
                  <a:lnTo>
                    <a:pt x="111" y="355"/>
                  </a:lnTo>
                  <a:lnTo>
                    <a:pt x="96" y="306"/>
                  </a:lnTo>
                  <a:lnTo>
                    <a:pt x="83" y="257"/>
                  </a:lnTo>
                  <a:lnTo>
                    <a:pt x="73" y="209"/>
                  </a:lnTo>
                  <a:lnTo>
                    <a:pt x="60" y="160"/>
                  </a:lnTo>
                  <a:lnTo>
                    <a:pt x="45" y="115"/>
                  </a:lnTo>
                  <a:lnTo>
                    <a:pt x="25" y="72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2" y="6"/>
                  </a:lnTo>
                  <a:lnTo>
                    <a:pt x="6" y="0"/>
                  </a:lnTo>
                  <a:lnTo>
                    <a:pt x="30" y="0"/>
                  </a:lnTo>
                  <a:lnTo>
                    <a:pt x="65" y="0"/>
                  </a:lnTo>
                  <a:lnTo>
                    <a:pt x="104" y="3"/>
                  </a:lnTo>
                  <a:lnTo>
                    <a:pt x="148" y="8"/>
                  </a:lnTo>
                  <a:lnTo>
                    <a:pt x="187" y="17"/>
                  </a:lnTo>
                  <a:lnTo>
                    <a:pt x="221" y="29"/>
                  </a:lnTo>
                  <a:lnTo>
                    <a:pt x="245" y="45"/>
                  </a:lnTo>
                  <a:lnTo>
                    <a:pt x="257" y="67"/>
                  </a:lnTo>
                  <a:lnTo>
                    <a:pt x="240" y="64"/>
                  </a:lnTo>
                  <a:lnTo>
                    <a:pt x="224" y="61"/>
                  </a:lnTo>
                  <a:lnTo>
                    <a:pt x="206" y="58"/>
                  </a:lnTo>
                  <a:lnTo>
                    <a:pt x="188" y="56"/>
                  </a:lnTo>
                  <a:lnTo>
                    <a:pt x="171" y="52"/>
                  </a:lnTo>
                  <a:lnTo>
                    <a:pt x="155" y="50"/>
                  </a:lnTo>
                  <a:lnTo>
                    <a:pt x="138" y="49"/>
                  </a:lnTo>
                  <a:lnTo>
                    <a:pt x="127" y="50"/>
                  </a:lnTo>
                  <a:lnTo>
                    <a:pt x="134" y="53"/>
                  </a:lnTo>
                  <a:lnTo>
                    <a:pt x="141" y="56"/>
                  </a:lnTo>
                  <a:lnTo>
                    <a:pt x="149" y="58"/>
                  </a:lnTo>
                  <a:lnTo>
                    <a:pt x="157" y="63"/>
                  </a:lnTo>
                  <a:lnTo>
                    <a:pt x="165" y="65"/>
                  </a:lnTo>
                  <a:lnTo>
                    <a:pt x="173" y="68"/>
                  </a:lnTo>
                  <a:lnTo>
                    <a:pt x="183" y="71"/>
                  </a:lnTo>
                  <a:lnTo>
                    <a:pt x="194" y="75"/>
                  </a:lnTo>
                  <a:lnTo>
                    <a:pt x="191" y="79"/>
                  </a:lnTo>
                  <a:lnTo>
                    <a:pt x="191" y="84"/>
                  </a:lnTo>
                  <a:lnTo>
                    <a:pt x="183" y="84"/>
                  </a:lnTo>
                  <a:lnTo>
                    <a:pt x="176" y="86"/>
                  </a:lnTo>
                  <a:lnTo>
                    <a:pt x="169" y="86"/>
                  </a:lnTo>
                  <a:lnTo>
                    <a:pt x="164" y="87"/>
                  </a:lnTo>
                  <a:lnTo>
                    <a:pt x="164" y="90"/>
                  </a:lnTo>
                  <a:lnTo>
                    <a:pt x="167" y="92"/>
                  </a:lnTo>
                  <a:lnTo>
                    <a:pt x="175" y="95"/>
                  </a:lnTo>
                  <a:lnTo>
                    <a:pt x="180" y="98"/>
                  </a:lnTo>
                  <a:lnTo>
                    <a:pt x="186" y="103"/>
                  </a:lnTo>
                  <a:lnTo>
                    <a:pt x="191" y="114"/>
                  </a:lnTo>
                  <a:lnTo>
                    <a:pt x="188" y="115"/>
                  </a:lnTo>
                  <a:lnTo>
                    <a:pt x="186" y="119"/>
                  </a:lnTo>
                  <a:lnTo>
                    <a:pt x="176" y="114"/>
                  </a:lnTo>
                  <a:lnTo>
                    <a:pt x="167" y="113"/>
                  </a:lnTo>
                  <a:lnTo>
                    <a:pt x="157" y="113"/>
                  </a:lnTo>
                  <a:lnTo>
                    <a:pt x="149" y="114"/>
                  </a:lnTo>
                  <a:lnTo>
                    <a:pt x="149" y="117"/>
                  </a:lnTo>
                  <a:lnTo>
                    <a:pt x="149" y="119"/>
                  </a:lnTo>
                  <a:lnTo>
                    <a:pt x="156" y="121"/>
                  </a:lnTo>
                  <a:lnTo>
                    <a:pt x="163" y="123"/>
                  </a:lnTo>
                  <a:lnTo>
                    <a:pt x="168" y="125"/>
                  </a:lnTo>
                  <a:lnTo>
                    <a:pt x="173" y="127"/>
                  </a:lnTo>
                  <a:lnTo>
                    <a:pt x="178" y="129"/>
                  </a:lnTo>
                  <a:lnTo>
                    <a:pt x="184" y="132"/>
                  </a:lnTo>
                  <a:lnTo>
                    <a:pt x="190" y="136"/>
                  </a:lnTo>
                  <a:lnTo>
                    <a:pt x="199" y="141"/>
                  </a:lnTo>
                  <a:lnTo>
                    <a:pt x="199" y="145"/>
                  </a:lnTo>
                  <a:lnTo>
                    <a:pt x="199" y="150"/>
                  </a:lnTo>
                  <a:lnTo>
                    <a:pt x="188" y="149"/>
                  </a:lnTo>
                  <a:lnTo>
                    <a:pt x="179" y="148"/>
                  </a:lnTo>
                  <a:lnTo>
                    <a:pt x="167" y="146"/>
                  </a:lnTo>
                  <a:lnTo>
                    <a:pt x="156" y="146"/>
                  </a:lnTo>
                  <a:lnTo>
                    <a:pt x="144" y="145"/>
                  </a:lnTo>
                  <a:lnTo>
                    <a:pt x="134" y="145"/>
                  </a:lnTo>
                  <a:lnTo>
                    <a:pt x="126" y="146"/>
                  </a:lnTo>
                  <a:lnTo>
                    <a:pt x="122" y="150"/>
                  </a:lnTo>
                  <a:lnTo>
                    <a:pt x="122" y="155"/>
                  </a:lnTo>
                  <a:lnTo>
                    <a:pt x="122" y="159"/>
                  </a:lnTo>
                  <a:lnTo>
                    <a:pt x="130" y="160"/>
                  </a:lnTo>
                  <a:lnTo>
                    <a:pt x="138" y="163"/>
                  </a:lnTo>
                  <a:lnTo>
                    <a:pt x="146" y="164"/>
                  </a:lnTo>
                  <a:lnTo>
                    <a:pt x="156" y="168"/>
                  </a:lnTo>
                  <a:lnTo>
                    <a:pt x="164" y="171"/>
                  </a:lnTo>
                  <a:lnTo>
                    <a:pt x="173" y="175"/>
                  </a:lnTo>
                  <a:lnTo>
                    <a:pt x="183" y="179"/>
                  </a:lnTo>
                  <a:lnTo>
                    <a:pt x="194" y="186"/>
                  </a:lnTo>
                  <a:lnTo>
                    <a:pt x="192" y="186"/>
                  </a:lnTo>
                  <a:lnTo>
                    <a:pt x="191" y="188"/>
                  </a:lnTo>
                  <a:lnTo>
                    <a:pt x="182" y="188"/>
                  </a:lnTo>
                  <a:lnTo>
                    <a:pt x="172" y="188"/>
                  </a:lnTo>
                  <a:lnTo>
                    <a:pt x="163" y="188"/>
                  </a:lnTo>
                  <a:lnTo>
                    <a:pt x="155" y="188"/>
                  </a:lnTo>
                  <a:lnTo>
                    <a:pt x="156" y="191"/>
                  </a:lnTo>
                  <a:lnTo>
                    <a:pt x="159" y="194"/>
                  </a:lnTo>
                  <a:lnTo>
                    <a:pt x="167" y="198"/>
                  </a:lnTo>
                  <a:lnTo>
                    <a:pt x="175" y="202"/>
                  </a:lnTo>
                  <a:lnTo>
                    <a:pt x="183" y="206"/>
                  </a:lnTo>
                  <a:lnTo>
                    <a:pt x="191" y="210"/>
                  </a:lnTo>
                  <a:lnTo>
                    <a:pt x="191" y="214"/>
                  </a:lnTo>
                  <a:lnTo>
                    <a:pt x="191" y="218"/>
                  </a:lnTo>
                  <a:lnTo>
                    <a:pt x="182" y="217"/>
                  </a:lnTo>
                  <a:lnTo>
                    <a:pt x="175" y="217"/>
                  </a:lnTo>
                  <a:lnTo>
                    <a:pt x="168" y="217"/>
                  </a:lnTo>
                  <a:lnTo>
                    <a:pt x="164" y="217"/>
                  </a:lnTo>
                  <a:lnTo>
                    <a:pt x="159" y="215"/>
                  </a:lnTo>
                  <a:lnTo>
                    <a:pt x="153" y="215"/>
                  </a:lnTo>
                  <a:lnTo>
                    <a:pt x="145" y="215"/>
                  </a:lnTo>
                  <a:lnTo>
                    <a:pt x="138" y="215"/>
                  </a:lnTo>
                  <a:lnTo>
                    <a:pt x="140" y="217"/>
                  </a:lnTo>
                  <a:lnTo>
                    <a:pt x="141" y="222"/>
                  </a:lnTo>
                  <a:lnTo>
                    <a:pt x="149" y="223"/>
                  </a:lnTo>
                  <a:lnTo>
                    <a:pt x="157" y="226"/>
                  </a:lnTo>
                  <a:lnTo>
                    <a:pt x="165" y="228"/>
                  </a:lnTo>
                  <a:lnTo>
                    <a:pt x="175" y="230"/>
                  </a:lnTo>
                  <a:lnTo>
                    <a:pt x="168" y="234"/>
                  </a:lnTo>
                  <a:lnTo>
                    <a:pt x="161" y="238"/>
                  </a:lnTo>
                  <a:lnTo>
                    <a:pt x="153" y="240"/>
                  </a:lnTo>
                  <a:lnTo>
                    <a:pt x="146" y="242"/>
                  </a:lnTo>
                  <a:lnTo>
                    <a:pt x="138" y="242"/>
                  </a:lnTo>
                  <a:lnTo>
                    <a:pt x="130" y="242"/>
                  </a:lnTo>
                  <a:lnTo>
                    <a:pt x="123" y="241"/>
                  </a:lnTo>
                  <a:lnTo>
                    <a:pt x="119" y="241"/>
                  </a:lnTo>
                  <a:lnTo>
                    <a:pt x="119" y="245"/>
                  </a:lnTo>
                  <a:lnTo>
                    <a:pt x="119" y="249"/>
                  </a:lnTo>
                  <a:lnTo>
                    <a:pt x="137" y="255"/>
                  </a:lnTo>
                  <a:lnTo>
                    <a:pt x="150" y="260"/>
                  </a:lnTo>
                  <a:lnTo>
                    <a:pt x="160" y="263"/>
                  </a:lnTo>
                  <a:lnTo>
                    <a:pt x="169" y="267"/>
                  </a:lnTo>
                  <a:lnTo>
                    <a:pt x="182" y="271"/>
                  </a:lnTo>
                  <a:lnTo>
                    <a:pt x="194" y="276"/>
                  </a:lnTo>
                  <a:lnTo>
                    <a:pt x="188" y="279"/>
                  </a:lnTo>
                  <a:lnTo>
                    <a:pt x="182" y="282"/>
                  </a:lnTo>
                  <a:lnTo>
                    <a:pt x="172" y="282"/>
                  </a:lnTo>
                  <a:lnTo>
                    <a:pt x="164" y="283"/>
                  </a:lnTo>
                  <a:lnTo>
                    <a:pt x="153" y="282"/>
                  </a:lnTo>
                  <a:lnTo>
                    <a:pt x="145" y="282"/>
                  </a:lnTo>
                  <a:lnTo>
                    <a:pt x="137" y="282"/>
                  </a:lnTo>
                  <a:lnTo>
                    <a:pt x="133" y="282"/>
                  </a:lnTo>
                  <a:lnTo>
                    <a:pt x="133" y="284"/>
                  </a:lnTo>
                  <a:lnTo>
                    <a:pt x="133" y="291"/>
                  </a:lnTo>
                  <a:lnTo>
                    <a:pt x="140" y="292"/>
                  </a:lnTo>
                  <a:lnTo>
                    <a:pt x="146" y="294"/>
                  </a:lnTo>
                  <a:lnTo>
                    <a:pt x="152" y="295"/>
                  </a:lnTo>
                  <a:lnTo>
                    <a:pt x="157" y="297"/>
                  </a:lnTo>
                  <a:lnTo>
                    <a:pt x="161" y="298"/>
                  </a:lnTo>
                  <a:lnTo>
                    <a:pt x="168" y="301"/>
                  </a:lnTo>
                  <a:lnTo>
                    <a:pt x="173" y="305"/>
                  </a:lnTo>
                  <a:lnTo>
                    <a:pt x="183" y="310"/>
                  </a:lnTo>
                  <a:lnTo>
                    <a:pt x="171" y="315"/>
                  </a:lnTo>
                  <a:lnTo>
                    <a:pt x="160" y="317"/>
                  </a:lnTo>
                  <a:lnTo>
                    <a:pt x="148" y="317"/>
                  </a:lnTo>
                  <a:lnTo>
                    <a:pt x="136" y="315"/>
                  </a:lnTo>
                  <a:lnTo>
                    <a:pt x="136" y="322"/>
                  </a:lnTo>
                  <a:lnTo>
                    <a:pt x="138" y="329"/>
                  </a:lnTo>
                  <a:lnTo>
                    <a:pt x="150" y="332"/>
                  </a:lnTo>
                  <a:lnTo>
                    <a:pt x="161" y="336"/>
                  </a:lnTo>
                  <a:lnTo>
                    <a:pt x="169" y="338"/>
                  </a:lnTo>
                  <a:lnTo>
                    <a:pt x="175" y="341"/>
                  </a:lnTo>
                  <a:lnTo>
                    <a:pt x="180" y="343"/>
                  </a:lnTo>
                  <a:lnTo>
                    <a:pt x="183" y="345"/>
                  </a:lnTo>
                  <a:lnTo>
                    <a:pt x="180" y="348"/>
                  </a:lnTo>
                  <a:lnTo>
                    <a:pt x="178" y="356"/>
                  </a:lnTo>
                  <a:lnTo>
                    <a:pt x="188" y="356"/>
                  </a:lnTo>
                  <a:lnTo>
                    <a:pt x="199" y="359"/>
                  </a:lnTo>
                  <a:lnTo>
                    <a:pt x="190" y="366"/>
                  </a:lnTo>
                  <a:lnTo>
                    <a:pt x="182" y="371"/>
                  </a:lnTo>
                  <a:lnTo>
                    <a:pt x="172" y="374"/>
                  </a:lnTo>
                  <a:lnTo>
                    <a:pt x="164" y="376"/>
                  </a:lnTo>
                  <a:lnTo>
                    <a:pt x="164" y="378"/>
                  </a:lnTo>
                  <a:lnTo>
                    <a:pt x="167" y="382"/>
                  </a:lnTo>
                  <a:lnTo>
                    <a:pt x="180" y="387"/>
                  </a:lnTo>
                  <a:lnTo>
                    <a:pt x="194" y="393"/>
                  </a:lnTo>
                  <a:lnTo>
                    <a:pt x="206" y="398"/>
                  </a:lnTo>
                  <a:lnTo>
                    <a:pt x="219" y="405"/>
                  </a:lnTo>
                  <a:lnTo>
                    <a:pt x="230" y="409"/>
                  </a:lnTo>
                  <a:lnTo>
                    <a:pt x="241" y="414"/>
                  </a:lnTo>
                  <a:lnTo>
                    <a:pt x="251" y="417"/>
                  </a:lnTo>
                  <a:lnTo>
                    <a:pt x="260" y="420"/>
                  </a:lnTo>
                  <a:lnTo>
                    <a:pt x="257" y="425"/>
                  </a:lnTo>
                  <a:lnTo>
                    <a:pt x="248" y="430"/>
                  </a:lnTo>
                  <a:lnTo>
                    <a:pt x="236" y="433"/>
                  </a:lnTo>
                  <a:lnTo>
                    <a:pt x="228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39360" y="6416280"/>
              <a:ext cx="13320" cy="26640"/>
            </a:xfrm>
            <a:custGeom>
              <a:avLst/>
              <a:gdLst/>
              <a:ahLst/>
              <a:rect l="l" t="t" r="r" b="b"/>
              <a:pathLst>
                <a:path w="22" h="44">
                  <a:moveTo>
                    <a:pt x="21" y="42"/>
                  </a:moveTo>
                  <a:lnTo>
                    <a:pt x="12" y="31"/>
                  </a:lnTo>
                  <a:lnTo>
                    <a:pt x="6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" y="3"/>
                  </a:lnTo>
                  <a:lnTo>
                    <a:pt x="6" y="10"/>
                  </a:lnTo>
                  <a:lnTo>
                    <a:pt x="10" y="18"/>
                  </a:lnTo>
                  <a:lnTo>
                    <a:pt x="17" y="27"/>
                  </a:lnTo>
                  <a:lnTo>
                    <a:pt x="19" y="34"/>
                  </a:lnTo>
                  <a:lnTo>
                    <a:pt x="22" y="41"/>
                  </a:lnTo>
                  <a:lnTo>
                    <a:pt x="22" y="44"/>
                  </a:lnTo>
                  <a:lnTo>
                    <a:pt x="2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23800" y="6430320"/>
              <a:ext cx="15480" cy="864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13" y="14"/>
                  </a:moveTo>
                  <a:lnTo>
                    <a:pt x="7" y="7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24" y="3"/>
                  </a:lnTo>
                  <a:lnTo>
                    <a:pt x="24" y="7"/>
                  </a:lnTo>
                  <a:lnTo>
                    <a:pt x="24" y="11"/>
                  </a:lnTo>
                  <a:lnTo>
                    <a:pt x="19" y="13"/>
                  </a:lnTo>
                  <a:lnTo>
                    <a:pt x="1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03000" y="5881320"/>
              <a:ext cx="414720" cy="547200"/>
            </a:xfrm>
            <a:custGeom>
              <a:avLst/>
              <a:gdLst/>
              <a:ahLst/>
              <a:rect l="l" t="t" r="r" b="b"/>
              <a:pathLst>
                <a:path w="682" h="862">
                  <a:moveTo>
                    <a:pt x="58" y="862"/>
                  </a:moveTo>
                  <a:lnTo>
                    <a:pt x="49" y="859"/>
                  </a:lnTo>
                  <a:lnTo>
                    <a:pt x="40" y="856"/>
                  </a:lnTo>
                  <a:lnTo>
                    <a:pt x="32" y="854"/>
                  </a:lnTo>
                  <a:lnTo>
                    <a:pt x="26" y="851"/>
                  </a:lnTo>
                  <a:lnTo>
                    <a:pt x="12" y="844"/>
                  </a:lnTo>
                  <a:lnTo>
                    <a:pt x="0" y="839"/>
                  </a:lnTo>
                  <a:lnTo>
                    <a:pt x="9" y="795"/>
                  </a:lnTo>
                  <a:lnTo>
                    <a:pt x="20" y="753"/>
                  </a:lnTo>
                  <a:lnTo>
                    <a:pt x="30" y="710"/>
                  </a:lnTo>
                  <a:lnTo>
                    <a:pt x="40" y="668"/>
                  </a:lnTo>
                  <a:lnTo>
                    <a:pt x="50" y="625"/>
                  </a:lnTo>
                  <a:lnTo>
                    <a:pt x="61" y="583"/>
                  </a:lnTo>
                  <a:lnTo>
                    <a:pt x="73" y="541"/>
                  </a:lnTo>
                  <a:lnTo>
                    <a:pt x="86" y="500"/>
                  </a:lnTo>
                  <a:lnTo>
                    <a:pt x="111" y="506"/>
                  </a:lnTo>
                  <a:lnTo>
                    <a:pt x="134" y="513"/>
                  </a:lnTo>
                  <a:lnTo>
                    <a:pt x="153" y="519"/>
                  </a:lnTo>
                  <a:lnTo>
                    <a:pt x="172" y="529"/>
                  </a:lnTo>
                  <a:lnTo>
                    <a:pt x="188" y="540"/>
                  </a:lnTo>
                  <a:lnTo>
                    <a:pt x="204" y="556"/>
                  </a:lnTo>
                  <a:lnTo>
                    <a:pt x="222" y="575"/>
                  </a:lnTo>
                  <a:lnTo>
                    <a:pt x="241" y="599"/>
                  </a:lnTo>
                  <a:lnTo>
                    <a:pt x="245" y="620"/>
                  </a:lnTo>
                  <a:lnTo>
                    <a:pt x="250" y="636"/>
                  </a:lnTo>
                  <a:lnTo>
                    <a:pt x="253" y="648"/>
                  </a:lnTo>
                  <a:lnTo>
                    <a:pt x="256" y="657"/>
                  </a:lnTo>
                  <a:lnTo>
                    <a:pt x="258" y="664"/>
                  </a:lnTo>
                  <a:lnTo>
                    <a:pt x="262" y="668"/>
                  </a:lnTo>
                  <a:lnTo>
                    <a:pt x="265" y="668"/>
                  </a:lnTo>
                  <a:lnTo>
                    <a:pt x="262" y="629"/>
                  </a:lnTo>
                  <a:lnTo>
                    <a:pt x="251" y="597"/>
                  </a:lnTo>
                  <a:lnTo>
                    <a:pt x="234" y="568"/>
                  </a:lnTo>
                  <a:lnTo>
                    <a:pt x="212" y="544"/>
                  </a:lnTo>
                  <a:lnTo>
                    <a:pt x="184" y="523"/>
                  </a:lnTo>
                  <a:lnTo>
                    <a:pt x="154" y="510"/>
                  </a:lnTo>
                  <a:lnTo>
                    <a:pt x="123" y="499"/>
                  </a:lnTo>
                  <a:lnTo>
                    <a:pt x="92" y="494"/>
                  </a:lnTo>
                  <a:lnTo>
                    <a:pt x="93" y="483"/>
                  </a:lnTo>
                  <a:lnTo>
                    <a:pt x="95" y="475"/>
                  </a:lnTo>
                  <a:lnTo>
                    <a:pt x="96" y="467"/>
                  </a:lnTo>
                  <a:lnTo>
                    <a:pt x="99" y="460"/>
                  </a:lnTo>
                  <a:lnTo>
                    <a:pt x="100" y="450"/>
                  </a:lnTo>
                  <a:lnTo>
                    <a:pt x="104" y="440"/>
                  </a:lnTo>
                  <a:lnTo>
                    <a:pt x="108" y="426"/>
                  </a:lnTo>
                  <a:lnTo>
                    <a:pt x="116" y="408"/>
                  </a:lnTo>
                  <a:lnTo>
                    <a:pt x="131" y="410"/>
                  </a:lnTo>
                  <a:lnTo>
                    <a:pt x="147" y="415"/>
                  </a:lnTo>
                  <a:lnTo>
                    <a:pt x="162" y="422"/>
                  </a:lnTo>
                  <a:lnTo>
                    <a:pt x="177" y="431"/>
                  </a:lnTo>
                  <a:lnTo>
                    <a:pt x="191" y="440"/>
                  </a:lnTo>
                  <a:lnTo>
                    <a:pt x="205" y="449"/>
                  </a:lnTo>
                  <a:lnTo>
                    <a:pt x="220" y="457"/>
                  </a:lnTo>
                  <a:lnTo>
                    <a:pt x="238" y="464"/>
                  </a:lnTo>
                  <a:lnTo>
                    <a:pt x="247" y="453"/>
                  </a:lnTo>
                  <a:lnTo>
                    <a:pt x="262" y="438"/>
                  </a:lnTo>
                  <a:lnTo>
                    <a:pt x="277" y="418"/>
                  </a:lnTo>
                  <a:lnTo>
                    <a:pt x="296" y="398"/>
                  </a:lnTo>
                  <a:lnTo>
                    <a:pt x="311" y="375"/>
                  </a:lnTo>
                  <a:lnTo>
                    <a:pt x="326" y="353"/>
                  </a:lnTo>
                  <a:lnTo>
                    <a:pt x="335" y="333"/>
                  </a:lnTo>
                  <a:lnTo>
                    <a:pt x="339" y="318"/>
                  </a:lnTo>
                  <a:lnTo>
                    <a:pt x="323" y="308"/>
                  </a:lnTo>
                  <a:lnTo>
                    <a:pt x="307" y="300"/>
                  </a:lnTo>
                  <a:lnTo>
                    <a:pt x="289" y="293"/>
                  </a:lnTo>
                  <a:lnTo>
                    <a:pt x="273" y="289"/>
                  </a:lnTo>
                  <a:lnTo>
                    <a:pt x="256" y="284"/>
                  </a:lnTo>
                  <a:lnTo>
                    <a:pt x="238" y="280"/>
                  </a:lnTo>
                  <a:lnTo>
                    <a:pt x="222" y="276"/>
                  </a:lnTo>
                  <a:lnTo>
                    <a:pt x="207" y="273"/>
                  </a:lnTo>
                  <a:lnTo>
                    <a:pt x="205" y="262"/>
                  </a:lnTo>
                  <a:lnTo>
                    <a:pt x="205" y="257"/>
                  </a:lnTo>
                  <a:lnTo>
                    <a:pt x="208" y="250"/>
                  </a:lnTo>
                  <a:lnTo>
                    <a:pt x="212" y="243"/>
                  </a:lnTo>
                  <a:lnTo>
                    <a:pt x="222" y="245"/>
                  </a:lnTo>
                  <a:lnTo>
                    <a:pt x="230" y="249"/>
                  </a:lnTo>
                  <a:lnTo>
                    <a:pt x="231" y="246"/>
                  </a:lnTo>
                  <a:lnTo>
                    <a:pt x="233" y="245"/>
                  </a:lnTo>
                  <a:lnTo>
                    <a:pt x="233" y="239"/>
                  </a:lnTo>
                  <a:lnTo>
                    <a:pt x="235" y="233"/>
                  </a:lnTo>
                  <a:lnTo>
                    <a:pt x="246" y="235"/>
                  </a:lnTo>
                  <a:lnTo>
                    <a:pt x="260" y="243"/>
                  </a:lnTo>
                  <a:lnTo>
                    <a:pt x="273" y="252"/>
                  </a:lnTo>
                  <a:lnTo>
                    <a:pt x="289" y="262"/>
                  </a:lnTo>
                  <a:lnTo>
                    <a:pt x="304" y="270"/>
                  </a:lnTo>
                  <a:lnTo>
                    <a:pt x="319" y="280"/>
                  </a:lnTo>
                  <a:lnTo>
                    <a:pt x="333" y="285"/>
                  </a:lnTo>
                  <a:lnTo>
                    <a:pt x="345" y="288"/>
                  </a:lnTo>
                  <a:lnTo>
                    <a:pt x="353" y="275"/>
                  </a:lnTo>
                  <a:lnTo>
                    <a:pt x="365" y="260"/>
                  </a:lnTo>
                  <a:lnTo>
                    <a:pt x="376" y="243"/>
                  </a:lnTo>
                  <a:lnTo>
                    <a:pt x="387" y="229"/>
                  </a:lnTo>
                  <a:lnTo>
                    <a:pt x="395" y="212"/>
                  </a:lnTo>
                  <a:lnTo>
                    <a:pt x="403" y="196"/>
                  </a:lnTo>
                  <a:lnTo>
                    <a:pt x="408" y="180"/>
                  </a:lnTo>
                  <a:lnTo>
                    <a:pt x="411" y="166"/>
                  </a:lnTo>
                  <a:lnTo>
                    <a:pt x="415" y="162"/>
                  </a:lnTo>
                  <a:lnTo>
                    <a:pt x="419" y="161"/>
                  </a:lnTo>
                  <a:lnTo>
                    <a:pt x="414" y="147"/>
                  </a:lnTo>
                  <a:lnTo>
                    <a:pt x="403" y="134"/>
                  </a:lnTo>
                  <a:lnTo>
                    <a:pt x="387" y="120"/>
                  </a:lnTo>
                  <a:lnTo>
                    <a:pt x="369" y="108"/>
                  </a:lnTo>
                  <a:lnTo>
                    <a:pt x="349" y="96"/>
                  </a:lnTo>
                  <a:lnTo>
                    <a:pt x="330" y="86"/>
                  </a:lnTo>
                  <a:lnTo>
                    <a:pt x="315" y="77"/>
                  </a:lnTo>
                  <a:lnTo>
                    <a:pt x="307" y="73"/>
                  </a:lnTo>
                  <a:lnTo>
                    <a:pt x="307" y="65"/>
                  </a:lnTo>
                  <a:lnTo>
                    <a:pt x="310" y="54"/>
                  </a:lnTo>
                  <a:lnTo>
                    <a:pt x="314" y="43"/>
                  </a:lnTo>
                  <a:lnTo>
                    <a:pt x="320" y="32"/>
                  </a:lnTo>
                  <a:lnTo>
                    <a:pt x="326" y="20"/>
                  </a:lnTo>
                  <a:lnTo>
                    <a:pt x="333" y="9"/>
                  </a:lnTo>
                  <a:lnTo>
                    <a:pt x="338" y="3"/>
                  </a:lnTo>
                  <a:lnTo>
                    <a:pt x="345" y="0"/>
                  </a:lnTo>
                  <a:lnTo>
                    <a:pt x="356" y="49"/>
                  </a:lnTo>
                  <a:lnTo>
                    <a:pt x="376" y="84"/>
                  </a:lnTo>
                  <a:lnTo>
                    <a:pt x="400" y="105"/>
                  </a:lnTo>
                  <a:lnTo>
                    <a:pt x="430" y="120"/>
                  </a:lnTo>
                  <a:lnTo>
                    <a:pt x="463" y="130"/>
                  </a:lnTo>
                  <a:lnTo>
                    <a:pt x="499" y="139"/>
                  </a:lnTo>
                  <a:lnTo>
                    <a:pt x="538" y="153"/>
                  </a:lnTo>
                  <a:lnTo>
                    <a:pt x="580" y="174"/>
                  </a:lnTo>
                  <a:lnTo>
                    <a:pt x="591" y="188"/>
                  </a:lnTo>
                  <a:lnTo>
                    <a:pt x="602" y="204"/>
                  </a:lnTo>
                  <a:lnTo>
                    <a:pt x="614" y="222"/>
                  </a:lnTo>
                  <a:lnTo>
                    <a:pt x="626" y="241"/>
                  </a:lnTo>
                  <a:lnTo>
                    <a:pt x="638" y="258"/>
                  </a:lnTo>
                  <a:lnTo>
                    <a:pt x="652" y="277"/>
                  </a:lnTo>
                  <a:lnTo>
                    <a:pt x="665" y="293"/>
                  </a:lnTo>
                  <a:lnTo>
                    <a:pt x="682" y="310"/>
                  </a:lnTo>
                  <a:lnTo>
                    <a:pt x="675" y="316"/>
                  </a:lnTo>
                  <a:lnTo>
                    <a:pt x="660" y="338"/>
                  </a:lnTo>
                  <a:lnTo>
                    <a:pt x="638" y="369"/>
                  </a:lnTo>
                  <a:lnTo>
                    <a:pt x="614" y="408"/>
                  </a:lnTo>
                  <a:lnTo>
                    <a:pt x="587" y="446"/>
                  </a:lnTo>
                  <a:lnTo>
                    <a:pt x="564" y="484"/>
                  </a:lnTo>
                  <a:lnTo>
                    <a:pt x="545" y="514"/>
                  </a:lnTo>
                  <a:lnTo>
                    <a:pt x="536" y="536"/>
                  </a:lnTo>
                  <a:lnTo>
                    <a:pt x="533" y="559"/>
                  </a:lnTo>
                  <a:lnTo>
                    <a:pt x="533" y="587"/>
                  </a:lnTo>
                  <a:lnTo>
                    <a:pt x="533" y="617"/>
                  </a:lnTo>
                  <a:lnTo>
                    <a:pt x="534" y="648"/>
                  </a:lnTo>
                  <a:lnTo>
                    <a:pt x="533" y="678"/>
                  </a:lnTo>
                  <a:lnTo>
                    <a:pt x="530" y="706"/>
                  </a:lnTo>
                  <a:lnTo>
                    <a:pt x="525" y="732"/>
                  </a:lnTo>
                  <a:lnTo>
                    <a:pt x="517" y="753"/>
                  </a:lnTo>
                  <a:lnTo>
                    <a:pt x="480" y="760"/>
                  </a:lnTo>
                  <a:lnTo>
                    <a:pt x="444" y="767"/>
                  </a:lnTo>
                  <a:lnTo>
                    <a:pt x="407" y="771"/>
                  </a:lnTo>
                  <a:lnTo>
                    <a:pt x="372" y="775"/>
                  </a:lnTo>
                  <a:lnTo>
                    <a:pt x="337" y="778"/>
                  </a:lnTo>
                  <a:lnTo>
                    <a:pt x="302" y="783"/>
                  </a:lnTo>
                  <a:lnTo>
                    <a:pt x="266" y="789"/>
                  </a:lnTo>
                  <a:lnTo>
                    <a:pt x="233" y="798"/>
                  </a:lnTo>
                  <a:lnTo>
                    <a:pt x="208" y="806"/>
                  </a:lnTo>
                  <a:lnTo>
                    <a:pt x="187" y="816"/>
                  </a:lnTo>
                  <a:lnTo>
                    <a:pt x="165" y="824"/>
                  </a:lnTo>
                  <a:lnTo>
                    <a:pt x="143" y="835"/>
                  </a:lnTo>
                  <a:lnTo>
                    <a:pt x="122" y="843"/>
                  </a:lnTo>
                  <a:lnTo>
                    <a:pt x="100" y="851"/>
                  </a:lnTo>
                  <a:lnTo>
                    <a:pt x="78" y="856"/>
                  </a:lnTo>
                  <a:lnTo>
                    <a:pt x="58" y="8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09640" y="6381720"/>
              <a:ext cx="105480" cy="39240"/>
            </a:xfrm>
            <a:custGeom>
              <a:avLst/>
              <a:gdLst/>
              <a:ahLst/>
              <a:rect l="l" t="t" r="r" b="b"/>
              <a:pathLst>
                <a:path w="175" h="64">
                  <a:moveTo>
                    <a:pt x="0" y="64"/>
                  </a:moveTo>
                  <a:lnTo>
                    <a:pt x="0" y="56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23" y="11"/>
                  </a:lnTo>
                  <a:lnTo>
                    <a:pt x="44" y="10"/>
                  </a:lnTo>
                  <a:lnTo>
                    <a:pt x="65" y="7"/>
                  </a:lnTo>
                  <a:lnTo>
                    <a:pt x="87" y="7"/>
                  </a:lnTo>
                  <a:lnTo>
                    <a:pt x="109" y="4"/>
                  </a:lnTo>
                  <a:lnTo>
                    <a:pt x="130" y="3"/>
                  </a:lnTo>
                  <a:lnTo>
                    <a:pt x="152" y="2"/>
                  </a:lnTo>
                  <a:lnTo>
                    <a:pt x="175" y="0"/>
                  </a:lnTo>
                  <a:lnTo>
                    <a:pt x="155" y="16"/>
                  </a:lnTo>
                  <a:lnTo>
                    <a:pt x="136" y="29"/>
                  </a:lnTo>
                  <a:lnTo>
                    <a:pt x="113" y="38"/>
                  </a:lnTo>
                  <a:lnTo>
                    <a:pt x="91" y="48"/>
                  </a:lnTo>
                  <a:lnTo>
                    <a:pt x="67" y="52"/>
                  </a:lnTo>
                  <a:lnTo>
                    <a:pt x="44" y="57"/>
                  </a:lnTo>
                  <a:lnTo>
                    <a:pt x="21" y="6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148240" y="6167160"/>
              <a:ext cx="145800" cy="248760"/>
            </a:xfrm>
            <a:custGeom>
              <a:avLst/>
              <a:gdLst/>
              <a:ahLst/>
              <a:rect l="l" t="t" r="r" b="b"/>
              <a:pathLst>
                <a:path w="239" h="391">
                  <a:moveTo>
                    <a:pt x="35" y="391"/>
                  </a:moveTo>
                  <a:lnTo>
                    <a:pt x="5" y="368"/>
                  </a:lnTo>
                  <a:lnTo>
                    <a:pt x="0" y="324"/>
                  </a:lnTo>
                  <a:lnTo>
                    <a:pt x="11" y="264"/>
                  </a:lnTo>
                  <a:lnTo>
                    <a:pt x="35" y="197"/>
                  </a:lnTo>
                  <a:lnTo>
                    <a:pt x="63" y="128"/>
                  </a:lnTo>
                  <a:lnTo>
                    <a:pt x="92" y="67"/>
                  </a:lnTo>
                  <a:lnTo>
                    <a:pt x="115" y="22"/>
                  </a:lnTo>
                  <a:lnTo>
                    <a:pt x="128" y="0"/>
                  </a:lnTo>
                  <a:lnTo>
                    <a:pt x="139" y="0"/>
                  </a:lnTo>
                  <a:lnTo>
                    <a:pt x="151" y="3"/>
                  </a:lnTo>
                  <a:lnTo>
                    <a:pt x="165" y="7"/>
                  </a:lnTo>
                  <a:lnTo>
                    <a:pt x="180" y="11"/>
                  </a:lnTo>
                  <a:lnTo>
                    <a:pt x="193" y="15"/>
                  </a:lnTo>
                  <a:lnTo>
                    <a:pt x="208" y="21"/>
                  </a:lnTo>
                  <a:lnTo>
                    <a:pt x="223" y="25"/>
                  </a:lnTo>
                  <a:lnTo>
                    <a:pt x="239" y="30"/>
                  </a:lnTo>
                  <a:lnTo>
                    <a:pt x="228" y="67"/>
                  </a:lnTo>
                  <a:lnTo>
                    <a:pt x="213" y="117"/>
                  </a:lnTo>
                  <a:lnTo>
                    <a:pt x="190" y="174"/>
                  </a:lnTo>
                  <a:lnTo>
                    <a:pt x="165" y="236"/>
                  </a:lnTo>
                  <a:lnTo>
                    <a:pt x="132" y="293"/>
                  </a:lnTo>
                  <a:lnTo>
                    <a:pt x="101" y="341"/>
                  </a:lnTo>
                  <a:lnTo>
                    <a:pt x="67" y="375"/>
                  </a:lnTo>
                  <a:lnTo>
                    <a:pt x="35" y="391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58000" y="6402240"/>
              <a:ext cx="11880" cy="1008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2" y="16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20" y="5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16" y="16"/>
                  </a:lnTo>
                  <a:lnTo>
                    <a:pt x="1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79040" y="6391800"/>
              <a:ext cx="20520" cy="1908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24" y="30"/>
                  </a:moveTo>
                  <a:lnTo>
                    <a:pt x="15" y="22"/>
                  </a:lnTo>
                  <a:lnTo>
                    <a:pt x="8" y="18"/>
                  </a:lnTo>
                  <a:lnTo>
                    <a:pt x="3" y="11"/>
                  </a:lnTo>
                  <a:lnTo>
                    <a:pt x="0" y="6"/>
                  </a:lnTo>
                  <a:lnTo>
                    <a:pt x="8" y="3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35" y="0"/>
                  </a:lnTo>
                  <a:lnTo>
                    <a:pt x="32" y="9"/>
                  </a:lnTo>
                  <a:lnTo>
                    <a:pt x="31" y="17"/>
                  </a:lnTo>
                  <a:lnTo>
                    <a:pt x="28" y="21"/>
                  </a:lnTo>
                  <a:lnTo>
                    <a:pt x="27" y="26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81320" y="6145560"/>
              <a:ext cx="118800" cy="260280"/>
            </a:xfrm>
            <a:custGeom>
              <a:avLst/>
              <a:gdLst/>
              <a:ahLst/>
              <a:rect l="l" t="t" r="r" b="b"/>
              <a:pathLst>
                <a:path w="196" h="408">
                  <a:moveTo>
                    <a:pt x="171" y="408"/>
                  </a:moveTo>
                  <a:lnTo>
                    <a:pt x="139" y="380"/>
                  </a:lnTo>
                  <a:lnTo>
                    <a:pt x="108" y="338"/>
                  </a:lnTo>
                  <a:lnTo>
                    <a:pt x="77" y="282"/>
                  </a:lnTo>
                  <a:lnTo>
                    <a:pt x="51" y="224"/>
                  </a:lnTo>
                  <a:lnTo>
                    <a:pt x="27" y="162"/>
                  </a:lnTo>
                  <a:lnTo>
                    <a:pt x="10" y="105"/>
                  </a:lnTo>
                  <a:lnTo>
                    <a:pt x="0" y="58"/>
                  </a:lnTo>
                  <a:lnTo>
                    <a:pt x="1" y="25"/>
                  </a:lnTo>
                  <a:lnTo>
                    <a:pt x="9" y="21"/>
                  </a:lnTo>
                  <a:lnTo>
                    <a:pt x="19" y="19"/>
                  </a:lnTo>
                  <a:lnTo>
                    <a:pt x="29" y="14"/>
                  </a:lnTo>
                  <a:lnTo>
                    <a:pt x="42" y="10"/>
                  </a:lnTo>
                  <a:lnTo>
                    <a:pt x="52" y="5"/>
                  </a:lnTo>
                  <a:lnTo>
                    <a:pt x="63" y="2"/>
                  </a:lnTo>
                  <a:lnTo>
                    <a:pt x="74" y="0"/>
                  </a:lnTo>
                  <a:lnTo>
                    <a:pt x="86" y="0"/>
                  </a:lnTo>
                  <a:lnTo>
                    <a:pt x="101" y="28"/>
                  </a:lnTo>
                  <a:lnTo>
                    <a:pt x="123" y="79"/>
                  </a:lnTo>
                  <a:lnTo>
                    <a:pt x="147" y="143"/>
                  </a:lnTo>
                  <a:lnTo>
                    <a:pt x="170" y="213"/>
                  </a:lnTo>
                  <a:lnTo>
                    <a:pt x="186" y="281"/>
                  </a:lnTo>
                  <a:lnTo>
                    <a:pt x="196" y="342"/>
                  </a:lnTo>
                  <a:lnTo>
                    <a:pt x="192" y="386"/>
                  </a:lnTo>
                  <a:lnTo>
                    <a:pt x="171" y="408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91280" y="6306840"/>
              <a:ext cx="4680" cy="26640"/>
            </a:xfrm>
            <a:custGeom>
              <a:avLst/>
              <a:gdLst/>
              <a:ahLst/>
              <a:rect l="l" t="t" r="r" b="b"/>
              <a:pathLst>
                <a:path w="10" h="42">
                  <a:moveTo>
                    <a:pt x="6" y="42"/>
                  </a:moveTo>
                  <a:lnTo>
                    <a:pt x="0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10" y="28"/>
                  </a:lnTo>
                  <a:lnTo>
                    <a:pt x="8" y="35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79040" y="6277680"/>
              <a:ext cx="2160" cy="126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0" y="20"/>
                  </a:moveTo>
                  <a:lnTo>
                    <a:pt x="0" y="10"/>
                  </a:lnTo>
                  <a:lnTo>
                    <a:pt x="0" y="5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18240" y="6160680"/>
              <a:ext cx="193320" cy="114120"/>
            </a:xfrm>
            <a:custGeom>
              <a:avLst/>
              <a:gdLst/>
              <a:ahLst/>
              <a:rect l="l" t="t" r="r" b="b"/>
              <a:pathLst>
                <a:path w="318" h="181">
                  <a:moveTo>
                    <a:pt x="115" y="181"/>
                  </a:moveTo>
                  <a:lnTo>
                    <a:pt x="84" y="177"/>
                  </a:lnTo>
                  <a:lnTo>
                    <a:pt x="60" y="171"/>
                  </a:lnTo>
                  <a:lnTo>
                    <a:pt x="40" y="163"/>
                  </a:lnTo>
                  <a:lnTo>
                    <a:pt x="25" y="151"/>
                  </a:lnTo>
                  <a:lnTo>
                    <a:pt x="13" y="135"/>
                  </a:lnTo>
                  <a:lnTo>
                    <a:pt x="6" y="115"/>
                  </a:lnTo>
                  <a:lnTo>
                    <a:pt x="0" y="89"/>
                  </a:lnTo>
                  <a:lnTo>
                    <a:pt x="0" y="60"/>
                  </a:lnTo>
                  <a:lnTo>
                    <a:pt x="22" y="35"/>
                  </a:lnTo>
                  <a:lnTo>
                    <a:pt x="50" y="19"/>
                  </a:lnTo>
                  <a:lnTo>
                    <a:pt x="83" y="6"/>
                  </a:lnTo>
                  <a:lnTo>
                    <a:pt x="119" y="1"/>
                  </a:lnTo>
                  <a:lnTo>
                    <a:pt x="156" y="0"/>
                  </a:lnTo>
                  <a:lnTo>
                    <a:pt x="195" y="2"/>
                  </a:lnTo>
                  <a:lnTo>
                    <a:pt x="230" y="8"/>
                  </a:lnTo>
                  <a:lnTo>
                    <a:pt x="266" y="16"/>
                  </a:lnTo>
                  <a:lnTo>
                    <a:pt x="305" y="58"/>
                  </a:lnTo>
                  <a:lnTo>
                    <a:pt x="318" y="93"/>
                  </a:lnTo>
                  <a:lnTo>
                    <a:pt x="310" y="119"/>
                  </a:lnTo>
                  <a:lnTo>
                    <a:pt x="286" y="140"/>
                  </a:lnTo>
                  <a:lnTo>
                    <a:pt x="248" y="154"/>
                  </a:lnTo>
                  <a:lnTo>
                    <a:pt x="205" y="166"/>
                  </a:lnTo>
                  <a:lnTo>
                    <a:pt x="159" y="173"/>
                  </a:lnTo>
                  <a:lnTo>
                    <a:pt x="115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25440" y="6173640"/>
              <a:ext cx="174960" cy="90000"/>
            </a:xfrm>
            <a:custGeom>
              <a:avLst/>
              <a:gdLst/>
              <a:ahLst/>
              <a:rect l="l" t="t" r="r" b="b"/>
              <a:pathLst>
                <a:path w="287" h="142">
                  <a:moveTo>
                    <a:pt x="66" y="142"/>
                  </a:moveTo>
                  <a:lnTo>
                    <a:pt x="47" y="135"/>
                  </a:lnTo>
                  <a:lnTo>
                    <a:pt x="32" y="130"/>
                  </a:lnTo>
                  <a:lnTo>
                    <a:pt x="20" y="122"/>
                  </a:lnTo>
                  <a:lnTo>
                    <a:pt x="12" y="115"/>
                  </a:lnTo>
                  <a:lnTo>
                    <a:pt x="5" y="104"/>
                  </a:lnTo>
                  <a:lnTo>
                    <a:pt x="1" y="92"/>
                  </a:lnTo>
                  <a:lnTo>
                    <a:pt x="0" y="76"/>
                  </a:lnTo>
                  <a:lnTo>
                    <a:pt x="0" y="59"/>
                  </a:lnTo>
                  <a:lnTo>
                    <a:pt x="27" y="35"/>
                  </a:lnTo>
                  <a:lnTo>
                    <a:pt x="59" y="19"/>
                  </a:lnTo>
                  <a:lnTo>
                    <a:pt x="96" y="7"/>
                  </a:lnTo>
                  <a:lnTo>
                    <a:pt x="137" y="1"/>
                  </a:lnTo>
                  <a:lnTo>
                    <a:pt x="176" y="0"/>
                  </a:lnTo>
                  <a:lnTo>
                    <a:pt x="215" y="5"/>
                  </a:lnTo>
                  <a:lnTo>
                    <a:pt x="252" y="16"/>
                  </a:lnTo>
                  <a:lnTo>
                    <a:pt x="287" y="34"/>
                  </a:lnTo>
                  <a:lnTo>
                    <a:pt x="283" y="68"/>
                  </a:lnTo>
                  <a:lnTo>
                    <a:pt x="268" y="95"/>
                  </a:lnTo>
                  <a:lnTo>
                    <a:pt x="241" y="114"/>
                  </a:lnTo>
                  <a:lnTo>
                    <a:pt x="208" y="127"/>
                  </a:lnTo>
                  <a:lnTo>
                    <a:pt x="169" y="134"/>
                  </a:lnTo>
                  <a:lnTo>
                    <a:pt x="131" y="138"/>
                  </a:lnTo>
                  <a:lnTo>
                    <a:pt x="96" y="139"/>
                  </a:lnTo>
                  <a:lnTo>
                    <a:pt x="66" y="142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77640" y="6226920"/>
              <a:ext cx="14400" cy="2304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8" y="36"/>
                  </a:moveTo>
                  <a:lnTo>
                    <a:pt x="8" y="25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0" y="11"/>
                  </a:lnTo>
                  <a:lnTo>
                    <a:pt x="1" y="5"/>
                  </a:lnTo>
                  <a:lnTo>
                    <a:pt x="3" y="0"/>
                  </a:lnTo>
                  <a:lnTo>
                    <a:pt x="6" y="4"/>
                  </a:lnTo>
                  <a:lnTo>
                    <a:pt x="8" y="8"/>
                  </a:lnTo>
                  <a:lnTo>
                    <a:pt x="11" y="7"/>
                  </a:lnTo>
                  <a:lnTo>
                    <a:pt x="14" y="5"/>
                  </a:lnTo>
                  <a:lnTo>
                    <a:pt x="19" y="11"/>
                  </a:lnTo>
                  <a:lnTo>
                    <a:pt x="23" y="16"/>
                  </a:lnTo>
                  <a:lnTo>
                    <a:pt x="24" y="24"/>
                  </a:lnTo>
                  <a:lnTo>
                    <a:pt x="23" y="36"/>
                  </a:lnTo>
                  <a:lnTo>
                    <a:pt x="15" y="36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42440" y="6226920"/>
              <a:ext cx="4680" cy="1620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25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4" y="1"/>
                  </a:lnTo>
                  <a:lnTo>
                    <a:pt x="8" y="2"/>
                  </a:lnTo>
                  <a:lnTo>
                    <a:pt x="8" y="12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71240" y="6217920"/>
              <a:ext cx="10800" cy="187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3" y="30"/>
                  </a:moveTo>
                  <a:lnTo>
                    <a:pt x="2" y="19"/>
                  </a:lnTo>
                  <a:lnTo>
                    <a:pt x="0" y="11"/>
                  </a:lnTo>
                  <a:lnTo>
                    <a:pt x="0" y="4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8" y="8"/>
                  </a:lnTo>
                  <a:lnTo>
                    <a:pt x="15" y="14"/>
                  </a:lnTo>
                  <a:lnTo>
                    <a:pt x="14" y="19"/>
                  </a:lnTo>
                  <a:lnTo>
                    <a:pt x="8" y="23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774640" y="6116040"/>
              <a:ext cx="166320" cy="96480"/>
            </a:xfrm>
            <a:custGeom>
              <a:avLst/>
              <a:gdLst/>
              <a:ahLst/>
              <a:rect l="l" t="t" r="r" b="b"/>
              <a:pathLst>
                <a:path w="275" h="151">
                  <a:moveTo>
                    <a:pt x="110" y="151"/>
                  </a:moveTo>
                  <a:lnTo>
                    <a:pt x="52" y="136"/>
                  </a:lnTo>
                  <a:lnTo>
                    <a:pt x="16" y="120"/>
                  </a:lnTo>
                  <a:lnTo>
                    <a:pt x="0" y="98"/>
                  </a:lnTo>
                  <a:lnTo>
                    <a:pt x="2" y="78"/>
                  </a:lnTo>
                  <a:lnTo>
                    <a:pt x="16" y="55"/>
                  </a:lnTo>
                  <a:lnTo>
                    <a:pt x="46" y="35"/>
                  </a:lnTo>
                  <a:lnTo>
                    <a:pt x="85" y="17"/>
                  </a:lnTo>
                  <a:lnTo>
                    <a:pt x="134" y="5"/>
                  </a:lnTo>
                  <a:lnTo>
                    <a:pt x="146" y="2"/>
                  </a:lnTo>
                  <a:lnTo>
                    <a:pt x="159" y="1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0" y="0"/>
                  </a:lnTo>
                  <a:lnTo>
                    <a:pt x="188" y="0"/>
                  </a:lnTo>
                  <a:lnTo>
                    <a:pt x="196" y="0"/>
                  </a:lnTo>
                  <a:lnTo>
                    <a:pt x="209" y="0"/>
                  </a:lnTo>
                  <a:lnTo>
                    <a:pt x="209" y="4"/>
                  </a:lnTo>
                  <a:lnTo>
                    <a:pt x="209" y="8"/>
                  </a:lnTo>
                  <a:lnTo>
                    <a:pt x="219" y="8"/>
                  </a:lnTo>
                  <a:lnTo>
                    <a:pt x="230" y="12"/>
                  </a:lnTo>
                  <a:lnTo>
                    <a:pt x="240" y="16"/>
                  </a:lnTo>
                  <a:lnTo>
                    <a:pt x="249" y="24"/>
                  </a:lnTo>
                  <a:lnTo>
                    <a:pt x="255" y="32"/>
                  </a:lnTo>
                  <a:lnTo>
                    <a:pt x="261" y="43"/>
                  </a:lnTo>
                  <a:lnTo>
                    <a:pt x="268" y="54"/>
                  </a:lnTo>
                  <a:lnTo>
                    <a:pt x="275" y="69"/>
                  </a:lnTo>
                  <a:lnTo>
                    <a:pt x="268" y="92"/>
                  </a:lnTo>
                  <a:lnTo>
                    <a:pt x="253" y="112"/>
                  </a:lnTo>
                  <a:lnTo>
                    <a:pt x="233" y="125"/>
                  </a:lnTo>
                  <a:lnTo>
                    <a:pt x="210" y="136"/>
                  </a:lnTo>
                  <a:lnTo>
                    <a:pt x="183" y="142"/>
                  </a:lnTo>
                  <a:lnTo>
                    <a:pt x="157" y="147"/>
                  </a:lnTo>
                  <a:lnTo>
                    <a:pt x="131" y="148"/>
                  </a:lnTo>
                  <a:lnTo>
                    <a:pt x="11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779680" y="6123960"/>
              <a:ext cx="153000" cy="73440"/>
            </a:xfrm>
            <a:custGeom>
              <a:avLst/>
              <a:gdLst/>
              <a:ahLst/>
              <a:rect l="l" t="t" r="r" b="b"/>
              <a:pathLst>
                <a:path w="251" h="117">
                  <a:moveTo>
                    <a:pt x="90" y="117"/>
                  </a:moveTo>
                  <a:lnTo>
                    <a:pt x="58" y="109"/>
                  </a:lnTo>
                  <a:lnTo>
                    <a:pt x="35" y="103"/>
                  </a:lnTo>
                  <a:lnTo>
                    <a:pt x="16" y="98"/>
                  </a:lnTo>
                  <a:lnTo>
                    <a:pt x="5" y="94"/>
                  </a:lnTo>
                  <a:lnTo>
                    <a:pt x="0" y="84"/>
                  </a:lnTo>
                  <a:lnTo>
                    <a:pt x="2" y="75"/>
                  </a:lnTo>
                  <a:lnTo>
                    <a:pt x="13" y="60"/>
                  </a:lnTo>
                  <a:lnTo>
                    <a:pt x="34" y="41"/>
                  </a:lnTo>
                  <a:lnTo>
                    <a:pt x="61" y="25"/>
                  </a:lnTo>
                  <a:lnTo>
                    <a:pt x="93" y="13"/>
                  </a:lnTo>
                  <a:lnTo>
                    <a:pt x="128" y="3"/>
                  </a:lnTo>
                  <a:lnTo>
                    <a:pt x="165" y="0"/>
                  </a:lnTo>
                  <a:lnTo>
                    <a:pt x="196" y="3"/>
                  </a:lnTo>
                  <a:lnTo>
                    <a:pt x="224" y="17"/>
                  </a:lnTo>
                  <a:lnTo>
                    <a:pt x="242" y="41"/>
                  </a:lnTo>
                  <a:lnTo>
                    <a:pt x="251" y="78"/>
                  </a:lnTo>
                  <a:lnTo>
                    <a:pt x="232" y="90"/>
                  </a:lnTo>
                  <a:lnTo>
                    <a:pt x="215" y="99"/>
                  </a:lnTo>
                  <a:lnTo>
                    <a:pt x="195" y="106"/>
                  </a:lnTo>
                  <a:lnTo>
                    <a:pt x="174" y="111"/>
                  </a:lnTo>
                  <a:lnTo>
                    <a:pt x="153" y="114"/>
                  </a:lnTo>
                  <a:lnTo>
                    <a:pt x="132" y="115"/>
                  </a:lnTo>
                  <a:lnTo>
                    <a:pt x="111" y="115"/>
                  </a:lnTo>
                  <a:lnTo>
                    <a:pt x="90" y="117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39360" y="6070680"/>
              <a:ext cx="935280" cy="116640"/>
            </a:xfrm>
            <a:custGeom>
              <a:avLst/>
              <a:gdLst/>
              <a:ahLst/>
              <a:rect l="l" t="t" r="r" b="b"/>
              <a:pathLst>
                <a:path w="1537" h="184">
                  <a:moveTo>
                    <a:pt x="701" y="184"/>
                  </a:moveTo>
                  <a:lnTo>
                    <a:pt x="644" y="181"/>
                  </a:lnTo>
                  <a:lnTo>
                    <a:pt x="551" y="180"/>
                  </a:lnTo>
                  <a:lnTo>
                    <a:pt x="433" y="173"/>
                  </a:lnTo>
                  <a:lnTo>
                    <a:pt x="307" y="164"/>
                  </a:lnTo>
                  <a:lnTo>
                    <a:pt x="186" y="142"/>
                  </a:lnTo>
                  <a:lnTo>
                    <a:pt x="86" y="111"/>
                  </a:lnTo>
                  <a:lnTo>
                    <a:pt x="18" y="63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9" y="11"/>
                  </a:lnTo>
                  <a:lnTo>
                    <a:pt x="30" y="22"/>
                  </a:lnTo>
                  <a:lnTo>
                    <a:pt x="41" y="30"/>
                  </a:lnTo>
                  <a:lnTo>
                    <a:pt x="57" y="39"/>
                  </a:lnTo>
                  <a:lnTo>
                    <a:pt x="72" y="45"/>
                  </a:lnTo>
                  <a:lnTo>
                    <a:pt x="88" y="51"/>
                  </a:lnTo>
                  <a:lnTo>
                    <a:pt x="104" y="57"/>
                  </a:lnTo>
                  <a:lnTo>
                    <a:pt x="122" y="63"/>
                  </a:lnTo>
                  <a:lnTo>
                    <a:pt x="284" y="86"/>
                  </a:lnTo>
                  <a:lnTo>
                    <a:pt x="451" y="105"/>
                  </a:lnTo>
                  <a:lnTo>
                    <a:pt x="620" y="120"/>
                  </a:lnTo>
                  <a:lnTo>
                    <a:pt x="790" y="127"/>
                  </a:lnTo>
                  <a:lnTo>
                    <a:pt x="960" y="123"/>
                  </a:lnTo>
                  <a:lnTo>
                    <a:pt x="1129" y="108"/>
                  </a:lnTo>
                  <a:lnTo>
                    <a:pt x="1295" y="80"/>
                  </a:lnTo>
                  <a:lnTo>
                    <a:pt x="1457" y="35"/>
                  </a:lnTo>
                  <a:lnTo>
                    <a:pt x="1461" y="30"/>
                  </a:lnTo>
                  <a:lnTo>
                    <a:pt x="1470" y="26"/>
                  </a:lnTo>
                  <a:lnTo>
                    <a:pt x="1478" y="22"/>
                  </a:lnTo>
                  <a:lnTo>
                    <a:pt x="1490" y="17"/>
                  </a:lnTo>
                  <a:lnTo>
                    <a:pt x="1501" y="13"/>
                  </a:lnTo>
                  <a:lnTo>
                    <a:pt x="1513" y="11"/>
                  </a:lnTo>
                  <a:lnTo>
                    <a:pt x="1524" y="9"/>
                  </a:lnTo>
                  <a:lnTo>
                    <a:pt x="1534" y="11"/>
                  </a:lnTo>
                  <a:lnTo>
                    <a:pt x="1534" y="20"/>
                  </a:lnTo>
                  <a:lnTo>
                    <a:pt x="1537" y="32"/>
                  </a:lnTo>
                  <a:lnTo>
                    <a:pt x="1533" y="34"/>
                  </a:lnTo>
                  <a:lnTo>
                    <a:pt x="1529" y="32"/>
                  </a:lnTo>
                  <a:lnTo>
                    <a:pt x="1502" y="57"/>
                  </a:lnTo>
                  <a:lnTo>
                    <a:pt x="1456" y="80"/>
                  </a:lnTo>
                  <a:lnTo>
                    <a:pt x="1395" y="100"/>
                  </a:lnTo>
                  <a:lnTo>
                    <a:pt x="1329" y="119"/>
                  </a:lnTo>
                  <a:lnTo>
                    <a:pt x="1259" y="134"/>
                  </a:lnTo>
                  <a:lnTo>
                    <a:pt x="1195" y="146"/>
                  </a:lnTo>
                  <a:lnTo>
                    <a:pt x="1141" y="155"/>
                  </a:lnTo>
                  <a:lnTo>
                    <a:pt x="1107" y="162"/>
                  </a:lnTo>
                  <a:lnTo>
                    <a:pt x="1095" y="165"/>
                  </a:lnTo>
                  <a:lnTo>
                    <a:pt x="1083" y="166"/>
                  </a:lnTo>
                  <a:lnTo>
                    <a:pt x="1073" y="168"/>
                  </a:lnTo>
                  <a:lnTo>
                    <a:pt x="1068" y="170"/>
                  </a:lnTo>
                  <a:lnTo>
                    <a:pt x="1020" y="172"/>
                  </a:lnTo>
                  <a:lnTo>
                    <a:pt x="974" y="173"/>
                  </a:lnTo>
                  <a:lnTo>
                    <a:pt x="928" y="174"/>
                  </a:lnTo>
                  <a:lnTo>
                    <a:pt x="884" y="177"/>
                  </a:lnTo>
                  <a:lnTo>
                    <a:pt x="838" y="177"/>
                  </a:lnTo>
                  <a:lnTo>
                    <a:pt x="792" y="180"/>
                  </a:lnTo>
                  <a:lnTo>
                    <a:pt x="746" y="181"/>
                  </a:lnTo>
                  <a:lnTo>
                    <a:pt x="701" y="18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868240" y="6162120"/>
              <a:ext cx="6840" cy="2016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0" y="33"/>
                  </a:moveTo>
                  <a:lnTo>
                    <a:pt x="0" y="22"/>
                  </a:lnTo>
                  <a:lnTo>
                    <a:pt x="0" y="15"/>
                  </a:lnTo>
                  <a:lnTo>
                    <a:pt x="1" y="8"/>
                  </a:lnTo>
                  <a:lnTo>
                    <a:pt x="5" y="0"/>
                  </a:lnTo>
                  <a:lnTo>
                    <a:pt x="7" y="4"/>
                  </a:lnTo>
                  <a:lnTo>
                    <a:pt x="8" y="10"/>
                  </a:lnTo>
                  <a:lnTo>
                    <a:pt x="9" y="17"/>
                  </a:lnTo>
                  <a:lnTo>
                    <a:pt x="11" y="27"/>
                  </a:lnTo>
                  <a:lnTo>
                    <a:pt x="5" y="2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831880" y="6163560"/>
              <a:ext cx="3240" cy="1728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3" y="27"/>
                  </a:moveTo>
                  <a:lnTo>
                    <a:pt x="0" y="15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16"/>
                  </a:lnTo>
                  <a:lnTo>
                    <a:pt x="5" y="24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10160" y="5975280"/>
              <a:ext cx="464760" cy="200520"/>
            </a:xfrm>
            <a:custGeom>
              <a:avLst/>
              <a:gdLst/>
              <a:ahLst/>
              <a:rect l="l" t="t" r="r" b="b"/>
              <a:pathLst>
                <a:path w="763" h="317">
                  <a:moveTo>
                    <a:pt x="327" y="317"/>
                  </a:moveTo>
                  <a:lnTo>
                    <a:pt x="311" y="310"/>
                  </a:lnTo>
                  <a:lnTo>
                    <a:pt x="292" y="309"/>
                  </a:lnTo>
                  <a:lnTo>
                    <a:pt x="271" y="309"/>
                  </a:lnTo>
                  <a:lnTo>
                    <a:pt x="250" y="313"/>
                  </a:lnTo>
                  <a:lnTo>
                    <a:pt x="225" y="314"/>
                  </a:lnTo>
                  <a:lnTo>
                    <a:pt x="204" y="317"/>
                  </a:lnTo>
                  <a:lnTo>
                    <a:pt x="184" y="316"/>
                  </a:lnTo>
                  <a:lnTo>
                    <a:pt x="169" y="312"/>
                  </a:lnTo>
                  <a:lnTo>
                    <a:pt x="132" y="309"/>
                  </a:lnTo>
                  <a:lnTo>
                    <a:pt x="96" y="305"/>
                  </a:lnTo>
                  <a:lnTo>
                    <a:pt x="60" y="297"/>
                  </a:lnTo>
                  <a:lnTo>
                    <a:pt x="31" y="284"/>
                  </a:lnTo>
                  <a:lnTo>
                    <a:pt x="9" y="266"/>
                  </a:lnTo>
                  <a:lnTo>
                    <a:pt x="0" y="244"/>
                  </a:lnTo>
                  <a:lnTo>
                    <a:pt x="5" y="217"/>
                  </a:lnTo>
                  <a:lnTo>
                    <a:pt x="31" y="184"/>
                  </a:lnTo>
                  <a:lnTo>
                    <a:pt x="51" y="184"/>
                  </a:lnTo>
                  <a:lnTo>
                    <a:pt x="71" y="187"/>
                  </a:lnTo>
                  <a:lnTo>
                    <a:pt x="92" y="188"/>
                  </a:lnTo>
                  <a:lnTo>
                    <a:pt x="112" y="190"/>
                  </a:lnTo>
                  <a:lnTo>
                    <a:pt x="129" y="186"/>
                  </a:lnTo>
                  <a:lnTo>
                    <a:pt x="150" y="179"/>
                  </a:lnTo>
                  <a:lnTo>
                    <a:pt x="169" y="165"/>
                  </a:lnTo>
                  <a:lnTo>
                    <a:pt x="189" y="146"/>
                  </a:lnTo>
                  <a:lnTo>
                    <a:pt x="194" y="146"/>
                  </a:lnTo>
                  <a:lnTo>
                    <a:pt x="202" y="151"/>
                  </a:lnTo>
                  <a:lnTo>
                    <a:pt x="213" y="155"/>
                  </a:lnTo>
                  <a:lnTo>
                    <a:pt x="225" y="160"/>
                  </a:lnTo>
                  <a:lnTo>
                    <a:pt x="238" y="165"/>
                  </a:lnTo>
                  <a:lnTo>
                    <a:pt x="251" y="172"/>
                  </a:lnTo>
                  <a:lnTo>
                    <a:pt x="263" y="176"/>
                  </a:lnTo>
                  <a:lnTo>
                    <a:pt x="277" y="182"/>
                  </a:lnTo>
                  <a:lnTo>
                    <a:pt x="353" y="183"/>
                  </a:lnTo>
                  <a:lnTo>
                    <a:pt x="416" y="186"/>
                  </a:lnTo>
                  <a:lnTo>
                    <a:pt x="470" y="184"/>
                  </a:lnTo>
                  <a:lnTo>
                    <a:pt x="519" y="179"/>
                  </a:lnTo>
                  <a:lnTo>
                    <a:pt x="561" y="163"/>
                  </a:lnTo>
                  <a:lnTo>
                    <a:pt x="604" y="137"/>
                  </a:lnTo>
                  <a:lnTo>
                    <a:pt x="646" y="96"/>
                  </a:lnTo>
                  <a:lnTo>
                    <a:pt x="694" y="41"/>
                  </a:lnTo>
                  <a:lnTo>
                    <a:pt x="696" y="30"/>
                  </a:lnTo>
                  <a:lnTo>
                    <a:pt x="700" y="21"/>
                  </a:lnTo>
                  <a:lnTo>
                    <a:pt x="703" y="10"/>
                  </a:lnTo>
                  <a:lnTo>
                    <a:pt x="707" y="0"/>
                  </a:lnTo>
                  <a:lnTo>
                    <a:pt x="731" y="11"/>
                  </a:lnTo>
                  <a:lnTo>
                    <a:pt x="749" y="34"/>
                  </a:lnTo>
                  <a:lnTo>
                    <a:pt x="758" y="64"/>
                  </a:lnTo>
                  <a:lnTo>
                    <a:pt x="763" y="100"/>
                  </a:lnTo>
                  <a:lnTo>
                    <a:pt x="757" y="136"/>
                  </a:lnTo>
                  <a:lnTo>
                    <a:pt x="746" y="172"/>
                  </a:lnTo>
                  <a:lnTo>
                    <a:pt x="730" y="202"/>
                  </a:lnTo>
                  <a:lnTo>
                    <a:pt x="707" y="224"/>
                  </a:lnTo>
                  <a:lnTo>
                    <a:pt x="687" y="241"/>
                  </a:lnTo>
                  <a:lnTo>
                    <a:pt x="648" y="259"/>
                  </a:lnTo>
                  <a:lnTo>
                    <a:pt x="595" y="272"/>
                  </a:lnTo>
                  <a:lnTo>
                    <a:pt x="535" y="284"/>
                  </a:lnTo>
                  <a:lnTo>
                    <a:pt x="473" y="294"/>
                  </a:lnTo>
                  <a:lnTo>
                    <a:pt x="415" y="302"/>
                  </a:lnTo>
                  <a:lnTo>
                    <a:pt x="366" y="309"/>
                  </a:lnTo>
                  <a:lnTo>
                    <a:pt x="335" y="314"/>
                  </a:lnTo>
                  <a:lnTo>
                    <a:pt x="331" y="316"/>
                  </a:lnTo>
                  <a:lnTo>
                    <a:pt x="327" y="317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896320" y="6162120"/>
              <a:ext cx="5760" cy="1512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0" y="25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6"/>
                  </a:lnTo>
                  <a:lnTo>
                    <a:pt x="11" y="11"/>
                  </a:lnTo>
                  <a:lnTo>
                    <a:pt x="10" y="17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77160" y="6064200"/>
              <a:ext cx="117720" cy="88560"/>
            </a:xfrm>
            <a:custGeom>
              <a:avLst/>
              <a:gdLst/>
              <a:ahLst/>
              <a:rect l="l" t="t" r="r" b="b"/>
              <a:pathLst>
                <a:path w="193" h="141">
                  <a:moveTo>
                    <a:pt x="105" y="141"/>
                  </a:moveTo>
                  <a:lnTo>
                    <a:pt x="89" y="134"/>
                  </a:lnTo>
                  <a:lnTo>
                    <a:pt x="75" y="129"/>
                  </a:lnTo>
                  <a:lnTo>
                    <a:pt x="62" y="125"/>
                  </a:lnTo>
                  <a:lnTo>
                    <a:pt x="50" y="120"/>
                  </a:lnTo>
                  <a:lnTo>
                    <a:pt x="36" y="116"/>
                  </a:lnTo>
                  <a:lnTo>
                    <a:pt x="24" y="112"/>
                  </a:lnTo>
                  <a:lnTo>
                    <a:pt x="12" y="110"/>
                  </a:lnTo>
                  <a:lnTo>
                    <a:pt x="0" y="110"/>
                  </a:lnTo>
                  <a:lnTo>
                    <a:pt x="4" y="92"/>
                  </a:lnTo>
                  <a:lnTo>
                    <a:pt x="12" y="77"/>
                  </a:lnTo>
                  <a:lnTo>
                    <a:pt x="20" y="65"/>
                  </a:lnTo>
                  <a:lnTo>
                    <a:pt x="29" y="53"/>
                  </a:lnTo>
                  <a:lnTo>
                    <a:pt x="39" y="41"/>
                  </a:lnTo>
                  <a:lnTo>
                    <a:pt x="48" y="28"/>
                  </a:lnTo>
                  <a:lnTo>
                    <a:pt x="55" y="14"/>
                  </a:lnTo>
                  <a:lnTo>
                    <a:pt x="63" y="0"/>
                  </a:lnTo>
                  <a:lnTo>
                    <a:pt x="74" y="0"/>
                  </a:lnTo>
                  <a:lnTo>
                    <a:pt x="92" y="3"/>
                  </a:lnTo>
                  <a:lnTo>
                    <a:pt x="111" y="5"/>
                  </a:lnTo>
                  <a:lnTo>
                    <a:pt x="132" y="10"/>
                  </a:lnTo>
                  <a:lnTo>
                    <a:pt x="151" y="14"/>
                  </a:lnTo>
                  <a:lnTo>
                    <a:pt x="170" y="19"/>
                  </a:lnTo>
                  <a:lnTo>
                    <a:pt x="185" y="24"/>
                  </a:lnTo>
                  <a:lnTo>
                    <a:pt x="193" y="33"/>
                  </a:lnTo>
                  <a:lnTo>
                    <a:pt x="186" y="42"/>
                  </a:lnTo>
                  <a:lnTo>
                    <a:pt x="177" y="58"/>
                  </a:lnTo>
                  <a:lnTo>
                    <a:pt x="162" y="76"/>
                  </a:lnTo>
                  <a:lnTo>
                    <a:pt x="148" y="96"/>
                  </a:lnTo>
                  <a:lnTo>
                    <a:pt x="132" y="114"/>
                  </a:lnTo>
                  <a:lnTo>
                    <a:pt x="120" y="129"/>
                  </a:lnTo>
                  <a:lnTo>
                    <a:pt x="109" y="138"/>
                  </a:lnTo>
                  <a:lnTo>
                    <a:pt x="105" y="14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19880" y="5982840"/>
              <a:ext cx="335520" cy="156240"/>
            </a:xfrm>
            <a:custGeom>
              <a:avLst/>
              <a:gdLst/>
              <a:ahLst/>
              <a:rect l="l" t="t" r="r" b="b"/>
              <a:pathLst>
                <a:path w="550" h="246">
                  <a:moveTo>
                    <a:pt x="16" y="246"/>
                  </a:moveTo>
                  <a:lnTo>
                    <a:pt x="8" y="246"/>
                  </a:lnTo>
                  <a:lnTo>
                    <a:pt x="0" y="246"/>
                  </a:lnTo>
                  <a:lnTo>
                    <a:pt x="11" y="188"/>
                  </a:lnTo>
                  <a:lnTo>
                    <a:pt x="34" y="133"/>
                  </a:lnTo>
                  <a:lnTo>
                    <a:pt x="65" y="85"/>
                  </a:lnTo>
                  <a:lnTo>
                    <a:pt x="105" y="46"/>
                  </a:lnTo>
                  <a:lnTo>
                    <a:pt x="151" y="16"/>
                  </a:lnTo>
                  <a:lnTo>
                    <a:pt x="204" y="1"/>
                  </a:lnTo>
                  <a:lnTo>
                    <a:pt x="259" y="0"/>
                  </a:lnTo>
                  <a:lnTo>
                    <a:pt x="320" y="17"/>
                  </a:lnTo>
                  <a:lnTo>
                    <a:pt x="350" y="37"/>
                  </a:lnTo>
                  <a:lnTo>
                    <a:pt x="389" y="54"/>
                  </a:lnTo>
                  <a:lnTo>
                    <a:pt x="433" y="67"/>
                  </a:lnTo>
                  <a:lnTo>
                    <a:pt x="476" y="82"/>
                  </a:lnTo>
                  <a:lnTo>
                    <a:pt x="512" y="100"/>
                  </a:lnTo>
                  <a:lnTo>
                    <a:pt x="540" y="127"/>
                  </a:lnTo>
                  <a:lnTo>
                    <a:pt x="550" y="165"/>
                  </a:lnTo>
                  <a:lnTo>
                    <a:pt x="544" y="216"/>
                  </a:lnTo>
                  <a:lnTo>
                    <a:pt x="514" y="216"/>
                  </a:lnTo>
                  <a:lnTo>
                    <a:pt x="484" y="217"/>
                  </a:lnTo>
                  <a:lnTo>
                    <a:pt x="452" y="219"/>
                  </a:lnTo>
                  <a:lnTo>
                    <a:pt x="420" y="221"/>
                  </a:lnTo>
                  <a:lnTo>
                    <a:pt x="388" y="224"/>
                  </a:lnTo>
                  <a:lnTo>
                    <a:pt x="360" y="230"/>
                  </a:lnTo>
                  <a:lnTo>
                    <a:pt x="333" y="235"/>
                  </a:lnTo>
                  <a:lnTo>
                    <a:pt x="310" y="243"/>
                  </a:lnTo>
                  <a:lnTo>
                    <a:pt x="273" y="243"/>
                  </a:lnTo>
                  <a:lnTo>
                    <a:pt x="243" y="243"/>
                  </a:lnTo>
                  <a:lnTo>
                    <a:pt x="216" y="243"/>
                  </a:lnTo>
                  <a:lnTo>
                    <a:pt x="190" y="244"/>
                  </a:lnTo>
                  <a:lnTo>
                    <a:pt x="159" y="244"/>
                  </a:lnTo>
                  <a:lnTo>
                    <a:pt x="123" y="244"/>
                  </a:lnTo>
                  <a:lnTo>
                    <a:pt x="75" y="244"/>
                  </a:lnTo>
                  <a:lnTo>
                    <a:pt x="16" y="246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513480" y="3758760"/>
              <a:ext cx="2375280" cy="2378880"/>
            </a:xfrm>
            <a:custGeom>
              <a:avLst/>
              <a:gdLst/>
              <a:ahLst/>
              <a:rect l="l" t="t" r="r" b="b"/>
              <a:pathLst>
                <a:path w="3907" h="3742">
                  <a:moveTo>
                    <a:pt x="522" y="3742"/>
                  </a:moveTo>
                  <a:lnTo>
                    <a:pt x="496" y="3737"/>
                  </a:lnTo>
                  <a:lnTo>
                    <a:pt x="470" y="3734"/>
                  </a:lnTo>
                  <a:lnTo>
                    <a:pt x="445" y="3730"/>
                  </a:lnTo>
                  <a:lnTo>
                    <a:pt x="422" y="3727"/>
                  </a:lnTo>
                  <a:lnTo>
                    <a:pt x="400" y="3719"/>
                  </a:lnTo>
                  <a:lnTo>
                    <a:pt x="384" y="3710"/>
                  </a:lnTo>
                  <a:lnTo>
                    <a:pt x="373" y="3695"/>
                  </a:lnTo>
                  <a:lnTo>
                    <a:pt x="370" y="3676"/>
                  </a:lnTo>
                  <a:lnTo>
                    <a:pt x="366" y="3669"/>
                  </a:lnTo>
                  <a:lnTo>
                    <a:pt x="362" y="3665"/>
                  </a:lnTo>
                  <a:lnTo>
                    <a:pt x="322" y="3662"/>
                  </a:lnTo>
                  <a:lnTo>
                    <a:pt x="278" y="3660"/>
                  </a:lnTo>
                  <a:lnTo>
                    <a:pt x="231" y="3651"/>
                  </a:lnTo>
                  <a:lnTo>
                    <a:pt x="185" y="3642"/>
                  </a:lnTo>
                  <a:lnTo>
                    <a:pt x="139" y="3628"/>
                  </a:lnTo>
                  <a:lnTo>
                    <a:pt x="98" y="3611"/>
                  </a:lnTo>
                  <a:lnTo>
                    <a:pt x="64" y="3589"/>
                  </a:lnTo>
                  <a:lnTo>
                    <a:pt x="41" y="3563"/>
                  </a:lnTo>
                  <a:lnTo>
                    <a:pt x="32" y="3534"/>
                  </a:lnTo>
                  <a:lnTo>
                    <a:pt x="21" y="3513"/>
                  </a:lnTo>
                  <a:lnTo>
                    <a:pt x="9" y="3499"/>
                  </a:lnTo>
                  <a:lnTo>
                    <a:pt x="2" y="3488"/>
                  </a:lnTo>
                  <a:lnTo>
                    <a:pt x="0" y="3477"/>
                  </a:lnTo>
                  <a:lnTo>
                    <a:pt x="8" y="3467"/>
                  </a:lnTo>
                  <a:lnTo>
                    <a:pt x="27" y="3453"/>
                  </a:lnTo>
                  <a:lnTo>
                    <a:pt x="63" y="3434"/>
                  </a:lnTo>
                  <a:lnTo>
                    <a:pt x="75" y="3428"/>
                  </a:lnTo>
                  <a:lnTo>
                    <a:pt x="87" y="3424"/>
                  </a:lnTo>
                  <a:lnTo>
                    <a:pt x="94" y="3419"/>
                  </a:lnTo>
                  <a:lnTo>
                    <a:pt x="100" y="3415"/>
                  </a:lnTo>
                  <a:lnTo>
                    <a:pt x="100" y="3407"/>
                  </a:lnTo>
                  <a:lnTo>
                    <a:pt x="98" y="3400"/>
                  </a:lnTo>
                  <a:lnTo>
                    <a:pt x="92" y="3390"/>
                  </a:lnTo>
                  <a:lnTo>
                    <a:pt x="83" y="3381"/>
                  </a:lnTo>
                  <a:lnTo>
                    <a:pt x="71" y="3352"/>
                  </a:lnTo>
                  <a:lnTo>
                    <a:pt x="63" y="3327"/>
                  </a:lnTo>
                  <a:lnTo>
                    <a:pt x="59" y="3302"/>
                  </a:lnTo>
                  <a:lnTo>
                    <a:pt x="59" y="3281"/>
                  </a:lnTo>
                  <a:lnTo>
                    <a:pt x="63" y="3258"/>
                  </a:lnTo>
                  <a:lnTo>
                    <a:pt x="74" y="3239"/>
                  </a:lnTo>
                  <a:lnTo>
                    <a:pt x="89" y="3218"/>
                  </a:lnTo>
                  <a:lnTo>
                    <a:pt x="113" y="3202"/>
                  </a:lnTo>
                  <a:lnTo>
                    <a:pt x="108" y="3164"/>
                  </a:lnTo>
                  <a:lnTo>
                    <a:pt x="100" y="3140"/>
                  </a:lnTo>
                  <a:lnTo>
                    <a:pt x="90" y="3122"/>
                  </a:lnTo>
                  <a:lnTo>
                    <a:pt x="83" y="3112"/>
                  </a:lnTo>
                  <a:lnTo>
                    <a:pt x="81" y="3101"/>
                  </a:lnTo>
                  <a:lnTo>
                    <a:pt x="89" y="3090"/>
                  </a:lnTo>
                  <a:lnTo>
                    <a:pt x="109" y="3074"/>
                  </a:lnTo>
                  <a:lnTo>
                    <a:pt x="147" y="3049"/>
                  </a:lnTo>
                  <a:lnTo>
                    <a:pt x="146" y="3030"/>
                  </a:lnTo>
                  <a:lnTo>
                    <a:pt x="144" y="3014"/>
                  </a:lnTo>
                  <a:lnTo>
                    <a:pt x="143" y="2999"/>
                  </a:lnTo>
                  <a:lnTo>
                    <a:pt x="144" y="2984"/>
                  </a:lnTo>
                  <a:lnTo>
                    <a:pt x="144" y="2968"/>
                  </a:lnTo>
                  <a:lnTo>
                    <a:pt x="147" y="2953"/>
                  </a:lnTo>
                  <a:lnTo>
                    <a:pt x="152" y="2937"/>
                  </a:lnTo>
                  <a:lnTo>
                    <a:pt x="163" y="2921"/>
                  </a:lnTo>
                  <a:lnTo>
                    <a:pt x="177" y="2922"/>
                  </a:lnTo>
                  <a:lnTo>
                    <a:pt x="193" y="2924"/>
                  </a:lnTo>
                  <a:lnTo>
                    <a:pt x="209" y="2922"/>
                  </a:lnTo>
                  <a:lnTo>
                    <a:pt x="227" y="2919"/>
                  </a:lnTo>
                  <a:lnTo>
                    <a:pt x="242" y="2913"/>
                  </a:lnTo>
                  <a:lnTo>
                    <a:pt x="257" y="2905"/>
                  </a:lnTo>
                  <a:lnTo>
                    <a:pt x="267" y="2894"/>
                  </a:lnTo>
                  <a:lnTo>
                    <a:pt x="276" y="2879"/>
                  </a:lnTo>
                  <a:lnTo>
                    <a:pt x="254" y="2856"/>
                  </a:lnTo>
                  <a:lnTo>
                    <a:pt x="232" y="2833"/>
                  </a:lnTo>
                  <a:lnTo>
                    <a:pt x="209" y="2807"/>
                  </a:lnTo>
                  <a:lnTo>
                    <a:pt x="190" y="2780"/>
                  </a:lnTo>
                  <a:lnTo>
                    <a:pt x="174" y="2752"/>
                  </a:lnTo>
                  <a:lnTo>
                    <a:pt x="166" y="2723"/>
                  </a:lnTo>
                  <a:lnTo>
                    <a:pt x="167" y="2694"/>
                  </a:lnTo>
                  <a:lnTo>
                    <a:pt x="182" y="2667"/>
                  </a:lnTo>
                  <a:lnTo>
                    <a:pt x="185" y="2667"/>
                  </a:lnTo>
                  <a:lnTo>
                    <a:pt x="192" y="2667"/>
                  </a:lnTo>
                  <a:lnTo>
                    <a:pt x="200" y="2667"/>
                  </a:lnTo>
                  <a:lnTo>
                    <a:pt x="209" y="2668"/>
                  </a:lnTo>
                  <a:lnTo>
                    <a:pt x="217" y="2668"/>
                  </a:lnTo>
                  <a:lnTo>
                    <a:pt x="225" y="2669"/>
                  </a:lnTo>
                  <a:lnTo>
                    <a:pt x="231" y="2669"/>
                  </a:lnTo>
                  <a:lnTo>
                    <a:pt x="235" y="2669"/>
                  </a:lnTo>
                  <a:lnTo>
                    <a:pt x="243" y="2630"/>
                  </a:lnTo>
                  <a:lnTo>
                    <a:pt x="255" y="2600"/>
                  </a:lnTo>
                  <a:lnTo>
                    <a:pt x="269" y="2577"/>
                  </a:lnTo>
                  <a:lnTo>
                    <a:pt x="288" y="2564"/>
                  </a:lnTo>
                  <a:lnTo>
                    <a:pt x="309" y="2554"/>
                  </a:lnTo>
                  <a:lnTo>
                    <a:pt x="336" y="2549"/>
                  </a:lnTo>
                  <a:lnTo>
                    <a:pt x="369" y="2547"/>
                  </a:lnTo>
                  <a:lnTo>
                    <a:pt x="411" y="2550"/>
                  </a:lnTo>
                  <a:lnTo>
                    <a:pt x="416" y="2542"/>
                  </a:lnTo>
                  <a:lnTo>
                    <a:pt x="418" y="2533"/>
                  </a:lnTo>
                  <a:lnTo>
                    <a:pt x="415" y="2522"/>
                  </a:lnTo>
                  <a:lnTo>
                    <a:pt x="412" y="2511"/>
                  </a:lnTo>
                  <a:lnTo>
                    <a:pt x="407" y="2499"/>
                  </a:lnTo>
                  <a:lnTo>
                    <a:pt x="401" y="2489"/>
                  </a:lnTo>
                  <a:lnTo>
                    <a:pt x="397" y="2481"/>
                  </a:lnTo>
                  <a:lnTo>
                    <a:pt x="395" y="2476"/>
                  </a:lnTo>
                  <a:lnTo>
                    <a:pt x="391" y="2464"/>
                  </a:lnTo>
                  <a:lnTo>
                    <a:pt x="389" y="2451"/>
                  </a:lnTo>
                  <a:lnTo>
                    <a:pt x="386" y="2439"/>
                  </a:lnTo>
                  <a:lnTo>
                    <a:pt x="386" y="2430"/>
                  </a:lnTo>
                  <a:lnTo>
                    <a:pt x="385" y="2418"/>
                  </a:lnTo>
                  <a:lnTo>
                    <a:pt x="385" y="2408"/>
                  </a:lnTo>
                  <a:lnTo>
                    <a:pt x="385" y="2397"/>
                  </a:lnTo>
                  <a:lnTo>
                    <a:pt x="386" y="2388"/>
                  </a:lnTo>
                  <a:lnTo>
                    <a:pt x="396" y="2380"/>
                  </a:lnTo>
                  <a:lnTo>
                    <a:pt x="405" y="2376"/>
                  </a:lnTo>
                  <a:lnTo>
                    <a:pt x="414" y="2372"/>
                  </a:lnTo>
                  <a:lnTo>
                    <a:pt x="422" y="2370"/>
                  </a:lnTo>
                  <a:lnTo>
                    <a:pt x="426" y="2365"/>
                  </a:lnTo>
                  <a:lnTo>
                    <a:pt x="431" y="2361"/>
                  </a:lnTo>
                  <a:lnTo>
                    <a:pt x="432" y="2353"/>
                  </a:lnTo>
                  <a:lnTo>
                    <a:pt x="434" y="2340"/>
                  </a:lnTo>
                  <a:lnTo>
                    <a:pt x="422" y="2304"/>
                  </a:lnTo>
                  <a:lnTo>
                    <a:pt x="416" y="2265"/>
                  </a:lnTo>
                  <a:lnTo>
                    <a:pt x="415" y="2223"/>
                  </a:lnTo>
                  <a:lnTo>
                    <a:pt x="423" y="2184"/>
                  </a:lnTo>
                  <a:lnTo>
                    <a:pt x="435" y="2146"/>
                  </a:lnTo>
                  <a:lnTo>
                    <a:pt x="457" y="2116"/>
                  </a:lnTo>
                  <a:lnTo>
                    <a:pt x="485" y="2093"/>
                  </a:lnTo>
                  <a:lnTo>
                    <a:pt x="522" y="2082"/>
                  </a:lnTo>
                  <a:lnTo>
                    <a:pt x="529" y="2086"/>
                  </a:lnTo>
                  <a:lnTo>
                    <a:pt x="537" y="2090"/>
                  </a:lnTo>
                  <a:lnTo>
                    <a:pt x="543" y="2093"/>
                  </a:lnTo>
                  <a:lnTo>
                    <a:pt x="552" y="2097"/>
                  </a:lnTo>
                  <a:lnTo>
                    <a:pt x="560" y="2098"/>
                  </a:lnTo>
                  <a:lnTo>
                    <a:pt x="568" y="2101"/>
                  </a:lnTo>
                  <a:lnTo>
                    <a:pt x="577" y="2102"/>
                  </a:lnTo>
                  <a:lnTo>
                    <a:pt x="591" y="2104"/>
                  </a:lnTo>
                  <a:lnTo>
                    <a:pt x="596" y="2094"/>
                  </a:lnTo>
                  <a:lnTo>
                    <a:pt x="600" y="2085"/>
                  </a:lnTo>
                  <a:lnTo>
                    <a:pt x="603" y="2073"/>
                  </a:lnTo>
                  <a:lnTo>
                    <a:pt x="607" y="2062"/>
                  </a:lnTo>
                  <a:lnTo>
                    <a:pt x="608" y="2050"/>
                  </a:lnTo>
                  <a:lnTo>
                    <a:pt x="614" y="2037"/>
                  </a:lnTo>
                  <a:lnTo>
                    <a:pt x="621" y="2025"/>
                  </a:lnTo>
                  <a:lnTo>
                    <a:pt x="631" y="2016"/>
                  </a:lnTo>
                  <a:lnTo>
                    <a:pt x="675" y="2004"/>
                  </a:lnTo>
                  <a:lnTo>
                    <a:pt x="696" y="1983"/>
                  </a:lnTo>
                  <a:lnTo>
                    <a:pt x="700" y="1956"/>
                  </a:lnTo>
                  <a:lnTo>
                    <a:pt x="694" y="1924"/>
                  </a:lnTo>
                  <a:lnTo>
                    <a:pt x="680" y="1887"/>
                  </a:lnTo>
                  <a:lnTo>
                    <a:pt x="668" y="1848"/>
                  </a:lnTo>
                  <a:lnTo>
                    <a:pt x="658" y="1809"/>
                  </a:lnTo>
                  <a:lnTo>
                    <a:pt x="662" y="1772"/>
                  </a:lnTo>
                  <a:lnTo>
                    <a:pt x="668" y="1755"/>
                  </a:lnTo>
                  <a:lnTo>
                    <a:pt x="676" y="1738"/>
                  </a:lnTo>
                  <a:lnTo>
                    <a:pt x="683" y="1722"/>
                  </a:lnTo>
                  <a:lnTo>
                    <a:pt x="692" y="1709"/>
                  </a:lnTo>
                  <a:lnTo>
                    <a:pt x="702" y="1695"/>
                  </a:lnTo>
                  <a:lnTo>
                    <a:pt x="715" y="1687"/>
                  </a:lnTo>
                  <a:lnTo>
                    <a:pt x="730" y="1680"/>
                  </a:lnTo>
                  <a:lnTo>
                    <a:pt x="750" y="1679"/>
                  </a:lnTo>
                  <a:lnTo>
                    <a:pt x="769" y="1686"/>
                  </a:lnTo>
                  <a:lnTo>
                    <a:pt x="786" y="1690"/>
                  </a:lnTo>
                  <a:lnTo>
                    <a:pt x="798" y="1688"/>
                  </a:lnTo>
                  <a:lnTo>
                    <a:pt x="811" y="1684"/>
                  </a:lnTo>
                  <a:lnTo>
                    <a:pt x="821" y="1676"/>
                  </a:lnTo>
                  <a:lnTo>
                    <a:pt x="832" y="1665"/>
                  </a:lnTo>
                  <a:lnTo>
                    <a:pt x="842" y="1652"/>
                  </a:lnTo>
                  <a:lnTo>
                    <a:pt x="856" y="1640"/>
                  </a:lnTo>
                  <a:lnTo>
                    <a:pt x="883" y="1641"/>
                  </a:lnTo>
                  <a:lnTo>
                    <a:pt x="910" y="1644"/>
                  </a:lnTo>
                  <a:lnTo>
                    <a:pt x="934" y="1646"/>
                  </a:lnTo>
                  <a:lnTo>
                    <a:pt x="960" y="1649"/>
                  </a:lnTo>
                  <a:lnTo>
                    <a:pt x="980" y="1645"/>
                  </a:lnTo>
                  <a:lnTo>
                    <a:pt x="1001" y="1637"/>
                  </a:lnTo>
                  <a:lnTo>
                    <a:pt x="1016" y="1618"/>
                  </a:lnTo>
                  <a:lnTo>
                    <a:pt x="1029" y="1591"/>
                  </a:lnTo>
                  <a:lnTo>
                    <a:pt x="1040" y="1556"/>
                  </a:lnTo>
                  <a:lnTo>
                    <a:pt x="1037" y="1527"/>
                  </a:lnTo>
                  <a:lnTo>
                    <a:pt x="1022" y="1500"/>
                  </a:lnTo>
                  <a:lnTo>
                    <a:pt x="1005" y="1476"/>
                  </a:lnTo>
                  <a:lnTo>
                    <a:pt x="984" y="1452"/>
                  </a:lnTo>
                  <a:lnTo>
                    <a:pt x="970" y="1429"/>
                  </a:lnTo>
                  <a:lnTo>
                    <a:pt x="963" y="1404"/>
                  </a:lnTo>
                  <a:lnTo>
                    <a:pt x="971" y="1379"/>
                  </a:lnTo>
                  <a:lnTo>
                    <a:pt x="1016" y="1345"/>
                  </a:lnTo>
                  <a:lnTo>
                    <a:pt x="1040" y="1312"/>
                  </a:lnTo>
                  <a:lnTo>
                    <a:pt x="1048" y="1280"/>
                  </a:lnTo>
                  <a:lnTo>
                    <a:pt x="1049" y="1249"/>
                  </a:lnTo>
                  <a:lnTo>
                    <a:pt x="1044" y="1215"/>
                  </a:lnTo>
                  <a:lnTo>
                    <a:pt x="1040" y="1178"/>
                  </a:lnTo>
                  <a:lnTo>
                    <a:pt x="1043" y="1139"/>
                  </a:lnTo>
                  <a:lnTo>
                    <a:pt x="1056" y="1097"/>
                  </a:lnTo>
                  <a:lnTo>
                    <a:pt x="1066" y="1044"/>
                  </a:lnTo>
                  <a:lnTo>
                    <a:pt x="1075" y="1009"/>
                  </a:lnTo>
                  <a:lnTo>
                    <a:pt x="1082" y="989"/>
                  </a:lnTo>
                  <a:lnTo>
                    <a:pt x="1093" y="979"/>
                  </a:lnTo>
                  <a:lnTo>
                    <a:pt x="1105" y="977"/>
                  </a:lnTo>
                  <a:lnTo>
                    <a:pt x="1125" y="979"/>
                  </a:lnTo>
                  <a:lnTo>
                    <a:pt x="1154" y="984"/>
                  </a:lnTo>
                  <a:lnTo>
                    <a:pt x="1194" y="986"/>
                  </a:lnTo>
                  <a:lnTo>
                    <a:pt x="1201" y="973"/>
                  </a:lnTo>
                  <a:lnTo>
                    <a:pt x="1205" y="955"/>
                  </a:lnTo>
                  <a:lnTo>
                    <a:pt x="1206" y="933"/>
                  </a:lnTo>
                  <a:lnTo>
                    <a:pt x="1209" y="912"/>
                  </a:lnTo>
                  <a:lnTo>
                    <a:pt x="1209" y="889"/>
                  </a:lnTo>
                  <a:lnTo>
                    <a:pt x="1214" y="869"/>
                  </a:lnTo>
                  <a:lnTo>
                    <a:pt x="1221" y="850"/>
                  </a:lnTo>
                  <a:lnTo>
                    <a:pt x="1236" y="837"/>
                  </a:lnTo>
                  <a:lnTo>
                    <a:pt x="1290" y="824"/>
                  </a:lnTo>
                  <a:lnTo>
                    <a:pt x="1325" y="809"/>
                  </a:lnTo>
                  <a:lnTo>
                    <a:pt x="1344" y="791"/>
                  </a:lnTo>
                  <a:lnTo>
                    <a:pt x="1351" y="771"/>
                  </a:lnTo>
                  <a:lnTo>
                    <a:pt x="1348" y="745"/>
                  </a:lnTo>
                  <a:lnTo>
                    <a:pt x="1342" y="716"/>
                  </a:lnTo>
                  <a:lnTo>
                    <a:pt x="1335" y="679"/>
                  </a:lnTo>
                  <a:lnTo>
                    <a:pt x="1332" y="639"/>
                  </a:lnTo>
                  <a:lnTo>
                    <a:pt x="1342" y="597"/>
                  </a:lnTo>
                  <a:lnTo>
                    <a:pt x="1352" y="563"/>
                  </a:lnTo>
                  <a:lnTo>
                    <a:pt x="1365" y="536"/>
                  </a:lnTo>
                  <a:lnTo>
                    <a:pt x="1379" y="518"/>
                  </a:lnTo>
                  <a:lnTo>
                    <a:pt x="1397" y="506"/>
                  </a:lnTo>
                  <a:lnTo>
                    <a:pt x="1421" y="503"/>
                  </a:lnTo>
                  <a:lnTo>
                    <a:pt x="1453" y="510"/>
                  </a:lnTo>
                  <a:lnTo>
                    <a:pt x="1493" y="526"/>
                  </a:lnTo>
                  <a:lnTo>
                    <a:pt x="1499" y="525"/>
                  </a:lnTo>
                  <a:lnTo>
                    <a:pt x="1505" y="525"/>
                  </a:lnTo>
                  <a:lnTo>
                    <a:pt x="1512" y="522"/>
                  </a:lnTo>
                  <a:lnTo>
                    <a:pt x="1520" y="518"/>
                  </a:lnTo>
                  <a:lnTo>
                    <a:pt x="1532" y="475"/>
                  </a:lnTo>
                  <a:lnTo>
                    <a:pt x="1547" y="438"/>
                  </a:lnTo>
                  <a:lnTo>
                    <a:pt x="1565" y="405"/>
                  </a:lnTo>
                  <a:lnTo>
                    <a:pt x="1586" y="379"/>
                  </a:lnTo>
                  <a:lnTo>
                    <a:pt x="1611" y="354"/>
                  </a:lnTo>
                  <a:lnTo>
                    <a:pt x="1642" y="337"/>
                  </a:lnTo>
                  <a:lnTo>
                    <a:pt x="1678" y="325"/>
                  </a:lnTo>
                  <a:lnTo>
                    <a:pt x="1724" y="317"/>
                  </a:lnTo>
                  <a:lnTo>
                    <a:pt x="1735" y="310"/>
                  </a:lnTo>
                  <a:lnTo>
                    <a:pt x="1747" y="303"/>
                  </a:lnTo>
                  <a:lnTo>
                    <a:pt x="1761" y="292"/>
                  </a:lnTo>
                  <a:lnTo>
                    <a:pt x="1776" y="283"/>
                  </a:lnTo>
                  <a:lnTo>
                    <a:pt x="1788" y="271"/>
                  </a:lnTo>
                  <a:lnTo>
                    <a:pt x="1800" y="260"/>
                  </a:lnTo>
                  <a:lnTo>
                    <a:pt x="1808" y="248"/>
                  </a:lnTo>
                  <a:lnTo>
                    <a:pt x="1815" y="239"/>
                  </a:lnTo>
                  <a:lnTo>
                    <a:pt x="1819" y="193"/>
                  </a:lnTo>
                  <a:lnTo>
                    <a:pt x="1831" y="143"/>
                  </a:lnTo>
                  <a:lnTo>
                    <a:pt x="1848" y="93"/>
                  </a:lnTo>
                  <a:lnTo>
                    <a:pt x="1871" y="51"/>
                  </a:lnTo>
                  <a:lnTo>
                    <a:pt x="1898" y="18"/>
                  </a:lnTo>
                  <a:lnTo>
                    <a:pt x="1934" y="0"/>
                  </a:lnTo>
                  <a:lnTo>
                    <a:pt x="1975" y="1"/>
                  </a:lnTo>
                  <a:lnTo>
                    <a:pt x="2025" y="30"/>
                  </a:lnTo>
                  <a:lnTo>
                    <a:pt x="2030" y="41"/>
                  </a:lnTo>
                  <a:lnTo>
                    <a:pt x="2040" y="54"/>
                  </a:lnTo>
                  <a:lnTo>
                    <a:pt x="2044" y="58"/>
                  </a:lnTo>
                  <a:lnTo>
                    <a:pt x="2052" y="64"/>
                  </a:lnTo>
                  <a:lnTo>
                    <a:pt x="2059" y="68"/>
                  </a:lnTo>
                  <a:lnTo>
                    <a:pt x="2069" y="70"/>
                  </a:lnTo>
                  <a:lnTo>
                    <a:pt x="2098" y="37"/>
                  </a:lnTo>
                  <a:lnTo>
                    <a:pt x="2124" y="15"/>
                  </a:lnTo>
                  <a:lnTo>
                    <a:pt x="2148" y="5"/>
                  </a:lnTo>
                  <a:lnTo>
                    <a:pt x="2171" y="9"/>
                  </a:lnTo>
                  <a:lnTo>
                    <a:pt x="2193" y="20"/>
                  </a:lnTo>
                  <a:lnTo>
                    <a:pt x="2214" y="39"/>
                  </a:lnTo>
                  <a:lnTo>
                    <a:pt x="2237" y="66"/>
                  </a:lnTo>
                  <a:lnTo>
                    <a:pt x="2262" y="99"/>
                  </a:lnTo>
                  <a:lnTo>
                    <a:pt x="2291" y="107"/>
                  </a:lnTo>
                  <a:lnTo>
                    <a:pt x="2325" y="106"/>
                  </a:lnTo>
                  <a:lnTo>
                    <a:pt x="2360" y="97"/>
                  </a:lnTo>
                  <a:lnTo>
                    <a:pt x="2397" y="91"/>
                  </a:lnTo>
                  <a:lnTo>
                    <a:pt x="2432" y="85"/>
                  </a:lnTo>
                  <a:lnTo>
                    <a:pt x="2469" y="88"/>
                  </a:lnTo>
                  <a:lnTo>
                    <a:pt x="2500" y="104"/>
                  </a:lnTo>
                  <a:lnTo>
                    <a:pt x="2529" y="139"/>
                  </a:lnTo>
                  <a:lnTo>
                    <a:pt x="2523" y="156"/>
                  </a:lnTo>
                  <a:lnTo>
                    <a:pt x="2517" y="179"/>
                  </a:lnTo>
                  <a:lnTo>
                    <a:pt x="2509" y="203"/>
                  </a:lnTo>
                  <a:lnTo>
                    <a:pt x="2505" y="229"/>
                  </a:lnTo>
                  <a:lnTo>
                    <a:pt x="2504" y="252"/>
                  </a:lnTo>
                  <a:lnTo>
                    <a:pt x="2512" y="272"/>
                  </a:lnTo>
                  <a:lnTo>
                    <a:pt x="2527" y="285"/>
                  </a:lnTo>
                  <a:lnTo>
                    <a:pt x="2555" y="291"/>
                  </a:lnTo>
                  <a:lnTo>
                    <a:pt x="2585" y="273"/>
                  </a:lnTo>
                  <a:lnTo>
                    <a:pt x="2607" y="264"/>
                  </a:lnTo>
                  <a:lnTo>
                    <a:pt x="2623" y="261"/>
                  </a:lnTo>
                  <a:lnTo>
                    <a:pt x="2635" y="267"/>
                  </a:lnTo>
                  <a:lnTo>
                    <a:pt x="2644" y="276"/>
                  </a:lnTo>
                  <a:lnTo>
                    <a:pt x="2657" y="292"/>
                  </a:lnTo>
                  <a:lnTo>
                    <a:pt x="2670" y="314"/>
                  </a:lnTo>
                  <a:lnTo>
                    <a:pt x="2690" y="341"/>
                  </a:lnTo>
                  <a:lnTo>
                    <a:pt x="2699" y="345"/>
                  </a:lnTo>
                  <a:lnTo>
                    <a:pt x="2707" y="349"/>
                  </a:lnTo>
                  <a:lnTo>
                    <a:pt x="2712" y="352"/>
                  </a:lnTo>
                  <a:lnTo>
                    <a:pt x="2717" y="356"/>
                  </a:lnTo>
                  <a:lnTo>
                    <a:pt x="2720" y="360"/>
                  </a:lnTo>
                  <a:lnTo>
                    <a:pt x="2723" y="367"/>
                  </a:lnTo>
                  <a:lnTo>
                    <a:pt x="2724" y="375"/>
                  </a:lnTo>
                  <a:lnTo>
                    <a:pt x="2726" y="388"/>
                  </a:lnTo>
                  <a:lnTo>
                    <a:pt x="2705" y="426"/>
                  </a:lnTo>
                  <a:lnTo>
                    <a:pt x="2701" y="450"/>
                  </a:lnTo>
                  <a:lnTo>
                    <a:pt x="2709" y="464"/>
                  </a:lnTo>
                  <a:lnTo>
                    <a:pt x="2727" y="471"/>
                  </a:lnTo>
                  <a:lnTo>
                    <a:pt x="2750" y="472"/>
                  </a:lnTo>
                  <a:lnTo>
                    <a:pt x="2777" y="473"/>
                  </a:lnTo>
                  <a:lnTo>
                    <a:pt x="2803" y="478"/>
                  </a:lnTo>
                  <a:lnTo>
                    <a:pt x="2827" y="490"/>
                  </a:lnTo>
                  <a:lnTo>
                    <a:pt x="2827" y="498"/>
                  </a:lnTo>
                  <a:lnTo>
                    <a:pt x="2828" y="506"/>
                  </a:lnTo>
                  <a:lnTo>
                    <a:pt x="2828" y="514"/>
                  </a:lnTo>
                  <a:lnTo>
                    <a:pt x="2830" y="524"/>
                  </a:lnTo>
                  <a:lnTo>
                    <a:pt x="2830" y="532"/>
                  </a:lnTo>
                  <a:lnTo>
                    <a:pt x="2830" y="542"/>
                  </a:lnTo>
                  <a:lnTo>
                    <a:pt x="2830" y="552"/>
                  </a:lnTo>
                  <a:lnTo>
                    <a:pt x="2831" y="564"/>
                  </a:lnTo>
                  <a:lnTo>
                    <a:pt x="2818" y="580"/>
                  </a:lnTo>
                  <a:lnTo>
                    <a:pt x="2811" y="601"/>
                  </a:lnTo>
                  <a:lnTo>
                    <a:pt x="2811" y="624"/>
                  </a:lnTo>
                  <a:lnTo>
                    <a:pt x="2815" y="647"/>
                  </a:lnTo>
                  <a:lnTo>
                    <a:pt x="2823" y="667"/>
                  </a:lnTo>
                  <a:lnTo>
                    <a:pt x="2837" y="689"/>
                  </a:lnTo>
                  <a:lnTo>
                    <a:pt x="2851" y="705"/>
                  </a:lnTo>
                  <a:lnTo>
                    <a:pt x="2872" y="718"/>
                  </a:lnTo>
                  <a:lnTo>
                    <a:pt x="2889" y="722"/>
                  </a:lnTo>
                  <a:lnTo>
                    <a:pt x="2906" y="728"/>
                  </a:lnTo>
                  <a:lnTo>
                    <a:pt x="2919" y="732"/>
                  </a:lnTo>
                  <a:lnTo>
                    <a:pt x="2933" y="739"/>
                  </a:lnTo>
                  <a:lnTo>
                    <a:pt x="2943" y="744"/>
                  </a:lnTo>
                  <a:lnTo>
                    <a:pt x="2957" y="754"/>
                  </a:lnTo>
                  <a:lnTo>
                    <a:pt x="2970" y="764"/>
                  </a:lnTo>
                  <a:lnTo>
                    <a:pt x="2988" y="779"/>
                  </a:lnTo>
                  <a:lnTo>
                    <a:pt x="3007" y="787"/>
                  </a:lnTo>
                  <a:lnTo>
                    <a:pt x="3027" y="793"/>
                  </a:lnTo>
                  <a:lnTo>
                    <a:pt x="3049" y="795"/>
                  </a:lnTo>
                  <a:lnTo>
                    <a:pt x="3073" y="800"/>
                  </a:lnTo>
                  <a:lnTo>
                    <a:pt x="3096" y="801"/>
                  </a:lnTo>
                  <a:lnTo>
                    <a:pt x="3119" y="806"/>
                  </a:lnTo>
                  <a:lnTo>
                    <a:pt x="3140" y="812"/>
                  </a:lnTo>
                  <a:lnTo>
                    <a:pt x="3161" y="821"/>
                  </a:lnTo>
                  <a:lnTo>
                    <a:pt x="3160" y="840"/>
                  </a:lnTo>
                  <a:lnTo>
                    <a:pt x="3157" y="860"/>
                  </a:lnTo>
                  <a:lnTo>
                    <a:pt x="3149" y="878"/>
                  </a:lnTo>
                  <a:lnTo>
                    <a:pt x="3142" y="897"/>
                  </a:lnTo>
                  <a:lnTo>
                    <a:pt x="3131" y="913"/>
                  </a:lnTo>
                  <a:lnTo>
                    <a:pt x="3123" y="931"/>
                  </a:lnTo>
                  <a:lnTo>
                    <a:pt x="3114" y="947"/>
                  </a:lnTo>
                  <a:lnTo>
                    <a:pt x="3108" y="967"/>
                  </a:lnTo>
                  <a:lnTo>
                    <a:pt x="3125" y="981"/>
                  </a:lnTo>
                  <a:lnTo>
                    <a:pt x="3144" y="986"/>
                  </a:lnTo>
                  <a:lnTo>
                    <a:pt x="3164" y="985"/>
                  </a:lnTo>
                  <a:lnTo>
                    <a:pt x="3186" y="981"/>
                  </a:lnTo>
                  <a:lnTo>
                    <a:pt x="3206" y="974"/>
                  </a:lnTo>
                  <a:lnTo>
                    <a:pt x="3229" y="973"/>
                  </a:lnTo>
                  <a:lnTo>
                    <a:pt x="3251" y="975"/>
                  </a:lnTo>
                  <a:lnTo>
                    <a:pt x="3275" y="989"/>
                  </a:lnTo>
                  <a:lnTo>
                    <a:pt x="3288" y="1004"/>
                  </a:lnTo>
                  <a:lnTo>
                    <a:pt x="3305" y="1013"/>
                  </a:lnTo>
                  <a:lnTo>
                    <a:pt x="3320" y="1019"/>
                  </a:lnTo>
                  <a:lnTo>
                    <a:pt x="3336" y="1020"/>
                  </a:lnTo>
                  <a:lnTo>
                    <a:pt x="3352" y="1020"/>
                  </a:lnTo>
                  <a:lnTo>
                    <a:pt x="3371" y="1021"/>
                  </a:lnTo>
                  <a:lnTo>
                    <a:pt x="3388" y="1023"/>
                  </a:lnTo>
                  <a:lnTo>
                    <a:pt x="3410" y="1031"/>
                  </a:lnTo>
                  <a:lnTo>
                    <a:pt x="3410" y="1038"/>
                  </a:lnTo>
                  <a:lnTo>
                    <a:pt x="3411" y="1050"/>
                  </a:lnTo>
                  <a:lnTo>
                    <a:pt x="3411" y="1065"/>
                  </a:lnTo>
                  <a:lnTo>
                    <a:pt x="3411" y="1082"/>
                  </a:lnTo>
                  <a:lnTo>
                    <a:pt x="3409" y="1099"/>
                  </a:lnTo>
                  <a:lnTo>
                    <a:pt x="3406" y="1113"/>
                  </a:lnTo>
                  <a:lnTo>
                    <a:pt x="3401" y="1124"/>
                  </a:lnTo>
                  <a:lnTo>
                    <a:pt x="3397" y="1132"/>
                  </a:lnTo>
                  <a:lnTo>
                    <a:pt x="3399" y="1169"/>
                  </a:lnTo>
                  <a:lnTo>
                    <a:pt x="3414" y="1193"/>
                  </a:lnTo>
                  <a:lnTo>
                    <a:pt x="3437" y="1205"/>
                  </a:lnTo>
                  <a:lnTo>
                    <a:pt x="3464" y="1214"/>
                  </a:lnTo>
                  <a:lnTo>
                    <a:pt x="3490" y="1220"/>
                  </a:lnTo>
                  <a:lnTo>
                    <a:pt x="3513" y="1235"/>
                  </a:lnTo>
                  <a:lnTo>
                    <a:pt x="3526" y="1260"/>
                  </a:lnTo>
                  <a:lnTo>
                    <a:pt x="3531" y="1301"/>
                  </a:lnTo>
                  <a:lnTo>
                    <a:pt x="3514" y="1331"/>
                  </a:lnTo>
                  <a:lnTo>
                    <a:pt x="3499" y="1357"/>
                  </a:lnTo>
                  <a:lnTo>
                    <a:pt x="3489" y="1377"/>
                  </a:lnTo>
                  <a:lnTo>
                    <a:pt x="3482" y="1398"/>
                  </a:lnTo>
                  <a:lnTo>
                    <a:pt x="3480" y="1416"/>
                  </a:lnTo>
                  <a:lnTo>
                    <a:pt x="3487" y="1438"/>
                  </a:lnTo>
                  <a:lnTo>
                    <a:pt x="3502" y="1464"/>
                  </a:lnTo>
                  <a:lnTo>
                    <a:pt x="3528" y="1499"/>
                  </a:lnTo>
                  <a:lnTo>
                    <a:pt x="3533" y="1527"/>
                  </a:lnTo>
                  <a:lnTo>
                    <a:pt x="3526" y="1561"/>
                  </a:lnTo>
                  <a:lnTo>
                    <a:pt x="3513" y="1598"/>
                  </a:lnTo>
                  <a:lnTo>
                    <a:pt x="3497" y="1640"/>
                  </a:lnTo>
                  <a:lnTo>
                    <a:pt x="3479" y="1683"/>
                  </a:lnTo>
                  <a:lnTo>
                    <a:pt x="3471" y="1729"/>
                  </a:lnTo>
                  <a:lnTo>
                    <a:pt x="3471" y="1775"/>
                  </a:lnTo>
                  <a:lnTo>
                    <a:pt x="3487" y="1822"/>
                  </a:lnTo>
                  <a:lnTo>
                    <a:pt x="3502" y="1824"/>
                  </a:lnTo>
                  <a:lnTo>
                    <a:pt x="3520" y="1824"/>
                  </a:lnTo>
                  <a:lnTo>
                    <a:pt x="3537" y="1821"/>
                  </a:lnTo>
                  <a:lnTo>
                    <a:pt x="3558" y="1820"/>
                  </a:lnTo>
                  <a:lnTo>
                    <a:pt x="3575" y="1818"/>
                  </a:lnTo>
                  <a:lnTo>
                    <a:pt x="3594" y="1822"/>
                  </a:lnTo>
                  <a:lnTo>
                    <a:pt x="3612" y="1828"/>
                  </a:lnTo>
                  <a:lnTo>
                    <a:pt x="3628" y="1841"/>
                  </a:lnTo>
                  <a:lnTo>
                    <a:pt x="3621" y="1870"/>
                  </a:lnTo>
                  <a:lnTo>
                    <a:pt x="3612" y="1899"/>
                  </a:lnTo>
                  <a:lnTo>
                    <a:pt x="3600" y="1926"/>
                  </a:lnTo>
                  <a:lnTo>
                    <a:pt x="3587" y="1954"/>
                  </a:lnTo>
                  <a:lnTo>
                    <a:pt x="3577" y="1981"/>
                  </a:lnTo>
                  <a:lnTo>
                    <a:pt x="3571" y="2010"/>
                  </a:lnTo>
                  <a:lnTo>
                    <a:pt x="3572" y="2041"/>
                  </a:lnTo>
                  <a:lnTo>
                    <a:pt x="3583" y="2077"/>
                  </a:lnTo>
                  <a:lnTo>
                    <a:pt x="3595" y="2096"/>
                  </a:lnTo>
                  <a:lnTo>
                    <a:pt x="3608" y="2116"/>
                  </a:lnTo>
                  <a:lnTo>
                    <a:pt x="3616" y="2135"/>
                  </a:lnTo>
                  <a:lnTo>
                    <a:pt x="3623" y="2155"/>
                  </a:lnTo>
                  <a:lnTo>
                    <a:pt x="3625" y="2175"/>
                  </a:lnTo>
                  <a:lnTo>
                    <a:pt x="3625" y="2198"/>
                  </a:lnTo>
                  <a:lnTo>
                    <a:pt x="3621" y="2221"/>
                  </a:lnTo>
                  <a:lnTo>
                    <a:pt x="3614" y="2247"/>
                  </a:lnTo>
                  <a:lnTo>
                    <a:pt x="3612" y="2292"/>
                  </a:lnTo>
                  <a:lnTo>
                    <a:pt x="3621" y="2317"/>
                  </a:lnTo>
                  <a:lnTo>
                    <a:pt x="3639" y="2330"/>
                  </a:lnTo>
                  <a:lnTo>
                    <a:pt x="3664" y="2334"/>
                  </a:lnTo>
                  <a:lnTo>
                    <a:pt x="3692" y="2332"/>
                  </a:lnTo>
                  <a:lnTo>
                    <a:pt x="3723" y="2335"/>
                  </a:lnTo>
                  <a:lnTo>
                    <a:pt x="3752" y="2345"/>
                  </a:lnTo>
                  <a:lnTo>
                    <a:pt x="3779" y="2369"/>
                  </a:lnTo>
                  <a:lnTo>
                    <a:pt x="3786" y="2400"/>
                  </a:lnTo>
                  <a:lnTo>
                    <a:pt x="3785" y="2432"/>
                  </a:lnTo>
                  <a:lnTo>
                    <a:pt x="3775" y="2464"/>
                  </a:lnTo>
                  <a:lnTo>
                    <a:pt x="3766" y="2496"/>
                  </a:lnTo>
                  <a:lnTo>
                    <a:pt x="3754" y="2526"/>
                  </a:lnTo>
                  <a:lnTo>
                    <a:pt x="3750" y="2556"/>
                  </a:lnTo>
                  <a:lnTo>
                    <a:pt x="3752" y="2584"/>
                  </a:lnTo>
                  <a:lnTo>
                    <a:pt x="3771" y="2611"/>
                  </a:lnTo>
                  <a:lnTo>
                    <a:pt x="3763" y="2649"/>
                  </a:lnTo>
                  <a:lnTo>
                    <a:pt x="3754" y="2681"/>
                  </a:lnTo>
                  <a:lnTo>
                    <a:pt x="3742" y="2708"/>
                  </a:lnTo>
                  <a:lnTo>
                    <a:pt x="3733" y="2736"/>
                  </a:lnTo>
                  <a:lnTo>
                    <a:pt x="3727" y="2760"/>
                  </a:lnTo>
                  <a:lnTo>
                    <a:pt x="3725" y="2790"/>
                  </a:lnTo>
                  <a:lnTo>
                    <a:pt x="3731" y="2825"/>
                  </a:lnTo>
                  <a:lnTo>
                    <a:pt x="3746" y="2868"/>
                  </a:lnTo>
                  <a:lnTo>
                    <a:pt x="3767" y="2894"/>
                  </a:lnTo>
                  <a:lnTo>
                    <a:pt x="3797" y="2918"/>
                  </a:lnTo>
                  <a:lnTo>
                    <a:pt x="3825" y="2940"/>
                  </a:lnTo>
                  <a:lnTo>
                    <a:pt x="3854" y="2963"/>
                  </a:lnTo>
                  <a:lnTo>
                    <a:pt x="3873" y="2986"/>
                  </a:lnTo>
                  <a:lnTo>
                    <a:pt x="3882" y="3014"/>
                  </a:lnTo>
                  <a:lnTo>
                    <a:pt x="3878" y="3048"/>
                  </a:lnTo>
                  <a:lnTo>
                    <a:pt x="3857" y="3091"/>
                  </a:lnTo>
                  <a:lnTo>
                    <a:pt x="3855" y="3101"/>
                  </a:lnTo>
                  <a:lnTo>
                    <a:pt x="3855" y="3110"/>
                  </a:lnTo>
                  <a:lnTo>
                    <a:pt x="3855" y="3117"/>
                  </a:lnTo>
                  <a:lnTo>
                    <a:pt x="3857" y="3125"/>
                  </a:lnTo>
                  <a:lnTo>
                    <a:pt x="3858" y="3133"/>
                  </a:lnTo>
                  <a:lnTo>
                    <a:pt x="3862" y="3141"/>
                  </a:lnTo>
                  <a:lnTo>
                    <a:pt x="3866" y="3151"/>
                  </a:lnTo>
                  <a:lnTo>
                    <a:pt x="3873" y="3163"/>
                  </a:lnTo>
                  <a:lnTo>
                    <a:pt x="3892" y="3182"/>
                  </a:lnTo>
                  <a:lnTo>
                    <a:pt x="3903" y="3202"/>
                  </a:lnTo>
                  <a:lnTo>
                    <a:pt x="3907" y="3223"/>
                  </a:lnTo>
                  <a:lnTo>
                    <a:pt x="3907" y="3247"/>
                  </a:lnTo>
                  <a:lnTo>
                    <a:pt x="3901" y="3269"/>
                  </a:lnTo>
                  <a:lnTo>
                    <a:pt x="3897" y="3294"/>
                  </a:lnTo>
                  <a:lnTo>
                    <a:pt x="3893" y="3321"/>
                  </a:lnTo>
                  <a:lnTo>
                    <a:pt x="3893" y="3351"/>
                  </a:lnTo>
                  <a:lnTo>
                    <a:pt x="3881" y="3359"/>
                  </a:lnTo>
                  <a:lnTo>
                    <a:pt x="3873" y="3367"/>
                  </a:lnTo>
                  <a:lnTo>
                    <a:pt x="3865" y="3373"/>
                  </a:lnTo>
                  <a:lnTo>
                    <a:pt x="3859" y="3379"/>
                  </a:lnTo>
                  <a:lnTo>
                    <a:pt x="3848" y="3389"/>
                  </a:lnTo>
                  <a:lnTo>
                    <a:pt x="3840" y="3400"/>
                  </a:lnTo>
                  <a:lnTo>
                    <a:pt x="3832" y="3431"/>
                  </a:lnTo>
                  <a:lnTo>
                    <a:pt x="3831" y="3462"/>
                  </a:lnTo>
                  <a:lnTo>
                    <a:pt x="3832" y="3489"/>
                  </a:lnTo>
                  <a:lnTo>
                    <a:pt x="3834" y="3516"/>
                  </a:lnTo>
                  <a:lnTo>
                    <a:pt x="3830" y="3539"/>
                  </a:lnTo>
                  <a:lnTo>
                    <a:pt x="3819" y="3563"/>
                  </a:lnTo>
                  <a:lnTo>
                    <a:pt x="3797" y="3586"/>
                  </a:lnTo>
                  <a:lnTo>
                    <a:pt x="3763" y="3609"/>
                  </a:lnTo>
                  <a:lnTo>
                    <a:pt x="3746" y="3630"/>
                  </a:lnTo>
                  <a:lnTo>
                    <a:pt x="3732" y="3646"/>
                  </a:lnTo>
                  <a:lnTo>
                    <a:pt x="3721" y="3655"/>
                  </a:lnTo>
                  <a:lnTo>
                    <a:pt x="3710" y="3664"/>
                  </a:lnTo>
                  <a:lnTo>
                    <a:pt x="3696" y="3668"/>
                  </a:lnTo>
                  <a:lnTo>
                    <a:pt x="3678" y="3673"/>
                  </a:lnTo>
                  <a:lnTo>
                    <a:pt x="3652" y="3677"/>
                  </a:lnTo>
                  <a:lnTo>
                    <a:pt x="3620" y="3687"/>
                  </a:lnTo>
                  <a:lnTo>
                    <a:pt x="3609" y="3685"/>
                  </a:lnTo>
                  <a:lnTo>
                    <a:pt x="3602" y="3684"/>
                  </a:lnTo>
                  <a:lnTo>
                    <a:pt x="3595" y="3683"/>
                  </a:lnTo>
                  <a:lnTo>
                    <a:pt x="3591" y="3683"/>
                  </a:lnTo>
                  <a:lnTo>
                    <a:pt x="3586" y="3681"/>
                  </a:lnTo>
                  <a:lnTo>
                    <a:pt x="3581" y="3681"/>
                  </a:lnTo>
                  <a:lnTo>
                    <a:pt x="3574" y="3680"/>
                  </a:lnTo>
                  <a:lnTo>
                    <a:pt x="3567" y="3678"/>
                  </a:lnTo>
                  <a:lnTo>
                    <a:pt x="3574" y="3641"/>
                  </a:lnTo>
                  <a:lnTo>
                    <a:pt x="3578" y="3611"/>
                  </a:lnTo>
                  <a:lnTo>
                    <a:pt x="3577" y="3582"/>
                  </a:lnTo>
                  <a:lnTo>
                    <a:pt x="3572" y="3559"/>
                  </a:lnTo>
                  <a:lnTo>
                    <a:pt x="3562" y="3535"/>
                  </a:lnTo>
                  <a:lnTo>
                    <a:pt x="3548" y="3513"/>
                  </a:lnTo>
                  <a:lnTo>
                    <a:pt x="3529" y="3492"/>
                  </a:lnTo>
                  <a:lnTo>
                    <a:pt x="3506" y="3469"/>
                  </a:lnTo>
                  <a:lnTo>
                    <a:pt x="3509" y="3435"/>
                  </a:lnTo>
                  <a:lnTo>
                    <a:pt x="3512" y="3407"/>
                  </a:lnTo>
                  <a:lnTo>
                    <a:pt x="3512" y="3382"/>
                  </a:lnTo>
                  <a:lnTo>
                    <a:pt x="3513" y="3362"/>
                  </a:lnTo>
                  <a:lnTo>
                    <a:pt x="3512" y="3339"/>
                  </a:lnTo>
                  <a:lnTo>
                    <a:pt x="3508" y="3316"/>
                  </a:lnTo>
                  <a:lnTo>
                    <a:pt x="3501" y="3289"/>
                  </a:lnTo>
                  <a:lnTo>
                    <a:pt x="3493" y="3259"/>
                  </a:lnTo>
                  <a:lnTo>
                    <a:pt x="3485" y="3247"/>
                  </a:lnTo>
                  <a:lnTo>
                    <a:pt x="3475" y="3231"/>
                  </a:lnTo>
                  <a:lnTo>
                    <a:pt x="3463" y="3210"/>
                  </a:lnTo>
                  <a:lnTo>
                    <a:pt x="3452" y="3191"/>
                  </a:lnTo>
                  <a:lnTo>
                    <a:pt x="3440" y="3170"/>
                  </a:lnTo>
                  <a:lnTo>
                    <a:pt x="3432" y="3151"/>
                  </a:lnTo>
                  <a:lnTo>
                    <a:pt x="3425" y="3135"/>
                  </a:lnTo>
                  <a:lnTo>
                    <a:pt x="3424" y="3124"/>
                  </a:lnTo>
                  <a:lnTo>
                    <a:pt x="3443" y="3103"/>
                  </a:lnTo>
                  <a:lnTo>
                    <a:pt x="3455" y="3080"/>
                  </a:lnTo>
                  <a:lnTo>
                    <a:pt x="3459" y="3055"/>
                  </a:lnTo>
                  <a:lnTo>
                    <a:pt x="3457" y="3029"/>
                  </a:lnTo>
                  <a:lnTo>
                    <a:pt x="3451" y="3001"/>
                  </a:lnTo>
                  <a:lnTo>
                    <a:pt x="3440" y="2976"/>
                  </a:lnTo>
                  <a:lnTo>
                    <a:pt x="3426" y="2953"/>
                  </a:lnTo>
                  <a:lnTo>
                    <a:pt x="3413" y="2934"/>
                  </a:lnTo>
                  <a:lnTo>
                    <a:pt x="3399" y="2924"/>
                  </a:lnTo>
                  <a:lnTo>
                    <a:pt x="3387" y="2915"/>
                  </a:lnTo>
                  <a:lnTo>
                    <a:pt x="3378" y="2907"/>
                  </a:lnTo>
                  <a:lnTo>
                    <a:pt x="3370" y="2899"/>
                  </a:lnTo>
                  <a:lnTo>
                    <a:pt x="3361" y="2890"/>
                  </a:lnTo>
                  <a:lnTo>
                    <a:pt x="3356" y="2882"/>
                  </a:lnTo>
                  <a:lnTo>
                    <a:pt x="3349" y="2872"/>
                  </a:lnTo>
                  <a:lnTo>
                    <a:pt x="3344" y="2863"/>
                  </a:lnTo>
                  <a:lnTo>
                    <a:pt x="3341" y="2753"/>
                  </a:lnTo>
                  <a:lnTo>
                    <a:pt x="3338" y="2656"/>
                  </a:lnTo>
                  <a:lnTo>
                    <a:pt x="3330" y="2566"/>
                  </a:lnTo>
                  <a:lnTo>
                    <a:pt x="3315" y="2485"/>
                  </a:lnTo>
                  <a:lnTo>
                    <a:pt x="3288" y="2408"/>
                  </a:lnTo>
                  <a:lnTo>
                    <a:pt x="3249" y="2336"/>
                  </a:lnTo>
                  <a:lnTo>
                    <a:pt x="3191" y="2266"/>
                  </a:lnTo>
                  <a:lnTo>
                    <a:pt x="3115" y="2197"/>
                  </a:lnTo>
                  <a:lnTo>
                    <a:pt x="3107" y="2140"/>
                  </a:lnTo>
                  <a:lnTo>
                    <a:pt x="3098" y="2096"/>
                  </a:lnTo>
                  <a:lnTo>
                    <a:pt x="3084" y="2059"/>
                  </a:lnTo>
                  <a:lnTo>
                    <a:pt x="3065" y="2031"/>
                  </a:lnTo>
                  <a:lnTo>
                    <a:pt x="3039" y="2006"/>
                  </a:lnTo>
                  <a:lnTo>
                    <a:pt x="3007" y="1987"/>
                  </a:lnTo>
                  <a:lnTo>
                    <a:pt x="2966" y="1970"/>
                  </a:lnTo>
                  <a:lnTo>
                    <a:pt x="2919" y="1955"/>
                  </a:lnTo>
                  <a:lnTo>
                    <a:pt x="2922" y="1931"/>
                  </a:lnTo>
                  <a:lnTo>
                    <a:pt x="2924" y="1908"/>
                  </a:lnTo>
                  <a:lnTo>
                    <a:pt x="2927" y="1885"/>
                  </a:lnTo>
                  <a:lnTo>
                    <a:pt x="2929" y="1862"/>
                  </a:lnTo>
                  <a:lnTo>
                    <a:pt x="2927" y="1837"/>
                  </a:lnTo>
                  <a:lnTo>
                    <a:pt x="2924" y="1817"/>
                  </a:lnTo>
                  <a:lnTo>
                    <a:pt x="2918" y="1797"/>
                  </a:lnTo>
                  <a:lnTo>
                    <a:pt x="2908" y="1780"/>
                  </a:lnTo>
                  <a:lnTo>
                    <a:pt x="2907" y="1748"/>
                  </a:lnTo>
                  <a:lnTo>
                    <a:pt x="2907" y="1715"/>
                  </a:lnTo>
                  <a:lnTo>
                    <a:pt x="2906" y="1680"/>
                  </a:lnTo>
                  <a:lnTo>
                    <a:pt x="2903" y="1645"/>
                  </a:lnTo>
                  <a:lnTo>
                    <a:pt x="2897" y="1610"/>
                  </a:lnTo>
                  <a:lnTo>
                    <a:pt x="2889" y="1579"/>
                  </a:lnTo>
                  <a:lnTo>
                    <a:pt x="2877" y="1550"/>
                  </a:lnTo>
                  <a:lnTo>
                    <a:pt x="2864" y="1527"/>
                  </a:lnTo>
                  <a:lnTo>
                    <a:pt x="2864" y="1522"/>
                  </a:lnTo>
                  <a:lnTo>
                    <a:pt x="2864" y="1517"/>
                  </a:lnTo>
                  <a:lnTo>
                    <a:pt x="2872" y="1511"/>
                  </a:lnTo>
                  <a:lnTo>
                    <a:pt x="2877" y="1508"/>
                  </a:lnTo>
                  <a:lnTo>
                    <a:pt x="2880" y="1507"/>
                  </a:lnTo>
                  <a:lnTo>
                    <a:pt x="2883" y="1506"/>
                  </a:lnTo>
                  <a:lnTo>
                    <a:pt x="2881" y="1503"/>
                  </a:lnTo>
                  <a:lnTo>
                    <a:pt x="2880" y="1502"/>
                  </a:lnTo>
                  <a:lnTo>
                    <a:pt x="2893" y="1494"/>
                  </a:lnTo>
                  <a:lnTo>
                    <a:pt x="2907" y="1483"/>
                  </a:lnTo>
                  <a:lnTo>
                    <a:pt x="2918" y="1469"/>
                  </a:lnTo>
                  <a:lnTo>
                    <a:pt x="2927" y="1456"/>
                  </a:lnTo>
                  <a:lnTo>
                    <a:pt x="2958" y="1448"/>
                  </a:lnTo>
                  <a:lnTo>
                    <a:pt x="2991" y="1439"/>
                  </a:lnTo>
                  <a:lnTo>
                    <a:pt x="3018" y="1429"/>
                  </a:lnTo>
                  <a:lnTo>
                    <a:pt x="3042" y="1416"/>
                  </a:lnTo>
                  <a:lnTo>
                    <a:pt x="3060" y="1399"/>
                  </a:lnTo>
                  <a:lnTo>
                    <a:pt x="3073" y="1377"/>
                  </a:lnTo>
                  <a:lnTo>
                    <a:pt x="3081" y="1349"/>
                  </a:lnTo>
                  <a:lnTo>
                    <a:pt x="3081" y="1315"/>
                  </a:lnTo>
                  <a:lnTo>
                    <a:pt x="3085" y="1315"/>
                  </a:lnTo>
                  <a:lnTo>
                    <a:pt x="3090" y="1315"/>
                  </a:lnTo>
                  <a:lnTo>
                    <a:pt x="3057" y="1287"/>
                  </a:lnTo>
                  <a:lnTo>
                    <a:pt x="3006" y="1270"/>
                  </a:lnTo>
                  <a:lnTo>
                    <a:pt x="2942" y="1262"/>
                  </a:lnTo>
                  <a:lnTo>
                    <a:pt x="2873" y="1262"/>
                  </a:lnTo>
                  <a:lnTo>
                    <a:pt x="2803" y="1265"/>
                  </a:lnTo>
                  <a:lnTo>
                    <a:pt x="2739" y="1270"/>
                  </a:lnTo>
                  <a:lnTo>
                    <a:pt x="2688" y="1273"/>
                  </a:lnTo>
                  <a:lnTo>
                    <a:pt x="2657" y="1276"/>
                  </a:lnTo>
                  <a:lnTo>
                    <a:pt x="2647" y="1232"/>
                  </a:lnTo>
                  <a:lnTo>
                    <a:pt x="2631" y="1193"/>
                  </a:lnTo>
                  <a:lnTo>
                    <a:pt x="2608" y="1155"/>
                  </a:lnTo>
                  <a:lnTo>
                    <a:pt x="2581" y="1119"/>
                  </a:lnTo>
                  <a:lnTo>
                    <a:pt x="2551" y="1082"/>
                  </a:lnTo>
                  <a:lnTo>
                    <a:pt x="2524" y="1047"/>
                  </a:lnTo>
                  <a:lnTo>
                    <a:pt x="2501" y="1011"/>
                  </a:lnTo>
                  <a:lnTo>
                    <a:pt x="2483" y="975"/>
                  </a:lnTo>
                  <a:lnTo>
                    <a:pt x="2452" y="939"/>
                  </a:lnTo>
                  <a:lnTo>
                    <a:pt x="2418" y="908"/>
                  </a:lnTo>
                  <a:lnTo>
                    <a:pt x="2379" y="879"/>
                  </a:lnTo>
                  <a:lnTo>
                    <a:pt x="2337" y="859"/>
                  </a:lnTo>
                  <a:lnTo>
                    <a:pt x="2294" y="846"/>
                  </a:lnTo>
                  <a:lnTo>
                    <a:pt x="2251" y="844"/>
                  </a:lnTo>
                  <a:lnTo>
                    <a:pt x="2207" y="854"/>
                  </a:lnTo>
                  <a:lnTo>
                    <a:pt x="2168" y="879"/>
                  </a:lnTo>
                  <a:lnTo>
                    <a:pt x="2156" y="898"/>
                  </a:lnTo>
                  <a:lnTo>
                    <a:pt x="2141" y="919"/>
                  </a:lnTo>
                  <a:lnTo>
                    <a:pt x="2124" y="939"/>
                  </a:lnTo>
                  <a:lnTo>
                    <a:pt x="2106" y="961"/>
                  </a:lnTo>
                  <a:lnTo>
                    <a:pt x="2086" y="979"/>
                  </a:lnTo>
                  <a:lnTo>
                    <a:pt x="2065" y="997"/>
                  </a:lnTo>
                  <a:lnTo>
                    <a:pt x="2045" y="1011"/>
                  </a:lnTo>
                  <a:lnTo>
                    <a:pt x="2025" y="1023"/>
                  </a:lnTo>
                  <a:lnTo>
                    <a:pt x="1986" y="1020"/>
                  </a:lnTo>
                  <a:lnTo>
                    <a:pt x="1956" y="1020"/>
                  </a:lnTo>
                  <a:lnTo>
                    <a:pt x="1930" y="1021"/>
                  </a:lnTo>
                  <a:lnTo>
                    <a:pt x="1911" y="1027"/>
                  </a:lnTo>
                  <a:lnTo>
                    <a:pt x="1894" y="1036"/>
                  </a:lnTo>
                  <a:lnTo>
                    <a:pt x="1880" y="1054"/>
                  </a:lnTo>
                  <a:lnTo>
                    <a:pt x="1867" y="1078"/>
                  </a:lnTo>
                  <a:lnTo>
                    <a:pt x="1854" y="1113"/>
                  </a:lnTo>
                  <a:lnTo>
                    <a:pt x="1850" y="1117"/>
                  </a:lnTo>
                  <a:lnTo>
                    <a:pt x="1848" y="1126"/>
                  </a:lnTo>
                  <a:lnTo>
                    <a:pt x="1844" y="1136"/>
                  </a:lnTo>
                  <a:lnTo>
                    <a:pt x="1841" y="1149"/>
                  </a:lnTo>
                  <a:lnTo>
                    <a:pt x="1837" y="1161"/>
                  </a:lnTo>
                  <a:lnTo>
                    <a:pt x="1837" y="1173"/>
                  </a:lnTo>
                  <a:lnTo>
                    <a:pt x="1835" y="1184"/>
                  </a:lnTo>
                  <a:lnTo>
                    <a:pt x="1837" y="1193"/>
                  </a:lnTo>
                  <a:lnTo>
                    <a:pt x="1833" y="1204"/>
                  </a:lnTo>
                  <a:lnTo>
                    <a:pt x="1826" y="1235"/>
                  </a:lnTo>
                  <a:lnTo>
                    <a:pt x="1815" y="1278"/>
                  </a:lnTo>
                  <a:lnTo>
                    <a:pt x="1806" y="1330"/>
                  </a:lnTo>
                  <a:lnTo>
                    <a:pt x="1795" y="1383"/>
                  </a:lnTo>
                  <a:lnTo>
                    <a:pt x="1785" y="1433"/>
                  </a:lnTo>
                  <a:lnTo>
                    <a:pt x="1777" y="1473"/>
                  </a:lnTo>
                  <a:lnTo>
                    <a:pt x="1775" y="1499"/>
                  </a:lnTo>
                  <a:lnTo>
                    <a:pt x="1775" y="1536"/>
                  </a:lnTo>
                  <a:lnTo>
                    <a:pt x="1777" y="1564"/>
                  </a:lnTo>
                  <a:lnTo>
                    <a:pt x="1777" y="1584"/>
                  </a:lnTo>
                  <a:lnTo>
                    <a:pt x="1776" y="1600"/>
                  </a:lnTo>
                  <a:lnTo>
                    <a:pt x="1769" y="1614"/>
                  </a:lnTo>
                  <a:lnTo>
                    <a:pt x="1757" y="1629"/>
                  </a:lnTo>
                  <a:lnTo>
                    <a:pt x="1737" y="1646"/>
                  </a:lnTo>
                  <a:lnTo>
                    <a:pt x="1708" y="1671"/>
                  </a:lnTo>
                  <a:lnTo>
                    <a:pt x="1673" y="1688"/>
                  </a:lnTo>
                  <a:lnTo>
                    <a:pt x="1643" y="1707"/>
                  </a:lnTo>
                  <a:lnTo>
                    <a:pt x="1615" y="1725"/>
                  </a:lnTo>
                  <a:lnTo>
                    <a:pt x="1592" y="1745"/>
                  </a:lnTo>
                  <a:lnTo>
                    <a:pt x="1569" y="1767"/>
                  </a:lnTo>
                  <a:lnTo>
                    <a:pt x="1550" y="1793"/>
                  </a:lnTo>
                  <a:lnTo>
                    <a:pt x="1534" y="1822"/>
                  </a:lnTo>
                  <a:lnTo>
                    <a:pt x="1520" y="1859"/>
                  </a:lnTo>
                  <a:lnTo>
                    <a:pt x="1516" y="1860"/>
                  </a:lnTo>
                  <a:lnTo>
                    <a:pt x="1515" y="1862"/>
                  </a:lnTo>
                  <a:lnTo>
                    <a:pt x="1522" y="1897"/>
                  </a:lnTo>
                  <a:lnTo>
                    <a:pt x="1534" y="1928"/>
                  </a:lnTo>
                  <a:lnTo>
                    <a:pt x="1549" y="1952"/>
                  </a:lnTo>
                  <a:lnTo>
                    <a:pt x="1569" y="1972"/>
                  </a:lnTo>
                  <a:lnTo>
                    <a:pt x="1592" y="1985"/>
                  </a:lnTo>
                  <a:lnTo>
                    <a:pt x="1620" y="1994"/>
                  </a:lnTo>
                  <a:lnTo>
                    <a:pt x="1654" y="1997"/>
                  </a:lnTo>
                  <a:lnTo>
                    <a:pt x="1693" y="1995"/>
                  </a:lnTo>
                  <a:lnTo>
                    <a:pt x="1715" y="2013"/>
                  </a:lnTo>
                  <a:lnTo>
                    <a:pt x="1738" y="2025"/>
                  </a:lnTo>
                  <a:lnTo>
                    <a:pt x="1760" y="2031"/>
                  </a:lnTo>
                  <a:lnTo>
                    <a:pt x="1781" y="2036"/>
                  </a:lnTo>
                  <a:lnTo>
                    <a:pt x="1802" y="2037"/>
                  </a:lnTo>
                  <a:lnTo>
                    <a:pt x="1823" y="2043"/>
                  </a:lnTo>
                  <a:lnTo>
                    <a:pt x="1846" y="2048"/>
                  </a:lnTo>
                  <a:lnTo>
                    <a:pt x="1871" y="2062"/>
                  </a:lnTo>
                  <a:lnTo>
                    <a:pt x="1872" y="2070"/>
                  </a:lnTo>
                  <a:lnTo>
                    <a:pt x="1873" y="2077"/>
                  </a:lnTo>
                  <a:lnTo>
                    <a:pt x="1880" y="2077"/>
                  </a:lnTo>
                  <a:lnTo>
                    <a:pt x="1887" y="2077"/>
                  </a:lnTo>
                  <a:lnTo>
                    <a:pt x="1914" y="2101"/>
                  </a:lnTo>
                  <a:lnTo>
                    <a:pt x="1941" y="2127"/>
                  </a:lnTo>
                  <a:lnTo>
                    <a:pt x="1969" y="2150"/>
                  </a:lnTo>
                  <a:lnTo>
                    <a:pt x="1999" y="2174"/>
                  </a:lnTo>
                  <a:lnTo>
                    <a:pt x="2029" y="2194"/>
                  </a:lnTo>
                  <a:lnTo>
                    <a:pt x="2061" y="2216"/>
                  </a:lnTo>
                  <a:lnTo>
                    <a:pt x="2095" y="2235"/>
                  </a:lnTo>
                  <a:lnTo>
                    <a:pt x="2133" y="2255"/>
                  </a:lnTo>
                  <a:lnTo>
                    <a:pt x="2126" y="2267"/>
                  </a:lnTo>
                  <a:lnTo>
                    <a:pt x="2109" y="2281"/>
                  </a:lnTo>
                  <a:lnTo>
                    <a:pt x="2084" y="2293"/>
                  </a:lnTo>
                  <a:lnTo>
                    <a:pt x="2057" y="2308"/>
                  </a:lnTo>
                  <a:lnTo>
                    <a:pt x="2026" y="2320"/>
                  </a:lnTo>
                  <a:lnTo>
                    <a:pt x="2000" y="2332"/>
                  </a:lnTo>
                  <a:lnTo>
                    <a:pt x="1977" y="2343"/>
                  </a:lnTo>
                  <a:lnTo>
                    <a:pt x="1964" y="2353"/>
                  </a:lnTo>
                  <a:lnTo>
                    <a:pt x="1953" y="2373"/>
                  </a:lnTo>
                  <a:lnTo>
                    <a:pt x="1945" y="2396"/>
                  </a:lnTo>
                  <a:lnTo>
                    <a:pt x="1937" y="2419"/>
                  </a:lnTo>
                  <a:lnTo>
                    <a:pt x="1931" y="2443"/>
                  </a:lnTo>
                  <a:lnTo>
                    <a:pt x="1922" y="2465"/>
                  </a:lnTo>
                  <a:lnTo>
                    <a:pt x="1914" y="2488"/>
                  </a:lnTo>
                  <a:lnTo>
                    <a:pt x="1903" y="2507"/>
                  </a:lnTo>
                  <a:lnTo>
                    <a:pt x="1890" y="2526"/>
                  </a:lnTo>
                  <a:lnTo>
                    <a:pt x="1888" y="2520"/>
                  </a:lnTo>
                  <a:lnTo>
                    <a:pt x="1888" y="2515"/>
                  </a:lnTo>
                  <a:lnTo>
                    <a:pt x="1888" y="2507"/>
                  </a:lnTo>
                  <a:lnTo>
                    <a:pt x="1890" y="2500"/>
                  </a:lnTo>
                  <a:lnTo>
                    <a:pt x="1890" y="2491"/>
                  </a:lnTo>
                  <a:lnTo>
                    <a:pt x="1892" y="2483"/>
                  </a:lnTo>
                  <a:lnTo>
                    <a:pt x="1892" y="2472"/>
                  </a:lnTo>
                  <a:lnTo>
                    <a:pt x="1895" y="2462"/>
                  </a:lnTo>
                  <a:lnTo>
                    <a:pt x="1888" y="2434"/>
                  </a:lnTo>
                  <a:lnTo>
                    <a:pt x="1877" y="2412"/>
                  </a:lnTo>
                  <a:lnTo>
                    <a:pt x="1864" y="2395"/>
                  </a:lnTo>
                  <a:lnTo>
                    <a:pt x="1848" y="2382"/>
                  </a:lnTo>
                  <a:lnTo>
                    <a:pt x="1827" y="2374"/>
                  </a:lnTo>
                  <a:lnTo>
                    <a:pt x="1806" y="2370"/>
                  </a:lnTo>
                  <a:lnTo>
                    <a:pt x="1783" y="2370"/>
                  </a:lnTo>
                  <a:lnTo>
                    <a:pt x="1760" y="2374"/>
                  </a:lnTo>
                  <a:lnTo>
                    <a:pt x="1754" y="2386"/>
                  </a:lnTo>
                  <a:lnTo>
                    <a:pt x="1745" y="2399"/>
                  </a:lnTo>
                  <a:lnTo>
                    <a:pt x="1734" y="2409"/>
                  </a:lnTo>
                  <a:lnTo>
                    <a:pt x="1724" y="2420"/>
                  </a:lnTo>
                  <a:lnTo>
                    <a:pt x="1714" y="2418"/>
                  </a:lnTo>
                  <a:lnTo>
                    <a:pt x="1706" y="2414"/>
                  </a:lnTo>
                  <a:lnTo>
                    <a:pt x="1699" y="2409"/>
                  </a:lnTo>
                  <a:lnTo>
                    <a:pt x="1693" y="2407"/>
                  </a:lnTo>
                  <a:lnTo>
                    <a:pt x="1653" y="2395"/>
                  </a:lnTo>
                  <a:lnTo>
                    <a:pt x="1622" y="2389"/>
                  </a:lnTo>
                  <a:lnTo>
                    <a:pt x="1596" y="2384"/>
                  </a:lnTo>
                  <a:lnTo>
                    <a:pt x="1574" y="2380"/>
                  </a:lnTo>
                  <a:lnTo>
                    <a:pt x="1555" y="2369"/>
                  </a:lnTo>
                  <a:lnTo>
                    <a:pt x="1539" y="2353"/>
                  </a:lnTo>
                  <a:lnTo>
                    <a:pt x="1523" y="2326"/>
                  </a:lnTo>
                  <a:lnTo>
                    <a:pt x="1507" y="2286"/>
                  </a:lnTo>
                  <a:lnTo>
                    <a:pt x="1486" y="2247"/>
                  </a:lnTo>
                  <a:lnTo>
                    <a:pt x="1463" y="2204"/>
                  </a:lnTo>
                  <a:lnTo>
                    <a:pt x="1438" y="2158"/>
                  </a:lnTo>
                  <a:lnTo>
                    <a:pt x="1409" y="2116"/>
                  </a:lnTo>
                  <a:lnTo>
                    <a:pt x="1375" y="2078"/>
                  </a:lnTo>
                  <a:lnTo>
                    <a:pt x="1339" y="2052"/>
                  </a:lnTo>
                  <a:lnTo>
                    <a:pt x="1297" y="2039"/>
                  </a:lnTo>
                  <a:lnTo>
                    <a:pt x="1252" y="2043"/>
                  </a:lnTo>
                  <a:lnTo>
                    <a:pt x="1259" y="2046"/>
                  </a:lnTo>
                  <a:lnTo>
                    <a:pt x="1263" y="2047"/>
                  </a:lnTo>
                  <a:lnTo>
                    <a:pt x="1263" y="2048"/>
                  </a:lnTo>
                  <a:lnTo>
                    <a:pt x="1263" y="2052"/>
                  </a:lnTo>
                  <a:lnTo>
                    <a:pt x="1263" y="2056"/>
                  </a:lnTo>
                  <a:lnTo>
                    <a:pt x="1287" y="2097"/>
                  </a:lnTo>
                  <a:lnTo>
                    <a:pt x="1312" y="2138"/>
                  </a:lnTo>
                  <a:lnTo>
                    <a:pt x="1336" y="2178"/>
                  </a:lnTo>
                  <a:lnTo>
                    <a:pt x="1362" y="2221"/>
                  </a:lnTo>
                  <a:lnTo>
                    <a:pt x="1384" y="2263"/>
                  </a:lnTo>
                  <a:lnTo>
                    <a:pt x="1404" y="2309"/>
                  </a:lnTo>
                  <a:lnTo>
                    <a:pt x="1421" y="2355"/>
                  </a:lnTo>
                  <a:lnTo>
                    <a:pt x="1438" y="2404"/>
                  </a:lnTo>
                  <a:lnTo>
                    <a:pt x="1425" y="2408"/>
                  </a:lnTo>
                  <a:lnTo>
                    <a:pt x="1413" y="2414"/>
                  </a:lnTo>
                  <a:lnTo>
                    <a:pt x="1401" y="2418"/>
                  </a:lnTo>
                  <a:lnTo>
                    <a:pt x="1390" y="2422"/>
                  </a:lnTo>
                  <a:lnTo>
                    <a:pt x="1377" y="2426"/>
                  </a:lnTo>
                  <a:lnTo>
                    <a:pt x="1365" y="2430"/>
                  </a:lnTo>
                  <a:lnTo>
                    <a:pt x="1352" y="2435"/>
                  </a:lnTo>
                  <a:lnTo>
                    <a:pt x="1343" y="2443"/>
                  </a:lnTo>
                  <a:lnTo>
                    <a:pt x="1308" y="2487"/>
                  </a:lnTo>
                  <a:lnTo>
                    <a:pt x="1277" y="2535"/>
                  </a:lnTo>
                  <a:lnTo>
                    <a:pt x="1251" y="2584"/>
                  </a:lnTo>
                  <a:lnTo>
                    <a:pt x="1236" y="2634"/>
                  </a:lnTo>
                  <a:lnTo>
                    <a:pt x="1232" y="2681"/>
                  </a:lnTo>
                  <a:lnTo>
                    <a:pt x="1244" y="2727"/>
                  </a:lnTo>
                  <a:lnTo>
                    <a:pt x="1274" y="2772"/>
                  </a:lnTo>
                  <a:lnTo>
                    <a:pt x="1327" y="2813"/>
                  </a:lnTo>
                  <a:lnTo>
                    <a:pt x="1327" y="2834"/>
                  </a:lnTo>
                  <a:lnTo>
                    <a:pt x="1329" y="2855"/>
                  </a:lnTo>
                  <a:lnTo>
                    <a:pt x="1335" y="2869"/>
                  </a:lnTo>
                  <a:lnTo>
                    <a:pt x="1346" y="2883"/>
                  </a:lnTo>
                  <a:lnTo>
                    <a:pt x="1358" y="2891"/>
                  </a:lnTo>
                  <a:lnTo>
                    <a:pt x="1374" y="2899"/>
                  </a:lnTo>
                  <a:lnTo>
                    <a:pt x="1394" y="2903"/>
                  </a:lnTo>
                  <a:lnTo>
                    <a:pt x="1421" y="2909"/>
                  </a:lnTo>
                  <a:lnTo>
                    <a:pt x="1451" y="2949"/>
                  </a:lnTo>
                  <a:lnTo>
                    <a:pt x="1474" y="2987"/>
                  </a:lnTo>
                  <a:lnTo>
                    <a:pt x="1492" y="3018"/>
                  </a:lnTo>
                  <a:lnTo>
                    <a:pt x="1511" y="3047"/>
                  </a:lnTo>
                  <a:lnTo>
                    <a:pt x="1534" y="3064"/>
                  </a:lnTo>
                  <a:lnTo>
                    <a:pt x="1566" y="3075"/>
                  </a:lnTo>
                  <a:lnTo>
                    <a:pt x="1612" y="3076"/>
                  </a:lnTo>
                  <a:lnTo>
                    <a:pt x="1677" y="3067"/>
                  </a:lnTo>
                  <a:lnTo>
                    <a:pt x="1695" y="3056"/>
                  </a:lnTo>
                  <a:lnTo>
                    <a:pt x="1712" y="3048"/>
                  </a:lnTo>
                  <a:lnTo>
                    <a:pt x="1726" y="3039"/>
                  </a:lnTo>
                  <a:lnTo>
                    <a:pt x="1739" y="3033"/>
                  </a:lnTo>
                  <a:lnTo>
                    <a:pt x="1752" y="3028"/>
                  </a:lnTo>
                  <a:lnTo>
                    <a:pt x="1766" y="3026"/>
                  </a:lnTo>
                  <a:lnTo>
                    <a:pt x="1784" y="3026"/>
                  </a:lnTo>
                  <a:lnTo>
                    <a:pt x="1807" y="3030"/>
                  </a:lnTo>
                  <a:lnTo>
                    <a:pt x="1831" y="3022"/>
                  </a:lnTo>
                  <a:lnTo>
                    <a:pt x="1850" y="3017"/>
                  </a:lnTo>
                  <a:lnTo>
                    <a:pt x="1865" y="3013"/>
                  </a:lnTo>
                  <a:lnTo>
                    <a:pt x="1879" y="3013"/>
                  </a:lnTo>
                  <a:lnTo>
                    <a:pt x="1888" y="3017"/>
                  </a:lnTo>
                  <a:lnTo>
                    <a:pt x="1902" y="3025"/>
                  </a:lnTo>
                  <a:lnTo>
                    <a:pt x="1919" y="3040"/>
                  </a:lnTo>
                  <a:lnTo>
                    <a:pt x="1942" y="3062"/>
                  </a:lnTo>
                  <a:lnTo>
                    <a:pt x="1963" y="3074"/>
                  </a:lnTo>
                  <a:lnTo>
                    <a:pt x="1971" y="3087"/>
                  </a:lnTo>
                  <a:lnTo>
                    <a:pt x="1968" y="3103"/>
                  </a:lnTo>
                  <a:lnTo>
                    <a:pt x="1961" y="3122"/>
                  </a:lnTo>
                  <a:lnTo>
                    <a:pt x="1950" y="3141"/>
                  </a:lnTo>
                  <a:lnTo>
                    <a:pt x="1941" y="3166"/>
                  </a:lnTo>
                  <a:lnTo>
                    <a:pt x="1937" y="3191"/>
                  </a:lnTo>
                  <a:lnTo>
                    <a:pt x="1942" y="3221"/>
                  </a:lnTo>
                  <a:lnTo>
                    <a:pt x="1917" y="3227"/>
                  </a:lnTo>
                  <a:lnTo>
                    <a:pt x="1896" y="3235"/>
                  </a:lnTo>
                  <a:lnTo>
                    <a:pt x="1879" y="3244"/>
                  </a:lnTo>
                  <a:lnTo>
                    <a:pt x="1865" y="3256"/>
                  </a:lnTo>
                  <a:lnTo>
                    <a:pt x="1850" y="3269"/>
                  </a:lnTo>
                  <a:lnTo>
                    <a:pt x="1837" y="3283"/>
                  </a:lnTo>
                  <a:lnTo>
                    <a:pt x="1821" y="3298"/>
                  </a:lnTo>
                  <a:lnTo>
                    <a:pt x="1804" y="3315"/>
                  </a:lnTo>
                  <a:lnTo>
                    <a:pt x="1796" y="3305"/>
                  </a:lnTo>
                  <a:lnTo>
                    <a:pt x="1789" y="3294"/>
                  </a:lnTo>
                  <a:lnTo>
                    <a:pt x="1784" y="3283"/>
                  </a:lnTo>
                  <a:lnTo>
                    <a:pt x="1780" y="3273"/>
                  </a:lnTo>
                  <a:lnTo>
                    <a:pt x="1775" y="3260"/>
                  </a:lnTo>
                  <a:lnTo>
                    <a:pt x="1770" y="3251"/>
                  </a:lnTo>
                  <a:lnTo>
                    <a:pt x="1768" y="3241"/>
                  </a:lnTo>
                  <a:lnTo>
                    <a:pt x="1765" y="3235"/>
                  </a:lnTo>
                  <a:lnTo>
                    <a:pt x="1743" y="3200"/>
                  </a:lnTo>
                  <a:lnTo>
                    <a:pt x="1722" y="3174"/>
                  </a:lnTo>
                  <a:lnTo>
                    <a:pt x="1696" y="3154"/>
                  </a:lnTo>
                  <a:lnTo>
                    <a:pt x="1670" y="3141"/>
                  </a:lnTo>
                  <a:lnTo>
                    <a:pt x="1641" y="3133"/>
                  </a:lnTo>
                  <a:lnTo>
                    <a:pt x="1608" y="3129"/>
                  </a:lnTo>
                  <a:lnTo>
                    <a:pt x="1573" y="3129"/>
                  </a:lnTo>
                  <a:lnTo>
                    <a:pt x="1536" y="3133"/>
                  </a:lnTo>
                  <a:lnTo>
                    <a:pt x="1522" y="3108"/>
                  </a:lnTo>
                  <a:lnTo>
                    <a:pt x="1503" y="3080"/>
                  </a:lnTo>
                  <a:lnTo>
                    <a:pt x="1478" y="3053"/>
                  </a:lnTo>
                  <a:lnTo>
                    <a:pt x="1453" y="3029"/>
                  </a:lnTo>
                  <a:lnTo>
                    <a:pt x="1423" y="3005"/>
                  </a:lnTo>
                  <a:lnTo>
                    <a:pt x="1394" y="2986"/>
                  </a:lnTo>
                  <a:lnTo>
                    <a:pt x="1367" y="2970"/>
                  </a:lnTo>
                  <a:lnTo>
                    <a:pt x="1346" y="2959"/>
                  </a:lnTo>
                  <a:lnTo>
                    <a:pt x="1308" y="2938"/>
                  </a:lnTo>
                  <a:lnTo>
                    <a:pt x="1263" y="2948"/>
                  </a:lnTo>
                  <a:lnTo>
                    <a:pt x="1209" y="2979"/>
                  </a:lnTo>
                  <a:lnTo>
                    <a:pt x="1156" y="3028"/>
                  </a:lnTo>
                  <a:lnTo>
                    <a:pt x="1102" y="3080"/>
                  </a:lnTo>
                  <a:lnTo>
                    <a:pt x="1057" y="3136"/>
                  </a:lnTo>
                  <a:lnTo>
                    <a:pt x="1022" y="3185"/>
                  </a:lnTo>
                  <a:lnTo>
                    <a:pt x="1005" y="3221"/>
                  </a:lnTo>
                  <a:lnTo>
                    <a:pt x="1005" y="3228"/>
                  </a:lnTo>
                  <a:lnTo>
                    <a:pt x="1007" y="3236"/>
                  </a:lnTo>
                  <a:lnTo>
                    <a:pt x="1010" y="3243"/>
                  </a:lnTo>
                  <a:lnTo>
                    <a:pt x="1014" y="3251"/>
                  </a:lnTo>
                  <a:lnTo>
                    <a:pt x="1018" y="3258"/>
                  </a:lnTo>
                  <a:lnTo>
                    <a:pt x="1025" y="3264"/>
                  </a:lnTo>
                  <a:lnTo>
                    <a:pt x="1032" y="3273"/>
                  </a:lnTo>
                  <a:lnTo>
                    <a:pt x="1040" y="3282"/>
                  </a:lnTo>
                  <a:lnTo>
                    <a:pt x="1040" y="3283"/>
                  </a:lnTo>
                  <a:lnTo>
                    <a:pt x="1040" y="3287"/>
                  </a:lnTo>
                  <a:lnTo>
                    <a:pt x="1002" y="3298"/>
                  </a:lnTo>
                  <a:lnTo>
                    <a:pt x="974" y="3309"/>
                  </a:lnTo>
                  <a:lnTo>
                    <a:pt x="947" y="3320"/>
                  </a:lnTo>
                  <a:lnTo>
                    <a:pt x="925" y="3332"/>
                  </a:lnTo>
                  <a:lnTo>
                    <a:pt x="903" y="3346"/>
                  </a:lnTo>
                  <a:lnTo>
                    <a:pt x="882" y="3363"/>
                  </a:lnTo>
                  <a:lnTo>
                    <a:pt x="856" y="3385"/>
                  </a:lnTo>
                  <a:lnTo>
                    <a:pt x="830" y="3415"/>
                  </a:lnTo>
                  <a:lnTo>
                    <a:pt x="817" y="3430"/>
                  </a:lnTo>
                  <a:lnTo>
                    <a:pt x="809" y="3442"/>
                  </a:lnTo>
                  <a:lnTo>
                    <a:pt x="802" y="3451"/>
                  </a:lnTo>
                  <a:lnTo>
                    <a:pt x="798" y="3458"/>
                  </a:lnTo>
                  <a:lnTo>
                    <a:pt x="791" y="3466"/>
                  </a:lnTo>
                  <a:lnTo>
                    <a:pt x="784" y="3474"/>
                  </a:lnTo>
                  <a:lnTo>
                    <a:pt x="788" y="3476"/>
                  </a:lnTo>
                  <a:lnTo>
                    <a:pt x="792" y="3477"/>
                  </a:lnTo>
                  <a:lnTo>
                    <a:pt x="788" y="3485"/>
                  </a:lnTo>
                  <a:lnTo>
                    <a:pt x="786" y="3501"/>
                  </a:lnTo>
                  <a:lnTo>
                    <a:pt x="781" y="3519"/>
                  </a:lnTo>
                  <a:lnTo>
                    <a:pt x="779" y="3539"/>
                  </a:lnTo>
                  <a:lnTo>
                    <a:pt x="775" y="3557"/>
                  </a:lnTo>
                  <a:lnTo>
                    <a:pt x="772" y="3573"/>
                  </a:lnTo>
                  <a:lnTo>
                    <a:pt x="769" y="3584"/>
                  </a:lnTo>
                  <a:lnTo>
                    <a:pt x="769" y="3591"/>
                  </a:lnTo>
                  <a:lnTo>
                    <a:pt x="738" y="3588"/>
                  </a:lnTo>
                  <a:lnTo>
                    <a:pt x="715" y="3595"/>
                  </a:lnTo>
                  <a:lnTo>
                    <a:pt x="699" y="3608"/>
                  </a:lnTo>
                  <a:lnTo>
                    <a:pt x="691" y="3627"/>
                  </a:lnTo>
                  <a:lnTo>
                    <a:pt x="687" y="3649"/>
                  </a:lnTo>
                  <a:lnTo>
                    <a:pt x="692" y="3673"/>
                  </a:lnTo>
                  <a:lnTo>
                    <a:pt x="703" y="3697"/>
                  </a:lnTo>
                  <a:lnTo>
                    <a:pt x="721" y="3723"/>
                  </a:lnTo>
                  <a:lnTo>
                    <a:pt x="725" y="3726"/>
                  </a:lnTo>
                  <a:lnTo>
                    <a:pt x="729" y="3734"/>
                  </a:lnTo>
                  <a:lnTo>
                    <a:pt x="702" y="3734"/>
                  </a:lnTo>
                  <a:lnTo>
                    <a:pt x="676" y="3735"/>
                  </a:lnTo>
                  <a:lnTo>
                    <a:pt x="649" y="3737"/>
                  </a:lnTo>
                  <a:lnTo>
                    <a:pt x="623" y="3738"/>
                  </a:lnTo>
                  <a:lnTo>
                    <a:pt x="596" y="3739"/>
                  </a:lnTo>
                  <a:lnTo>
                    <a:pt x="570" y="3741"/>
                  </a:lnTo>
                  <a:lnTo>
                    <a:pt x="545" y="3741"/>
                  </a:lnTo>
                  <a:lnTo>
                    <a:pt x="522" y="3742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86600" y="6062760"/>
              <a:ext cx="221040" cy="74880"/>
            </a:xfrm>
            <a:custGeom>
              <a:avLst/>
              <a:gdLst/>
              <a:ahLst/>
              <a:rect l="l" t="t" r="r" b="b"/>
              <a:pathLst>
                <a:path w="364" h="116">
                  <a:moveTo>
                    <a:pt x="325" y="116"/>
                  </a:moveTo>
                  <a:lnTo>
                    <a:pt x="286" y="113"/>
                  </a:lnTo>
                  <a:lnTo>
                    <a:pt x="244" y="112"/>
                  </a:lnTo>
                  <a:lnTo>
                    <a:pt x="200" y="109"/>
                  </a:lnTo>
                  <a:lnTo>
                    <a:pt x="157" y="107"/>
                  </a:lnTo>
                  <a:lnTo>
                    <a:pt x="112" y="101"/>
                  </a:lnTo>
                  <a:lnTo>
                    <a:pt x="70" y="96"/>
                  </a:lnTo>
                  <a:lnTo>
                    <a:pt x="33" y="88"/>
                  </a:lnTo>
                  <a:lnTo>
                    <a:pt x="0" y="78"/>
                  </a:lnTo>
                  <a:lnTo>
                    <a:pt x="8" y="74"/>
                  </a:lnTo>
                  <a:lnTo>
                    <a:pt x="27" y="70"/>
                  </a:lnTo>
                  <a:lnTo>
                    <a:pt x="54" y="62"/>
                  </a:lnTo>
                  <a:lnTo>
                    <a:pt x="85" y="55"/>
                  </a:lnTo>
                  <a:lnTo>
                    <a:pt x="115" y="47"/>
                  </a:lnTo>
                  <a:lnTo>
                    <a:pt x="145" y="39"/>
                  </a:lnTo>
                  <a:lnTo>
                    <a:pt x="167" y="34"/>
                  </a:lnTo>
                  <a:lnTo>
                    <a:pt x="181" y="31"/>
                  </a:lnTo>
                  <a:lnTo>
                    <a:pt x="206" y="9"/>
                  </a:lnTo>
                  <a:lnTo>
                    <a:pt x="227" y="0"/>
                  </a:lnTo>
                  <a:lnTo>
                    <a:pt x="245" y="0"/>
                  </a:lnTo>
                  <a:lnTo>
                    <a:pt x="261" y="8"/>
                  </a:lnTo>
                  <a:lnTo>
                    <a:pt x="273" y="21"/>
                  </a:lnTo>
                  <a:lnTo>
                    <a:pt x="286" y="39"/>
                  </a:lnTo>
                  <a:lnTo>
                    <a:pt x="299" y="61"/>
                  </a:lnTo>
                  <a:lnTo>
                    <a:pt x="314" y="84"/>
                  </a:lnTo>
                  <a:lnTo>
                    <a:pt x="321" y="88"/>
                  </a:lnTo>
                  <a:lnTo>
                    <a:pt x="328" y="93"/>
                  </a:lnTo>
                  <a:lnTo>
                    <a:pt x="333" y="96"/>
                  </a:lnTo>
                  <a:lnTo>
                    <a:pt x="338" y="98"/>
                  </a:lnTo>
                  <a:lnTo>
                    <a:pt x="342" y="101"/>
                  </a:lnTo>
                  <a:lnTo>
                    <a:pt x="349" y="104"/>
                  </a:lnTo>
                  <a:lnTo>
                    <a:pt x="355" y="108"/>
                  </a:lnTo>
                  <a:lnTo>
                    <a:pt x="364" y="113"/>
                  </a:lnTo>
                  <a:lnTo>
                    <a:pt x="361" y="113"/>
                  </a:lnTo>
                  <a:lnTo>
                    <a:pt x="356" y="115"/>
                  </a:lnTo>
                  <a:lnTo>
                    <a:pt x="351" y="115"/>
                  </a:lnTo>
                  <a:lnTo>
                    <a:pt x="345" y="115"/>
                  </a:lnTo>
                  <a:lnTo>
                    <a:pt x="336" y="115"/>
                  </a:lnTo>
                  <a:lnTo>
                    <a:pt x="325" y="116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57960" y="5854320"/>
              <a:ext cx="222480" cy="269280"/>
            </a:xfrm>
            <a:custGeom>
              <a:avLst/>
              <a:gdLst/>
              <a:ahLst/>
              <a:rect l="l" t="t" r="r" b="b"/>
              <a:pathLst>
                <a:path w="365" h="423">
                  <a:moveTo>
                    <a:pt x="84" y="423"/>
                  </a:moveTo>
                  <a:lnTo>
                    <a:pt x="58" y="409"/>
                  </a:lnTo>
                  <a:lnTo>
                    <a:pt x="38" y="392"/>
                  </a:lnTo>
                  <a:lnTo>
                    <a:pt x="22" y="372"/>
                  </a:lnTo>
                  <a:lnTo>
                    <a:pt x="9" y="350"/>
                  </a:lnTo>
                  <a:lnTo>
                    <a:pt x="1" y="326"/>
                  </a:lnTo>
                  <a:lnTo>
                    <a:pt x="0" y="302"/>
                  </a:lnTo>
                  <a:lnTo>
                    <a:pt x="3" y="277"/>
                  </a:lnTo>
                  <a:lnTo>
                    <a:pt x="15" y="254"/>
                  </a:lnTo>
                  <a:lnTo>
                    <a:pt x="31" y="234"/>
                  </a:lnTo>
                  <a:lnTo>
                    <a:pt x="40" y="210"/>
                  </a:lnTo>
                  <a:lnTo>
                    <a:pt x="45" y="180"/>
                  </a:lnTo>
                  <a:lnTo>
                    <a:pt x="45" y="150"/>
                  </a:lnTo>
                  <a:lnTo>
                    <a:pt x="39" y="118"/>
                  </a:lnTo>
                  <a:lnTo>
                    <a:pt x="34" y="88"/>
                  </a:lnTo>
                  <a:lnTo>
                    <a:pt x="27" y="61"/>
                  </a:lnTo>
                  <a:lnTo>
                    <a:pt x="23" y="42"/>
                  </a:lnTo>
                  <a:lnTo>
                    <a:pt x="32" y="39"/>
                  </a:lnTo>
                  <a:lnTo>
                    <a:pt x="42" y="38"/>
                  </a:lnTo>
                  <a:lnTo>
                    <a:pt x="51" y="35"/>
                  </a:lnTo>
                  <a:lnTo>
                    <a:pt x="63" y="34"/>
                  </a:lnTo>
                  <a:lnTo>
                    <a:pt x="73" y="31"/>
                  </a:lnTo>
                  <a:lnTo>
                    <a:pt x="84" y="30"/>
                  </a:lnTo>
                  <a:lnTo>
                    <a:pt x="96" y="27"/>
                  </a:lnTo>
                  <a:lnTo>
                    <a:pt x="108" y="26"/>
                  </a:lnTo>
                  <a:lnTo>
                    <a:pt x="99" y="15"/>
                  </a:lnTo>
                  <a:lnTo>
                    <a:pt x="95" y="9"/>
                  </a:lnTo>
                  <a:lnTo>
                    <a:pt x="101" y="3"/>
                  </a:lnTo>
                  <a:lnTo>
                    <a:pt x="114" y="0"/>
                  </a:lnTo>
                  <a:lnTo>
                    <a:pt x="128" y="0"/>
                  </a:lnTo>
                  <a:lnTo>
                    <a:pt x="147" y="4"/>
                  </a:lnTo>
                  <a:lnTo>
                    <a:pt x="165" y="8"/>
                  </a:lnTo>
                  <a:lnTo>
                    <a:pt x="181" y="15"/>
                  </a:lnTo>
                  <a:lnTo>
                    <a:pt x="196" y="22"/>
                  </a:lnTo>
                  <a:lnTo>
                    <a:pt x="208" y="28"/>
                  </a:lnTo>
                  <a:lnTo>
                    <a:pt x="215" y="38"/>
                  </a:lnTo>
                  <a:lnTo>
                    <a:pt x="223" y="49"/>
                  </a:lnTo>
                  <a:lnTo>
                    <a:pt x="231" y="57"/>
                  </a:lnTo>
                  <a:lnTo>
                    <a:pt x="239" y="66"/>
                  </a:lnTo>
                  <a:lnTo>
                    <a:pt x="247" y="74"/>
                  </a:lnTo>
                  <a:lnTo>
                    <a:pt x="257" y="84"/>
                  </a:lnTo>
                  <a:lnTo>
                    <a:pt x="269" y="92"/>
                  </a:lnTo>
                  <a:lnTo>
                    <a:pt x="283" y="103"/>
                  </a:lnTo>
                  <a:lnTo>
                    <a:pt x="291" y="107"/>
                  </a:lnTo>
                  <a:lnTo>
                    <a:pt x="304" y="114"/>
                  </a:lnTo>
                  <a:lnTo>
                    <a:pt x="318" y="120"/>
                  </a:lnTo>
                  <a:lnTo>
                    <a:pt x="333" y="131"/>
                  </a:lnTo>
                  <a:lnTo>
                    <a:pt x="344" y="141"/>
                  </a:lnTo>
                  <a:lnTo>
                    <a:pt x="356" y="153"/>
                  </a:lnTo>
                  <a:lnTo>
                    <a:pt x="362" y="165"/>
                  </a:lnTo>
                  <a:lnTo>
                    <a:pt x="365" y="180"/>
                  </a:lnTo>
                  <a:lnTo>
                    <a:pt x="307" y="187"/>
                  </a:lnTo>
                  <a:lnTo>
                    <a:pt x="258" y="200"/>
                  </a:lnTo>
                  <a:lnTo>
                    <a:pt x="216" y="220"/>
                  </a:lnTo>
                  <a:lnTo>
                    <a:pt x="184" y="249"/>
                  </a:lnTo>
                  <a:lnTo>
                    <a:pt x="154" y="281"/>
                  </a:lnTo>
                  <a:lnTo>
                    <a:pt x="130" y="322"/>
                  </a:lnTo>
                  <a:lnTo>
                    <a:pt x="107" y="369"/>
                  </a:lnTo>
                  <a:lnTo>
                    <a:pt x="89" y="423"/>
                  </a:lnTo>
                  <a:lnTo>
                    <a:pt x="85" y="423"/>
                  </a:lnTo>
                  <a:lnTo>
                    <a:pt x="84" y="423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34080" y="5938200"/>
              <a:ext cx="270000" cy="180360"/>
            </a:xfrm>
            <a:custGeom>
              <a:avLst/>
              <a:gdLst/>
              <a:ahLst/>
              <a:rect l="l" t="t" r="r" b="b"/>
              <a:pathLst>
                <a:path w="445" h="282">
                  <a:moveTo>
                    <a:pt x="215" y="282"/>
                  </a:moveTo>
                  <a:lnTo>
                    <a:pt x="207" y="221"/>
                  </a:lnTo>
                  <a:lnTo>
                    <a:pt x="191" y="182"/>
                  </a:lnTo>
                  <a:lnTo>
                    <a:pt x="168" y="156"/>
                  </a:lnTo>
                  <a:lnTo>
                    <a:pt x="142" y="144"/>
                  </a:lnTo>
                  <a:lnTo>
                    <a:pt x="110" y="136"/>
                  </a:lnTo>
                  <a:lnTo>
                    <a:pt x="75" y="129"/>
                  </a:lnTo>
                  <a:lnTo>
                    <a:pt x="37" y="119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8" y="87"/>
                  </a:lnTo>
                  <a:lnTo>
                    <a:pt x="16" y="83"/>
                  </a:lnTo>
                  <a:lnTo>
                    <a:pt x="72" y="36"/>
                  </a:lnTo>
                  <a:lnTo>
                    <a:pt x="123" y="10"/>
                  </a:lnTo>
                  <a:lnTo>
                    <a:pt x="169" y="0"/>
                  </a:lnTo>
                  <a:lnTo>
                    <a:pt x="215" y="6"/>
                  </a:lnTo>
                  <a:lnTo>
                    <a:pt x="257" y="23"/>
                  </a:lnTo>
                  <a:lnTo>
                    <a:pt x="302" y="51"/>
                  </a:lnTo>
                  <a:lnTo>
                    <a:pt x="348" y="87"/>
                  </a:lnTo>
                  <a:lnTo>
                    <a:pt x="398" y="131"/>
                  </a:lnTo>
                  <a:lnTo>
                    <a:pt x="399" y="125"/>
                  </a:lnTo>
                  <a:lnTo>
                    <a:pt x="401" y="121"/>
                  </a:lnTo>
                  <a:lnTo>
                    <a:pt x="407" y="121"/>
                  </a:lnTo>
                  <a:lnTo>
                    <a:pt x="414" y="121"/>
                  </a:lnTo>
                  <a:lnTo>
                    <a:pt x="424" y="133"/>
                  </a:lnTo>
                  <a:lnTo>
                    <a:pt x="432" y="146"/>
                  </a:lnTo>
                  <a:lnTo>
                    <a:pt x="437" y="155"/>
                  </a:lnTo>
                  <a:lnTo>
                    <a:pt x="442" y="166"/>
                  </a:lnTo>
                  <a:lnTo>
                    <a:pt x="444" y="175"/>
                  </a:lnTo>
                  <a:lnTo>
                    <a:pt x="445" y="189"/>
                  </a:lnTo>
                  <a:lnTo>
                    <a:pt x="444" y="204"/>
                  </a:lnTo>
                  <a:lnTo>
                    <a:pt x="444" y="224"/>
                  </a:lnTo>
                  <a:lnTo>
                    <a:pt x="417" y="235"/>
                  </a:lnTo>
                  <a:lnTo>
                    <a:pt x="390" y="246"/>
                  </a:lnTo>
                  <a:lnTo>
                    <a:pt x="360" y="254"/>
                  </a:lnTo>
                  <a:lnTo>
                    <a:pt x="330" y="263"/>
                  </a:lnTo>
                  <a:lnTo>
                    <a:pt x="299" y="269"/>
                  </a:lnTo>
                  <a:lnTo>
                    <a:pt x="269" y="274"/>
                  </a:lnTo>
                  <a:lnTo>
                    <a:pt x="241" y="278"/>
                  </a:lnTo>
                  <a:lnTo>
                    <a:pt x="215" y="282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53760" y="6055200"/>
              <a:ext cx="79920" cy="4788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121" y="77"/>
                  </a:moveTo>
                  <a:lnTo>
                    <a:pt x="98" y="72"/>
                  </a:lnTo>
                  <a:lnTo>
                    <a:pt x="79" y="68"/>
                  </a:lnTo>
                  <a:lnTo>
                    <a:pt x="63" y="62"/>
                  </a:lnTo>
                  <a:lnTo>
                    <a:pt x="50" y="58"/>
                  </a:lnTo>
                  <a:lnTo>
                    <a:pt x="37" y="50"/>
                  </a:lnTo>
                  <a:lnTo>
                    <a:pt x="25" y="43"/>
                  </a:lnTo>
                  <a:lnTo>
                    <a:pt x="12" y="34"/>
                  </a:lnTo>
                  <a:lnTo>
                    <a:pt x="0" y="23"/>
                  </a:lnTo>
                  <a:lnTo>
                    <a:pt x="11" y="19"/>
                  </a:lnTo>
                  <a:lnTo>
                    <a:pt x="18" y="15"/>
                  </a:lnTo>
                  <a:lnTo>
                    <a:pt x="23" y="8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4" y="14"/>
                  </a:lnTo>
                  <a:lnTo>
                    <a:pt x="53" y="26"/>
                  </a:lnTo>
                  <a:lnTo>
                    <a:pt x="63" y="34"/>
                  </a:lnTo>
                  <a:lnTo>
                    <a:pt x="75" y="43"/>
                  </a:lnTo>
                  <a:lnTo>
                    <a:pt x="87" y="49"/>
                  </a:lnTo>
                  <a:lnTo>
                    <a:pt x="100" y="57"/>
                  </a:lnTo>
                  <a:lnTo>
                    <a:pt x="115" y="65"/>
                  </a:lnTo>
                  <a:lnTo>
                    <a:pt x="133" y="75"/>
                  </a:lnTo>
                  <a:lnTo>
                    <a:pt x="132" y="75"/>
                  </a:lnTo>
                  <a:lnTo>
                    <a:pt x="130" y="76"/>
                  </a:lnTo>
                  <a:lnTo>
                    <a:pt x="126" y="76"/>
                  </a:lnTo>
                  <a:lnTo>
                    <a:pt x="121" y="77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796880" y="5878800"/>
              <a:ext cx="162720" cy="224640"/>
            </a:xfrm>
            <a:custGeom>
              <a:avLst/>
              <a:gdLst/>
              <a:ahLst/>
              <a:rect l="l" t="t" r="r" b="b"/>
              <a:pathLst>
                <a:path w="268" h="354">
                  <a:moveTo>
                    <a:pt x="141" y="354"/>
                  </a:moveTo>
                  <a:lnTo>
                    <a:pt x="135" y="330"/>
                  </a:lnTo>
                  <a:lnTo>
                    <a:pt x="130" y="314"/>
                  </a:lnTo>
                  <a:lnTo>
                    <a:pt x="123" y="302"/>
                  </a:lnTo>
                  <a:lnTo>
                    <a:pt x="116" y="296"/>
                  </a:lnTo>
                  <a:lnTo>
                    <a:pt x="106" y="292"/>
                  </a:lnTo>
                  <a:lnTo>
                    <a:pt x="93" y="293"/>
                  </a:lnTo>
                  <a:lnTo>
                    <a:pt x="77" y="296"/>
                  </a:lnTo>
                  <a:lnTo>
                    <a:pt x="58" y="303"/>
                  </a:lnTo>
                  <a:lnTo>
                    <a:pt x="69" y="269"/>
                  </a:lnTo>
                  <a:lnTo>
                    <a:pt x="85" y="233"/>
                  </a:lnTo>
                  <a:lnTo>
                    <a:pt x="99" y="192"/>
                  </a:lnTo>
                  <a:lnTo>
                    <a:pt x="112" y="151"/>
                  </a:lnTo>
                  <a:lnTo>
                    <a:pt x="115" y="112"/>
                  </a:lnTo>
                  <a:lnTo>
                    <a:pt x="110" y="80"/>
                  </a:lnTo>
                  <a:lnTo>
                    <a:pt x="89" y="53"/>
                  </a:lnTo>
                  <a:lnTo>
                    <a:pt x="53" y="38"/>
                  </a:lnTo>
                  <a:lnTo>
                    <a:pt x="43" y="38"/>
                  </a:lnTo>
                  <a:lnTo>
                    <a:pt x="35" y="39"/>
                  </a:lnTo>
                  <a:lnTo>
                    <a:pt x="27" y="40"/>
                  </a:lnTo>
                  <a:lnTo>
                    <a:pt x="20" y="43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30" y="15"/>
                  </a:lnTo>
                  <a:lnTo>
                    <a:pt x="58" y="3"/>
                  </a:lnTo>
                  <a:lnTo>
                    <a:pt x="83" y="0"/>
                  </a:lnTo>
                  <a:lnTo>
                    <a:pt x="108" y="5"/>
                  </a:lnTo>
                  <a:lnTo>
                    <a:pt x="130" y="16"/>
                  </a:lnTo>
                  <a:lnTo>
                    <a:pt x="154" y="32"/>
                  </a:lnTo>
                  <a:lnTo>
                    <a:pt x="180" y="51"/>
                  </a:lnTo>
                  <a:lnTo>
                    <a:pt x="210" y="73"/>
                  </a:lnTo>
                  <a:lnTo>
                    <a:pt x="210" y="85"/>
                  </a:lnTo>
                  <a:lnTo>
                    <a:pt x="210" y="99"/>
                  </a:lnTo>
                  <a:lnTo>
                    <a:pt x="212" y="89"/>
                  </a:lnTo>
                  <a:lnTo>
                    <a:pt x="215" y="80"/>
                  </a:lnTo>
                  <a:lnTo>
                    <a:pt x="225" y="81"/>
                  </a:lnTo>
                  <a:lnTo>
                    <a:pt x="234" y="84"/>
                  </a:lnTo>
                  <a:lnTo>
                    <a:pt x="239" y="85"/>
                  </a:lnTo>
                  <a:lnTo>
                    <a:pt x="246" y="86"/>
                  </a:lnTo>
                  <a:lnTo>
                    <a:pt x="256" y="86"/>
                  </a:lnTo>
                  <a:lnTo>
                    <a:pt x="268" y="88"/>
                  </a:lnTo>
                  <a:lnTo>
                    <a:pt x="260" y="101"/>
                  </a:lnTo>
                  <a:lnTo>
                    <a:pt x="253" y="115"/>
                  </a:lnTo>
                  <a:lnTo>
                    <a:pt x="246" y="128"/>
                  </a:lnTo>
                  <a:lnTo>
                    <a:pt x="241" y="145"/>
                  </a:lnTo>
                  <a:lnTo>
                    <a:pt x="233" y="158"/>
                  </a:lnTo>
                  <a:lnTo>
                    <a:pt x="227" y="173"/>
                  </a:lnTo>
                  <a:lnTo>
                    <a:pt x="221" y="189"/>
                  </a:lnTo>
                  <a:lnTo>
                    <a:pt x="215" y="205"/>
                  </a:lnTo>
                  <a:lnTo>
                    <a:pt x="211" y="205"/>
                  </a:lnTo>
                  <a:lnTo>
                    <a:pt x="207" y="205"/>
                  </a:lnTo>
                  <a:lnTo>
                    <a:pt x="202" y="219"/>
                  </a:lnTo>
                  <a:lnTo>
                    <a:pt x="195" y="239"/>
                  </a:lnTo>
                  <a:lnTo>
                    <a:pt x="185" y="261"/>
                  </a:lnTo>
                  <a:lnTo>
                    <a:pt x="176" y="285"/>
                  </a:lnTo>
                  <a:lnTo>
                    <a:pt x="165" y="308"/>
                  </a:lnTo>
                  <a:lnTo>
                    <a:pt x="156" y="329"/>
                  </a:lnTo>
                  <a:lnTo>
                    <a:pt x="146" y="343"/>
                  </a:lnTo>
                  <a:lnTo>
                    <a:pt x="141" y="35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04120" y="6058080"/>
              <a:ext cx="11880" cy="41760"/>
            </a:xfrm>
            <a:custGeom>
              <a:avLst/>
              <a:gdLst/>
              <a:ahLst/>
              <a:rect l="l" t="t" r="r" b="b"/>
              <a:pathLst>
                <a:path w="21" h="66">
                  <a:moveTo>
                    <a:pt x="18" y="66"/>
                  </a:moveTo>
                  <a:lnTo>
                    <a:pt x="14" y="55"/>
                  </a:lnTo>
                  <a:lnTo>
                    <a:pt x="11" y="47"/>
                  </a:lnTo>
                  <a:lnTo>
                    <a:pt x="7" y="39"/>
                  </a:lnTo>
                  <a:lnTo>
                    <a:pt x="4" y="32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6" y="8"/>
                  </a:lnTo>
                  <a:lnTo>
                    <a:pt x="15" y="0"/>
                  </a:lnTo>
                  <a:lnTo>
                    <a:pt x="17" y="4"/>
                  </a:lnTo>
                  <a:lnTo>
                    <a:pt x="19" y="13"/>
                  </a:lnTo>
                  <a:lnTo>
                    <a:pt x="19" y="24"/>
                  </a:lnTo>
                  <a:lnTo>
                    <a:pt x="21" y="37"/>
                  </a:lnTo>
                  <a:lnTo>
                    <a:pt x="21" y="48"/>
                  </a:lnTo>
                  <a:lnTo>
                    <a:pt x="21" y="58"/>
                  </a:lnTo>
                  <a:lnTo>
                    <a:pt x="19" y="63"/>
                  </a:lnTo>
                  <a:lnTo>
                    <a:pt x="18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38760" y="6081840"/>
              <a:ext cx="13320" cy="176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0" y="30"/>
                  </a:moveTo>
                  <a:lnTo>
                    <a:pt x="0" y="19"/>
                  </a:lnTo>
                  <a:lnTo>
                    <a:pt x="0" y="12"/>
                  </a:lnTo>
                  <a:lnTo>
                    <a:pt x="0" y="6"/>
                  </a:lnTo>
                  <a:lnTo>
                    <a:pt x="3" y="0"/>
                  </a:lnTo>
                  <a:lnTo>
                    <a:pt x="12" y="3"/>
                  </a:lnTo>
                  <a:lnTo>
                    <a:pt x="23" y="6"/>
                  </a:lnTo>
                  <a:lnTo>
                    <a:pt x="14" y="18"/>
                  </a:lnTo>
                  <a:lnTo>
                    <a:pt x="6" y="30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92640" y="5853240"/>
              <a:ext cx="286920" cy="243720"/>
            </a:xfrm>
            <a:custGeom>
              <a:avLst/>
              <a:gdLst/>
              <a:ahLst/>
              <a:rect l="l" t="t" r="r" b="b"/>
              <a:pathLst>
                <a:path w="471" h="384">
                  <a:moveTo>
                    <a:pt x="122" y="384"/>
                  </a:moveTo>
                  <a:lnTo>
                    <a:pt x="72" y="372"/>
                  </a:lnTo>
                  <a:lnTo>
                    <a:pt x="37" y="351"/>
                  </a:lnTo>
                  <a:lnTo>
                    <a:pt x="12" y="322"/>
                  </a:lnTo>
                  <a:lnTo>
                    <a:pt x="2" y="290"/>
                  </a:lnTo>
                  <a:lnTo>
                    <a:pt x="0" y="252"/>
                  </a:lnTo>
                  <a:lnTo>
                    <a:pt x="10" y="215"/>
                  </a:lnTo>
                  <a:lnTo>
                    <a:pt x="30" y="177"/>
                  </a:lnTo>
                  <a:lnTo>
                    <a:pt x="58" y="145"/>
                  </a:lnTo>
                  <a:lnTo>
                    <a:pt x="83" y="96"/>
                  </a:lnTo>
                  <a:lnTo>
                    <a:pt x="129" y="57"/>
                  </a:lnTo>
                  <a:lnTo>
                    <a:pt x="188" y="25"/>
                  </a:lnTo>
                  <a:lnTo>
                    <a:pt x="256" y="6"/>
                  </a:lnTo>
                  <a:lnTo>
                    <a:pt x="322" y="0"/>
                  </a:lnTo>
                  <a:lnTo>
                    <a:pt x="384" y="12"/>
                  </a:lnTo>
                  <a:lnTo>
                    <a:pt x="436" y="44"/>
                  </a:lnTo>
                  <a:lnTo>
                    <a:pt x="470" y="98"/>
                  </a:lnTo>
                  <a:lnTo>
                    <a:pt x="470" y="126"/>
                  </a:lnTo>
                  <a:lnTo>
                    <a:pt x="471" y="152"/>
                  </a:lnTo>
                  <a:lnTo>
                    <a:pt x="470" y="175"/>
                  </a:lnTo>
                  <a:lnTo>
                    <a:pt x="468" y="195"/>
                  </a:lnTo>
                  <a:lnTo>
                    <a:pt x="460" y="211"/>
                  </a:lnTo>
                  <a:lnTo>
                    <a:pt x="449" y="229"/>
                  </a:lnTo>
                  <a:lnTo>
                    <a:pt x="433" y="245"/>
                  </a:lnTo>
                  <a:lnTo>
                    <a:pt x="412" y="261"/>
                  </a:lnTo>
                  <a:lnTo>
                    <a:pt x="376" y="294"/>
                  </a:lnTo>
                  <a:lnTo>
                    <a:pt x="345" y="321"/>
                  </a:lnTo>
                  <a:lnTo>
                    <a:pt x="314" y="341"/>
                  </a:lnTo>
                  <a:lnTo>
                    <a:pt x="283" y="359"/>
                  </a:lnTo>
                  <a:lnTo>
                    <a:pt x="249" y="370"/>
                  </a:lnTo>
                  <a:lnTo>
                    <a:pt x="211" y="378"/>
                  </a:lnTo>
                  <a:lnTo>
                    <a:pt x="169" y="382"/>
                  </a:lnTo>
                  <a:lnTo>
                    <a:pt x="122" y="384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62080" y="6078240"/>
              <a:ext cx="5760" cy="1872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0" y="29"/>
                  </a:moveTo>
                  <a:lnTo>
                    <a:pt x="2" y="17"/>
                  </a:lnTo>
                  <a:lnTo>
                    <a:pt x="3" y="11"/>
                  </a:lnTo>
                  <a:lnTo>
                    <a:pt x="4" y="5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0" y="9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4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11040" y="6073200"/>
              <a:ext cx="5760" cy="2016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3" y="32"/>
                  </a:moveTo>
                  <a:lnTo>
                    <a:pt x="2" y="31"/>
                  </a:lnTo>
                  <a:lnTo>
                    <a:pt x="0" y="29"/>
                  </a:lnTo>
                  <a:lnTo>
                    <a:pt x="2" y="20"/>
                  </a:lnTo>
                  <a:lnTo>
                    <a:pt x="4" y="12"/>
                  </a:lnTo>
                  <a:lnTo>
                    <a:pt x="7" y="5"/>
                  </a:lnTo>
                  <a:lnTo>
                    <a:pt x="11" y="0"/>
                  </a:lnTo>
                  <a:lnTo>
                    <a:pt x="11" y="5"/>
                  </a:lnTo>
                  <a:lnTo>
                    <a:pt x="11" y="17"/>
                  </a:lnTo>
                  <a:lnTo>
                    <a:pt x="8" y="28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007120" y="5497560"/>
              <a:ext cx="629640" cy="590760"/>
            </a:xfrm>
            <a:custGeom>
              <a:avLst/>
              <a:gdLst/>
              <a:ahLst/>
              <a:rect l="l" t="t" r="r" b="b"/>
              <a:pathLst>
                <a:path w="1035" h="929">
                  <a:moveTo>
                    <a:pt x="413" y="929"/>
                  </a:moveTo>
                  <a:lnTo>
                    <a:pt x="393" y="918"/>
                  </a:lnTo>
                  <a:lnTo>
                    <a:pt x="372" y="905"/>
                  </a:lnTo>
                  <a:lnTo>
                    <a:pt x="352" y="886"/>
                  </a:lnTo>
                  <a:lnTo>
                    <a:pt x="333" y="867"/>
                  </a:lnTo>
                  <a:lnTo>
                    <a:pt x="316" y="845"/>
                  </a:lnTo>
                  <a:lnTo>
                    <a:pt x="301" y="825"/>
                  </a:lnTo>
                  <a:lnTo>
                    <a:pt x="290" y="806"/>
                  </a:lnTo>
                  <a:lnTo>
                    <a:pt x="286" y="791"/>
                  </a:lnTo>
                  <a:lnTo>
                    <a:pt x="237" y="757"/>
                  </a:lnTo>
                  <a:lnTo>
                    <a:pt x="194" y="738"/>
                  </a:lnTo>
                  <a:lnTo>
                    <a:pt x="151" y="726"/>
                  </a:lnTo>
                  <a:lnTo>
                    <a:pt x="114" y="717"/>
                  </a:lnTo>
                  <a:lnTo>
                    <a:pt x="82" y="700"/>
                  </a:lnTo>
                  <a:lnTo>
                    <a:pt x="56" y="676"/>
                  </a:lnTo>
                  <a:lnTo>
                    <a:pt x="37" y="634"/>
                  </a:lnTo>
                  <a:lnTo>
                    <a:pt x="27" y="570"/>
                  </a:lnTo>
                  <a:lnTo>
                    <a:pt x="18" y="557"/>
                  </a:lnTo>
                  <a:lnTo>
                    <a:pt x="13" y="547"/>
                  </a:lnTo>
                  <a:lnTo>
                    <a:pt x="10" y="538"/>
                  </a:lnTo>
                  <a:lnTo>
                    <a:pt x="10" y="530"/>
                  </a:lnTo>
                  <a:lnTo>
                    <a:pt x="10" y="522"/>
                  </a:lnTo>
                  <a:lnTo>
                    <a:pt x="10" y="514"/>
                  </a:lnTo>
                  <a:lnTo>
                    <a:pt x="10" y="505"/>
                  </a:lnTo>
                  <a:lnTo>
                    <a:pt x="10" y="499"/>
                  </a:lnTo>
                  <a:lnTo>
                    <a:pt x="7" y="501"/>
                  </a:lnTo>
                  <a:lnTo>
                    <a:pt x="4" y="504"/>
                  </a:lnTo>
                  <a:lnTo>
                    <a:pt x="0" y="488"/>
                  </a:lnTo>
                  <a:lnTo>
                    <a:pt x="0" y="472"/>
                  </a:lnTo>
                  <a:lnTo>
                    <a:pt x="2" y="457"/>
                  </a:lnTo>
                  <a:lnTo>
                    <a:pt x="7" y="443"/>
                  </a:lnTo>
                  <a:lnTo>
                    <a:pt x="11" y="428"/>
                  </a:lnTo>
                  <a:lnTo>
                    <a:pt x="19" y="416"/>
                  </a:lnTo>
                  <a:lnTo>
                    <a:pt x="27" y="404"/>
                  </a:lnTo>
                  <a:lnTo>
                    <a:pt x="38" y="395"/>
                  </a:lnTo>
                  <a:lnTo>
                    <a:pt x="72" y="385"/>
                  </a:lnTo>
                  <a:lnTo>
                    <a:pt x="102" y="370"/>
                  </a:lnTo>
                  <a:lnTo>
                    <a:pt x="126" y="349"/>
                  </a:lnTo>
                  <a:lnTo>
                    <a:pt x="151" y="323"/>
                  </a:lnTo>
                  <a:lnTo>
                    <a:pt x="169" y="293"/>
                  </a:lnTo>
                  <a:lnTo>
                    <a:pt x="190" y="263"/>
                  </a:lnTo>
                  <a:lnTo>
                    <a:pt x="207" y="231"/>
                  </a:lnTo>
                  <a:lnTo>
                    <a:pt x="225" y="204"/>
                  </a:lnTo>
                  <a:lnTo>
                    <a:pt x="266" y="155"/>
                  </a:lnTo>
                  <a:lnTo>
                    <a:pt x="309" y="110"/>
                  </a:lnTo>
                  <a:lnTo>
                    <a:pt x="353" y="70"/>
                  </a:lnTo>
                  <a:lnTo>
                    <a:pt x="402" y="39"/>
                  </a:lnTo>
                  <a:lnTo>
                    <a:pt x="452" y="14"/>
                  </a:lnTo>
                  <a:lnTo>
                    <a:pt x="509" y="2"/>
                  </a:lnTo>
                  <a:lnTo>
                    <a:pt x="569" y="0"/>
                  </a:lnTo>
                  <a:lnTo>
                    <a:pt x="634" y="13"/>
                  </a:lnTo>
                  <a:lnTo>
                    <a:pt x="661" y="28"/>
                  </a:lnTo>
                  <a:lnTo>
                    <a:pt x="686" y="50"/>
                  </a:lnTo>
                  <a:lnTo>
                    <a:pt x="707" y="75"/>
                  </a:lnTo>
                  <a:lnTo>
                    <a:pt x="727" y="106"/>
                  </a:lnTo>
                  <a:lnTo>
                    <a:pt x="742" y="137"/>
                  </a:lnTo>
                  <a:lnTo>
                    <a:pt x="757" y="171"/>
                  </a:lnTo>
                  <a:lnTo>
                    <a:pt x="769" y="205"/>
                  </a:lnTo>
                  <a:lnTo>
                    <a:pt x="780" y="239"/>
                  </a:lnTo>
                  <a:lnTo>
                    <a:pt x="784" y="286"/>
                  </a:lnTo>
                  <a:lnTo>
                    <a:pt x="786" y="339"/>
                  </a:lnTo>
                  <a:lnTo>
                    <a:pt x="788" y="393"/>
                  </a:lnTo>
                  <a:lnTo>
                    <a:pt x="793" y="449"/>
                  </a:lnTo>
                  <a:lnTo>
                    <a:pt x="799" y="500"/>
                  </a:lnTo>
                  <a:lnTo>
                    <a:pt x="809" y="553"/>
                  </a:lnTo>
                  <a:lnTo>
                    <a:pt x="826" y="602"/>
                  </a:lnTo>
                  <a:lnTo>
                    <a:pt x="851" y="648"/>
                  </a:lnTo>
                  <a:lnTo>
                    <a:pt x="862" y="658"/>
                  </a:lnTo>
                  <a:lnTo>
                    <a:pt x="872" y="668"/>
                  </a:lnTo>
                  <a:lnTo>
                    <a:pt x="878" y="675"/>
                  </a:lnTo>
                  <a:lnTo>
                    <a:pt x="885" y="681"/>
                  </a:lnTo>
                  <a:lnTo>
                    <a:pt x="889" y="687"/>
                  </a:lnTo>
                  <a:lnTo>
                    <a:pt x="893" y="692"/>
                  </a:lnTo>
                  <a:lnTo>
                    <a:pt x="897" y="698"/>
                  </a:lnTo>
                  <a:lnTo>
                    <a:pt x="904" y="706"/>
                  </a:lnTo>
                  <a:lnTo>
                    <a:pt x="901" y="695"/>
                  </a:lnTo>
                  <a:lnTo>
                    <a:pt x="896" y="683"/>
                  </a:lnTo>
                  <a:lnTo>
                    <a:pt x="888" y="669"/>
                  </a:lnTo>
                  <a:lnTo>
                    <a:pt x="880" y="656"/>
                  </a:lnTo>
                  <a:lnTo>
                    <a:pt x="869" y="641"/>
                  </a:lnTo>
                  <a:lnTo>
                    <a:pt x="861" y="629"/>
                  </a:lnTo>
                  <a:lnTo>
                    <a:pt x="853" y="616"/>
                  </a:lnTo>
                  <a:lnTo>
                    <a:pt x="849" y="610"/>
                  </a:lnTo>
                  <a:lnTo>
                    <a:pt x="843" y="589"/>
                  </a:lnTo>
                  <a:lnTo>
                    <a:pt x="839" y="570"/>
                  </a:lnTo>
                  <a:lnTo>
                    <a:pt x="835" y="551"/>
                  </a:lnTo>
                  <a:lnTo>
                    <a:pt x="834" y="534"/>
                  </a:lnTo>
                  <a:lnTo>
                    <a:pt x="830" y="515"/>
                  </a:lnTo>
                  <a:lnTo>
                    <a:pt x="828" y="499"/>
                  </a:lnTo>
                  <a:lnTo>
                    <a:pt x="827" y="482"/>
                  </a:lnTo>
                  <a:lnTo>
                    <a:pt x="827" y="466"/>
                  </a:lnTo>
                  <a:lnTo>
                    <a:pt x="842" y="470"/>
                  </a:lnTo>
                  <a:lnTo>
                    <a:pt x="858" y="474"/>
                  </a:lnTo>
                  <a:lnTo>
                    <a:pt x="874" y="477"/>
                  </a:lnTo>
                  <a:lnTo>
                    <a:pt x="892" y="478"/>
                  </a:lnTo>
                  <a:lnTo>
                    <a:pt x="908" y="476"/>
                  </a:lnTo>
                  <a:lnTo>
                    <a:pt x="924" y="472"/>
                  </a:lnTo>
                  <a:lnTo>
                    <a:pt x="941" y="464"/>
                  </a:lnTo>
                  <a:lnTo>
                    <a:pt x="957" y="451"/>
                  </a:lnTo>
                  <a:lnTo>
                    <a:pt x="951" y="446"/>
                  </a:lnTo>
                  <a:lnTo>
                    <a:pt x="946" y="441"/>
                  </a:lnTo>
                  <a:lnTo>
                    <a:pt x="934" y="449"/>
                  </a:lnTo>
                  <a:lnTo>
                    <a:pt x="919" y="455"/>
                  </a:lnTo>
                  <a:lnTo>
                    <a:pt x="903" y="458"/>
                  </a:lnTo>
                  <a:lnTo>
                    <a:pt x="885" y="459"/>
                  </a:lnTo>
                  <a:lnTo>
                    <a:pt x="866" y="458"/>
                  </a:lnTo>
                  <a:lnTo>
                    <a:pt x="850" y="455"/>
                  </a:lnTo>
                  <a:lnTo>
                    <a:pt x="835" y="451"/>
                  </a:lnTo>
                  <a:lnTo>
                    <a:pt x="824" y="449"/>
                  </a:lnTo>
                  <a:lnTo>
                    <a:pt x="824" y="442"/>
                  </a:lnTo>
                  <a:lnTo>
                    <a:pt x="824" y="435"/>
                  </a:lnTo>
                  <a:lnTo>
                    <a:pt x="838" y="431"/>
                  </a:lnTo>
                  <a:lnTo>
                    <a:pt x="853" y="427"/>
                  </a:lnTo>
                  <a:lnTo>
                    <a:pt x="869" y="422"/>
                  </a:lnTo>
                  <a:lnTo>
                    <a:pt x="885" y="416"/>
                  </a:lnTo>
                  <a:lnTo>
                    <a:pt x="901" y="409"/>
                  </a:lnTo>
                  <a:lnTo>
                    <a:pt x="918" y="405"/>
                  </a:lnTo>
                  <a:lnTo>
                    <a:pt x="934" y="400"/>
                  </a:lnTo>
                  <a:lnTo>
                    <a:pt x="951" y="397"/>
                  </a:lnTo>
                  <a:lnTo>
                    <a:pt x="977" y="459"/>
                  </a:lnTo>
                  <a:lnTo>
                    <a:pt x="1003" y="515"/>
                  </a:lnTo>
                  <a:lnTo>
                    <a:pt x="1022" y="565"/>
                  </a:lnTo>
                  <a:lnTo>
                    <a:pt x="1034" y="612"/>
                  </a:lnTo>
                  <a:lnTo>
                    <a:pt x="1035" y="660"/>
                  </a:lnTo>
                  <a:lnTo>
                    <a:pt x="1024" y="711"/>
                  </a:lnTo>
                  <a:lnTo>
                    <a:pt x="1000" y="767"/>
                  </a:lnTo>
                  <a:lnTo>
                    <a:pt x="960" y="833"/>
                  </a:lnTo>
                  <a:lnTo>
                    <a:pt x="955" y="834"/>
                  </a:lnTo>
                  <a:lnTo>
                    <a:pt x="951" y="836"/>
                  </a:lnTo>
                  <a:lnTo>
                    <a:pt x="943" y="849"/>
                  </a:lnTo>
                  <a:lnTo>
                    <a:pt x="930" y="863"/>
                  </a:lnTo>
                  <a:lnTo>
                    <a:pt x="911" y="875"/>
                  </a:lnTo>
                  <a:lnTo>
                    <a:pt x="891" y="887"/>
                  </a:lnTo>
                  <a:lnTo>
                    <a:pt x="868" y="896"/>
                  </a:lnTo>
                  <a:lnTo>
                    <a:pt x="846" y="905"/>
                  </a:lnTo>
                  <a:lnTo>
                    <a:pt x="827" y="911"/>
                  </a:lnTo>
                  <a:lnTo>
                    <a:pt x="813" y="915"/>
                  </a:lnTo>
                  <a:lnTo>
                    <a:pt x="799" y="914"/>
                  </a:lnTo>
                  <a:lnTo>
                    <a:pt x="785" y="913"/>
                  </a:lnTo>
                  <a:lnTo>
                    <a:pt x="772" y="911"/>
                  </a:lnTo>
                  <a:lnTo>
                    <a:pt x="759" y="911"/>
                  </a:lnTo>
                  <a:lnTo>
                    <a:pt x="744" y="910"/>
                  </a:lnTo>
                  <a:lnTo>
                    <a:pt x="731" y="910"/>
                  </a:lnTo>
                  <a:lnTo>
                    <a:pt x="717" y="910"/>
                  </a:lnTo>
                  <a:lnTo>
                    <a:pt x="705" y="910"/>
                  </a:lnTo>
                  <a:lnTo>
                    <a:pt x="705" y="902"/>
                  </a:lnTo>
                  <a:lnTo>
                    <a:pt x="705" y="896"/>
                  </a:lnTo>
                  <a:lnTo>
                    <a:pt x="686" y="906"/>
                  </a:lnTo>
                  <a:lnTo>
                    <a:pt x="666" y="913"/>
                  </a:lnTo>
                  <a:lnTo>
                    <a:pt x="643" y="913"/>
                  </a:lnTo>
                  <a:lnTo>
                    <a:pt x="620" y="911"/>
                  </a:lnTo>
                  <a:lnTo>
                    <a:pt x="596" y="903"/>
                  </a:lnTo>
                  <a:lnTo>
                    <a:pt x="575" y="896"/>
                  </a:lnTo>
                  <a:lnTo>
                    <a:pt x="556" y="887"/>
                  </a:lnTo>
                  <a:lnTo>
                    <a:pt x="543" y="879"/>
                  </a:lnTo>
                  <a:lnTo>
                    <a:pt x="544" y="864"/>
                  </a:lnTo>
                  <a:lnTo>
                    <a:pt x="550" y="850"/>
                  </a:lnTo>
                  <a:lnTo>
                    <a:pt x="558" y="838"/>
                  </a:lnTo>
                  <a:lnTo>
                    <a:pt x="569" y="826"/>
                  </a:lnTo>
                  <a:lnTo>
                    <a:pt x="577" y="814"/>
                  </a:lnTo>
                  <a:lnTo>
                    <a:pt x="585" y="802"/>
                  </a:lnTo>
                  <a:lnTo>
                    <a:pt x="590" y="790"/>
                  </a:lnTo>
                  <a:lnTo>
                    <a:pt x="593" y="777"/>
                  </a:lnTo>
                  <a:lnTo>
                    <a:pt x="571" y="798"/>
                  </a:lnTo>
                  <a:lnTo>
                    <a:pt x="551" y="822"/>
                  </a:lnTo>
                  <a:lnTo>
                    <a:pt x="531" y="846"/>
                  </a:lnTo>
                  <a:lnTo>
                    <a:pt x="510" y="871"/>
                  </a:lnTo>
                  <a:lnTo>
                    <a:pt x="487" y="891"/>
                  </a:lnTo>
                  <a:lnTo>
                    <a:pt x="464" y="910"/>
                  </a:lnTo>
                  <a:lnTo>
                    <a:pt x="439" y="922"/>
                  </a:lnTo>
                  <a:lnTo>
                    <a:pt x="413" y="92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85720" y="5910480"/>
              <a:ext cx="73080" cy="162720"/>
            </a:xfrm>
            <a:custGeom>
              <a:avLst/>
              <a:gdLst/>
              <a:ahLst/>
              <a:rect l="l" t="t" r="r" b="b"/>
              <a:pathLst>
                <a:path w="119" h="256">
                  <a:moveTo>
                    <a:pt x="46" y="256"/>
                  </a:moveTo>
                  <a:lnTo>
                    <a:pt x="45" y="245"/>
                  </a:lnTo>
                  <a:lnTo>
                    <a:pt x="45" y="237"/>
                  </a:lnTo>
                  <a:lnTo>
                    <a:pt x="45" y="229"/>
                  </a:lnTo>
                  <a:lnTo>
                    <a:pt x="45" y="222"/>
                  </a:lnTo>
                  <a:lnTo>
                    <a:pt x="44" y="210"/>
                  </a:lnTo>
                  <a:lnTo>
                    <a:pt x="41" y="197"/>
                  </a:lnTo>
                  <a:lnTo>
                    <a:pt x="17" y="169"/>
                  </a:lnTo>
                  <a:lnTo>
                    <a:pt x="4" y="147"/>
                  </a:lnTo>
                  <a:lnTo>
                    <a:pt x="0" y="130"/>
                  </a:lnTo>
                  <a:lnTo>
                    <a:pt x="4" y="115"/>
                  </a:lnTo>
                  <a:lnTo>
                    <a:pt x="10" y="97"/>
                  </a:lnTo>
                  <a:lnTo>
                    <a:pt x="17" y="77"/>
                  </a:lnTo>
                  <a:lnTo>
                    <a:pt x="23" y="53"/>
                  </a:lnTo>
                  <a:lnTo>
                    <a:pt x="26" y="20"/>
                  </a:lnTo>
                  <a:lnTo>
                    <a:pt x="71" y="0"/>
                  </a:lnTo>
                  <a:lnTo>
                    <a:pt x="101" y="9"/>
                  </a:lnTo>
                  <a:lnTo>
                    <a:pt x="115" y="40"/>
                  </a:lnTo>
                  <a:lnTo>
                    <a:pt x="119" y="86"/>
                  </a:lnTo>
                  <a:lnTo>
                    <a:pt x="111" y="137"/>
                  </a:lnTo>
                  <a:lnTo>
                    <a:pt x="96" y="188"/>
                  </a:lnTo>
                  <a:lnTo>
                    <a:pt x="73" y="229"/>
                  </a:lnTo>
                  <a:lnTo>
                    <a:pt x="46" y="2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78480" y="6004440"/>
              <a:ext cx="20520" cy="63360"/>
            </a:xfrm>
            <a:custGeom>
              <a:avLst/>
              <a:gdLst/>
              <a:ahLst/>
              <a:rect l="l" t="t" r="r" b="b"/>
              <a:pathLst>
                <a:path w="35" h="100">
                  <a:moveTo>
                    <a:pt x="28" y="100"/>
                  </a:moveTo>
                  <a:lnTo>
                    <a:pt x="21" y="90"/>
                  </a:lnTo>
                  <a:lnTo>
                    <a:pt x="19" y="82"/>
                  </a:lnTo>
                  <a:lnTo>
                    <a:pt x="19" y="73"/>
                  </a:lnTo>
                  <a:lnTo>
                    <a:pt x="20" y="67"/>
                  </a:lnTo>
                  <a:lnTo>
                    <a:pt x="8" y="60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1" y="37"/>
                  </a:lnTo>
                  <a:lnTo>
                    <a:pt x="2" y="27"/>
                  </a:lnTo>
                  <a:lnTo>
                    <a:pt x="6" y="18"/>
                  </a:lnTo>
                  <a:lnTo>
                    <a:pt x="11" y="10"/>
                  </a:lnTo>
                  <a:lnTo>
                    <a:pt x="16" y="3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24" y="13"/>
                  </a:lnTo>
                  <a:lnTo>
                    <a:pt x="23" y="19"/>
                  </a:lnTo>
                  <a:lnTo>
                    <a:pt x="23" y="27"/>
                  </a:lnTo>
                  <a:lnTo>
                    <a:pt x="21" y="34"/>
                  </a:lnTo>
                  <a:lnTo>
                    <a:pt x="21" y="42"/>
                  </a:lnTo>
                  <a:lnTo>
                    <a:pt x="21" y="50"/>
                  </a:lnTo>
                  <a:lnTo>
                    <a:pt x="23" y="59"/>
                  </a:lnTo>
                  <a:lnTo>
                    <a:pt x="25" y="57"/>
                  </a:lnTo>
                  <a:lnTo>
                    <a:pt x="28" y="50"/>
                  </a:lnTo>
                  <a:lnTo>
                    <a:pt x="29" y="50"/>
                  </a:lnTo>
                  <a:lnTo>
                    <a:pt x="34" y="50"/>
                  </a:lnTo>
                  <a:lnTo>
                    <a:pt x="34" y="53"/>
                  </a:lnTo>
                  <a:lnTo>
                    <a:pt x="34" y="60"/>
                  </a:lnTo>
                  <a:lnTo>
                    <a:pt x="34" y="69"/>
                  </a:lnTo>
                  <a:lnTo>
                    <a:pt x="35" y="82"/>
                  </a:lnTo>
                  <a:lnTo>
                    <a:pt x="34" y="90"/>
                  </a:lnTo>
                  <a:lnTo>
                    <a:pt x="34" y="98"/>
                  </a:lnTo>
                  <a:lnTo>
                    <a:pt x="31" y="100"/>
                  </a:lnTo>
                  <a:lnTo>
                    <a:pt x="28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93200" y="6032160"/>
              <a:ext cx="9360" cy="241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8" y="38"/>
                  </a:moveTo>
                  <a:lnTo>
                    <a:pt x="2" y="34"/>
                  </a:lnTo>
                  <a:lnTo>
                    <a:pt x="0" y="32"/>
                  </a:lnTo>
                  <a:lnTo>
                    <a:pt x="4" y="20"/>
                  </a:lnTo>
                  <a:lnTo>
                    <a:pt x="8" y="14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7"/>
                  </a:lnTo>
                  <a:lnTo>
                    <a:pt x="16" y="15"/>
                  </a:lnTo>
                  <a:lnTo>
                    <a:pt x="16" y="23"/>
                  </a:lnTo>
                  <a:lnTo>
                    <a:pt x="14" y="30"/>
                  </a:lnTo>
                  <a:lnTo>
                    <a:pt x="13" y="35"/>
                  </a:lnTo>
                  <a:lnTo>
                    <a:pt x="10" y="38"/>
                  </a:lnTo>
                  <a:lnTo>
                    <a:pt x="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30960" y="6027480"/>
              <a:ext cx="19440" cy="2520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21" y="40"/>
                  </a:moveTo>
                  <a:lnTo>
                    <a:pt x="9" y="39"/>
                  </a:lnTo>
                  <a:lnTo>
                    <a:pt x="0" y="38"/>
                  </a:lnTo>
                  <a:lnTo>
                    <a:pt x="4" y="27"/>
                  </a:lnTo>
                  <a:lnTo>
                    <a:pt x="12" y="15"/>
                  </a:lnTo>
                  <a:lnTo>
                    <a:pt x="21" y="5"/>
                  </a:lnTo>
                  <a:lnTo>
                    <a:pt x="31" y="0"/>
                  </a:lnTo>
                  <a:lnTo>
                    <a:pt x="29" y="9"/>
                  </a:lnTo>
                  <a:lnTo>
                    <a:pt x="29" y="19"/>
                  </a:lnTo>
                  <a:lnTo>
                    <a:pt x="28" y="27"/>
                  </a:lnTo>
                  <a:lnTo>
                    <a:pt x="28" y="38"/>
                  </a:lnTo>
                  <a:lnTo>
                    <a:pt x="24" y="39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42680" y="5938200"/>
              <a:ext cx="97200" cy="113040"/>
            </a:xfrm>
            <a:custGeom>
              <a:avLst/>
              <a:gdLst/>
              <a:ahLst/>
              <a:rect l="l" t="t" r="r" b="b"/>
              <a:pathLst>
                <a:path w="159" h="179">
                  <a:moveTo>
                    <a:pt x="99" y="179"/>
                  </a:moveTo>
                  <a:lnTo>
                    <a:pt x="85" y="171"/>
                  </a:lnTo>
                  <a:lnTo>
                    <a:pt x="73" y="163"/>
                  </a:lnTo>
                  <a:lnTo>
                    <a:pt x="61" y="154"/>
                  </a:lnTo>
                  <a:lnTo>
                    <a:pt x="49" y="146"/>
                  </a:lnTo>
                  <a:lnTo>
                    <a:pt x="36" y="138"/>
                  </a:lnTo>
                  <a:lnTo>
                    <a:pt x="24" y="133"/>
                  </a:lnTo>
                  <a:lnTo>
                    <a:pt x="12" y="127"/>
                  </a:lnTo>
                  <a:lnTo>
                    <a:pt x="0" y="123"/>
                  </a:lnTo>
                  <a:lnTo>
                    <a:pt x="5" y="107"/>
                  </a:lnTo>
                  <a:lnTo>
                    <a:pt x="13" y="91"/>
                  </a:lnTo>
                  <a:lnTo>
                    <a:pt x="21" y="75"/>
                  </a:lnTo>
                  <a:lnTo>
                    <a:pt x="31" y="60"/>
                  </a:lnTo>
                  <a:lnTo>
                    <a:pt x="38" y="43"/>
                  </a:lnTo>
                  <a:lnTo>
                    <a:pt x="46" y="27"/>
                  </a:lnTo>
                  <a:lnTo>
                    <a:pt x="53" y="12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7" y="6"/>
                  </a:lnTo>
                  <a:lnTo>
                    <a:pt x="90" y="12"/>
                  </a:lnTo>
                  <a:lnTo>
                    <a:pt x="105" y="20"/>
                  </a:lnTo>
                  <a:lnTo>
                    <a:pt x="119" y="29"/>
                  </a:lnTo>
                  <a:lnTo>
                    <a:pt x="134" y="37"/>
                  </a:lnTo>
                  <a:lnTo>
                    <a:pt x="146" y="43"/>
                  </a:lnTo>
                  <a:lnTo>
                    <a:pt x="157" y="52"/>
                  </a:lnTo>
                  <a:lnTo>
                    <a:pt x="159" y="66"/>
                  </a:lnTo>
                  <a:lnTo>
                    <a:pt x="158" y="87"/>
                  </a:lnTo>
                  <a:lnTo>
                    <a:pt x="150" y="108"/>
                  </a:lnTo>
                  <a:lnTo>
                    <a:pt x="139" y="130"/>
                  </a:lnTo>
                  <a:lnTo>
                    <a:pt x="126" y="149"/>
                  </a:lnTo>
                  <a:lnTo>
                    <a:pt x="115" y="165"/>
                  </a:lnTo>
                  <a:lnTo>
                    <a:pt x="104" y="176"/>
                  </a:lnTo>
                  <a:lnTo>
                    <a:pt x="99" y="17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86600" y="6027480"/>
              <a:ext cx="14400" cy="2268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7" y="35"/>
                  </a:moveTo>
                  <a:lnTo>
                    <a:pt x="0" y="24"/>
                  </a:lnTo>
                  <a:lnTo>
                    <a:pt x="0" y="16"/>
                  </a:lnTo>
                  <a:lnTo>
                    <a:pt x="3" y="8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18" y="5"/>
                  </a:lnTo>
                  <a:lnTo>
                    <a:pt x="18" y="11"/>
                  </a:lnTo>
                  <a:lnTo>
                    <a:pt x="21" y="11"/>
                  </a:lnTo>
                  <a:lnTo>
                    <a:pt x="23" y="11"/>
                  </a:lnTo>
                  <a:lnTo>
                    <a:pt x="21" y="17"/>
                  </a:lnTo>
                  <a:lnTo>
                    <a:pt x="19" y="23"/>
                  </a:lnTo>
                  <a:lnTo>
                    <a:pt x="17" y="28"/>
                  </a:lnTo>
                  <a:lnTo>
                    <a:pt x="13" y="35"/>
                  </a:lnTo>
                  <a:lnTo>
                    <a:pt x="10" y="35"/>
                  </a:lnTo>
                  <a:lnTo>
                    <a:pt x="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61040" y="6033600"/>
              <a:ext cx="10800" cy="86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6" y="13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6" y="4"/>
                  </a:lnTo>
                  <a:lnTo>
                    <a:pt x="17" y="5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0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22400" y="6023520"/>
              <a:ext cx="7200" cy="1872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4" y="30"/>
                  </a:moveTo>
                  <a:lnTo>
                    <a:pt x="0" y="21"/>
                  </a:lnTo>
                  <a:lnTo>
                    <a:pt x="0" y="13"/>
                  </a:lnTo>
                  <a:lnTo>
                    <a:pt x="2" y="5"/>
                  </a:lnTo>
                  <a:lnTo>
                    <a:pt x="7" y="0"/>
                  </a:lnTo>
                  <a:lnTo>
                    <a:pt x="8" y="3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11" y="19"/>
                  </a:lnTo>
                  <a:lnTo>
                    <a:pt x="12" y="28"/>
                  </a:lnTo>
                  <a:lnTo>
                    <a:pt x="7" y="29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42400" y="6005880"/>
              <a:ext cx="12240" cy="2772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0" y="45"/>
                  </a:moveTo>
                  <a:lnTo>
                    <a:pt x="0" y="30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3" y="3"/>
                  </a:lnTo>
                  <a:lnTo>
                    <a:pt x="6" y="0"/>
                  </a:lnTo>
                  <a:lnTo>
                    <a:pt x="11" y="3"/>
                  </a:lnTo>
                  <a:lnTo>
                    <a:pt x="19" y="5"/>
                  </a:lnTo>
                  <a:lnTo>
                    <a:pt x="18" y="12"/>
                  </a:lnTo>
                  <a:lnTo>
                    <a:pt x="17" y="19"/>
                  </a:lnTo>
                  <a:lnTo>
                    <a:pt x="15" y="24"/>
                  </a:lnTo>
                  <a:lnTo>
                    <a:pt x="15" y="31"/>
                  </a:lnTo>
                  <a:lnTo>
                    <a:pt x="10" y="3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60440" y="6012000"/>
              <a:ext cx="8280" cy="201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31"/>
                  </a:moveTo>
                  <a:lnTo>
                    <a:pt x="1" y="23"/>
                  </a:lnTo>
                  <a:lnTo>
                    <a:pt x="4" y="15"/>
                  </a:lnTo>
                  <a:lnTo>
                    <a:pt x="5" y="7"/>
                  </a:lnTo>
                  <a:lnTo>
                    <a:pt x="8" y="0"/>
                  </a:lnTo>
                  <a:lnTo>
                    <a:pt x="11" y="5"/>
                  </a:lnTo>
                  <a:lnTo>
                    <a:pt x="12" y="11"/>
                  </a:lnTo>
                  <a:lnTo>
                    <a:pt x="12" y="17"/>
                  </a:lnTo>
                  <a:lnTo>
                    <a:pt x="13" y="28"/>
                  </a:lnTo>
                  <a:lnTo>
                    <a:pt x="7" y="28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37400" y="5990400"/>
              <a:ext cx="13320" cy="24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1" y="38"/>
                  </a:moveTo>
                  <a:lnTo>
                    <a:pt x="5" y="32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4" y="13"/>
                  </a:lnTo>
                  <a:lnTo>
                    <a:pt x="5" y="5"/>
                  </a:lnTo>
                  <a:lnTo>
                    <a:pt x="8" y="0"/>
                  </a:lnTo>
                  <a:lnTo>
                    <a:pt x="13" y="1"/>
                  </a:lnTo>
                  <a:lnTo>
                    <a:pt x="22" y="5"/>
                  </a:lnTo>
                  <a:lnTo>
                    <a:pt x="20" y="13"/>
                  </a:lnTo>
                  <a:lnTo>
                    <a:pt x="20" y="25"/>
                  </a:lnTo>
                  <a:lnTo>
                    <a:pt x="16" y="35"/>
                  </a:lnTo>
                  <a:lnTo>
                    <a:pt x="1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52400" y="5994360"/>
              <a:ext cx="5760" cy="1764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30"/>
                  </a:move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11"/>
                  </a:lnTo>
                  <a:lnTo>
                    <a:pt x="9" y="23"/>
                  </a:lnTo>
                  <a:lnTo>
                    <a:pt x="8" y="30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88480" y="5977800"/>
              <a:ext cx="19440" cy="2268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2" y="35"/>
                  </a:moveTo>
                  <a:lnTo>
                    <a:pt x="4" y="23"/>
                  </a:lnTo>
                  <a:lnTo>
                    <a:pt x="2" y="16"/>
                  </a:lnTo>
                  <a:lnTo>
                    <a:pt x="0" y="9"/>
                  </a:lnTo>
                  <a:lnTo>
                    <a:pt x="2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3" y="2"/>
                  </a:lnTo>
                  <a:lnTo>
                    <a:pt x="29" y="11"/>
                  </a:lnTo>
                  <a:lnTo>
                    <a:pt x="23" y="23"/>
                  </a:lnTo>
                  <a:lnTo>
                    <a:pt x="15" y="32"/>
                  </a:lnTo>
                  <a:lnTo>
                    <a:pt x="1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05720" y="5819040"/>
              <a:ext cx="182160" cy="180360"/>
            </a:xfrm>
            <a:custGeom>
              <a:avLst/>
              <a:gdLst/>
              <a:ahLst/>
              <a:rect l="l" t="t" r="r" b="b"/>
              <a:pathLst>
                <a:path w="299" h="284">
                  <a:moveTo>
                    <a:pt x="273" y="284"/>
                  </a:moveTo>
                  <a:lnTo>
                    <a:pt x="231" y="265"/>
                  </a:lnTo>
                  <a:lnTo>
                    <a:pt x="198" y="246"/>
                  </a:lnTo>
                  <a:lnTo>
                    <a:pt x="169" y="223"/>
                  </a:lnTo>
                  <a:lnTo>
                    <a:pt x="145" y="204"/>
                  </a:lnTo>
                  <a:lnTo>
                    <a:pt x="117" y="187"/>
                  </a:lnTo>
                  <a:lnTo>
                    <a:pt x="87" y="177"/>
                  </a:lnTo>
                  <a:lnTo>
                    <a:pt x="48" y="175"/>
                  </a:lnTo>
                  <a:lnTo>
                    <a:pt x="0" y="183"/>
                  </a:lnTo>
                  <a:lnTo>
                    <a:pt x="2" y="171"/>
                  </a:lnTo>
                  <a:lnTo>
                    <a:pt x="6" y="162"/>
                  </a:lnTo>
                  <a:lnTo>
                    <a:pt x="10" y="154"/>
                  </a:lnTo>
                  <a:lnTo>
                    <a:pt x="14" y="146"/>
                  </a:lnTo>
                  <a:lnTo>
                    <a:pt x="20" y="107"/>
                  </a:lnTo>
                  <a:lnTo>
                    <a:pt x="35" y="73"/>
                  </a:lnTo>
                  <a:lnTo>
                    <a:pt x="56" y="45"/>
                  </a:lnTo>
                  <a:lnTo>
                    <a:pt x="84" y="23"/>
                  </a:lnTo>
                  <a:lnTo>
                    <a:pt x="115" y="7"/>
                  </a:lnTo>
                  <a:lnTo>
                    <a:pt x="152" y="0"/>
                  </a:lnTo>
                  <a:lnTo>
                    <a:pt x="190" y="0"/>
                  </a:lnTo>
                  <a:lnTo>
                    <a:pt x="231" y="11"/>
                  </a:lnTo>
                  <a:lnTo>
                    <a:pt x="256" y="35"/>
                  </a:lnTo>
                  <a:lnTo>
                    <a:pt x="275" y="65"/>
                  </a:lnTo>
                  <a:lnTo>
                    <a:pt x="288" y="95"/>
                  </a:lnTo>
                  <a:lnTo>
                    <a:pt x="298" y="129"/>
                  </a:lnTo>
                  <a:lnTo>
                    <a:pt x="299" y="161"/>
                  </a:lnTo>
                  <a:lnTo>
                    <a:pt x="299" y="196"/>
                  </a:lnTo>
                  <a:lnTo>
                    <a:pt x="292" y="233"/>
                  </a:lnTo>
                  <a:lnTo>
                    <a:pt x="284" y="271"/>
                  </a:lnTo>
                  <a:lnTo>
                    <a:pt x="277" y="279"/>
                  </a:lnTo>
                  <a:lnTo>
                    <a:pt x="275" y="284"/>
                  </a:lnTo>
                  <a:lnTo>
                    <a:pt x="273" y="284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38240" y="5757840"/>
              <a:ext cx="265320" cy="229680"/>
            </a:xfrm>
            <a:custGeom>
              <a:avLst/>
              <a:gdLst/>
              <a:ahLst/>
              <a:rect l="l" t="t" r="r" b="b"/>
              <a:pathLst>
                <a:path w="437" h="363">
                  <a:moveTo>
                    <a:pt x="306" y="363"/>
                  </a:moveTo>
                  <a:lnTo>
                    <a:pt x="292" y="356"/>
                  </a:lnTo>
                  <a:lnTo>
                    <a:pt x="284" y="352"/>
                  </a:lnTo>
                  <a:lnTo>
                    <a:pt x="277" y="349"/>
                  </a:lnTo>
                  <a:lnTo>
                    <a:pt x="272" y="347"/>
                  </a:lnTo>
                  <a:lnTo>
                    <a:pt x="267" y="343"/>
                  </a:lnTo>
                  <a:lnTo>
                    <a:pt x="261" y="340"/>
                  </a:lnTo>
                  <a:lnTo>
                    <a:pt x="254" y="337"/>
                  </a:lnTo>
                  <a:lnTo>
                    <a:pt x="248" y="335"/>
                  </a:lnTo>
                  <a:lnTo>
                    <a:pt x="236" y="305"/>
                  </a:lnTo>
                  <a:lnTo>
                    <a:pt x="219" y="283"/>
                  </a:lnTo>
                  <a:lnTo>
                    <a:pt x="199" y="264"/>
                  </a:lnTo>
                  <a:lnTo>
                    <a:pt x="179" y="249"/>
                  </a:lnTo>
                  <a:lnTo>
                    <a:pt x="156" y="234"/>
                  </a:lnTo>
                  <a:lnTo>
                    <a:pt x="135" y="220"/>
                  </a:lnTo>
                  <a:lnTo>
                    <a:pt x="115" y="202"/>
                  </a:lnTo>
                  <a:lnTo>
                    <a:pt x="99" y="180"/>
                  </a:lnTo>
                  <a:lnTo>
                    <a:pt x="84" y="167"/>
                  </a:lnTo>
                  <a:lnTo>
                    <a:pt x="72" y="157"/>
                  </a:lnTo>
                  <a:lnTo>
                    <a:pt x="60" y="149"/>
                  </a:lnTo>
                  <a:lnTo>
                    <a:pt x="50" y="145"/>
                  </a:lnTo>
                  <a:lnTo>
                    <a:pt x="38" y="141"/>
                  </a:lnTo>
                  <a:lnTo>
                    <a:pt x="27" y="138"/>
                  </a:lnTo>
                  <a:lnTo>
                    <a:pt x="14" y="136"/>
                  </a:lnTo>
                  <a:lnTo>
                    <a:pt x="0" y="134"/>
                  </a:lnTo>
                  <a:lnTo>
                    <a:pt x="7" y="117"/>
                  </a:lnTo>
                  <a:lnTo>
                    <a:pt x="22" y="98"/>
                  </a:lnTo>
                  <a:lnTo>
                    <a:pt x="43" y="79"/>
                  </a:lnTo>
                  <a:lnTo>
                    <a:pt x="69" y="61"/>
                  </a:lnTo>
                  <a:lnTo>
                    <a:pt x="95" y="44"/>
                  </a:lnTo>
                  <a:lnTo>
                    <a:pt x="121" y="29"/>
                  </a:lnTo>
                  <a:lnTo>
                    <a:pt x="144" y="17"/>
                  </a:lnTo>
                  <a:lnTo>
                    <a:pt x="162" y="10"/>
                  </a:lnTo>
                  <a:lnTo>
                    <a:pt x="210" y="2"/>
                  </a:lnTo>
                  <a:lnTo>
                    <a:pt x="252" y="0"/>
                  </a:lnTo>
                  <a:lnTo>
                    <a:pt x="290" y="4"/>
                  </a:lnTo>
                  <a:lnTo>
                    <a:pt x="323" y="17"/>
                  </a:lnTo>
                  <a:lnTo>
                    <a:pt x="352" y="34"/>
                  </a:lnTo>
                  <a:lnTo>
                    <a:pt x="379" y="61"/>
                  </a:lnTo>
                  <a:lnTo>
                    <a:pt x="401" y="98"/>
                  </a:lnTo>
                  <a:lnTo>
                    <a:pt x="422" y="145"/>
                  </a:lnTo>
                  <a:lnTo>
                    <a:pt x="436" y="178"/>
                  </a:lnTo>
                  <a:lnTo>
                    <a:pt x="437" y="210"/>
                  </a:lnTo>
                  <a:lnTo>
                    <a:pt x="428" y="239"/>
                  </a:lnTo>
                  <a:lnTo>
                    <a:pt x="413" y="267"/>
                  </a:lnTo>
                  <a:lnTo>
                    <a:pt x="390" y="291"/>
                  </a:lnTo>
                  <a:lnTo>
                    <a:pt x="365" y="317"/>
                  </a:lnTo>
                  <a:lnTo>
                    <a:pt x="340" y="340"/>
                  </a:lnTo>
                  <a:lnTo>
                    <a:pt x="317" y="363"/>
                  </a:lnTo>
                  <a:lnTo>
                    <a:pt x="310" y="363"/>
                  </a:lnTo>
                  <a:lnTo>
                    <a:pt x="306" y="363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28800" y="5962680"/>
              <a:ext cx="10440" cy="2520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4" y="39"/>
                  </a:moveTo>
                  <a:lnTo>
                    <a:pt x="0" y="26"/>
                  </a:lnTo>
                  <a:lnTo>
                    <a:pt x="0" y="18"/>
                  </a:lnTo>
                  <a:lnTo>
                    <a:pt x="1" y="10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8"/>
                  </a:lnTo>
                  <a:lnTo>
                    <a:pt x="17" y="19"/>
                  </a:lnTo>
                  <a:lnTo>
                    <a:pt x="13" y="30"/>
                  </a:lnTo>
                  <a:lnTo>
                    <a:pt x="4" y="42"/>
                  </a:lnTo>
                  <a:lnTo>
                    <a:pt x="4" y="41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90680" y="5916600"/>
              <a:ext cx="11880" cy="216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4" y="34"/>
                  </a:moveTo>
                  <a:lnTo>
                    <a:pt x="0" y="26"/>
                  </a:lnTo>
                  <a:lnTo>
                    <a:pt x="1" y="17"/>
                  </a:lnTo>
                  <a:lnTo>
                    <a:pt x="4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16" y="11"/>
                  </a:lnTo>
                  <a:lnTo>
                    <a:pt x="14" y="19"/>
                  </a:lnTo>
                  <a:lnTo>
                    <a:pt x="13" y="25"/>
                  </a:lnTo>
                  <a:lnTo>
                    <a:pt x="12" y="34"/>
                  </a:lnTo>
                  <a:lnTo>
                    <a:pt x="6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23800" y="5904000"/>
              <a:ext cx="9720" cy="22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5" y="37"/>
                  </a:moveTo>
                  <a:lnTo>
                    <a:pt x="2" y="36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4" y="14"/>
                  </a:lnTo>
                  <a:lnTo>
                    <a:pt x="6" y="7"/>
                  </a:lnTo>
                  <a:lnTo>
                    <a:pt x="10" y="0"/>
                  </a:lnTo>
                  <a:lnTo>
                    <a:pt x="12" y="7"/>
                  </a:lnTo>
                  <a:lnTo>
                    <a:pt x="13" y="14"/>
                  </a:lnTo>
                  <a:lnTo>
                    <a:pt x="14" y="22"/>
                  </a:lnTo>
                  <a:lnTo>
                    <a:pt x="16" y="33"/>
                  </a:lnTo>
                  <a:lnTo>
                    <a:pt x="12" y="36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01840" y="5714640"/>
              <a:ext cx="302760" cy="208080"/>
            </a:xfrm>
            <a:custGeom>
              <a:avLst/>
              <a:gdLst/>
              <a:ahLst/>
              <a:rect l="l" t="t" r="r" b="b"/>
              <a:pathLst>
                <a:path w="498" h="327">
                  <a:moveTo>
                    <a:pt x="410" y="327"/>
                  </a:moveTo>
                  <a:lnTo>
                    <a:pt x="377" y="312"/>
                  </a:lnTo>
                  <a:lnTo>
                    <a:pt x="347" y="295"/>
                  </a:lnTo>
                  <a:lnTo>
                    <a:pt x="318" y="273"/>
                  </a:lnTo>
                  <a:lnTo>
                    <a:pt x="293" y="255"/>
                  </a:lnTo>
                  <a:lnTo>
                    <a:pt x="264" y="241"/>
                  </a:lnTo>
                  <a:lnTo>
                    <a:pt x="236" y="237"/>
                  </a:lnTo>
                  <a:lnTo>
                    <a:pt x="203" y="243"/>
                  </a:lnTo>
                  <a:lnTo>
                    <a:pt x="167" y="268"/>
                  </a:lnTo>
                  <a:lnTo>
                    <a:pt x="159" y="270"/>
                  </a:lnTo>
                  <a:lnTo>
                    <a:pt x="151" y="273"/>
                  </a:lnTo>
                  <a:lnTo>
                    <a:pt x="138" y="239"/>
                  </a:lnTo>
                  <a:lnTo>
                    <a:pt x="126" y="212"/>
                  </a:lnTo>
                  <a:lnTo>
                    <a:pt x="113" y="191"/>
                  </a:lnTo>
                  <a:lnTo>
                    <a:pt x="99" y="174"/>
                  </a:lnTo>
                  <a:lnTo>
                    <a:pt x="80" y="161"/>
                  </a:lnTo>
                  <a:lnTo>
                    <a:pt x="59" y="153"/>
                  </a:lnTo>
                  <a:lnTo>
                    <a:pt x="33" y="146"/>
                  </a:lnTo>
                  <a:lnTo>
                    <a:pt x="2" y="143"/>
                  </a:lnTo>
                  <a:lnTo>
                    <a:pt x="0" y="116"/>
                  </a:lnTo>
                  <a:lnTo>
                    <a:pt x="6" y="94"/>
                  </a:lnTo>
                  <a:lnTo>
                    <a:pt x="13" y="76"/>
                  </a:lnTo>
                  <a:lnTo>
                    <a:pt x="22" y="59"/>
                  </a:lnTo>
                  <a:lnTo>
                    <a:pt x="32" y="43"/>
                  </a:lnTo>
                  <a:lnTo>
                    <a:pt x="40" y="28"/>
                  </a:lnTo>
                  <a:lnTo>
                    <a:pt x="45" y="13"/>
                  </a:lnTo>
                  <a:lnTo>
                    <a:pt x="46" y="0"/>
                  </a:lnTo>
                  <a:lnTo>
                    <a:pt x="55" y="2"/>
                  </a:lnTo>
                  <a:lnTo>
                    <a:pt x="63" y="7"/>
                  </a:lnTo>
                  <a:lnTo>
                    <a:pt x="72" y="12"/>
                  </a:lnTo>
                  <a:lnTo>
                    <a:pt x="82" y="17"/>
                  </a:lnTo>
                  <a:lnTo>
                    <a:pt x="91" y="23"/>
                  </a:lnTo>
                  <a:lnTo>
                    <a:pt x="102" y="30"/>
                  </a:lnTo>
                  <a:lnTo>
                    <a:pt x="111" y="36"/>
                  </a:lnTo>
                  <a:lnTo>
                    <a:pt x="124" y="43"/>
                  </a:lnTo>
                  <a:lnTo>
                    <a:pt x="159" y="74"/>
                  </a:lnTo>
                  <a:lnTo>
                    <a:pt x="199" y="103"/>
                  </a:lnTo>
                  <a:lnTo>
                    <a:pt x="241" y="128"/>
                  </a:lnTo>
                  <a:lnTo>
                    <a:pt x="287" y="151"/>
                  </a:lnTo>
                  <a:lnTo>
                    <a:pt x="333" y="168"/>
                  </a:lnTo>
                  <a:lnTo>
                    <a:pt x="383" y="180"/>
                  </a:lnTo>
                  <a:lnTo>
                    <a:pt x="432" y="185"/>
                  </a:lnTo>
                  <a:lnTo>
                    <a:pt x="485" y="184"/>
                  </a:lnTo>
                  <a:lnTo>
                    <a:pt x="486" y="192"/>
                  </a:lnTo>
                  <a:lnTo>
                    <a:pt x="487" y="201"/>
                  </a:lnTo>
                  <a:lnTo>
                    <a:pt x="489" y="209"/>
                  </a:lnTo>
                  <a:lnTo>
                    <a:pt x="490" y="220"/>
                  </a:lnTo>
                  <a:lnTo>
                    <a:pt x="494" y="222"/>
                  </a:lnTo>
                  <a:lnTo>
                    <a:pt x="498" y="223"/>
                  </a:lnTo>
                  <a:lnTo>
                    <a:pt x="498" y="228"/>
                  </a:lnTo>
                  <a:lnTo>
                    <a:pt x="498" y="234"/>
                  </a:lnTo>
                  <a:lnTo>
                    <a:pt x="490" y="241"/>
                  </a:lnTo>
                  <a:lnTo>
                    <a:pt x="482" y="249"/>
                  </a:lnTo>
                  <a:lnTo>
                    <a:pt x="475" y="257"/>
                  </a:lnTo>
                  <a:lnTo>
                    <a:pt x="470" y="268"/>
                  </a:lnTo>
                  <a:lnTo>
                    <a:pt x="463" y="276"/>
                  </a:lnTo>
                  <a:lnTo>
                    <a:pt x="458" y="287"/>
                  </a:lnTo>
                  <a:lnTo>
                    <a:pt x="452" y="297"/>
                  </a:lnTo>
                  <a:lnTo>
                    <a:pt x="448" y="308"/>
                  </a:lnTo>
                  <a:lnTo>
                    <a:pt x="441" y="308"/>
                  </a:lnTo>
                  <a:lnTo>
                    <a:pt x="437" y="311"/>
                  </a:lnTo>
                  <a:lnTo>
                    <a:pt x="436" y="316"/>
                  </a:lnTo>
                  <a:lnTo>
                    <a:pt x="435" y="322"/>
                  </a:lnTo>
                  <a:lnTo>
                    <a:pt x="423" y="324"/>
                  </a:lnTo>
                  <a:lnTo>
                    <a:pt x="410" y="32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744320" y="5898960"/>
              <a:ext cx="9720" cy="2016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33"/>
                  </a:moveTo>
                  <a:lnTo>
                    <a:pt x="0" y="23"/>
                  </a:lnTo>
                  <a:lnTo>
                    <a:pt x="4" y="14"/>
                  </a:lnTo>
                  <a:lnTo>
                    <a:pt x="8" y="4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5" y="14"/>
                  </a:lnTo>
                  <a:lnTo>
                    <a:pt x="13" y="22"/>
                  </a:lnTo>
                  <a:lnTo>
                    <a:pt x="11" y="33"/>
                  </a:lnTo>
                  <a:lnTo>
                    <a:pt x="7" y="33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482960" y="5887440"/>
              <a:ext cx="9360" cy="216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8" y="36"/>
                  </a:moveTo>
                  <a:lnTo>
                    <a:pt x="4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8"/>
                  </a:lnTo>
                  <a:lnTo>
                    <a:pt x="5" y="3"/>
                  </a:lnTo>
                  <a:lnTo>
                    <a:pt x="16" y="0"/>
                  </a:lnTo>
                  <a:lnTo>
                    <a:pt x="14" y="8"/>
                  </a:lnTo>
                  <a:lnTo>
                    <a:pt x="13" y="22"/>
                  </a:lnTo>
                  <a:lnTo>
                    <a:pt x="10" y="33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69080" y="5875920"/>
              <a:ext cx="29160" cy="2772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21" y="44"/>
                  </a:moveTo>
                  <a:lnTo>
                    <a:pt x="10" y="40"/>
                  </a:lnTo>
                  <a:lnTo>
                    <a:pt x="4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7" y="5"/>
                  </a:lnTo>
                  <a:lnTo>
                    <a:pt x="18" y="15"/>
                  </a:lnTo>
                  <a:lnTo>
                    <a:pt x="23" y="16"/>
                  </a:lnTo>
                  <a:lnTo>
                    <a:pt x="30" y="19"/>
                  </a:lnTo>
                  <a:lnTo>
                    <a:pt x="38" y="20"/>
                  </a:lnTo>
                  <a:lnTo>
                    <a:pt x="48" y="23"/>
                  </a:lnTo>
                  <a:lnTo>
                    <a:pt x="45" y="32"/>
                  </a:lnTo>
                  <a:lnTo>
                    <a:pt x="38" y="39"/>
                  </a:lnTo>
                  <a:lnTo>
                    <a:pt x="29" y="43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57400" y="5867280"/>
              <a:ext cx="14040" cy="2772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9" y="42"/>
                  </a:moveTo>
                  <a:lnTo>
                    <a:pt x="4" y="41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1" y="14"/>
                  </a:lnTo>
                  <a:lnTo>
                    <a:pt x="2" y="11"/>
                  </a:lnTo>
                  <a:lnTo>
                    <a:pt x="2" y="4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5" y="3"/>
                  </a:lnTo>
                  <a:lnTo>
                    <a:pt x="15" y="7"/>
                  </a:lnTo>
                  <a:lnTo>
                    <a:pt x="15" y="11"/>
                  </a:lnTo>
                  <a:lnTo>
                    <a:pt x="19" y="11"/>
                  </a:lnTo>
                  <a:lnTo>
                    <a:pt x="23" y="11"/>
                  </a:lnTo>
                  <a:lnTo>
                    <a:pt x="21" y="19"/>
                  </a:lnTo>
                  <a:lnTo>
                    <a:pt x="19" y="27"/>
                  </a:lnTo>
                  <a:lnTo>
                    <a:pt x="15" y="35"/>
                  </a:lnTo>
                  <a:lnTo>
                    <a:pt x="12" y="45"/>
                  </a:lnTo>
                  <a:lnTo>
                    <a:pt x="9" y="44"/>
                  </a:lnTo>
                  <a:lnTo>
                    <a:pt x="9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534080" y="5858280"/>
              <a:ext cx="9720" cy="2160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8" y="32"/>
                  </a:moveTo>
                  <a:lnTo>
                    <a:pt x="4" y="31"/>
                  </a:lnTo>
                  <a:lnTo>
                    <a:pt x="0" y="29"/>
                  </a:lnTo>
                  <a:lnTo>
                    <a:pt x="1" y="19"/>
                  </a:lnTo>
                  <a:lnTo>
                    <a:pt x="4" y="11"/>
                  </a:lnTo>
                  <a:lnTo>
                    <a:pt x="7" y="5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6"/>
                  </a:lnTo>
                  <a:lnTo>
                    <a:pt x="15" y="13"/>
                  </a:lnTo>
                  <a:lnTo>
                    <a:pt x="16" y="21"/>
                  </a:lnTo>
                  <a:lnTo>
                    <a:pt x="15" y="32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32680" y="5647320"/>
              <a:ext cx="299160" cy="227520"/>
            </a:xfrm>
            <a:custGeom>
              <a:avLst/>
              <a:gdLst/>
              <a:ahLst/>
              <a:rect l="l" t="t" r="r" b="b"/>
              <a:pathLst>
                <a:path w="491" h="357">
                  <a:moveTo>
                    <a:pt x="218" y="357"/>
                  </a:moveTo>
                  <a:lnTo>
                    <a:pt x="188" y="335"/>
                  </a:lnTo>
                  <a:lnTo>
                    <a:pt x="159" y="322"/>
                  </a:lnTo>
                  <a:lnTo>
                    <a:pt x="130" y="315"/>
                  </a:lnTo>
                  <a:lnTo>
                    <a:pt x="102" y="312"/>
                  </a:lnTo>
                  <a:lnTo>
                    <a:pt x="73" y="307"/>
                  </a:lnTo>
                  <a:lnTo>
                    <a:pt x="46" y="302"/>
                  </a:lnTo>
                  <a:lnTo>
                    <a:pt x="22" y="289"/>
                  </a:lnTo>
                  <a:lnTo>
                    <a:pt x="0" y="272"/>
                  </a:lnTo>
                  <a:lnTo>
                    <a:pt x="3" y="253"/>
                  </a:lnTo>
                  <a:lnTo>
                    <a:pt x="10" y="239"/>
                  </a:lnTo>
                  <a:lnTo>
                    <a:pt x="19" y="226"/>
                  </a:lnTo>
                  <a:lnTo>
                    <a:pt x="31" y="215"/>
                  </a:lnTo>
                  <a:lnTo>
                    <a:pt x="44" y="204"/>
                  </a:lnTo>
                  <a:lnTo>
                    <a:pt x="57" y="195"/>
                  </a:lnTo>
                  <a:lnTo>
                    <a:pt x="69" y="184"/>
                  </a:lnTo>
                  <a:lnTo>
                    <a:pt x="83" y="173"/>
                  </a:lnTo>
                  <a:lnTo>
                    <a:pt x="127" y="92"/>
                  </a:lnTo>
                  <a:lnTo>
                    <a:pt x="173" y="38"/>
                  </a:lnTo>
                  <a:lnTo>
                    <a:pt x="219" y="8"/>
                  </a:lnTo>
                  <a:lnTo>
                    <a:pt x="269" y="0"/>
                  </a:lnTo>
                  <a:lnTo>
                    <a:pt x="320" y="9"/>
                  </a:lnTo>
                  <a:lnTo>
                    <a:pt x="374" y="39"/>
                  </a:lnTo>
                  <a:lnTo>
                    <a:pt x="430" y="82"/>
                  </a:lnTo>
                  <a:lnTo>
                    <a:pt x="491" y="142"/>
                  </a:lnTo>
                  <a:lnTo>
                    <a:pt x="491" y="146"/>
                  </a:lnTo>
                  <a:lnTo>
                    <a:pt x="491" y="150"/>
                  </a:lnTo>
                  <a:lnTo>
                    <a:pt x="486" y="154"/>
                  </a:lnTo>
                  <a:lnTo>
                    <a:pt x="485" y="160"/>
                  </a:lnTo>
                  <a:lnTo>
                    <a:pt x="485" y="164"/>
                  </a:lnTo>
                  <a:lnTo>
                    <a:pt x="486" y="173"/>
                  </a:lnTo>
                  <a:lnTo>
                    <a:pt x="444" y="192"/>
                  </a:lnTo>
                  <a:lnTo>
                    <a:pt x="410" y="214"/>
                  </a:lnTo>
                  <a:lnTo>
                    <a:pt x="379" y="238"/>
                  </a:lnTo>
                  <a:lnTo>
                    <a:pt x="352" y="264"/>
                  </a:lnTo>
                  <a:lnTo>
                    <a:pt x="324" y="288"/>
                  </a:lnTo>
                  <a:lnTo>
                    <a:pt x="295" y="312"/>
                  </a:lnTo>
                  <a:lnTo>
                    <a:pt x="264" y="335"/>
                  </a:lnTo>
                  <a:lnTo>
                    <a:pt x="229" y="357"/>
                  </a:lnTo>
                  <a:lnTo>
                    <a:pt x="223" y="357"/>
                  </a:lnTo>
                  <a:lnTo>
                    <a:pt x="218" y="357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13480" y="5824080"/>
              <a:ext cx="29160" cy="41760"/>
            </a:xfrm>
            <a:custGeom>
              <a:avLst/>
              <a:gdLst/>
              <a:ahLst/>
              <a:rect l="l" t="t" r="r" b="b"/>
              <a:pathLst>
                <a:path w="47" h="67">
                  <a:moveTo>
                    <a:pt x="12" y="67"/>
                  </a:moveTo>
                  <a:lnTo>
                    <a:pt x="12" y="57"/>
                  </a:lnTo>
                  <a:lnTo>
                    <a:pt x="12" y="50"/>
                  </a:lnTo>
                  <a:lnTo>
                    <a:pt x="7" y="48"/>
                  </a:lnTo>
                  <a:lnTo>
                    <a:pt x="3" y="48"/>
                  </a:lnTo>
                  <a:lnTo>
                    <a:pt x="0" y="41"/>
                  </a:lnTo>
                  <a:lnTo>
                    <a:pt x="1" y="34"/>
                  </a:lnTo>
                  <a:lnTo>
                    <a:pt x="1" y="27"/>
                  </a:lnTo>
                  <a:lnTo>
                    <a:pt x="4" y="21"/>
                  </a:lnTo>
                  <a:lnTo>
                    <a:pt x="9" y="7"/>
                  </a:lnTo>
                  <a:lnTo>
                    <a:pt x="15" y="0"/>
                  </a:lnTo>
                  <a:lnTo>
                    <a:pt x="19" y="10"/>
                  </a:lnTo>
                  <a:lnTo>
                    <a:pt x="24" y="15"/>
                  </a:lnTo>
                  <a:lnTo>
                    <a:pt x="27" y="18"/>
                  </a:lnTo>
                  <a:lnTo>
                    <a:pt x="31" y="21"/>
                  </a:lnTo>
                  <a:lnTo>
                    <a:pt x="34" y="21"/>
                  </a:lnTo>
                  <a:lnTo>
                    <a:pt x="36" y="22"/>
                  </a:lnTo>
                  <a:lnTo>
                    <a:pt x="41" y="25"/>
                  </a:lnTo>
                  <a:lnTo>
                    <a:pt x="47" y="31"/>
                  </a:lnTo>
                  <a:lnTo>
                    <a:pt x="35" y="42"/>
                  </a:lnTo>
                  <a:lnTo>
                    <a:pt x="23" y="50"/>
                  </a:lnTo>
                  <a:lnTo>
                    <a:pt x="20" y="57"/>
                  </a:lnTo>
                  <a:lnTo>
                    <a:pt x="18" y="64"/>
                  </a:lnTo>
                  <a:lnTo>
                    <a:pt x="15" y="65"/>
                  </a:lnTo>
                  <a:lnTo>
                    <a:pt x="1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99960" y="5013360"/>
              <a:ext cx="798840" cy="807840"/>
            </a:xfrm>
            <a:custGeom>
              <a:avLst/>
              <a:gdLst/>
              <a:ahLst/>
              <a:rect l="l" t="t" r="r" b="b"/>
              <a:pathLst>
                <a:path w="1315" h="1272">
                  <a:moveTo>
                    <a:pt x="612" y="1272"/>
                  </a:moveTo>
                  <a:lnTo>
                    <a:pt x="550" y="1258"/>
                  </a:lnTo>
                  <a:lnTo>
                    <a:pt x="494" y="1240"/>
                  </a:lnTo>
                  <a:lnTo>
                    <a:pt x="444" y="1217"/>
                  </a:lnTo>
                  <a:lnTo>
                    <a:pt x="398" y="1194"/>
                  </a:lnTo>
                  <a:lnTo>
                    <a:pt x="352" y="1166"/>
                  </a:lnTo>
                  <a:lnTo>
                    <a:pt x="307" y="1139"/>
                  </a:lnTo>
                  <a:lnTo>
                    <a:pt x="260" y="1112"/>
                  </a:lnTo>
                  <a:lnTo>
                    <a:pt x="210" y="1085"/>
                  </a:lnTo>
                  <a:lnTo>
                    <a:pt x="202" y="1081"/>
                  </a:lnTo>
                  <a:lnTo>
                    <a:pt x="194" y="1081"/>
                  </a:lnTo>
                  <a:lnTo>
                    <a:pt x="186" y="1081"/>
                  </a:lnTo>
                  <a:lnTo>
                    <a:pt x="179" y="1081"/>
                  </a:lnTo>
                  <a:lnTo>
                    <a:pt x="156" y="1060"/>
                  </a:lnTo>
                  <a:lnTo>
                    <a:pt x="137" y="1047"/>
                  </a:lnTo>
                  <a:lnTo>
                    <a:pt x="122" y="1035"/>
                  </a:lnTo>
                  <a:lnTo>
                    <a:pt x="109" y="1029"/>
                  </a:lnTo>
                  <a:lnTo>
                    <a:pt x="92" y="1025"/>
                  </a:lnTo>
                  <a:lnTo>
                    <a:pt x="75" y="1025"/>
                  </a:lnTo>
                  <a:lnTo>
                    <a:pt x="54" y="1028"/>
                  </a:lnTo>
                  <a:lnTo>
                    <a:pt x="30" y="1035"/>
                  </a:lnTo>
                  <a:lnTo>
                    <a:pt x="22" y="1025"/>
                  </a:lnTo>
                  <a:lnTo>
                    <a:pt x="15" y="1024"/>
                  </a:lnTo>
                  <a:lnTo>
                    <a:pt x="7" y="1025"/>
                  </a:lnTo>
                  <a:lnTo>
                    <a:pt x="0" y="1029"/>
                  </a:lnTo>
                  <a:lnTo>
                    <a:pt x="6" y="989"/>
                  </a:lnTo>
                  <a:lnTo>
                    <a:pt x="22" y="936"/>
                  </a:lnTo>
                  <a:lnTo>
                    <a:pt x="45" y="876"/>
                  </a:lnTo>
                  <a:lnTo>
                    <a:pt x="77" y="817"/>
                  </a:lnTo>
                  <a:lnTo>
                    <a:pt x="113" y="764"/>
                  </a:lnTo>
                  <a:lnTo>
                    <a:pt x="153" y="726"/>
                  </a:lnTo>
                  <a:lnTo>
                    <a:pt x="194" y="710"/>
                  </a:lnTo>
                  <a:lnTo>
                    <a:pt x="234" y="722"/>
                  </a:lnTo>
                  <a:lnTo>
                    <a:pt x="247" y="743"/>
                  </a:lnTo>
                  <a:lnTo>
                    <a:pt x="263" y="756"/>
                  </a:lnTo>
                  <a:lnTo>
                    <a:pt x="278" y="763"/>
                  </a:lnTo>
                  <a:lnTo>
                    <a:pt x="297" y="768"/>
                  </a:lnTo>
                  <a:lnTo>
                    <a:pt x="313" y="771"/>
                  </a:lnTo>
                  <a:lnTo>
                    <a:pt x="333" y="776"/>
                  </a:lnTo>
                  <a:lnTo>
                    <a:pt x="353" y="785"/>
                  </a:lnTo>
                  <a:lnTo>
                    <a:pt x="378" y="799"/>
                  </a:lnTo>
                  <a:lnTo>
                    <a:pt x="379" y="799"/>
                  </a:lnTo>
                  <a:lnTo>
                    <a:pt x="380" y="799"/>
                  </a:lnTo>
                  <a:lnTo>
                    <a:pt x="379" y="795"/>
                  </a:lnTo>
                  <a:lnTo>
                    <a:pt x="378" y="794"/>
                  </a:lnTo>
                  <a:lnTo>
                    <a:pt x="398" y="780"/>
                  </a:lnTo>
                  <a:lnTo>
                    <a:pt x="426" y="770"/>
                  </a:lnTo>
                  <a:lnTo>
                    <a:pt x="458" y="760"/>
                  </a:lnTo>
                  <a:lnTo>
                    <a:pt x="494" y="756"/>
                  </a:lnTo>
                  <a:lnTo>
                    <a:pt x="529" y="753"/>
                  </a:lnTo>
                  <a:lnTo>
                    <a:pt x="564" y="755"/>
                  </a:lnTo>
                  <a:lnTo>
                    <a:pt x="594" y="760"/>
                  </a:lnTo>
                  <a:lnTo>
                    <a:pt x="620" y="770"/>
                  </a:lnTo>
                  <a:lnTo>
                    <a:pt x="629" y="778"/>
                  </a:lnTo>
                  <a:lnTo>
                    <a:pt x="644" y="790"/>
                  </a:lnTo>
                  <a:lnTo>
                    <a:pt x="661" y="801"/>
                  </a:lnTo>
                  <a:lnTo>
                    <a:pt x="681" y="813"/>
                  </a:lnTo>
                  <a:lnTo>
                    <a:pt x="700" y="822"/>
                  </a:lnTo>
                  <a:lnTo>
                    <a:pt x="720" y="832"/>
                  </a:lnTo>
                  <a:lnTo>
                    <a:pt x="739" y="840"/>
                  </a:lnTo>
                  <a:lnTo>
                    <a:pt x="755" y="844"/>
                  </a:lnTo>
                  <a:lnTo>
                    <a:pt x="755" y="839"/>
                  </a:lnTo>
                  <a:lnTo>
                    <a:pt x="755" y="833"/>
                  </a:lnTo>
                  <a:lnTo>
                    <a:pt x="747" y="828"/>
                  </a:lnTo>
                  <a:lnTo>
                    <a:pt x="740" y="824"/>
                  </a:lnTo>
                  <a:lnTo>
                    <a:pt x="731" y="818"/>
                  </a:lnTo>
                  <a:lnTo>
                    <a:pt x="720" y="812"/>
                  </a:lnTo>
                  <a:lnTo>
                    <a:pt x="705" y="802"/>
                  </a:lnTo>
                  <a:lnTo>
                    <a:pt x="689" y="793"/>
                  </a:lnTo>
                  <a:lnTo>
                    <a:pt x="669" y="780"/>
                  </a:lnTo>
                  <a:lnTo>
                    <a:pt x="646" y="767"/>
                  </a:lnTo>
                  <a:lnTo>
                    <a:pt x="644" y="762"/>
                  </a:lnTo>
                  <a:lnTo>
                    <a:pt x="643" y="759"/>
                  </a:lnTo>
                  <a:lnTo>
                    <a:pt x="656" y="756"/>
                  </a:lnTo>
                  <a:lnTo>
                    <a:pt x="674" y="756"/>
                  </a:lnTo>
                  <a:lnTo>
                    <a:pt x="692" y="756"/>
                  </a:lnTo>
                  <a:lnTo>
                    <a:pt x="712" y="757"/>
                  </a:lnTo>
                  <a:lnTo>
                    <a:pt x="730" y="756"/>
                  </a:lnTo>
                  <a:lnTo>
                    <a:pt x="747" y="753"/>
                  </a:lnTo>
                  <a:lnTo>
                    <a:pt x="763" y="748"/>
                  </a:lnTo>
                  <a:lnTo>
                    <a:pt x="776" y="740"/>
                  </a:lnTo>
                  <a:lnTo>
                    <a:pt x="770" y="737"/>
                  </a:lnTo>
                  <a:lnTo>
                    <a:pt x="761" y="736"/>
                  </a:lnTo>
                  <a:lnTo>
                    <a:pt x="747" y="734"/>
                  </a:lnTo>
                  <a:lnTo>
                    <a:pt x="732" y="733"/>
                  </a:lnTo>
                  <a:lnTo>
                    <a:pt x="716" y="730"/>
                  </a:lnTo>
                  <a:lnTo>
                    <a:pt x="702" y="730"/>
                  </a:lnTo>
                  <a:lnTo>
                    <a:pt x="692" y="728"/>
                  </a:lnTo>
                  <a:lnTo>
                    <a:pt x="686" y="728"/>
                  </a:lnTo>
                  <a:lnTo>
                    <a:pt x="689" y="682"/>
                  </a:lnTo>
                  <a:lnTo>
                    <a:pt x="701" y="645"/>
                  </a:lnTo>
                  <a:lnTo>
                    <a:pt x="716" y="613"/>
                  </a:lnTo>
                  <a:lnTo>
                    <a:pt x="736" y="586"/>
                  </a:lnTo>
                  <a:lnTo>
                    <a:pt x="757" y="557"/>
                  </a:lnTo>
                  <a:lnTo>
                    <a:pt x="780" y="530"/>
                  </a:lnTo>
                  <a:lnTo>
                    <a:pt x="799" y="500"/>
                  </a:lnTo>
                  <a:lnTo>
                    <a:pt x="816" y="467"/>
                  </a:lnTo>
                  <a:lnTo>
                    <a:pt x="816" y="453"/>
                  </a:lnTo>
                  <a:lnTo>
                    <a:pt x="816" y="441"/>
                  </a:lnTo>
                  <a:lnTo>
                    <a:pt x="813" y="440"/>
                  </a:lnTo>
                  <a:lnTo>
                    <a:pt x="813" y="438"/>
                  </a:lnTo>
                  <a:lnTo>
                    <a:pt x="792" y="475"/>
                  </a:lnTo>
                  <a:lnTo>
                    <a:pt x="766" y="507"/>
                  </a:lnTo>
                  <a:lnTo>
                    <a:pt x="736" y="537"/>
                  </a:lnTo>
                  <a:lnTo>
                    <a:pt x="709" y="568"/>
                  </a:lnTo>
                  <a:lnTo>
                    <a:pt x="685" y="599"/>
                  </a:lnTo>
                  <a:lnTo>
                    <a:pt x="669" y="634"/>
                  </a:lnTo>
                  <a:lnTo>
                    <a:pt x="662" y="675"/>
                  </a:lnTo>
                  <a:lnTo>
                    <a:pt x="670" y="725"/>
                  </a:lnTo>
                  <a:lnTo>
                    <a:pt x="656" y="730"/>
                  </a:lnTo>
                  <a:lnTo>
                    <a:pt x="644" y="736"/>
                  </a:lnTo>
                  <a:lnTo>
                    <a:pt x="633" y="739"/>
                  </a:lnTo>
                  <a:lnTo>
                    <a:pt x="624" y="740"/>
                  </a:lnTo>
                  <a:lnTo>
                    <a:pt x="613" y="739"/>
                  </a:lnTo>
                  <a:lnTo>
                    <a:pt x="604" y="737"/>
                  </a:lnTo>
                  <a:lnTo>
                    <a:pt x="594" y="736"/>
                  </a:lnTo>
                  <a:lnTo>
                    <a:pt x="585" y="734"/>
                  </a:lnTo>
                  <a:lnTo>
                    <a:pt x="569" y="725"/>
                  </a:lnTo>
                  <a:lnTo>
                    <a:pt x="543" y="724"/>
                  </a:lnTo>
                  <a:lnTo>
                    <a:pt x="510" y="729"/>
                  </a:lnTo>
                  <a:lnTo>
                    <a:pt x="475" y="739"/>
                  </a:lnTo>
                  <a:lnTo>
                    <a:pt x="439" y="749"/>
                  </a:lnTo>
                  <a:lnTo>
                    <a:pt x="406" y="760"/>
                  </a:lnTo>
                  <a:lnTo>
                    <a:pt x="379" y="771"/>
                  </a:lnTo>
                  <a:lnTo>
                    <a:pt x="364" y="778"/>
                  </a:lnTo>
                  <a:lnTo>
                    <a:pt x="356" y="770"/>
                  </a:lnTo>
                  <a:lnTo>
                    <a:pt x="348" y="764"/>
                  </a:lnTo>
                  <a:lnTo>
                    <a:pt x="341" y="759"/>
                  </a:lnTo>
                  <a:lnTo>
                    <a:pt x="334" y="757"/>
                  </a:lnTo>
                  <a:lnTo>
                    <a:pt x="326" y="755"/>
                  </a:lnTo>
                  <a:lnTo>
                    <a:pt x="320" y="755"/>
                  </a:lnTo>
                  <a:lnTo>
                    <a:pt x="313" y="755"/>
                  </a:lnTo>
                  <a:lnTo>
                    <a:pt x="306" y="756"/>
                  </a:lnTo>
                  <a:lnTo>
                    <a:pt x="301" y="744"/>
                  </a:lnTo>
                  <a:lnTo>
                    <a:pt x="297" y="734"/>
                  </a:lnTo>
                  <a:lnTo>
                    <a:pt x="291" y="725"/>
                  </a:lnTo>
                  <a:lnTo>
                    <a:pt x="287" y="718"/>
                  </a:lnTo>
                  <a:lnTo>
                    <a:pt x="280" y="711"/>
                  </a:lnTo>
                  <a:lnTo>
                    <a:pt x="274" y="709"/>
                  </a:lnTo>
                  <a:lnTo>
                    <a:pt x="264" y="709"/>
                  </a:lnTo>
                  <a:lnTo>
                    <a:pt x="256" y="714"/>
                  </a:lnTo>
                  <a:lnTo>
                    <a:pt x="261" y="721"/>
                  </a:lnTo>
                  <a:lnTo>
                    <a:pt x="267" y="726"/>
                  </a:lnTo>
                  <a:lnTo>
                    <a:pt x="271" y="730"/>
                  </a:lnTo>
                  <a:lnTo>
                    <a:pt x="275" y="736"/>
                  </a:lnTo>
                  <a:lnTo>
                    <a:pt x="283" y="744"/>
                  </a:lnTo>
                  <a:lnTo>
                    <a:pt x="295" y="756"/>
                  </a:lnTo>
                  <a:lnTo>
                    <a:pt x="286" y="759"/>
                  </a:lnTo>
                  <a:lnTo>
                    <a:pt x="275" y="755"/>
                  </a:lnTo>
                  <a:lnTo>
                    <a:pt x="264" y="749"/>
                  </a:lnTo>
                  <a:lnTo>
                    <a:pt x="259" y="745"/>
                  </a:lnTo>
                  <a:lnTo>
                    <a:pt x="238" y="718"/>
                  </a:lnTo>
                  <a:lnTo>
                    <a:pt x="222" y="705"/>
                  </a:lnTo>
                  <a:lnTo>
                    <a:pt x="206" y="699"/>
                  </a:lnTo>
                  <a:lnTo>
                    <a:pt x="191" y="702"/>
                  </a:lnTo>
                  <a:lnTo>
                    <a:pt x="176" y="707"/>
                  </a:lnTo>
                  <a:lnTo>
                    <a:pt x="161" y="714"/>
                  </a:lnTo>
                  <a:lnTo>
                    <a:pt x="144" y="718"/>
                  </a:lnTo>
                  <a:lnTo>
                    <a:pt x="128" y="720"/>
                  </a:lnTo>
                  <a:lnTo>
                    <a:pt x="115" y="702"/>
                  </a:lnTo>
                  <a:lnTo>
                    <a:pt x="109" y="688"/>
                  </a:lnTo>
                  <a:lnTo>
                    <a:pt x="102" y="675"/>
                  </a:lnTo>
                  <a:lnTo>
                    <a:pt x="99" y="663"/>
                  </a:lnTo>
                  <a:lnTo>
                    <a:pt x="95" y="649"/>
                  </a:lnTo>
                  <a:lnTo>
                    <a:pt x="95" y="636"/>
                  </a:lnTo>
                  <a:lnTo>
                    <a:pt x="94" y="621"/>
                  </a:lnTo>
                  <a:lnTo>
                    <a:pt x="94" y="605"/>
                  </a:lnTo>
                  <a:lnTo>
                    <a:pt x="126" y="568"/>
                  </a:lnTo>
                  <a:lnTo>
                    <a:pt x="146" y="530"/>
                  </a:lnTo>
                  <a:lnTo>
                    <a:pt x="157" y="491"/>
                  </a:lnTo>
                  <a:lnTo>
                    <a:pt x="167" y="454"/>
                  </a:lnTo>
                  <a:lnTo>
                    <a:pt x="179" y="419"/>
                  </a:lnTo>
                  <a:lnTo>
                    <a:pt x="203" y="388"/>
                  </a:lnTo>
                  <a:lnTo>
                    <a:pt x="242" y="362"/>
                  </a:lnTo>
                  <a:lnTo>
                    <a:pt x="306" y="345"/>
                  </a:lnTo>
                  <a:lnTo>
                    <a:pt x="298" y="362"/>
                  </a:lnTo>
                  <a:lnTo>
                    <a:pt x="288" y="391"/>
                  </a:lnTo>
                  <a:lnTo>
                    <a:pt x="276" y="423"/>
                  </a:lnTo>
                  <a:lnTo>
                    <a:pt x="268" y="458"/>
                  </a:lnTo>
                  <a:lnTo>
                    <a:pt x="263" y="491"/>
                  </a:lnTo>
                  <a:lnTo>
                    <a:pt x="267" y="519"/>
                  </a:lnTo>
                  <a:lnTo>
                    <a:pt x="282" y="538"/>
                  </a:lnTo>
                  <a:lnTo>
                    <a:pt x="311" y="546"/>
                  </a:lnTo>
                  <a:lnTo>
                    <a:pt x="320" y="529"/>
                  </a:lnTo>
                  <a:lnTo>
                    <a:pt x="330" y="513"/>
                  </a:lnTo>
                  <a:lnTo>
                    <a:pt x="340" y="496"/>
                  </a:lnTo>
                  <a:lnTo>
                    <a:pt x="353" y="484"/>
                  </a:lnTo>
                  <a:lnTo>
                    <a:pt x="366" y="473"/>
                  </a:lnTo>
                  <a:lnTo>
                    <a:pt x="383" y="468"/>
                  </a:lnTo>
                  <a:lnTo>
                    <a:pt x="401" y="469"/>
                  </a:lnTo>
                  <a:lnTo>
                    <a:pt x="422" y="480"/>
                  </a:lnTo>
                  <a:lnTo>
                    <a:pt x="424" y="484"/>
                  </a:lnTo>
                  <a:lnTo>
                    <a:pt x="428" y="494"/>
                  </a:lnTo>
                  <a:lnTo>
                    <a:pt x="432" y="504"/>
                  </a:lnTo>
                  <a:lnTo>
                    <a:pt x="436" y="517"/>
                  </a:lnTo>
                  <a:lnTo>
                    <a:pt x="440" y="526"/>
                  </a:lnTo>
                  <a:lnTo>
                    <a:pt x="445" y="537"/>
                  </a:lnTo>
                  <a:lnTo>
                    <a:pt x="449" y="544"/>
                  </a:lnTo>
                  <a:lnTo>
                    <a:pt x="455" y="549"/>
                  </a:lnTo>
                  <a:lnTo>
                    <a:pt x="456" y="507"/>
                  </a:lnTo>
                  <a:lnTo>
                    <a:pt x="447" y="479"/>
                  </a:lnTo>
                  <a:lnTo>
                    <a:pt x="428" y="460"/>
                  </a:lnTo>
                  <a:lnTo>
                    <a:pt x="402" y="454"/>
                  </a:lnTo>
                  <a:lnTo>
                    <a:pt x="371" y="456"/>
                  </a:lnTo>
                  <a:lnTo>
                    <a:pt x="341" y="467"/>
                  </a:lnTo>
                  <a:lnTo>
                    <a:pt x="313" y="484"/>
                  </a:lnTo>
                  <a:lnTo>
                    <a:pt x="290" y="510"/>
                  </a:lnTo>
                  <a:lnTo>
                    <a:pt x="286" y="496"/>
                  </a:lnTo>
                  <a:lnTo>
                    <a:pt x="286" y="486"/>
                  </a:lnTo>
                  <a:lnTo>
                    <a:pt x="287" y="476"/>
                  </a:lnTo>
                  <a:lnTo>
                    <a:pt x="290" y="467"/>
                  </a:lnTo>
                  <a:lnTo>
                    <a:pt x="286" y="467"/>
                  </a:lnTo>
                  <a:lnTo>
                    <a:pt x="284" y="467"/>
                  </a:lnTo>
                  <a:lnTo>
                    <a:pt x="284" y="464"/>
                  </a:lnTo>
                  <a:lnTo>
                    <a:pt x="284" y="461"/>
                  </a:lnTo>
                  <a:lnTo>
                    <a:pt x="286" y="461"/>
                  </a:lnTo>
                  <a:lnTo>
                    <a:pt x="293" y="461"/>
                  </a:lnTo>
                  <a:lnTo>
                    <a:pt x="298" y="435"/>
                  </a:lnTo>
                  <a:lnTo>
                    <a:pt x="307" y="412"/>
                  </a:lnTo>
                  <a:lnTo>
                    <a:pt x="320" y="388"/>
                  </a:lnTo>
                  <a:lnTo>
                    <a:pt x="334" y="368"/>
                  </a:lnTo>
                  <a:lnTo>
                    <a:pt x="347" y="346"/>
                  </a:lnTo>
                  <a:lnTo>
                    <a:pt x="359" y="327"/>
                  </a:lnTo>
                  <a:lnTo>
                    <a:pt x="367" y="308"/>
                  </a:lnTo>
                  <a:lnTo>
                    <a:pt x="372" y="292"/>
                  </a:lnTo>
                  <a:lnTo>
                    <a:pt x="376" y="292"/>
                  </a:lnTo>
                  <a:lnTo>
                    <a:pt x="385" y="292"/>
                  </a:lnTo>
                  <a:lnTo>
                    <a:pt x="393" y="293"/>
                  </a:lnTo>
                  <a:lnTo>
                    <a:pt x="401" y="296"/>
                  </a:lnTo>
                  <a:lnTo>
                    <a:pt x="408" y="297"/>
                  </a:lnTo>
                  <a:lnTo>
                    <a:pt x="416" y="300"/>
                  </a:lnTo>
                  <a:lnTo>
                    <a:pt x="422" y="304"/>
                  </a:lnTo>
                  <a:lnTo>
                    <a:pt x="428" y="310"/>
                  </a:lnTo>
                  <a:lnTo>
                    <a:pt x="413" y="339"/>
                  </a:lnTo>
                  <a:lnTo>
                    <a:pt x="410" y="364"/>
                  </a:lnTo>
                  <a:lnTo>
                    <a:pt x="413" y="383"/>
                  </a:lnTo>
                  <a:lnTo>
                    <a:pt x="425" y="400"/>
                  </a:lnTo>
                  <a:lnTo>
                    <a:pt x="439" y="414"/>
                  </a:lnTo>
                  <a:lnTo>
                    <a:pt x="458" y="430"/>
                  </a:lnTo>
                  <a:lnTo>
                    <a:pt x="478" y="448"/>
                  </a:lnTo>
                  <a:lnTo>
                    <a:pt x="500" y="469"/>
                  </a:lnTo>
                  <a:lnTo>
                    <a:pt x="505" y="496"/>
                  </a:lnTo>
                  <a:lnTo>
                    <a:pt x="514" y="523"/>
                  </a:lnTo>
                  <a:lnTo>
                    <a:pt x="527" y="545"/>
                  </a:lnTo>
                  <a:lnTo>
                    <a:pt x="541" y="564"/>
                  </a:lnTo>
                  <a:lnTo>
                    <a:pt x="556" y="571"/>
                  </a:lnTo>
                  <a:lnTo>
                    <a:pt x="575" y="569"/>
                  </a:lnTo>
                  <a:lnTo>
                    <a:pt x="594" y="553"/>
                  </a:lnTo>
                  <a:lnTo>
                    <a:pt x="615" y="522"/>
                  </a:lnTo>
                  <a:lnTo>
                    <a:pt x="621" y="475"/>
                  </a:lnTo>
                  <a:lnTo>
                    <a:pt x="638" y="431"/>
                  </a:lnTo>
                  <a:lnTo>
                    <a:pt x="662" y="392"/>
                  </a:lnTo>
                  <a:lnTo>
                    <a:pt x="694" y="362"/>
                  </a:lnTo>
                  <a:lnTo>
                    <a:pt x="730" y="341"/>
                  </a:lnTo>
                  <a:lnTo>
                    <a:pt x="770" y="335"/>
                  </a:lnTo>
                  <a:lnTo>
                    <a:pt x="812" y="345"/>
                  </a:lnTo>
                  <a:lnTo>
                    <a:pt x="855" y="375"/>
                  </a:lnTo>
                  <a:lnTo>
                    <a:pt x="857" y="394"/>
                  </a:lnTo>
                  <a:lnTo>
                    <a:pt x="858" y="415"/>
                  </a:lnTo>
                  <a:lnTo>
                    <a:pt x="855" y="438"/>
                  </a:lnTo>
                  <a:lnTo>
                    <a:pt x="853" y="461"/>
                  </a:lnTo>
                  <a:lnTo>
                    <a:pt x="849" y="483"/>
                  </a:lnTo>
                  <a:lnTo>
                    <a:pt x="849" y="504"/>
                  </a:lnTo>
                  <a:lnTo>
                    <a:pt x="850" y="523"/>
                  </a:lnTo>
                  <a:lnTo>
                    <a:pt x="858" y="541"/>
                  </a:lnTo>
                  <a:lnTo>
                    <a:pt x="861" y="541"/>
                  </a:lnTo>
                  <a:lnTo>
                    <a:pt x="863" y="541"/>
                  </a:lnTo>
                  <a:lnTo>
                    <a:pt x="876" y="517"/>
                  </a:lnTo>
                  <a:lnTo>
                    <a:pt x="891" y="492"/>
                  </a:lnTo>
                  <a:lnTo>
                    <a:pt x="907" y="467"/>
                  </a:lnTo>
                  <a:lnTo>
                    <a:pt x="923" y="442"/>
                  </a:lnTo>
                  <a:lnTo>
                    <a:pt x="937" y="415"/>
                  </a:lnTo>
                  <a:lnTo>
                    <a:pt x="949" y="391"/>
                  </a:lnTo>
                  <a:lnTo>
                    <a:pt x="955" y="364"/>
                  </a:lnTo>
                  <a:lnTo>
                    <a:pt x="960" y="339"/>
                  </a:lnTo>
                  <a:lnTo>
                    <a:pt x="972" y="308"/>
                  </a:lnTo>
                  <a:lnTo>
                    <a:pt x="984" y="281"/>
                  </a:lnTo>
                  <a:lnTo>
                    <a:pt x="995" y="256"/>
                  </a:lnTo>
                  <a:lnTo>
                    <a:pt x="1008" y="235"/>
                  </a:lnTo>
                  <a:lnTo>
                    <a:pt x="1022" y="216"/>
                  </a:lnTo>
                  <a:lnTo>
                    <a:pt x="1041" y="203"/>
                  </a:lnTo>
                  <a:lnTo>
                    <a:pt x="1064" y="192"/>
                  </a:lnTo>
                  <a:lnTo>
                    <a:pt x="1095" y="185"/>
                  </a:lnTo>
                  <a:lnTo>
                    <a:pt x="1107" y="188"/>
                  </a:lnTo>
                  <a:lnTo>
                    <a:pt x="1115" y="196"/>
                  </a:lnTo>
                  <a:lnTo>
                    <a:pt x="1118" y="207"/>
                  </a:lnTo>
                  <a:lnTo>
                    <a:pt x="1121" y="220"/>
                  </a:lnTo>
                  <a:lnTo>
                    <a:pt x="1122" y="233"/>
                  </a:lnTo>
                  <a:lnTo>
                    <a:pt x="1127" y="246"/>
                  </a:lnTo>
                  <a:lnTo>
                    <a:pt x="1135" y="257"/>
                  </a:lnTo>
                  <a:lnTo>
                    <a:pt x="1150" y="265"/>
                  </a:lnTo>
                  <a:lnTo>
                    <a:pt x="1158" y="264"/>
                  </a:lnTo>
                  <a:lnTo>
                    <a:pt x="1161" y="257"/>
                  </a:lnTo>
                  <a:lnTo>
                    <a:pt x="1158" y="257"/>
                  </a:lnTo>
                  <a:lnTo>
                    <a:pt x="1156" y="260"/>
                  </a:lnTo>
                  <a:lnTo>
                    <a:pt x="1142" y="246"/>
                  </a:lnTo>
                  <a:lnTo>
                    <a:pt x="1137" y="231"/>
                  </a:lnTo>
                  <a:lnTo>
                    <a:pt x="1134" y="214"/>
                  </a:lnTo>
                  <a:lnTo>
                    <a:pt x="1133" y="197"/>
                  </a:lnTo>
                  <a:lnTo>
                    <a:pt x="1126" y="182"/>
                  </a:lnTo>
                  <a:lnTo>
                    <a:pt x="1114" y="172"/>
                  </a:lnTo>
                  <a:lnTo>
                    <a:pt x="1091" y="169"/>
                  </a:lnTo>
                  <a:lnTo>
                    <a:pt x="1057" y="174"/>
                  </a:lnTo>
                  <a:lnTo>
                    <a:pt x="1062" y="150"/>
                  </a:lnTo>
                  <a:lnTo>
                    <a:pt x="1070" y="128"/>
                  </a:lnTo>
                  <a:lnTo>
                    <a:pt x="1080" y="107"/>
                  </a:lnTo>
                  <a:lnTo>
                    <a:pt x="1092" y="86"/>
                  </a:lnTo>
                  <a:lnTo>
                    <a:pt x="1102" y="65"/>
                  </a:lnTo>
                  <a:lnTo>
                    <a:pt x="1112" y="43"/>
                  </a:lnTo>
                  <a:lnTo>
                    <a:pt x="1121" y="21"/>
                  </a:lnTo>
                  <a:lnTo>
                    <a:pt x="1129" y="0"/>
                  </a:lnTo>
                  <a:lnTo>
                    <a:pt x="1175" y="4"/>
                  </a:lnTo>
                  <a:lnTo>
                    <a:pt x="1214" y="16"/>
                  </a:lnTo>
                  <a:lnTo>
                    <a:pt x="1244" y="34"/>
                  </a:lnTo>
                  <a:lnTo>
                    <a:pt x="1268" y="58"/>
                  </a:lnTo>
                  <a:lnTo>
                    <a:pt x="1286" y="86"/>
                  </a:lnTo>
                  <a:lnTo>
                    <a:pt x="1299" y="122"/>
                  </a:lnTo>
                  <a:lnTo>
                    <a:pt x="1309" y="162"/>
                  </a:lnTo>
                  <a:lnTo>
                    <a:pt x="1315" y="210"/>
                  </a:lnTo>
                  <a:lnTo>
                    <a:pt x="1311" y="211"/>
                  </a:lnTo>
                  <a:lnTo>
                    <a:pt x="1307" y="212"/>
                  </a:lnTo>
                  <a:lnTo>
                    <a:pt x="1310" y="215"/>
                  </a:lnTo>
                  <a:lnTo>
                    <a:pt x="1313" y="218"/>
                  </a:lnTo>
                  <a:lnTo>
                    <a:pt x="1305" y="273"/>
                  </a:lnTo>
                  <a:lnTo>
                    <a:pt x="1291" y="327"/>
                  </a:lnTo>
                  <a:lnTo>
                    <a:pt x="1272" y="380"/>
                  </a:lnTo>
                  <a:lnTo>
                    <a:pt x="1253" y="433"/>
                  </a:lnTo>
                  <a:lnTo>
                    <a:pt x="1230" y="484"/>
                  </a:lnTo>
                  <a:lnTo>
                    <a:pt x="1207" y="536"/>
                  </a:lnTo>
                  <a:lnTo>
                    <a:pt x="1184" y="588"/>
                  </a:lnTo>
                  <a:lnTo>
                    <a:pt x="1167" y="642"/>
                  </a:lnTo>
                  <a:lnTo>
                    <a:pt x="1162" y="645"/>
                  </a:lnTo>
                  <a:lnTo>
                    <a:pt x="1158" y="648"/>
                  </a:lnTo>
                  <a:lnTo>
                    <a:pt x="1157" y="647"/>
                  </a:lnTo>
                  <a:lnTo>
                    <a:pt x="1156" y="645"/>
                  </a:lnTo>
                  <a:lnTo>
                    <a:pt x="1152" y="652"/>
                  </a:lnTo>
                  <a:lnTo>
                    <a:pt x="1145" y="667"/>
                  </a:lnTo>
                  <a:lnTo>
                    <a:pt x="1133" y="686"/>
                  </a:lnTo>
                  <a:lnTo>
                    <a:pt x="1121" y="710"/>
                  </a:lnTo>
                  <a:lnTo>
                    <a:pt x="1106" y="733"/>
                  </a:lnTo>
                  <a:lnTo>
                    <a:pt x="1093" y="755"/>
                  </a:lnTo>
                  <a:lnTo>
                    <a:pt x="1081" y="772"/>
                  </a:lnTo>
                  <a:lnTo>
                    <a:pt x="1073" y="783"/>
                  </a:lnTo>
                  <a:lnTo>
                    <a:pt x="1023" y="810"/>
                  </a:lnTo>
                  <a:lnTo>
                    <a:pt x="983" y="843"/>
                  </a:lnTo>
                  <a:lnTo>
                    <a:pt x="945" y="878"/>
                  </a:lnTo>
                  <a:lnTo>
                    <a:pt x="912" y="916"/>
                  </a:lnTo>
                  <a:lnTo>
                    <a:pt x="880" y="955"/>
                  </a:lnTo>
                  <a:lnTo>
                    <a:pt x="850" y="997"/>
                  </a:lnTo>
                  <a:lnTo>
                    <a:pt x="819" y="1040"/>
                  </a:lnTo>
                  <a:lnTo>
                    <a:pt x="789" y="1085"/>
                  </a:lnTo>
                  <a:lnTo>
                    <a:pt x="759" y="1109"/>
                  </a:lnTo>
                  <a:lnTo>
                    <a:pt x="734" y="1128"/>
                  </a:lnTo>
                  <a:lnTo>
                    <a:pt x="709" y="1142"/>
                  </a:lnTo>
                  <a:lnTo>
                    <a:pt x="690" y="1155"/>
                  </a:lnTo>
                  <a:lnTo>
                    <a:pt x="673" y="1170"/>
                  </a:lnTo>
                  <a:lnTo>
                    <a:pt x="661" y="1193"/>
                  </a:lnTo>
                  <a:lnTo>
                    <a:pt x="652" y="1226"/>
                  </a:lnTo>
                  <a:lnTo>
                    <a:pt x="651" y="1272"/>
                  </a:lnTo>
                  <a:lnTo>
                    <a:pt x="640" y="1272"/>
                  </a:lnTo>
                  <a:lnTo>
                    <a:pt x="631" y="1272"/>
                  </a:lnTo>
                  <a:lnTo>
                    <a:pt x="621" y="1272"/>
                  </a:lnTo>
                  <a:lnTo>
                    <a:pt x="612" y="1272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48240" y="5806440"/>
              <a:ext cx="5760" cy="1116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4" y="16"/>
                  </a:moveTo>
                  <a:lnTo>
                    <a:pt x="1" y="12"/>
                  </a:lnTo>
                  <a:lnTo>
                    <a:pt x="0" y="8"/>
                  </a:lnTo>
                  <a:lnTo>
                    <a:pt x="0" y="3"/>
                  </a:lnTo>
                  <a:lnTo>
                    <a:pt x="1" y="0"/>
                  </a:lnTo>
                  <a:lnTo>
                    <a:pt x="5" y="0"/>
                  </a:lnTo>
                  <a:lnTo>
                    <a:pt x="9" y="3"/>
                  </a:lnTo>
                  <a:lnTo>
                    <a:pt x="9" y="8"/>
                  </a:lnTo>
                  <a:lnTo>
                    <a:pt x="9" y="16"/>
                  </a:lnTo>
                  <a:lnTo>
                    <a:pt x="6" y="18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26280" y="5783400"/>
              <a:ext cx="9360" cy="187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2" y="31"/>
                  </a:moveTo>
                  <a:lnTo>
                    <a:pt x="6" y="21"/>
                  </a:lnTo>
                  <a:lnTo>
                    <a:pt x="3" y="13"/>
                  </a:lnTo>
                  <a:lnTo>
                    <a:pt x="0" y="5"/>
                  </a:lnTo>
                  <a:lnTo>
                    <a:pt x="1" y="0"/>
                  </a:lnTo>
                  <a:lnTo>
                    <a:pt x="6" y="5"/>
                  </a:lnTo>
                  <a:lnTo>
                    <a:pt x="10" y="13"/>
                  </a:lnTo>
                  <a:lnTo>
                    <a:pt x="14" y="20"/>
                  </a:lnTo>
                  <a:lnTo>
                    <a:pt x="18" y="31"/>
                  </a:lnTo>
                  <a:lnTo>
                    <a:pt x="15" y="31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95760" y="5779440"/>
              <a:ext cx="3240" cy="15120"/>
            </a:xfrm>
            <a:custGeom>
              <a:avLst/>
              <a:gdLst/>
              <a:ahLst/>
              <a:rect l="l" t="t" r="r" b="b"/>
              <a:pathLst>
                <a:path w="7" h="23">
                  <a:moveTo>
                    <a:pt x="6" y="23"/>
                  </a:moveTo>
                  <a:lnTo>
                    <a:pt x="3" y="18"/>
                  </a:lnTo>
                  <a:lnTo>
                    <a:pt x="1" y="11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6"/>
                  </a:lnTo>
                  <a:lnTo>
                    <a:pt x="7" y="15"/>
                  </a:lnTo>
                  <a:lnTo>
                    <a:pt x="7" y="22"/>
                  </a:lnTo>
                  <a:lnTo>
                    <a:pt x="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60200" y="5743800"/>
              <a:ext cx="15480" cy="30240"/>
            </a:xfrm>
            <a:custGeom>
              <a:avLst/>
              <a:gdLst/>
              <a:ahLst/>
              <a:rect l="l" t="t" r="r" b="b"/>
              <a:pathLst>
                <a:path w="26" h="47">
                  <a:moveTo>
                    <a:pt x="0" y="47"/>
                  </a:moveTo>
                  <a:lnTo>
                    <a:pt x="0" y="35"/>
                  </a:lnTo>
                  <a:lnTo>
                    <a:pt x="1" y="23"/>
                  </a:lnTo>
                  <a:lnTo>
                    <a:pt x="1" y="11"/>
                  </a:lnTo>
                  <a:lnTo>
                    <a:pt x="3" y="0"/>
                  </a:lnTo>
                  <a:lnTo>
                    <a:pt x="12" y="4"/>
                  </a:lnTo>
                  <a:lnTo>
                    <a:pt x="20" y="9"/>
                  </a:lnTo>
                  <a:lnTo>
                    <a:pt x="23" y="16"/>
                  </a:lnTo>
                  <a:lnTo>
                    <a:pt x="26" y="23"/>
                  </a:lnTo>
                  <a:lnTo>
                    <a:pt x="22" y="30"/>
                  </a:lnTo>
                  <a:lnTo>
                    <a:pt x="18" y="36"/>
                  </a:lnTo>
                  <a:lnTo>
                    <a:pt x="9" y="42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73520" y="5166720"/>
              <a:ext cx="331920" cy="598320"/>
            </a:xfrm>
            <a:custGeom>
              <a:avLst/>
              <a:gdLst/>
              <a:ahLst/>
              <a:rect l="l" t="t" r="r" b="b"/>
              <a:pathLst>
                <a:path w="547" h="943">
                  <a:moveTo>
                    <a:pt x="385" y="943"/>
                  </a:moveTo>
                  <a:lnTo>
                    <a:pt x="379" y="932"/>
                  </a:lnTo>
                  <a:lnTo>
                    <a:pt x="378" y="921"/>
                  </a:lnTo>
                  <a:lnTo>
                    <a:pt x="376" y="910"/>
                  </a:lnTo>
                  <a:lnTo>
                    <a:pt x="376" y="901"/>
                  </a:lnTo>
                  <a:lnTo>
                    <a:pt x="376" y="890"/>
                  </a:lnTo>
                  <a:lnTo>
                    <a:pt x="376" y="880"/>
                  </a:lnTo>
                  <a:lnTo>
                    <a:pt x="376" y="871"/>
                  </a:lnTo>
                  <a:lnTo>
                    <a:pt x="376" y="863"/>
                  </a:lnTo>
                  <a:lnTo>
                    <a:pt x="360" y="775"/>
                  </a:lnTo>
                  <a:lnTo>
                    <a:pt x="339" y="699"/>
                  </a:lnTo>
                  <a:lnTo>
                    <a:pt x="309" y="633"/>
                  </a:lnTo>
                  <a:lnTo>
                    <a:pt x="271" y="581"/>
                  </a:lnTo>
                  <a:lnTo>
                    <a:pt x="221" y="542"/>
                  </a:lnTo>
                  <a:lnTo>
                    <a:pt x="160" y="519"/>
                  </a:lnTo>
                  <a:lnTo>
                    <a:pt x="86" y="514"/>
                  </a:lnTo>
                  <a:lnTo>
                    <a:pt x="0" y="529"/>
                  </a:lnTo>
                  <a:lnTo>
                    <a:pt x="3" y="515"/>
                  </a:lnTo>
                  <a:lnTo>
                    <a:pt x="13" y="502"/>
                  </a:lnTo>
                  <a:lnTo>
                    <a:pt x="21" y="488"/>
                  </a:lnTo>
                  <a:lnTo>
                    <a:pt x="29" y="476"/>
                  </a:lnTo>
                  <a:lnTo>
                    <a:pt x="57" y="423"/>
                  </a:lnTo>
                  <a:lnTo>
                    <a:pt x="88" y="366"/>
                  </a:lnTo>
                  <a:lnTo>
                    <a:pt x="118" y="305"/>
                  </a:lnTo>
                  <a:lnTo>
                    <a:pt x="148" y="245"/>
                  </a:lnTo>
                  <a:lnTo>
                    <a:pt x="172" y="181"/>
                  </a:lnTo>
                  <a:lnTo>
                    <a:pt x="194" y="119"/>
                  </a:lnTo>
                  <a:lnTo>
                    <a:pt x="210" y="56"/>
                  </a:lnTo>
                  <a:lnTo>
                    <a:pt x="222" y="0"/>
                  </a:lnTo>
                  <a:lnTo>
                    <a:pt x="260" y="25"/>
                  </a:lnTo>
                  <a:lnTo>
                    <a:pt x="295" y="59"/>
                  </a:lnTo>
                  <a:lnTo>
                    <a:pt x="325" y="101"/>
                  </a:lnTo>
                  <a:lnTo>
                    <a:pt x="352" y="148"/>
                  </a:lnTo>
                  <a:lnTo>
                    <a:pt x="374" y="197"/>
                  </a:lnTo>
                  <a:lnTo>
                    <a:pt x="391" y="250"/>
                  </a:lnTo>
                  <a:lnTo>
                    <a:pt x="405" y="300"/>
                  </a:lnTo>
                  <a:lnTo>
                    <a:pt x="414" y="350"/>
                  </a:lnTo>
                  <a:lnTo>
                    <a:pt x="416" y="381"/>
                  </a:lnTo>
                  <a:lnTo>
                    <a:pt x="417" y="412"/>
                  </a:lnTo>
                  <a:lnTo>
                    <a:pt x="418" y="445"/>
                  </a:lnTo>
                  <a:lnTo>
                    <a:pt x="421" y="477"/>
                  </a:lnTo>
                  <a:lnTo>
                    <a:pt x="422" y="510"/>
                  </a:lnTo>
                  <a:lnTo>
                    <a:pt x="424" y="542"/>
                  </a:lnTo>
                  <a:lnTo>
                    <a:pt x="424" y="575"/>
                  </a:lnTo>
                  <a:lnTo>
                    <a:pt x="425" y="611"/>
                  </a:lnTo>
                  <a:lnTo>
                    <a:pt x="436" y="644"/>
                  </a:lnTo>
                  <a:lnTo>
                    <a:pt x="462" y="681"/>
                  </a:lnTo>
                  <a:lnTo>
                    <a:pt x="493" y="721"/>
                  </a:lnTo>
                  <a:lnTo>
                    <a:pt x="523" y="763"/>
                  </a:lnTo>
                  <a:lnTo>
                    <a:pt x="543" y="801"/>
                  </a:lnTo>
                  <a:lnTo>
                    <a:pt x="547" y="838"/>
                  </a:lnTo>
                  <a:lnTo>
                    <a:pt x="527" y="871"/>
                  </a:lnTo>
                  <a:lnTo>
                    <a:pt x="478" y="901"/>
                  </a:lnTo>
                  <a:lnTo>
                    <a:pt x="468" y="905"/>
                  </a:lnTo>
                  <a:lnTo>
                    <a:pt x="458" y="913"/>
                  </a:lnTo>
                  <a:lnTo>
                    <a:pt x="444" y="920"/>
                  </a:lnTo>
                  <a:lnTo>
                    <a:pt x="431" y="926"/>
                  </a:lnTo>
                  <a:lnTo>
                    <a:pt x="416" y="932"/>
                  </a:lnTo>
                  <a:lnTo>
                    <a:pt x="404" y="937"/>
                  </a:lnTo>
                  <a:lnTo>
                    <a:pt x="391" y="940"/>
                  </a:lnTo>
                  <a:lnTo>
                    <a:pt x="385" y="94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17680" y="5712120"/>
              <a:ext cx="9720" cy="25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6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31040" y="5275080"/>
              <a:ext cx="341640" cy="429480"/>
            </a:xfrm>
            <a:custGeom>
              <a:avLst/>
              <a:gdLst/>
              <a:ahLst/>
              <a:rect l="l" t="t" r="r" b="b"/>
              <a:pathLst>
                <a:path w="562" h="677">
                  <a:moveTo>
                    <a:pt x="234" y="677"/>
                  </a:moveTo>
                  <a:lnTo>
                    <a:pt x="218" y="672"/>
                  </a:lnTo>
                  <a:lnTo>
                    <a:pt x="206" y="670"/>
                  </a:lnTo>
                  <a:lnTo>
                    <a:pt x="195" y="666"/>
                  </a:lnTo>
                  <a:lnTo>
                    <a:pt x="187" y="662"/>
                  </a:lnTo>
                  <a:lnTo>
                    <a:pt x="179" y="655"/>
                  </a:lnTo>
                  <a:lnTo>
                    <a:pt x="172" y="648"/>
                  </a:lnTo>
                  <a:lnTo>
                    <a:pt x="165" y="640"/>
                  </a:lnTo>
                  <a:lnTo>
                    <a:pt x="160" y="632"/>
                  </a:lnTo>
                  <a:lnTo>
                    <a:pt x="161" y="629"/>
                  </a:lnTo>
                  <a:lnTo>
                    <a:pt x="163" y="626"/>
                  </a:lnTo>
                  <a:lnTo>
                    <a:pt x="183" y="631"/>
                  </a:lnTo>
                  <a:lnTo>
                    <a:pt x="205" y="635"/>
                  </a:lnTo>
                  <a:lnTo>
                    <a:pt x="224" y="635"/>
                  </a:lnTo>
                  <a:lnTo>
                    <a:pt x="244" y="635"/>
                  </a:lnTo>
                  <a:lnTo>
                    <a:pt x="261" y="629"/>
                  </a:lnTo>
                  <a:lnTo>
                    <a:pt x="280" y="622"/>
                  </a:lnTo>
                  <a:lnTo>
                    <a:pt x="299" y="610"/>
                  </a:lnTo>
                  <a:lnTo>
                    <a:pt x="320" y="598"/>
                  </a:lnTo>
                  <a:lnTo>
                    <a:pt x="276" y="595"/>
                  </a:lnTo>
                  <a:lnTo>
                    <a:pt x="242" y="599"/>
                  </a:lnTo>
                  <a:lnTo>
                    <a:pt x="214" y="603"/>
                  </a:lnTo>
                  <a:lnTo>
                    <a:pt x="191" y="606"/>
                  </a:lnTo>
                  <a:lnTo>
                    <a:pt x="168" y="602"/>
                  </a:lnTo>
                  <a:lnTo>
                    <a:pt x="146" y="591"/>
                  </a:lnTo>
                  <a:lnTo>
                    <a:pt x="122" y="568"/>
                  </a:lnTo>
                  <a:lnTo>
                    <a:pt x="94" y="529"/>
                  </a:lnTo>
                  <a:lnTo>
                    <a:pt x="94" y="525"/>
                  </a:lnTo>
                  <a:lnTo>
                    <a:pt x="96" y="521"/>
                  </a:lnTo>
                  <a:lnTo>
                    <a:pt x="122" y="510"/>
                  </a:lnTo>
                  <a:lnTo>
                    <a:pt x="149" y="503"/>
                  </a:lnTo>
                  <a:lnTo>
                    <a:pt x="175" y="497"/>
                  </a:lnTo>
                  <a:lnTo>
                    <a:pt x="202" y="494"/>
                  </a:lnTo>
                  <a:lnTo>
                    <a:pt x="228" y="490"/>
                  </a:lnTo>
                  <a:lnTo>
                    <a:pt x="256" y="490"/>
                  </a:lnTo>
                  <a:lnTo>
                    <a:pt x="284" y="490"/>
                  </a:lnTo>
                  <a:lnTo>
                    <a:pt x="317" y="494"/>
                  </a:lnTo>
                  <a:lnTo>
                    <a:pt x="314" y="487"/>
                  </a:lnTo>
                  <a:lnTo>
                    <a:pt x="314" y="483"/>
                  </a:lnTo>
                  <a:lnTo>
                    <a:pt x="275" y="468"/>
                  </a:lnTo>
                  <a:lnTo>
                    <a:pt x="232" y="467"/>
                  </a:lnTo>
                  <a:lnTo>
                    <a:pt x="186" y="472"/>
                  </a:lnTo>
                  <a:lnTo>
                    <a:pt x="141" y="482"/>
                  </a:lnTo>
                  <a:lnTo>
                    <a:pt x="96" y="490"/>
                  </a:lnTo>
                  <a:lnTo>
                    <a:pt x="57" y="495"/>
                  </a:lnTo>
                  <a:lnTo>
                    <a:pt x="25" y="493"/>
                  </a:lnTo>
                  <a:lnTo>
                    <a:pt x="2" y="480"/>
                  </a:lnTo>
                  <a:lnTo>
                    <a:pt x="0" y="429"/>
                  </a:lnTo>
                  <a:lnTo>
                    <a:pt x="27" y="394"/>
                  </a:lnTo>
                  <a:lnTo>
                    <a:pt x="73" y="367"/>
                  </a:lnTo>
                  <a:lnTo>
                    <a:pt x="133" y="349"/>
                  </a:lnTo>
                  <a:lnTo>
                    <a:pt x="196" y="333"/>
                  </a:lnTo>
                  <a:lnTo>
                    <a:pt x="259" y="317"/>
                  </a:lnTo>
                  <a:lnTo>
                    <a:pt x="310" y="295"/>
                  </a:lnTo>
                  <a:lnTo>
                    <a:pt x="347" y="268"/>
                  </a:lnTo>
                  <a:lnTo>
                    <a:pt x="356" y="233"/>
                  </a:lnTo>
                  <a:lnTo>
                    <a:pt x="363" y="192"/>
                  </a:lnTo>
                  <a:lnTo>
                    <a:pt x="368" y="149"/>
                  </a:lnTo>
                  <a:lnTo>
                    <a:pt x="378" y="107"/>
                  </a:lnTo>
                  <a:lnTo>
                    <a:pt x="387" y="66"/>
                  </a:lnTo>
                  <a:lnTo>
                    <a:pt x="405" y="33"/>
                  </a:lnTo>
                  <a:lnTo>
                    <a:pt x="428" y="10"/>
                  </a:lnTo>
                  <a:lnTo>
                    <a:pt x="463" y="0"/>
                  </a:lnTo>
                  <a:lnTo>
                    <a:pt x="506" y="22"/>
                  </a:lnTo>
                  <a:lnTo>
                    <a:pt x="527" y="52"/>
                  </a:lnTo>
                  <a:lnTo>
                    <a:pt x="531" y="89"/>
                  </a:lnTo>
                  <a:lnTo>
                    <a:pt x="528" y="133"/>
                  </a:lnTo>
                  <a:lnTo>
                    <a:pt x="520" y="179"/>
                  </a:lnTo>
                  <a:lnTo>
                    <a:pt x="520" y="227"/>
                  </a:lnTo>
                  <a:lnTo>
                    <a:pt x="531" y="275"/>
                  </a:lnTo>
                  <a:lnTo>
                    <a:pt x="562" y="323"/>
                  </a:lnTo>
                  <a:lnTo>
                    <a:pt x="560" y="328"/>
                  </a:lnTo>
                  <a:lnTo>
                    <a:pt x="559" y="332"/>
                  </a:lnTo>
                  <a:lnTo>
                    <a:pt x="527" y="357"/>
                  </a:lnTo>
                  <a:lnTo>
                    <a:pt x="498" y="388"/>
                  </a:lnTo>
                  <a:lnTo>
                    <a:pt x="475" y="420"/>
                  </a:lnTo>
                  <a:lnTo>
                    <a:pt x="456" y="456"/>
                  </a:lnTo>
                  <a:lnTo>
                    <a:pt x="440" y="493"/>
                  </a:lnTo>
                  <a:lnTo>
                    <a:pt x="431" y="532"/>
                  </a:lnTo>
                  <a:lnTo>
                    <a:pt x="422" y="572"/>
                  </a:lnTo>
                  <a:lnTo>
                    <a:pt x="421" y="616"/>
                  </a:lnTo>
                  <a:lnTo>
                    <a:pt x="394" y="629"/>
                  </a:lnTo>
                  <a:lnTo>
                    <a:pt x="371" y="641"/>
                  </a:lnTo>
                  <a:lnTo>
                    <a:pt x="351" y="651"/>
                  </a:lnTo>
                  <a:lnTo>
                    <a:pt x="330" y="660"/>
                  </a:lnTo>
                  <a:lnTo>
                    <a:pt x="307" y="667"/>
                  </a:lnTo>
                  <a:lnTo>
                    <a:pt x="286" y="672"/>
                  </a:lnTo>
                  <a:lnTo>
                    <a:pt x="261" y="675"/>
                  </a:lnTo>
                  <a:lnTo>
                    <a:pt x="234" y="67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27400" y="5567040"/>
              <a:ext cx="67680" cy="124560"/>
            </a:xfrm>
            <a:custGeom>
              <a:avLst/>
              <a:gdLst/>
              <a:ahLst/>
              <a:rect l="l" t="t" r="r" b="b"/>
              <a:pathLst>
                <a:path w="112" h="196">
                  <a:moveTo>
                    <a:pt x="0" y="196"/>
                  </a:moveTo>
                  <a:lnTo>
                    <a:pt x="3" y="162"/>
                  </a:lnTo>
                  <a:lnTo>
                    <a:pt x="8" y="134"/>
                  </a:lnTo>
                  <a:lnTo>
                    <a:pt x="15" y="108"/>
                  </a:lnTo>
                  <a:lnTo>
                    <a:pt x="27" y="85"/>
                  </a:lnTo>
                  <a:lnTo>
                    <a:pt x="41" y="62"/>
                  </a:lnTo>
                  <a:lnTo>
                    <a:pt x="58" y="42"/>
                  </a:lnTo>
                  <a:lnTo>
                    <a:pt x="78" y="20"/>
                  </a:lnTo>
                  <a:lnTo>
                    <a:pt x="107" y="0"/>
                  </a:lnTo>
                  <a:lnTo>
                    <a:pt x="110" y="1"/>
                  </a:lnTo>
                  <a:lnTo>
                    <a:pt x="112" y="4"/>
                  </a:lnTo>
                  <a:lnTo>
                    <a:pt x="87" y="26"/>
                  </a:lnTo>
                  <a:lnTo>
                    <a:pt x="68" y="47"/>
                  </a:lnTo>
                  <a:lnTo>
                    <a:pt x="51" y="65"/>
                  </a:lnTo>
                  <a:lnTo>
                    <a:pt x="39" y="85"/>
                  </a:lnTo>
                  <a:lnTo>
                    <a:pt x="30" y="104"/>
                  </a:lnTo>
                  <a:lnTo>
                    <a:pt x="23" y="129"/>
                  </a:lnTo>
                  <a:lnTo>
                    <a:pt x="19" y="156"/>
                  </a:lnTo>
                  <a:lnTo>
                    <a:pt x="16" y="191"/>
                  </a:lnTo>
                  <a:lnTo>
                    <a:pt x="12" y="192"/>
                  </a:lnTo>
                  <a:lnTo>
                    <a:pt x="9" y="194"/>
                  </a:lnTo>
                  <a:lnTo>
                    <a:pt x="5" y="194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69840" y="5287680"/>
              <a:ext cx="285840" cy="246600"/>
            </a:xfrm>
            <a:custGeom>
              <a:avLst/>
              <a:gdLst/>
              <a:ahLst/>
              <a:rect l="l" t="t" r="r" b="b"/>
              <a:pathLst>
                <a:path w="470" h="389">
                  <a:moveTo>
                    <a:pt x="85" y="389"/>
                  </a:moveTo>
                  <a:lnTo>
                    <a:pt x="58" y="374"/>
                  </a:lnTo>
                  <a:lnTo>
                    <a:pt x="39" y="360"/>
                  </a:lnTo>
                  <a:lnTo>
                    <a:pt x="23" y="345"/>
                  </a:lnTo>
                  <a:lnTo>
                    <a:pt x="14" y="331"/>
                  </a:lnTo>
                  <a:lnTo>
                    <a:pt x="6" y="313"/>
                  </a:lnTo>
                  <a:lnTo>
                    <a:pt x="3" y="294"/>
                  </a:lnTo>
                  <a:lnTo>
                    <a:pt x="0" y="272"/>
                  </a:lnTo>
                  <a:lnTo>
                    <a:pt x="0" y="248"/>
                  </a:lnTo>
                  <a:lnTo>
                    <a:pt x="3" y="237"/>
                  </a:lnTo>
                  <a:lnTo>
                    <a:pt x="8" y="226"/>
                  </a:lnTo>
                  <a:lnTo>
                    <a:pt x="15" y="213"/>
                  </a:lnTo>
                  <a:lnTo>
                    <a:pt x="22" y="201"/>
                  </a:lnTo>
                  <a:lnTo>
                    <a:pt x="27" y="188"/>
                  </a:lnTo>
                  <a:lnTo>
                    <a:pt x="33" y="176"/>
                  </a:lnTo>
                  <a:lnTo>
                    <a:pt x="35" y="167"/>
                  </a:lnTo>
                  <a:lnTo>
                    <a:pt x="37" y="160"/>
                  </a:lnTo>
                  <a:lnTo>
                    <a:pt x="31" y="160"/>
                  </a:lnTo>
                  <a:lnTo>
                    <a:pt x="30" y="160"/>
                  </a:lnTo>
                  <a:lnTo>
                    <a:pt x="31" y="144"/>
                  </a:lnTo>
                  <a:lnTo>
                    <a:pt x="38" y="129"/>
                  </a:lnTo>
                  <a:lnTo>
                    <a:pt x="48" y="113"/>
                  </a:lnTo>
                  <a:lnTo>
                    <a:pt x="61" y="96"/>
                  </a:lnTo>
                  <a:lnTo>
                    <a:pt x="73" y="80"/>
                  </a:lnTo>
                  <a:lnTo>
                    <a:pt x="88" y="65"/>
                  </a:lnTo>
                  <a:lnTo>
                    <a:pt x="99" y="53"/>
                  </a:lnTo>
                  <a:lnTo>
                    <a:pt x="111" y="44"/>
                  </a:lnTo>
                  <a:lnTo>
                    <a:pt x="144" y="25"/>
                  </a:lnTo>
                  <a:lnTo>
                    <a:pt x="186" y="13"/>
                  </a:lnTo>
                  <a:lnTo>
                    <a:pt x="232" y="4"/>
                  </a:lnTo>
                  <a:lnTo>
                    <a:pt x="283" y="0"/>
                  </a:lnTo>
                  <a:lnTo>
                    <a:pt x="333" y="0"/>
                  </a:lnTo>
                  <a:lnTo>
                    <a:pt x="384" y="6"/>
                  </a:lnTo>
                  <a:lnTo>
                    <a:pt x="429" y="15"/>
                  </a:lnTo>
                  <a:lnTo>
                    <a:pt x="470" y="30"/>
                  </a:lnTo>
                  <a:lnTo>
                    <a:pt x="463" y="55"/>
                  </a:lnTo>
                  <a:lnTo>
                    <a:pt x="460" y="82"/>
                  </a:lnTo>
                  <a:lnTo>
                    <a:pt x="457" y="109"/>
                  </a:lnTo>
                  <a:lnTo>
                    <a:pt x="456" y="136"/>
                  </a:lnTo>
                  <a:lnTo>
                    <a:pt x="452" y="161"/>
                  </a:lnTo>
                  <a:lnTo>
                    <a:pt x="447" y="188"/>
                  </a:lnTo>
                  <a:lnTo>
                    <a:pt x="436" y="213"/>
                  </a:lnTo>
                  <a:lnTo>
                    <a:pt x="422" y="237"/>
                  </a:lnTo>
                  <a:lnTo>
                    <a:pt x="384" y="253"/>
                  </a:lnTo>
                  <a:lnTo>
                    <a:pt x="348" y="266"/>
                  </a:lnTo>
                  <a:lnTo>
                    <a:pt x="311" y="274"/>
                  </a:lnTo>
                  <a:lnTo>
                    <a:pt x="275" y="283"/>
                  </a:lnTo>
                  <a:lnTo>
                    <a:pt x="237" y="290"/>
                  </a:lnTo>
                  <a:lnTo>
                    <a:pt x="200" y="299"/>
                  </a:lnTo>
                  <a:lnTo>
                    <a:pt x="167" y="313"/>
                  </a:lnTo>
                  <a:lnTo>
                    <a:pt x="135" y="331"/>
                  </a:lnTo>
                  <a:lnTo>
                    <a:pt x="122" y="343"/>
                  </a:lnTo>
                  <a:lnTo>
                    <a:pt x="111" y="356"/>
                  </a:lnTo>
                  <a:lnTo>
                    <a:pt x="103" y="364"/>
                  </a:lnTo>
                  <a:lnTo>
                    <a:pt x="98" y="374"/>
                  </a:lnTo>
                  <a:lnTo>
                    <a:pt x="88" y="383"/>
                  </a:lnTo>
                  <a:lnTo>
                    <a:pt x="85" y="389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38200" y="5426280"/>
              <a:ext cx="131040" cy="46800"/>
            </a:xfrm>
            <a:custGeom>
              <a:avLst/>
              <a:gdLst/>
              <a:ahLst/>
              <a:rect l="l" t="t" r="r" b="b"/>
              <a:pathLst>
                <a:path w="215" h="73">
                  <a:moveTo>
                    <a:pt x="207" y="71"/>
                  </a:moveTo>
                  <a:lnTo>
                    <a:pt x="191" y="60"/>
                  </a:lnTo>
                  <a:lnTo>
                    <a:pt x="179" y="52"/>
                  </a:lnTo>
                  <a:lnTo>
                    <a:pt x="168" y="45"/>
                  </a:lnTo>
                  <a:lnTo>
                    <a:pt x="160" y="41"/>
                  </a:lnTo>
                  <a:lnTo>
                    <a:pt x="150" y="37"/>
                  </a:lnTo>
                  <a:lnTo>
                    <a:pt x="142" y="38"/>
                  </a:lnTo>
                  <a:lnTo>
                    <a:pt x="131" y="38"/>
                  </a:lnTo>
                  <a:lnTo>
                    <a:pt x="119" y="44"/>
                  </a:lnTo>
                  <a:lnTo>
                    <a:pt x="108" y="41"/>
                  </a:lnTo>
                  <a:lnTo>
                    <a:pt x="100" y="38"/>
                  </a:lnTo>
                  <a:lnTo>
                    <a:pt x="92" y="33"/>
                  </a:lnTo>
                  <a:lnTo>
                    <a:pt x="87" y="29"/>
                  </a:lnTo>
                  <a:lnTo>
                    <a:pt x="74" y="19"/>
                  </a:lnTo>
                  <a:lnTo>
                    <a:pt x="64" y="16"/>
                  </a:lnTo>
                  <a:lnTo>
                    <a:pt x="53" y="21"/>
                  </a:lnTo>
                  <a:lnTo>
                    <a:pt x="45" y="25"/>
                  </a:lnTo>
                  <a:lnTo>
                    <a:pt x="38" y="27"/>
                  </a:lnTo>
                  <a:lnTo>
                    <a:pt x="31" y="31"/>
                  </a:lnTo>
                  <a:lnTo>
                    <a:pt x="23" y="33"/>
                  </a:lnTo>
                  <a:lnTo>
                    <a:pt x="16" y="35"/>
                  </a:lnTo>
                  <a:lnTo>
                    <a:pt x="8" y="35"/>
                  </a:lnTo>
                  <a:lnTo>
                    <a:pt x="0" y="35"/>
                  </a:lnTo>
                  <a:lnTo>
                    <a:pt x="16" y="25"/>
                  </a:lnTo>
                  <a:lnTo>
                    <a:pt x="31" y="15"/>
                  </a:lnTo>
                  <a:lnTo>
                    <a:pt x="43" y="7"/>
                  </a:lnTo>
                  <a:lnTo>
                    <a:pt x="57" y="3"/>
                  </a:lnTo>
                  <a:lnTo>
                    <a:pt x="69" y="0"/>
                  </a:lnTo>
                  <a:lnTo>
                    <a:pt x="81" y="3"/>
                  </a:lnTo>
                  <a:lnTo>
                    <a:pt x="96" y="10"/>
                  </a:lnTo>
                  <a:lnTo>
                    <a:pt x="114" y="25"/>
                  </a:lnTo>
                  <a:lnTo>
                    <a:pt x="126" y="23"/>
                  </a:lnTo>
                  <a:lnTo>
                    <a:pt x="141" y="22"/>
                  </a:lnTo>
                  <a:lnTo>
                    <a:pt x="156" y="21"/>
                  </a:lnTo>
                  <a:lnTo>
                    <a:pt x="172" y="23"/>
                  </a:lnTo>
                  <a:lnTo>
                    <a:pt x="185" y="27"/>
                  </a:lnTo>
                  <a:lnTo>
                    <a:pt x="199" y="37"/>
                  </a:lnTo>
                  <a:lnTo>
                    <a:pt x="208" y="50"/>
                  </a:lnTo>
                  <a:lnTo>
                    <a:pt x="215" y="73"/>
                  </a:lnTo>
                  <a:lnTo>
                    <a:pt x="211" y="71"/>
                  </a:lnTo>
                  <a:lnTo>
                    <a:pt x="20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58760" y="5419800"/>
              <a:ext cx="30600" cy="201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31" y="31"/>
                  </a:moveTo>
                  <a:lnTo>
                    <a:pt x="22" y="27"/>
                  </a:lnTo>
                  <a:lnTo>
                    <a:pt x="17" y="24"/>
                  </a:lnTo>
                  <a:lnTo>
                    <a:pt x="11" y="20"/>
                  </a:lnTo>
                  <a:lnTo>
                    <a:pt x="7" y="17"/>
                  </a:lnTo>
                  <a:lnTo>
                    <a:pt x="2" y="8"/>
                  </a:lnTo>
                  <a:lnTo>
                    <a:pt x="0" y="0"/>
                  </a:lnTo>
                  <a:lnTo>
                    <a:pt x="7" y="1"/>
                  </a:lnTo>
                  <a:lnTo>
                    <a:pt x="15" y="2"/>
                  </a:lnTo>
                  <a:lnTo>
                    <a:pt x="18" y="4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37" y="8"/>
                  </a:lnTo>
                  <a:lnTo>
                    <a:pt x="34" y="5"/>
                  </a:lnTo>
                  <a:lnTo>
                    <a:pt x="37" y="2"/>
                  </a:lnTo>
                  <a:lnTo>
                    <a:pt x="40" y="2"/>
                  </a:lnTo>
                  <a:lnTo>
                    <a:pt x="44" y="5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50" y="25"/>
                  </a:lnTo>
                  <a:lnTo>
                    <a:pt x="44" y="28"/>
                  </a:lnTo>
                  <a:lnTo>
                    <a:pt x="40" y="30"/>
                  </a:lnTo>
                  <a:lnTo>
                    <a:pt x="35" y="30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394040" y="5382000"/>
              <a:ext cx="35280" cy="1728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48" y="28"/>
                  </a:moveTo>
                  <a:lnTo>
                    <a:pt x="38" y="24"/>
                  </a:lnTo>
                  <a:lnTo>
                    <a:pt x="30" y="22"/>
                  </a:lnTo>
                  <a:lnTo>
                    <a:pt x="23" y="19"/>
                  </a:lnTo>
                  <a:lnTo>
                    <a:pt x="19" y="16"/>
                  </a:lnTo>
                  <a:lnTo>
                    <a:pt x="10" y="8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6" y="9"/>
                  </a:lnTo>
                  <a:lnTo>
                    <a:pt x="34" y="13"/>
                  </a:lnTo>
                  <a:lnTo>
                    <a:pt x="42" y="17"/>
                  </a:lnTo>
                  <a:lnTo>
                    <a:pt x="51" y="22"/>
                  </a:lnTo>
                  <a:lnTo>
                    <a:pt x="59" y="26"/>
                  </a:lnTo>
                  <a:lnTo>
                    <a:pt x="55" y="27"/>
                  </a:lnTo>
                  <a:lnTo>
                    <a:pt x="4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58800" y="5215320"/>
              <a:ext cx="150840" cy="148680"/>
            </a:xfrm>
            <a:custGeom>
              <a:avLst/>
              <a:gdLst/>
              <a:ahLst/>
              <a:rect l="l" t="t" r="r" b="b"/>
              <a:pathLst>
                <a:path w="247" h="236">
                  <a:moveTo>
                    <a:pt x="124" y="236"/>
                  </a:moveTo>
                  <a:lnTo>
                    <a:pt x="120" y="233"/>
                  </a:lnTo>
                  <a:lnTo>
                    <a:pt x="119" y="232"/>
                  </a:lnTo>
                  <a:lnTo>
                    <a:pt x="113" y="230"/>
                  </a:lnTo>
                  <a:lnTo>
                    <a:pt x="107" y="228"/>
                  </a:lnTo>
                  <a:lnTo>
                    <a:pt x="104" y="216"/>
                  </a:lnTo>
                  <a:lnTo>
                    <a:pt x="103" y="205"/>
                  </a:lnTo>
                  <a:lnTo>
                    <a:pt x="101" y="194"/>
                  </a:lnTo>
                  <a:lnTo>
                    <a:pt x="100" y="184"/>
                  </a:lnTo>
                  <a:lnTo>
                    <a:pt x="97" y="175"/>
                  </a:lnTo>
                  <a:lnTo>
                    <a:pt x="95" y="165"/>
                  </a:lnTo>
                  <a:lnTo>
                    <a:pt x="90" y="157"/>
                  </a:lnTo>
                  <a:lnTo>
                    <a:pt x="88" y="151"/>
                  </a:lnTo>
                  <a:lnTo>
                    <a:pt x="63" y="130"/>
                  </a:lnTo>
                  <a:lnTo>
                    <a:pt x="43" y="114"/>
                  </a:lnTo>
                  <a:lnTo>
                    <a:pt x="24" y="101"/>
                  </a:lnTo>
                  <a:lnTo>
                    <a:pt x="11" y="87"/>
                  </a:lnTo>
                  <a:lnTo>
                    <a:pt x="1" y="69"/>
                  </a:lnTo>
                  <a:lnTo>
                    <a:pt x="0" y="52"/>
                  </a:lnTo>
                  <a:lnTo>
                    <a:pt x="4" y="29"/>
                  </a:lnTo>
                  <a:lnTo>
                    <a:pt x="19" y="2"/>
                  </a:lnTo>
                  <a:lnTo>
                    <a:pt x="34" y="0"/>
                  </a:lnTo>
                  <a:lnTo>
                    <a:pt x="62" y="2"/>
                  </a:lnTo>
                  <a:lnTo>
                    <a:pt x="97" y="3"/>
                  </a:lnTo>
                  <a:lnTo>
                    <a:pt x="136" y="7"/>
                  </a:lnTo>
                  <a:lnTo>
                    <a:pt x="174" y="10"/>
                  </a:lnTo>
                  <a:lnTo>
                    <a:pt x="208" y="14"/>
                  </a:lnTo>
                  <a:lnTo>
                    <a:pt x="234" y="18"/>
                  </a:lnTo>
                  <a:lnTo>
                    <a:pt x="247" y="23"/>
                  </a:lnTo>
                  <a:lnTo>
                    <a:pt x="230" y="41"/>
                  </a:lnTo>
                  <a:lnTo>
                    <a:pt x="215" y="59"/>
                  </a:lnTo>
                  <a:lnTo>
                    <a:pt x="200" y="75"/>
                  </a:lnTo>
                  <a:lnTo>
                    <a:pt x="189" y="94"/>
                  </a:lnTo>
                  <a:lnTo>
                    <a:pt x="178" y="110"/>
                  </a:lnTo>
                  <a:lnTo>
                    <a:pt x="172" y="130"/>
                  </a:lnTo>
                  <a:lnTo>
                    <a:pt x="166" y="153"/>
                  </a:lnTo>
                  <a:lnTo>
                    <a:pt x="165" y="180"/>
                  </a:lnTo>
                  <a:lnTo>
                    <a:pt x="161" y="186"/>
                  </a:lnTo>
                  <a:lnTo>
                    <a:pt x="158" y="194"/>
                  </a:lnTo>
                  <a:lnTo>
                    <a:pt x="153" y="203"/>
                  </a:lnTo>
                  <a:lnTo>
                    <a:pt x="149" y="213"/>
                  </a:lnTo>
                  <a:lnTo>
                    <a:pt x="142" y="220"/>
                  </a:lnTo>
                  <a:lnTo>
                    <a:pt x="136" y="228"/>
                  </a:lnTo>
                  <a:lnTo>
                    <a:pt x="130" y="232"/>
                  </a:lnTo>
                  <a:lnTo>
                    <a:pt x="124" y="23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43000" y="5342400"/>
              <a:ext cx="32760" cy="11520"/>
            </a:xfrm>
            <a:custGeom>
              <a:avLst/>
              <a:gdLst/>
              <a:ahLst/>
              <a:rect l="l" t="t" r="r" b="b"/>
              <a:pathLst>
                <a:path w="53" h="18">
                  <a:moveTo>
                    <a:pt x="27" y="18"/>
                  </a:moveTo>
                  <a:lnTo>
                    <a:pt x="18" y="12"/>
                  </a:lnTo>
                  <a:lnTo>
                    <a:pt x="11" y="8"/>
                  </a:lnTo>
                  <a:lnTo>
                    <a:pt x="6" y="4"/>
                  </a:lnTo>
                  <a:lnTo>
                    <a:pt x="0" y="0"/>
                  </a:lnTo>
                  <a:lnTo>
                    <a:pt x="15" y="3"/>
                  </a:lnTo>
                  <a:lnTo>
                    <a:pt x="27" y="5"/>
                  </a:lnTo>
                  <a:lnTo>
                    <a:pt x="37" y="8"/>
                  </a:lnTo>
                  <a:lnTo>
                    <a:pt x="44" y="11"/>
                  </a:lnTo>
                  <a:lnTo>
                    <a:pt x="50" y="12"/>
                  </a:lnTo>
                  <a:lnTo>
                    <a:pt x="53" y="15"/>
                  </a:lnTo>
                  <a:lnTo>
                    <a:pt x="40" y="15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77680" y="4907880"/>
              <a:ext cx="205200" cy="431640"/>
            </a:xfrm>
            <a:custGeom>
              <a:avLst/>
              <a:gdLst/>
              <a:ahLst/>
              <a:rect l="l" t="t" r="r" b="b"/>
              <a:pathLst>
                <a:path w="340" h="681">
                  <a:moveTo>
                    <a:pt x="83" y="681"/>
                  </a:moveTo>
                  <a:lnTo>
                    <a:pt x="86" y="645"/>
                  </a:lnTo>
                  <a:lnTo>
                    <a:pt x="90" y="614"/>
                  </a:lnTo>
                  <a:lnTo>
                    <a:pt x="90" y="585"/>
                  </a:lnTo>
                  <a:lnTo>
                    <a:pt x="86" y="557"/>
                  </a:lnTo>
                  <a:lnTo>
                    <a:pt x="76" y="533"/>
                  </a:lnTo>
                  <a:lnTo>
                    <a:pt x="60" y="514"/>
                  </a:lnTo>
                  <a:lnTo>
                    <a:pt x="34" y="498"/>
                  </a:lnTo>
                  <a:lnTo>
                    <a:pt x="0" y="488"/>
                  </a:lnTo>
                  <a:lnTo>
                    <a:pt x="0" y="484"/>
                  </a:lnTo>
                  <a:lnTo>
                    <a:pt x="0" y="480"/>
                  </a:lnTo>
                  <a:lnTo>
                    <a:pt x="13" y="478"/>
                  </a:lnTo>
                  <a:lnTo>
                    <a:pt x="25" y="474"/>
                  </a:lnTo>
                  <a:lnTo>
                    <a:pt x="30" y="471"/>
                  </a:lnTo>
                  <a:lnTo>
                    <a:pt x="37" y="468"/>
                  </a:lnTo>
                  <a:lnTo>
                    <a:pt x="45" y="465"/>
                  </a:lnTo>
                  <a:lnTo>
                    <a:pt x="53" y="463"/>
                  </a:lnTo>
                  <a:lnTo>
                    <a:pt x="109" y="418"/>
                  </a:lnTo>
                  <a:lnTo>
                    <a:pt x="159" y="371"/>
                  </a:lnTo>
                  <a:lnTo>
                    <a:pt x="203" y="317"/>
                  </a:lnTo>
                  <a:lnTo>
                    <a:pt x="241" y="260"/>
                  </a:lnTo>
                  <a:lnTo>
                    <a:pt x="272" y="198"/>
                  </a:lnTo>
                  <a:lnTo>
                    <a:pt x="298" y="134"/>
                  </a:lnTo>
                  <a:lnTo>
                    <a:pt x="317" y="68"/>
                  </a:lnTo>
                  <a:lnTo>
                    <a:pt x="332" y="0"/>
                  </a:lnTo>
                  <a:lnTo>
                    <a:pt x="335" y="0"/>
                  </a:lnTo>
                  <a:lnTo>
                    <a:pt x="337" y="0"/>
                  </a:lnTo>
                  <a:lnTo>
                    <a:pt x="340" y="69"/>
                  </a:lnTo>
                  <a:lnTo>
                    <a:pt x="333" y="131"/>
                  </a:lnTo>
                  <a:lnTo>
                    <a:pt x="317" y="189"/>
                  </a:lnTo>
                  <a:lnTo>
                    <a:pt x="294" y="245"/>
                  </a:lnTo>
                  <a:lnTo>
                    <a:pt x="266" y="298"/>
                  </a:lnTo>
                  <a:lnTo>
                    <a:pt x="236" y="350"/>
                  </a:lnTo>
                  <a:lnTo>
                    <a:pt x="205" y="406"/>
                  </a:lnTo>
                  <a:lnTo>
                    <a:pt x="176" y="465"/>
                  </a:lnTo>
                  <a:lnTo>
                    <a:pt x="168" y="488"/>
                  </a:lnTo>
                  <a:lnTo>
                    <a:pt x="160" y="517"/>
                  </a:lnTo>
                  <a:lnTo>
                    <a:pt x="151" y="545"/>
                  </a:lnTo>
                  <a:lnTo>
                    <a:pt x="142" y="576"/>
                  </a:lnTo>
                  <a:lnTo>
                    <a:pt x="130" y="605"/>
                  </a:lnTo>
                  <a:lnTo>
                    <a:pt x="118" y="635"/>
                  </a:lnTo>
                  <a:lnTo>
                    <a:pt x="102" y="659"/>
                  </a:lnTo>
                  <a:lnTo>
                    <a:pt x="83" y="681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87120" y="5061240"/>
              <a:ext cx="162720" cy="226080"/>
            </a:xfrm>
            <a:custGeom>
              <a:avLst/>
              <a:gdLst/>
              <a:ahLst/>
              <a:rect l="l" t="t" r="r" b="b"/>
              <a:pathLst>
                <a:path w="268" h="356">
                  <a:moveTo>
                    <a:pt x="215" y="353"/>
                  </a:moveTo>
                  <a:lnTo>
                    <a:pt x="203" y="353"/>
                  </a:lnTo>
                  <a:lnTo>
                    <a:pt x="194" y="353"/>
                  </a:lnTo>
                  <a:lnTo>
                    <a:pt x="176" y="328"/>
                  </a:lnTo>
                  <a:lnTo>
                    <a:pt x="161" y="301"/>
                  </a:lnTo>
                  <a:lnTo>
                    <a:pt x="148" y="272"/>
                  </a:lnTo>
                  <a:lnTo>
                    <a:pt x="136" y="245"/>
                  </a:lnTo>
                  <a:lnTo>
                    <a:pt x="123" y="217"/>
                  </a:lnTo>
                  <a:lnTo>
                    <a:pt x="113" y="188"/>
                  </a:lnTo>
                  <a:lnTo>
                    <a:pt x="100" y="161"/>
                  </a:lnTo>
                  <a:lnTo>
                    <a:pt x="90" y="138"/>
                  </a:lnTo>
                  <a:lnTo>
                    <a:pt x="77" y="123"/>
                  </a:lnTo>
                  <a:lnTo>
                    <a:pt x="65" y="106"/>
                  </a:lnTo>
                  <a:lnTo>
                    <a:pt x="52" y="85"/>
                  </a:lnTo>
                  <a:lnTo>
                    <a:pt x="38" y="67"/>
                  </a:lnTo>
                  <a:lnTo>
                    <a:pt x="23" y="46"/>
                  </a:lnTo>
                  <a:lnTo>
                    <a:pt x="12" y="29"/>
                  </a:lnTo>
                  <a:lnTo>
                    <a:pt x="4" y="12"/>
                  </a:lnTo>
                  <a:lnTo>
                    <a:pt x="0" y="0"/>
                  </a:lnTo>
                  <a:lnTo>
                    <a:pt x="56" y="19"/>
                  </a:lnTo>
                  <a:lnTo>
                    <a:pt x="100" y="52"/>
                  </a:lnTo>
                  <a:lnTo>
                    <a:pt x="136" y="91"/>
                  </a:lnTo>
                  <a:lnTo>
                    <a:pt x="165" y="140"/>
                  </a:lnTo>
                  <a:lnTo>
                    <a:pt x="188" y="190"/>
                  </a:lnTo>
                  <a:lnTo>
                    <a:pt x="213" y="244"/>
                  </a:lnTo>
                  <a:lnTo>
                    <a:pt x="237" y="295"/>
                  </a:lnTo>
                  <a:lnTo>
                    <a:pt x="268" y="345"/>
                  </a:lnTo>
                  <a:lnTo>
                    <a:pt x="265" y="347"/>
                  </a:lnTo>
                  <a:lnTo>
                    <a:pt x="265" y="351"/>
                  </a:lnTo>
                  <a:lnTo>
                    <a:pt x="253" y="353"/>
                  </a:lnTo>
                  <a:lnTo>
                    <a:pt x="244" y="356"/>
                  </a:lnTo>
                  <a:lnTo>
                    <a:pt x="240" y="344"/>
                  </a:lnTo>
                  <a:lnTo>
                    <a:pt x="232" y="332"/>
                  </a:lnTo>
                  <a:lnTo>
                    <a:pt x="223" y="321"/>
                  </a:lnTo>
                  <a:lnTo>
                    <a:pt x="219" y="318"/>
                  </a:lnTo>
                  <a:lnTo>
                    <a:pt x="202" y="283"/>
                  </a:lnTo>
                  <a:lnTo>
                    <a:pt x="186" y="248"/>
                  </a:lnTo>
                  <a:lnTo>
                    <a:pt x="168" y="210"/>
                  </a:lnTo>
                  <a:lnTo>
                    <a:pt x="150" y="173"/>
                  </a:lnTo>
                  <a:lnTo>
                    <a:pt x="130" y="136"/>
                  </a:lnTo>
                  <a:lnTo>
                    <a:pt x="111" y="102"/>
                  </a:lnTo>
                  <a:lnTo>
                    <a:pt x="91" y="69"/>
                  </a:lnTo>
                  <a:lnTo>
                    <a:pt x="72" y="42"/>
                  </a:lnTo>
                  <a:lnTo>
                    <a:pt x="73" y="49"/>
                  </a:lnTo>
                  <a:lnTo>
                    <a:pt x="80" y="64"/>
                  </a:lnTo>
                  <a:lnTo>
                    <a:pt x="88" y="80"/>
                  </a:lnTo>
                  <a:lnTo>
                    <a:pt x="100" y="100"/>
                  </a:lnTo>
                  <a:lnTo>
                    <a:pt x="110" y="118"/>
                  </a:lnTo>
                  <a:lnTo>
                    <a:pt x="121" y="136"/>
                  </a:lnTo>
                  <a:lnTo>
                    <a:pt x="129" y="148"/>
                  </a:lnTo>
                  <a:lnTo>
                    <a:pt x="133" y="154"/>
                  </a:lnTo>
                  <a:lnTo>
                    <a:pt x="159" y="217"/>
                  </a:lnTo>
                  <a:lnTo>
                    <a:pt x="180" y="264"/>
                  </a:lnTo>
                  <a:lnTo>
                    <a:pt x="195" y="298"/>
                  </a:lnTo>
                  <a:lnTo>
                    <a:pt x="207" y="322"/>
                  </a:lnTo>
                  <a:lnTo>
                    <a:pt x="213" y="336"/>
                  </a:lnTo>
                  <a:lnTo>
                    <a:pt x="218" y="345"/>
                  </a:lnTo>
                  <a:lnTo>
                    <a:pt x="219" y="351"/>
                  </a:lnTo>
                  <a:lnTo>
                    <a:pt x="222" y="353"/>
                  </a:lnTo>
                  <a:lnTo>
                    <a:pt x="218" y="355"/>
                  </a:lnTo>
                  <a:lnTo>
                    <a:pt x="215" y="35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45960" y="4599000"/>
              <a:ext cx="739440" cy="610920"/>
            </a:xfrm>
            <a:custGeom>
              <a:avLst/>
              <a:gdLst/>
              <a:ahLst/>
              <a:rect l="l" t="t" r="r" b="b"/>
              <a:pathLst>
                <a:path w="1216" h="962">
                  <a:moveTo>
                    <a:pt x="706" y="962"/>
                  </a:moveTo>
                  <a:lnTo>
                    <a:pt x="617" y="948"/>
                  </a:lnTo>
                  <a:lnTo>
                    <a:pt x="540" y="935"/>
                  </a:lnTo>
                  <a:lnTo>
                    <a:pt x="471" y="917"/>
                  </a:lnTo>
                  <a:lnTo>
                    <a:pt x="410" y="895"/>
                  </a:lnTo>
                  <a:lnTo>
                    <a:pt x="350" y="864"/>
                  </a:lnTo>
                  <a:lnTo>
                    <a:pt x="293" y="828"/>
                  </a:lnTo>
                  <a:lnTo>
                    <a:pt x="232" y="780"/>
                  </a:lnTo>
                  <a:lnTo>
                    <a:pt x="169" y="724"/>
                  </a:lnTo>
                  <a:lnTo>
                    <a:pt x="169" y="719"/>
                  </a:lnTo>
                  <a:lnTo>
                    <a:pt x="169" y="715"/>
                  </a:lnTo>
                  <a:lnTo>
                    <a:pt x="173" y="713"/>
                  </a:lnTo>
                  <a:lnTo>
                    <a:pt x="177" y="713"/>
                  </a:lnTo>
                  <a:lnTo>
                    <a:pt x="177" y="709"/>
                  </a:lnTo>
                  <a:lnTo>
                    <a:pt x="177" y="705"/>
                  </a:lnTo>
                  <a:lnTo>
                    <a:pt x="127" y="702"/>
                  </a:lnTo>
                  <a:lnTo>
                    <a:pt x="86" y="699"/>
                  </a:lnTo>
                  <a:lnTo>
                    <a:pt x="55" y="694"/>
                  </a:lnTo>
                  <a:lnTo>
                    <a:pt x="34" y="684"/>
                  </a:lnTo>
                  <a:lnTo>
                    <a:pt x="16" y="668"/>
                  </a:lnTo>
                  <a:lnTo>
                    <a:pt x="7" y="644"/>
                  </a:lnTo>
                  <a:lnTo>
                    <a:pt x="1" y="610"/>
                  </a:lnTo>
                  <a:lnTo>
                    <a:pt x="0" y="564"/>
                  </a:lnTo>
                  <a:lnTo>
                    <a:pt x="2" y="545"/>
                  </a:lnTo>
                  <a:lnTo>
                    <a:pt x="11" y="525"/>
                  </a:lnTo>
                  <a:lnTo>
                    <a:pt x="20" y="502"/>
                  </a:lnTo>
                  <a:lnTo>
                    <a:pt x="34" y="480"/>
                  </a:lnTo>
                  <a:lnTo>
                    <a:pt x="46" y="457"/>
                  </a:lnTo>
                  <a:lnTo>
                    <a:pt x="62" y="439"/>
                  </a:lnTo>
                  <a:lnTo>
                    <a:pt x="78" y="426"/>
                  </a:lnTo>
                  <a:lnTo>
                    <a:pt x="94" y="420"/>
                  </a:lnTo>
                  <a:lnTo>
                    <a:pt x="94" y="426"/>
                  </a:lnTo>
                  <a:lnTo>
                    <a:pt x="94" y="439"/>
                  </a:lnTo>
                  <a:lnTo>
                    <a:pt x="96" y="456"/>
                  </a:lnTo>
                  <a:lnTo>
                    <a:pt x="100" y="475"/>
                  </a:lnTo>
                  <a:lnTo>
                    <a:pt x="104" y="491"/>
                  </a:lnTo>
                  <a:lnTo>
                    <a:pt x="113" y="506"/>
                  </a:lnTo>
                  <a:lnTo>
                    <a:pt x="123" y="515"/>
                  </a:lnTo>
                  <a:lnTo>
                    <a:pt x="138" y="517"/>
                  </a:lnTo>
                  <a:lnTo>
                    <a:pt x="139" y="507"/>
                  </a:lnTo>
                  <a:lnTo>
                    <a:pt x="142" y="499"/>
                  </a:lnTo>
                  <a:lnTo>
                    <a:pt x="146" y="489"/>
                  </a:lnTo>
                  <a:lnTo>
                    <a:pt x="150" y="481"/>
                  </a:lnTo>
                  <a:lnTo>
                    <a:pt x="151" y="480"/>
                  </a:lnTo>
                  <a:lnTo>
                    <a:pt x="155" y="479"/>
                  </a:lnTo>
                  <a:lnTo>
                    <a:pt x="165" y="489"/>
                  </a:lnTo>
                  <a:lnTo>
                    <a:pt x="176" y="500"/>
                  </a:lnTo>
                  <a:lnTo>
                    <a:pt x="181" y="504"/>
                  </a:lnTo>
                  <a:lnTo>
                    <a:pt x="189" y="508"/>
                  </a:lnTo>
                  <a:lnTo>
                    <a:pt x="196" y="512"/>
                  </a:lnTo>
                  <a:lnTo>
                    <a:pt x="207" y="517"/>
                  </a:lnTo>
                  <a:lnTo>
                    <a:pt x="208" y="510"/>
                  </a:lnTo>
                  <a:lnTo>
                    <a:pt x="214" y="506"/>
                  </a:lnTo>
                  <a:lnTo>
                    <a:pt x="208" y="502"/>
                  </a:lnTo>
                  <a:lnTo>
                    <a:pt x="204" y="500"/>
                  </a:lnTo>
                  <a:lnTo>
                    <a:pt x="201" y="492"/>
                  </a:lnTo>
                  <a:lnTo>
                    <a:pt x="201" y="484"/>
                  </a:lnTo>
                  <a:lnTo>
                    <a:pt x="201" y="476"/>
                  </a:lnTo>
                  <a:lnTo>
                    <a:pt x="201" y="468"/>
                  </a:lnTo>
                  <a:lnTo>
                    <a:pt x="189" y="452"/>
                  </a:lnTo>
                  <a:lnTo>
                    <a:pt x="182" y="434"/>
                  </a:lnTo>
                  <a:lnTo>
                    <a:pt x="177" y="415"/>
                  </a:lnTo>
                  <a:lnTo>
                    <a:pt x="176" y="396"/>
                  </a:lnTo>
                  <a:lnTo>
                    <a:pt x="174" y="376"/>
                  </a:lnTo>
                  <a:lnTo>
                    <a:pt x="176" y="357"/>
                  </a:lnTo>
                  <a:lnTo>
                    <a:pt x="176" y="339"/>
                  </a:lnTo>
                  <a:lnTo>
                    <a:pt x="177" y="324"/>
                  </a:lnTo>
                  <a:lnTo>
                    <a:pt x="170" y="320"/>
                  </a:lnTo>
                  <a:lnTo>
                    <a:pt x="166" y="320"/>
                  </a:lnTo>
                  <a:lnTo>
                    <a:pt x="169" y="308"/>
                  </a:lnTo>
                  <a:lnTo>
                    <a:pt x="173" y="297"/>
                  </a:lnTo>
                  <a:lnTo>
                    <a:pt x="178" y="287"/>
                  </a:lnTo>
                  <a:lnTo>
                    <a:pt x="186" y="277"/>
                  </a:lnTo>
                  <a:lnTo>
                    <a:pt x="195" y="266"/>
                  </a:lnTo>
                  <a:lnTo>
                    <a:pt x="203" y="257"/>
                  </a:lnTo>
                  <a:lnTo>
                    <a:pt x="212" y="246"/>
                  </a:lnTo>
                  <a:lnTo>
                    <a:pt x="222" y="238"/>
                  </a:lnTo>
                  <a:lnTo>
                    <a:pt x="226" y="238"/>
                  </a:lnTo>
                  <a:lnTo>
                    <a:pt x="230" y="241"/>
                  </a:lnTo>
                  <a:lnTo>
                    <a:pt x="224" y="246"/>
                  </a:lnTo>
                  <a:lnTo>
                    <a:pt x="219" y="255"/>
                  </a:lnTo>
                  <a:lnTo>
                    <a:pt x="212" y="265"/>
                  </a:lnTo>
                  <a:lnTo>
                    <a:pt x="207" y="277"/>
                  </a:lnTo>
                  <a:lnTo>
                    <a:pt x="200" y="288"/>
                  </a:lnTo>
                  <a:lnTo>
                    <a:pt x="197" y="299"/>
                  </a:lnTo>
                  <a:lnTo>
                    <a:pt x="195" y="307"/>
                  </a:lnTo>
                  <a:lnTo>
                    <a:pt x="196" y="315"/>
                  </a:lnTo>
                  <a:lnTo>
                    <a:pt x="200" y="310"/>
                  </a:lnTo>
                  <a:lnTo>
                    <a:pt x="205" y="303"/>
                  </a:lnTo>
                  <a:lnTo>
                    <a:pt x="211" y="295"/>
                  </a:lnTo>
                  <a:lnTo>
                    <a:pt x="218" y="287"/>
                  </a:lnTo>
                  <a:lnTo>
                    <a:pt x="222" y="277"/>
                  </a:lnTo>
                  <a:lnTo>
                    <a:pt x="227" y="269"/>
                  </a:lnTo>
                  <a:lnTo>
                    <a:pt x="232" y="261"/>
                  </a:lnTo>
                  <a:lnTo>
                    <a:pt x="238" y="255"/>
                  </a:lnTo>
                  <a:lnTo>
                    <a:pt x="239" y="255"/>
                  </a:lnTo>
                  <a:lnTo>
                    <a:pt x="241" y="255"/>
                  </a:lnTo>
                  <a:lnTo>
                    <a:pt x="238" y="288"/>
                  </a:lnTo>
                  <a:lnTo>
                    <a:pt x="235" y="322"/>
                  </a:lnTo>
                  <a:lnTo>
                    <a:pt x="231" y="356"/>
                  </a:lnTo>
                  <a:lnTo>
                    <a:pt x="231" y="391"/>
                  </a:lnTo>
                  <a:lnTo>
                    <a:pt x="234" y="422"/>
                  </a:lnTo>
                  <a:lnTo>
                    <a:pt x="245" y="454"/>
                  </a:lnTo>
                  <a:lnTo>
                    <a:pt x="262" y="483"/>
                  </a:lnTo>
                  <a:lnTo>
                    <a:pt x="293" y="511"/>
                  </a:lnTo>
                  <a:lnTo>
                    <a:pt x="289" y="519"/>
                  </a:lnTo>
                  <a:lnTo>
                    <a:pt x="281" y="527"/>
                  </a:lnTo>
                  <a:lnTo>
                    <a:pt x="292" y="529"/>
                  </a:lnTo>
                  <a:lnTo>
                    <a:pt x="304" y="530"/>
                  </a:lnTo>
                  <a:lnTo>
                    <a:pt x="316" y="515"/>
                  </a:lnTo>
                  <a:lnTo>
                    <a:pt x="330" y="500"/>
                  </a:lnTo>
                  <a:lnTo>
                    <a:pt x="342" y="484"/>
                  </a:lnTo>
                  <a:lnTo>
                    <a:pt x="354" y="468"/>
                  </a:lnTo>
                  <a:lnTo>
                    <a:pt x="366" y="450"/>
                  </a:lnTo>
                  <a:lnTo>
                    <a:pt x="380" y="435"/>
                  </a:lnTo>
                  <a:lnTo>
                    <a:pt x="393" y="422"/>
                  </a:lnTo>
                  <a:lnTo>
                    <a:pt x="411" y="412"/>
                  </a:lnTo>
                  <a:lnTo>
                    <a:pt x="412" y="414"/>
                  </a:lnTo>
                  <a:lnTo>
                    <a:pt x="416" y="418"/>
                  </a:lnTo>
                  <a:lnTo>
                    <a:pt x="406" y="456"/>
                  </a:lnTo>
                  <a:lnTo>
                    <a:pt x="403" y="495"/>
                  </a:lnTo>
                  <a:lnTo>
                    <a:pt x="406" y="530"/>
                  </a:lnTo>
                  <a:lnTo>
                    <a:pt x="416" y="564"/>
                  </a:lnTo>
                  <a:lnTo>
                    <a:pt x="434" y="590"/>
                  </a:lnTo>
                  <a:lnTo>
                    <a:pt x="461" y="611"/>
                  </a:lnTo>
                  <a:lnTo>
                    <a:pt x="498" y="625"/>
                  </a:lnTo>
                  <a:lnTo>
                    <a:pt x="546" y="630"/>
                  </a:lnTo>
                  <a:lnTo>
                    <a:pt x="591" y="610"/>
                  </a:lnTo>
                  <a:lnTo>
                    <a:pt x="637" y="587"/>
                  </a:lnTo>
                  <a:lnTo>
                    <a:pt x="680" y="558"/>
                  </a:lnTo>
                  <a:lnTo>
                    <a:pt x="721" y="526"/>
                  </a:lnTo>
                  <a:lnTo>
                    <a:pt x="753" y="487"/>
                  </a:lnTo>
                  <a:lnTo>
                    <a:pt x="779" y="445"/>
                  </a:lnTo>
                  <a:lnTo>
                    <a:pt x="794" y="399"/>
                  </a:lnTo>
                  <a:lnTo>
                    <a:pt x="798" y="349"/>
                  </a:lnTo>
                  <a:lnTo>
                    <a:pt x="794" y="335"/>
                  </a:lnTo>
                  <a:lnTo>
                    <a:pt x="794" y="326"/>
                  </a:lnTo>
                  <a:lnTo>
                    <a:pt x="797" y="318"/>
                  </a:lnTo>
                  <a:lnTo>
                    <a:pt x="803" y="311"/>
                  </a:lnTo>
                  <a:lnTo>
                    <a:pt x="810" y="304"/>
                  </a:lnTo>
                  <a:lnTo>
                    <a:pt x="818" y="300"/>
                  </a:lnTo>
                  <a:lnTo>
                    <a:pt x="826" y="295"/>
                  </a:lnTo>
                  <a:lnTo>
                    <a:pt x="836" y="291"/>
                  </a:lnTo>
                  <a:lnTo>
                    <a:pt x="824" y="285"/>
                  </a:lnTo>
                  <a:lnTo>
                    <a:pt x="813" y="287"/>
                  </a:lnTo>
                  <a:lnTo>
                    <a:pt x="801" y="291"/>
                  </a:lnTo>
                  <a:lnTo>
                    <a:pt x="790" y="300"/>
                  </a:lnTo>
                  <a:lnTo>
                    <a:pt x="778" y="310"/>
                  </a:lnTo>
                  <a:lnTo>
                    <a:pt x="771" y="322"/>
                  </a:lnTo>
                  <a:lnTo>
                    <a:pt x="764" y="334"/>
                  </a:lnTo>
                  <a:lnTo>
                    <a:pt x="761" y="346"/>
                  </a:lnTo>
                  <a:lnTo>
                    <a:pt x="767" y="349"/>
                  </a:lnTo>
                  <a:lnTo>
                    <a:pt x="775" y="354"/>
                  </a:lnTo>
                  <a:lnTo>
                    <a:pt x="757" y="430"/>
                  </a:lnTo>
                  <a:lnTo>
                    <a:pt x="714" y="499"/>
                  </a:lnTo>
                  <a:lnTo>
                    <a:pt x="653" y="556"/>
                  </a:lnTo>
                  <a:lnTo>
                    <a:pt x="586" y="595"/>
                  </a:lnTo>
                  <a:lnTo>
                    <a:pt x="519" y="610"/>
                  </a:lnTo>
                  <a:lnTo>
                    <a:pt x="465" y="596"/>
                  </a:lnTo>
                  <a:lnTo>
                    <a:pt x="431" y="549"/>
                  </a:lnTo>
                  <a:lnTo>
                    <a:pt x="431" y="464"/>
                  </a:lnTo>
                  <a:lnTo>
                    <a:pt x="437" y="443"/>
                  </a:lnTo>
                  <a:lnTo>
                    <a:pt x="442" y="427"/>
                  </a:lnTo>
                  <a:lnTo>
                    <a:pt x="446" y="411"/>
                  </a:lnTo>
                  <a:lnTo>
                    <a:pt x="454" y="397"/>
                  </a:lnTo>
                  <a:lnTo>
                    <a:pt x="461" y="383"/>
                  </a:lnTo>
                  <a:lnTo>
                    <a:pt x="471" y="370"/>
                  </a:lnTo>
                  <a:lnTo>
                    <a:pt x="481" y="360"/>
                  </a:lnTo>
                  <a:lnTo>
                    <a:pt x="498" y="349"/>
                  </a:lnTo>
                  <a:lnTo>
                    <a:pt x="498" y="342"/>
                  </a:lnTo>
                  <a:lnTo>
                    <a:pt x="498" y="335"/>
                  </a:lnTo>
                  <a:lnTo>
                    <a:pt x="512" y="322"/>
                  </a:lnTo>
                  <a:lnTo>
                    <a:pt x="526" y="311"/>
                  </a:lnTo>
                  <a:lnTo>
                    <a:pt x="540" y="301"/>
                  </a:lnTo>
                  <a:lnTo>
                    <a:pt x="553" y="295"/>
                  </a:lnTo>
                  <a:lnTo>
                    <a:pt x="565" y="288"/>
                  </a:lnTo>
                  <a:lnTo>
                    <a:pt x="581" y="284"/>
                  </a:lnTo>
                  <a:lnTo>
                    <a:pt x="599" y="280"/>
                  </a:lnTo>
                  <a:lnTo>
                    <a:pt x="621" y="280"/>
                  </a:lnTo>
                  <a:lnTo>
                    <a:pt x="655" y="281"/>
                  </a:lnTo>
                  <a:lnTo>
                    <a:pt x="686" y="278"/>
                  </a:lnTo>
                  <a:lnTo>
                    <a:pt x="715" y="270"/>
                  </a:lnTo>
                  <a:lnTo>
                    <a:pt x="745" y="262"/>
                  </a:lnTo>
                  <a:lnTo>
                    <a:pt x="774" y="251"/>
                  </a:lnTo>
                  <a:lnTo>
                    <a:pt x="805" y="242"/>
                  </a:lnTo>
                  <a:lnTo>
                    <a:pt x="839" y="234"/>
                  </a:lnTo>
                  <a:lnTo>
                    <a:pt x="878" y="230"/>
                  </a:lnTo>
                  <a:lnTo>
                    <a:pt x="876" y="222"/>
                  </a:lnTo>
                  <a:lnTo>
                    <a:pt x="872" y="218"/>
                  </a:lnTo>
                  <a:lnTo>
                    <a:pt x="866" y="215"/>
                  </a:lnTo>
                  <a:lnTo>
                    <a:pt x="862" y="214"/>
                  </a:lnTo>
                  <a:lnTo>
                    <a:pt x="856" y="182"/>
                  </a:lnTo>
                  <a:lnTo>
                    <a:pt x="845" y="153"/>
                  </a:lnTo>
                  <a:lnTo>
                    <a:pt x="829" y="123"/>
                  </a:lnTo>
                  <a:lnTo>
                    <a:pt x="809" y="96"/>
                  </a:lnTo>
                  <a:lnTo>
                    <a:pt x="784" y="67"/>
                  </a:lnTo>
                  <a:lnTo>
                    <a:pt x="760" y="44"/>
                  </a:lnTo>
                  <a:lnTo>
                    <a:pt x="736" y="23"/>
                  </a:lnTo>
                  <a:lnTo>
                    <a:pt x="715" y="7"/>
                  </a:lnTo>
                  <a:lnTo>
                    <a:pt x="715" y="4"/>
                  </a:lnTo>
                  <a:lnTo>
                    <a:pt x="715" y="1"/>
                  </a:lnTo>
                  <a:lnTo>
                    <a:pt x="726" y="0"/>
                  </a:lnTo>
                  <a:lnTo>
                    <a:pt x="741" y="0"/>
                  </a:lnTo>
                  <a:lnTo>
                    <a:pt x="757" y="2"/>
                  </a:lnTo>
                  <a:lnTo>
                    <a:pt x="775" y="7"/>
                  </a:lnTo>
                  <a:lnTo>
                    <a:pt x="791" y="11"/>
                  </a:lnTo>
                  <a:lnTo>
                    <a:pt x="809" y="15"/>
                  </a:lnTo>
                  <a:lnTo>
                    <a:pt x="825" y="19"/>
                  </a:lnTo>
                  <a:lnTo>
                    <a:pt x="841" y="23"/>
                  </a:lnTo>
                  <a:lnTo>
                    <a:pt x="843" y="36"/>
                  </a:lnTo>
                  <a:lnTo>
                    <a:pt x="848" y="57"/>
                  </a:lnTo>
                  <a:lnTo>
                    <a:pt x="855" y="81"/>
                  </a:lnTo>
                  <a:lnTo>
                    <a:pt x="864" y="107"/>
                  </a:lnTo>
                  <a:lnTo>
                    <a:pt x="875" y="130"/>
                  </a:lnTo>
                  <a:lnTo>
                    <a:pt x="891" y="149"/>
                  </a:lnTo>
                  <a:lnTo>
                    <a:pt x="910" y="159"/>
                  </a:lnTo>
                  <a:lnTo>
                    <a:pt x="933" y="163"/>
                  </a:lnTo>
                  <a:lnTo>
                    <a:pt x="932" y="155"/>
                  </a:lnTo>
                  <a:lnTo>
                    <a:pt x="931" y="147"/>
                  </a:lnTo>
                  <a:lnTo>
                    <a:pt x="929" y="139"/>
                  </a:lnTo>
                  <a:lnTo>
                    <a:pt x="929" y="132"/>
                  </a:lnTo>
                  <a:lnTo>
                    <a:pt x="928" y="119"/>
                  </a:lnTo>
                  <a:lnTo>
                    <a:pt x="928" y="108"/>
                  </a:lnTo>
                  <a:lnTo>
                    <a:pt x="933" y="108"/>
                  </a:lnTo>
                  <a:lnTo>
                    <a:pt x="939" y="108"/>
                  </a:lnTo>
                  <a:lnTo>
                    <a:pt x="948" y="117"/>
                  </a:lnTo>
                  <a:lnTo>
                    <a:pt x="960" y="130"/>
                  </a:lnTo>
                  <a:lnTo>
                    <a:pt x="974" y="142"/>
                  </a:lnTo>
                  <a:lnTo>
                    <a:pt x="990" y="155"/>
                  </a:lnTo>
                  <a:lnTo>
                    <a:pt x="1006" y="165"/>
                  </a:lnTo>
                  <a:lnTo>
                    <a:pt x="1024" y="172"/>
                  </a:lnTo>
                  <a:lnTo>
                    <a:pt x="1040" y="173"/>
                  </a:lnTo>
                  <a:lnTo>
                    <a:pt x="1059" y="169"/>
                  </a:lnTo>
                  <a:lnTo>
                    <a:pt x="1059" y="153"/>
                  </a:lnTo>
                  <a:lnTo>
                    <a:pt x="1060" y="138"/>
                  </a:lnTo>
                  <a:lnTo>
                    <a:pt x="1060" y="123"/>
                  </a:lnTo>
                  <a:lnTo>
                    <a:pt x="1062" y="111"/>
                  </a:lnTo>
                  <a:lnTo>
                    <a:pt x="1062" y="96"/>
                  </a:lnTo>
                  <a:lnTo>
                    <a:pt x="1063" y="82"/>
                  </a:lnTo>
                  <a:lnTo>
                    <a:pt x="1064" y="69"/>
                  </a:lnTo>
                  <a:lnTo>
                    <a:pt x="1069" y="57"/>
                  </a:lnTo>
                  <a:lnTo>
                    <a:pt x="1074" y="57"/>
                  </a:lnTo>
                  <a:lnTo>
                    <a:pt x="1081" y="57"/>
                  </a:lnTo>
                  <a:lnTo>
                    <a:pt x="1087" y="57"/>
                  </a:lnTo>
                  <a:lnTo>
                    <a:pt x="1096" y="59"/>
                  </a:lnTo>
                  <a:lnTo>
                    <a:pt x="1100" y="51"/>
                  </a:lnTo>
                  <a:lnTo>
                    <a:pt x="1108" y="42"/>
                  </a:lnTo>
                  <a:lnTo>
                    <a:pt x="1113" y="32"/>
                  </a:lnTo>
                  <a:lnTo>
                    <a:pt x="1120" y="25"/>
                  </a:lnTo>
                  <a:lnTo>
                    <a:pt x="1158" y="28"/>
                  </a:lnTo>
                  <a:lnTo>
                    <a:pt x="1188" y="36"/>
                  </a:lnTo>
                  <a:lnTo>
                    <a:pt x="1207" y="48"/>
                  </a:lnTo>
                  <a:lnTo>
                    <a:pt x="1216" y="67"/>
                  </a:lnTo>
                  <a:lnTo>
                    <a:pt x="1215" y="88"/>
                  </a:lnTo>
                  <a:lnTo>
                    <a:pt x="1205" y="112"/>
                  </a:lnTo>
                  <a:lnTo>
                    <a:pt x="1185" y="138"/>
                  </a:lnTo>
                  <a:lnTo>
                    <a:pt x="1156" y="166"/>
                  </a:lnTo>
                  <a:lnTo>
                    <a:pt x="1146" y="169"/>
                  </a:lnTo>
                  <a:lnTo>
                    <a:pt x="1136" y="177"/>
                  </a:lnTo>
                  <a:lnTo>
                    <a:pt x="1127" y="184"/>
                  </a:lnTo>
                  <a:lnTo>
                    <a:pt x="1120" y="192"/>
                  </a:lnTo>
                  <a:lnTo>
                    <a:pt x="1120" y="195"/>
                  </a:lnTo>
                  <a:lnTo>
                    <a:pt x="1121" y="196"/>
                  </a:lnTo>
                  <a:lnTo>
                    <a:pt x="1125" y="197"/>
                  </a:lnTo>
                  <a:lnTo>
                    <a:pt x="1135" y="200"/>
                  </a:lnTo>
                  <a:lnTo>
                    <a:pt x="1146" y="224"/>
                  </a:lnTo>
                  <a:lnTo>
                    <a:pt x="1158" y="251"/>
                  </a:lnTo>
                  <a:lnTo>
                    <a:pt x="1165" y="278"/>
                  </a:lnTo>
                  <a:lnTo>
                    <a:pt x="1173" y="307"/>
                  </a:lnTo>
                  <a:lnTo>
                    <a:pt x="1177" y="335"/>
                  </a:lnTo>
                  <a:lnTo>
                    <a:pt x="1179" y="365"/>
                  </a:lnTo>
                  <a:lnTo>
                    <a:pt x="1179" y="396"/>
                  </a:lnTo>
                  <a:lnTo>
                    <a:pt x="1178" y="429"/>
                  </a:lnTo>
                  <a:lnTo>
                    <a:pt x="1173" y="429"/>
                  </a:lnTo>
                  <a:lnTo>
                    <a:pt x="1170" y="429"/>
                  </a:lnTo>
                  <a:lnTo>
                    <a:pt x="1173" y="430"/>
                  </a:lnTo>
                  <a:lnTo>
                    <a:pt x="1175" y="434"/>
                  </a:lnTo>
                  <a:lnTo>
                    <a:pt x="1166" y="507"/>
                  </a:lnTo>
                  <a:lnTo>
                    <a:pt x="1151" y="576"/>
                  </a:lnTo>
                  <a:lnTo>
                    <a:pt x="1131" y="638"/>
                  </a:lnTo>
                  <a:lnTo>
                    <a:pt x="1104" y="698"/>
                  </a:lnTo>
                  <a:lnTo>
                    <a:pt x="1069" y="752"/>
                  </a:lnTo>
                  <a:lnTo>
                    <a:pt x="1028" y="806"/>
                  </a:lnTo>
                  <a:lnTo>
                    <a:pt x="979" y="859"/>
                  </a:lnTo>
                  <a:lnTo>
                    <a:pt x="925" y="912"/>
                  </a:lnTo>
                  <a:lnTo>
                    <a:pt x="898" y="926"/>
                  </a:lnTo>
                  <a:lnTo>
                    <a:pt x="871" y="939"/>
                  </a:lnTo>
                  <a:lnTo>
                    <a:pt x="844" y="947"/>
                  </a:lnTo>
                  <a:lnTo>
                    <a:pt x="817" y="954"/>
                  </a:lnTo>
                  <a:lnTo>
                    <a:pt x="788" y="956"/>
                  </a:lnTo>
                  <a:lnTo>
                    <a:pt x="761" y="959"/>
                  </a:lnTo>
                  <a:lnTo>
                    <a:pt x="733" y="960"/>
                  </a:lnTo>
                  <a:lnTo>
                    <a:pt x="706" y="96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57680" y="5100840"/>
              <a:ext cx="60840" cy="48240"/>
            </a:xfrm>
            <a:custGeom>
              <a:avLst/>
              <a:gdLst/>
              <a:ahLst/>
              <a:rect l="l" t="t" r="r" b="b"/>
              <a:pathLst>
                <a:path w="99" h="74">
                  <a:moveTo>
                    <a:pt x="91" y="74"/>
                  </a:moveTo>
                  <a:lnTo>
                    <a:pt x="78" y="54"/>
                  </a:lnTo>
                  <a:lnTo>
                    <a:pt x="72" y="39"/>
                  </a:lnTo>
                  <a:lnTo>
                    <a:pt x="66" y="27"/>
                  </a:lnTo>
                  <a:lnTo>
                    <a:pt x="61" y="20"/>
                  </a:lnTo>
                  <a:lnTo>
                    <a:pt x="51" y="15"/>
                  </a:lnTo>
                  <a:lnTo>
                    <a:pt x="41" y="11"/>
                  </a:lnTo>
                  <a:lnTo>
                    <a:pt x="23" y="8"/>
                  </a:lnTo>
                  <a:lnTo>
                    <a:pt x="0" y="8"/>
                  </a:lnTo>
                  <a:lnTo>
                    <a:pt x="16" y="1"/>
                  </a:lnTo>
                  <a:lnTo>
                    <a:pt x="32" y="0"/>
                  </a:lnTo>
                  <a:lnTo>
                    <a:pt x="49" y="3"/>
                  </a:lnTo>
                  <a:lnTo>
                    <a:pt x="65" y="11"/>
                  </a:lnTo>
                  <a:lnTo>
                    <a:pt x="77" y="20"/>
                  </a:lnTo>
                  <a:lnTo>
                    <a:pt x="89" y="34"/>
                  </a:lnTo>
                  <a:lnTo>
                    <a:pt x="96" y="50"/>
                  </a:lnTo>
                  <a:lnTo>
                    <a:pt x="99" y="72"/>
                  </a:lnTo>
                  <a:lnTo>
                    <a:pt x="93" y="73"/>
                  </a:lnTo>
                  <a:lnTo>
                    <a:pt x="91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049600" y="5088240"/>
              <a:ext cx="60840" cy="44280"/>
            </a:xfrm>
            <a:custGeom>
              <a:avLst/>
              <a:gdLst/>
              <a:ahLst/>
              <a:rect l="l" t="t" r="r" b="b"/>
              <a:pathLst>
                <a:path w="100" h="72">
                  <a:moveTo>
                    <a:pt x="42" y="72"/>
                  </a:moveTo>
                  <a:lnTo>
                    <a:pt x="32" y="68"/>
                  </a:lnTo>
                  <a:lnTo>
                    <a:pt x="25" y="65"/>
                  </a:lnTo>
                  <a:lnTo>
                    <a:pt x="19" y="61"/>
                  </a:lnTo>
                  <a:lnTo>
                    <a:pt x="15" y="58"/>
                  </a:lnTo>
                  <a:lnTo>
                    <a:pt x="5" y="50"/>
                  </a:lnTo>
                  <a:lnTo>
                    <a:pt x="0" y="43"/>
                  </a:lnTo>
                  <a:lnTo>
                    <a:pt x="12" y="41"/>
                  </a:lnTo>
                  <a:lnTo>
                    <a:pt x="21" y="42"/>
                  </a:lnTo>
                  <a:lnTo>
                    <a:pt x="28" y="46"/>
                  </a:lnTo>
                  <a:lnTo>
                    <a:pt x="36" y="50"/>
                  </a:lnTo>
                  <a:lnTo>
                    <a:pt x="44" y="49"/>
                  </a:lnTo>
                  <a:lnTo>
                    <a:pt x="57" y="42"/>
                  </a:lnTo>
                  <a:lnTo>
                    <a:pt x="73" y="26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94" y="11"/>
                  </a:lnTo>
                  <a:lnTo>
                    <a:pt x="89" y="22"/>
                  </a:lnTo>
                  <a:lnTo>
                    <a:pt x="84" y="33"/>
                  </a:lnTo>
                  <a:lnTo>
                    <a:pt x="78" y="43"/>
                  </a:lnTo>
                  <a:lnTo>
                    <a:pt x="70" y="52"/>
                  </a:lnTo>
                  <a:lnTo>
                    <a:pt x="62" y="61"/>
                  </a:lnTo>
                  <a:lnTo>
                    <a:pt x="52" y="66"/>
                  </a:lnTo>
                  <a:lnTo>
                    <a:pt x="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049600" y="5042520"/>
              <a:ext cx="28080" cy="43200"/>
            </a:xfrm>
            <a:custGeom>
              <a:avLst/>
              <a:gdLst/>
              <a:ahLst/>
              <a:rect l="l" t="t" r="r" b="b"/>
              <a:pathLst>
                <a:path w="48" h="67">
                  <a:moveTo>
                    <a:pt x="25" y="67"/>
                  </a:moveTo>
                  <a:lnTo>
                    <a:pt x="14" y="58"/>
                  </a:lnTo>
                  <a:lnTo>
                    <a:pt x="7" y="50"/>
                  </a:lnTo>
                  <a:lnTo>
                    <a:pt x="3" y="42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3" y="9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46" y="4"/>
                  </a:lnTo>
                  <a:lnTo>
                    <a:pt x="46" y="11"/>
                  </a:lnTo>
                  <a:lnTo>
                    <a:pt x="48" y="19"/>
                  </a:lnTo>
                  <a:lnTo>
                    <a:pt x="46" y="28"/>
                  </a:lnTo>
                  <a:lnTo>
                    <a:pt x="45" y="39"/>
                  </a:lnTo>
                  <a:lnTo>
                    <a:pt x="41" y="47"/>
                  </a:lnTo>
                  <a:lnTo>
                    <a:pt x="37" y="57"/>
                  </a:lnTo>
                  <a:lnTo>
                    <a:pt x="31" y="63"/>
                  </a:lnTo>
                  <a:lnTo>
                    <a:pt x="2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10760" y="4809960"/>
              <a:ext cx="54720" cy="108000"/>
            </a:xfrm>
            <a:custGeom>
              <a:avLst/>
              <a:gdLst/>
              <a:ahLst/>
              <a:rect l="l" t="t" r="r" b="b"/>
              <a:pathLst>
                <a:path w="91" h="169">
                  <a:moveTo>
                    <a:pt x="86" y="169"/>
                  </a:moveTo>
                  <a:lnTo>
                    <a:pt x="72" y="153"/>
                  </a:lnTo>
                  <a:lnTo>
                    <a:pt x="61" y="141"/>
                  </a:lnTo>
                  <a:lnTo>
                    <a:pt x="53" y="134"/>
                  </a:lnTo>
                  <a:lnTo>
                    <a:pt x="45" y="131"/>
                  </a:lnTo>
                  <a:lnTo>
                    <a:pt x="37" y="133"/>
                  </a:lnTo>
                  <a:lnTo>
                    <a:pt x="30" y="140"/>
                  </a:lnTo>
                  <a:lnTo>
                    <a:pt x="22" y="150"/>
                  </a:lnTo>
                  <a:lnTo>
                    <a:pt x="14" y="167"/>
                  </a:lnTo>
                  <a:lnTo>
                    <a:pt x="8" y="148"/>
                  </a:lnTo>
                  <a:lnTo>
                    <a:pt x="4" y="122"/>
                  </a:lnTo>
                  <a:lnTo>
                    <a:pt x="0" y="92"/>
                  </a:lnTo>
                  <a:lnTo>
                    <a:pt x="2" y="64"/>
                  </a:lnTo>
                  <a:lnTo>
                    <a:pt x="4" y="35"/>
                  </a:lnTo>
                  <a:lnTo>
                    <a:pt x="12" y="14"/>
                  </a:lnTo>
                  <a:lnTo>
                    <a:pt x="27" y="0"/>
                  </a:lnTo>
                  <a:lnTo>
                    <a:pt x="50" y="2"/>
                  </a:lnTo>
                  <a:lnTo>
                    <a:pt x="50" y="12"/>
                  </a:lnTo>
                  <a:lnTo>
                    <a:pt x="50" y="25"/>
                  </a:lnTo>
                  <a:lnTo>
                    <a:pt x="50" y="37"/>
                  </a:lnTo>
                  <a:lnTo>
                    <a:pt x="52" y="50"/>
                  </a:lnTo>
                  <a:lnTo>
                    <a:pt x="53" y="62"/>
                  </a:lnTo>
                  <a:lnTo>
                    <a:pt x="56" y="75"/>
                  </a:lnTo>
                  <a:lnTo>
                    <a:pt x="57" y="88"/>
                  </a:lnTo>
                  <a:lnTo>
                    <a:pt x="61" y="103"/>
                  </a:lnTo>
                  <a:lnTo>
                    <a:pt x="64" y="107"/>
                  </a:lnTo>
                  <a:lnTo>
                    <a:pt x="68" y="114"/>
                  </a:lnTo>
                  <a:lnTo>
                    <a:pt x="72" y="122"/>
                  </a:lnTo>
                  <a:lnTo>
                    <a:pt x="77" y="131"/>
                  </a:lnTo>
                  <a:lnTo>
                    <a:pt x="81" y="140"/>
                  </a:lnTo>
                  <a:lnTo>
                    <a:pt x="86" y="150"/>
                  </a:lnTo>
                  <a:lnTo>
                    <a:pt x="88" y="160"/>
                  </a:lnTo>
                  <a:lnTo>
                    <a:pt x="91" y="169"/>
                  </a:lnTo>
                  <a:lnTo>
                    <a:pt x="88" y="169"/>
                  </a:lnTo>
                  <a:lnTo>
                    <a:pt x="86" y="16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04360" y="4590000"/>
              <a:ext cx="353880" cy="324000"/>
            </a:xfrm>
            <a:custGeom>
              <a:avLst/>
              <a:gdLst/>
              <a:ahLst/>
              <a:rect l="l" t="t" r="r" b="b"/>
              <a:pathLst>
                <a:path w="581" h="510">
                  <a:moveTo>
                    <a:pt x="41" y="510"/>
                  </a:moveTo>
                  <a:lnTo>
                    <a:pt x="16" y="471"/>
                  </a:lnTo>
                  <a:lnTo>
                    <a:pt x="4" y="419"/>
                  </a:lnTo>
                  <a:lnTo>
                    <a:pt x="0" y="358"/>
                  </a:lnTo>
                  <a:lnTo>
                    <a:pt x="5" y="295"/>
                  </a:lnTo>
                  <a:lnTo>
                    <a:pt x="17" y="229"/>
                  </a:lnTo>
                  <a:lnTo>
                    <a:pt x="39" y="170"/>
                  </a:lnTo>
                  <a:lnTo>
                    <a:pt x="66" y="122"/>
                  </a:lnTo>
                  <a:lnTo>
                    <a:pt x="100" y="91"/>
                  </a:lnTo>
                  <a:lnTo>
                    <a:pt x="101" y="78"/>
                  </a:lnTo>
                  <a:lnTo>
                    <a:pt x="105" y="68"/>
                  </a:lnTo>
                  <a:lnTo>
                    <a:pt x="109" y="55"/>
                  </a:lnTo>
                  <a:lnTo>
                    <a:pt x="113" y="45"/>
                  </a:lnTo>
                  <a:lnTo>
                    <a:pt x="117" y="32"/>
                  </a:lnTo>
                  <a:lnTo>
                    <a:pt x="123" y="23"/>
                  </a:lnTo>
                  <a:lnTo>
                    <a:pt x="127" y="12"/>
                  </a:lnTo>
                  <a:lnTo>
                    <a:pt x="132" y="3"/>
                  </a:lnTo>
                  <a:lnTo>
                    <a:pt x="136" y="4"/>
                  </a:lnTo>
                  <a:lnTo>
                    <a:pt x="140" y="5"/>
                  </a:lnTo>
                  <a:lnTo>
                    <a:pt x="147" y="27"/>
                  </a:lnTo>
                  <a:lnTo>
                    <a:pt x="156" y="42"/>
                  </a:lnTo>
                  <a:lnTo>
                    <a:pt x="167" y="50"/>
                  </a:lnTo>
                  <a:lnTo>
                    <a:pt x="181" y="51"/>
                  </a:lnTo>
                  <a:lnTo>
                    <a:pt x="193" y="46"/>
                  </a:lnTo>
                  <a:lnTo>
                    <a:pt x="205" y="35"/>
                  </a:lnTo>
                  <a:lnTo>
                    <a:pt x="215" y="19"/>
                  </a:lnTo>
                  <a:lnTo>
                    <a:pt x="225" y="0"/>
                  </a:lnTo>
                  <a:lnTo>
                    <a:pt x="227" y="0"/>
                  </a:lnTo>
                  <a:lnTo>
                    <a:pt x="231" y="0"/>
                  </a:lnTo>
                  <a:lnTo>
                    <a:pt x="238" y="16"/>
                  </a:lnTo>
                  <a:lnTo>
                    <a:pt x="248" y="30"/>
                  </a:lnTo>
                  <a:lnTo>
                    <a:pt x="262" y="38"/>
                  </a:lnTo>
                  <a:lnTo>
                    <a:pt x="278" y="43"/>
                  </a:lnTo>
                  <a:lnTo>
                    <a:pt x="293" y="42"/>
                  </a:lnTo>
                  <a:lnTo>
                    <a:pt x="308" y="36"/>
                  </a:lnTo>
                  <a:lnTo>
                    <a:pt x="320" y="23"/>
                  </a:lnTo>
                  <a:lnTo>
                    <a:pt x="331" y="3"/>
                  </a:lnTo>
                  <a:lnTo>
                    <a:pt x="374" y="4"/>
                  </a:lnTo>
                  <a:lnTo>
                    <a:pt x="413" y="13"/>
                  </a:lnTo>
                  <a:lnTo>
                    <a:pt x="446" y="27"/>
                  </a:lnTo>
                  <a:lnTo>
                    <a:pt x="476" y="49"/>
                  </a:lnTo>
                  <a:lnTo>
                    <a:pt x="501" y="73"/>
                  </a:lnTo>
                  <a:lnTo>
                    <a:pt x="526" y="104"/>
                  </a:lnTo>
                  <a:lnTo>
                    <a:pt x="549" y="139"/>
                  </a:lnTo>
                  <a:lnTo>
                    <a:pt x="573" y="181"/>
                  </a:lnTo>
                  <a:lnTo>
                    <a:pt x="576" y="196"/>
                  </a:lnTo>
                  <a:lnTo>
                    <a:pt x="579" y="208"/>
                  </a:lnTo>
                  <a:lnTo>
                    <a:pt x="581" y="216"/>
                  </a:lnTo>
                  <a:lnTo>
                    <a:pt x="581" y="222"/>
                  </a:lnTo>
                  <a:lnTo>
                    <a:pt x="576" y="224"/>
                  </a:lnTo>
                  <a:lnTo>
                    <a:pt x="568" y="226"/>
                  </a:lnTo>
                  <a:lnTo>
                    <a:pt x="553" y="227"/>
                  </a:lnTo>
                  <a:lnTo>
                    <a:pt x="533" y="231"/>
                  </a:lnTo>
                  <a:lnTo>
                    <a:pt x="516" y="237"/>
                  </a:lnTo>
                  <a:lnTo>
                    <a:pt x="500" y="243"/>
                  </a:lnTo>
                  <a:lnTo>
                    <a:pt x="485" y="252"/>
                  </a:lnTo>
                  <a:lnTo>
                    <a:pt x="470" y="260"/>
                  </a:lnTo>
                  <a:lnTo>
                    <a:pt x="454" y="266"/>
                  </a:lnTo>
                  <a:lnTo>
                    <a:pt x="439" y="273"/>
                  </a:lnTo>
                  <a:lnTo>
                    <a:pt x="424" y="279"/>
                  </a:lnTo>
                  <a:lnTo>
                    <a:pt x="411" y="284"/>
                  </a:lnTo>
                  <a:lnTo>
                    <a:pt x="358" y="285"/>
                  </a:lnTo>
                  <a:lnTo>
                    <a:pt x="307" y="299"/>
                  </a:lnTo>
                  <a:lnTo>
                    <a:pt x="254" y="321"/>
                  </a:lnTo>
                  <a:lnTo>
                    <a:pt x="204" y="350"/>
                  </a:lnTo>
                  <a:lnTo>
                    <a:pt x="156" y="385"/>
                  </a:lnTo>
                  <a:lnTo>
                    <a:pt x="113" y="425"/>
                  </a:lnTo>
                  <a:lnTo>
                    <a:pt x="77" y="465"/>
                  </a:lnTo>
                  <a:lnTo>
                    <a:pt x="47" y="507"/>
                  </a:lnTo>
                  <a:lnTo>
                    <a:pt x="44" y="509"/>
                  </a:lnTo>
                  <a:lnTo>
                    <a:pt x="41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67960" y="4605120"/>
              <a:ext cx="154440" cy="9648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176" y="152"/>
                  </a:moveTo>
                  <a:lnTo>
                    <a:pt x="154" y="141"/>
                  </a:lnTo>
                  <a:lnTo>
                    <a:pt x="137" y="127"/>
                  </a:lnTo>
                  <a:lnTo>
                    <a:pt x="121" y="113"/>
                  </a:lnTo>
                  <a:lnTo>
                    <a:pt x="107" y="102"/>
                  </a:lnTo>
                  <a:lnTo>
                    <a:pt x="91" y="91"/>
                  </a:lnTo>
                  <a:lnTo>
                    <a:pt x="77" y="85"/>
                  </a:lnTo>
                  <a:lnTo>
                    <a:pt x="62" y="88"/>
                  </a:lnTo>
                  <a:lnTo>
                    <a:pt x="49" y="99"/>
                  </a:lnTo>
                  <a:lnTo>
                    <a:pt x="46" y="110"/>
                  </a:lnTo>
                  <a:lnTo>
                    <a:pt x="46" y="117"/>
                  </a:lnTo>
                  <a:lnTo>
                    <a:pt x="45" y="119"/>
                  </a:lnTo>
                  <a:lnTo>
                    <a:pt x="43" y="122"/>
                  </a:lnTo>
                  <a:lnTo>
                    <a:pt x="31" y="110"/>
                  </a:lnTo>
                  <a:lnTo>
                    <a:pt x="23" y="99"/>
                  </a:lnTo>
                  <a:lnTo>
                    <a:pt x="15" y="85"/>
                  </a:lnTo>
                  <a:lnTo>
                    <a:pt x="10" y="72"/>
                  </a:lnTo>
                  <a:lnTo>
                    <a:pt x="4" y="56"/>
                  </a:lnTo>
                  <a:lnTo>
                    <a:pt x="1" y="42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29" y="14"/>
                  </a:lnTo>
                  <a:lnTo>
                    <a:pt x="61" y="11"/>
                  </a:lnTo>
                  <a:lnTo>
                    <a:pt x="93" y="8"/>
                  </a:lnTo>
                  <a:lnTo>
                    <a:pt x="126" y="6"/>
                  </a:lnTo>
                  <a:lnTo>
                    <a:pt x="158" y="2"/>
                  </a:lnTo>
                  <a:lnTo>
                    <a:pt x="191" y="0"/>
                  </a:lnTo>
                  <a:lnTo>
                    <a:pt x="223" y="0"/>
                  </a:lnTo>
                  <a:lnTo>
                    <a:pt x="256" y="3"/>
                  </a:lnTo>
                  <a:lnTo>
                    <a:pt x="252" y="4"/>
                  </a:lnTo>
                  <a:lnTo>
                    <a:pt x="249" y="6"/>
                  </a:lnTo>
                  <a:lnTo>
                    <a:pt x="244" y="7"/>
                  </a:lnTo>
                  <a:lnTo>
                    <a:pt x="237" y="11"/>
                  </a:lnTo>
                  <a:lnTo>
                    <a:pt x="242" y="11"/>
                  </a:lnTo>
                  <a:lnTo>
                    <a:pt x="248" y="14"/>
                  </a:lnTo>
                  <a:lnTo>
                    <a:pt x="229" y="25"/>
                  </a:lnTo>
                  <a:lnTo>
                    <a:pt x="215" y="31"/>
                  </a:lnTo>
                  <a:lnTo>
                    <a:pt x="204" y="35"/>
                  </a:lnTo>
                  <a:lnTo>
                    <a:pt x="198" y="41"/>
                  </a:lnTo>
                  <a:lnTo>
                    <a:pt x="191" y="46"/>
                  </a:lnTo>
                  <a:lnTo>
                    <a:pt x="187" y="57"/>
                  </a:lnTo>
                  <a:lnTo>
                    <a:pt x="183" y="76"/>
                  </a:lnTo>
                  <a:lnTo>
                    <a:pt x="181" y="106"/>
                  </a:lnTo>
                  <a:lnTo>
                    <a:pt x="181" y="117"/>
                  </a:lnTo>
                  <a:lnTo>
                    <a:pt x="181" y="129"/>
                  </a:lnTo>
                  <a:lnTo>
                    <a:pt x="181" y="140"/>
                  </a:lnTo>
                  <a:lnTo>
                    <a:pt x="184" y="152"/>
                  </a:lnTo>
                  <a:lnTo>
                    <a:pt x="179" y="152"/>
                  </a:lnTo>
                  <a:lnTo>
                    <a:pt x="176" y="15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11280" y="4601520"/>
              <a:ext cx="14400" cy="1404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0" y="21"/>
                  </a:moveTo>
                  <a:lnTo>
                    <a:pt x="0" y="17"/>
                  </a:lnTo>
                  <a:lnTo>
                    <a:pt x="0" y="16"/>
                  </a:lnTo>
                  <a:lnTo>
                    <a:pt x="5" y="8"/>
                  </a:lnTo>
                  <a:lnTo>
                    <a:pt x="9" y="4"/>
                  </a:lnTo>
                  <a:lnTo>
                    <a:pt x="15" y="1"/>
                  </a:lnTo>
                  <a:lnTo>
                    <a:pt x="24" y="0"/>
                  </a:lnTo>
                  <a:lnTo>
                    <a:pt x="20" y="9"/>
                  </a:lnTo>
                  <a:lnTo>
                    <a:pt x="16" y="16"/>
                  </a:lnTo>
                  <a:lnTo>
                    <a:pt x="9" y="2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89040" y="4583520"/>
              <a:ext cx="6840" cy="1008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5"/>
                  </a:lnTo>
                  <a:lnTo>
                    <a:pt x="5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53760" y="4564440"/>
              <a:ext cx="18000" cy="864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11" y="13"/>
                  </a:moveTo>
                  <a:lnTo>
                    <a:pt x="5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1"/>
                  </a:lnTo>
                  <a:lnTo>
                    <a:pt x="13" y="2"/>
                  </a:lnTo>
                  <a:lnTo>
                    <a:pt x="21" y="4"/>
                  </a:lnTo>
                  <a:lnTo>
                    <a:pt x="29" y="5"/>
                  </a:lnTo>
                  <a:lnTo>
                    <a:pt x="19" y="9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00480" y="4527720"/>
              <a:ext cx="44640" cy="36720"/>
            </a:xfrm>
            <a:custGeom>
              <a:avLst/>
              <a:gdLst/>
              <a:ahLst/>
              <a:rect l="l" t="t" r="r" b="b"/>
              <a:pathLst>
                <a:path w="75" h="59">
                  <a:moveTo>
                    <a:pt x="21" y="59"/>
                  </a:moveTo>
                  <a:lnTo>
                    <a:pt x="10" y="53"/>
                  </a:lnTo>
                  <a:lnTo>
                    <a:pt x="0" y="48"/>
                  </a:lnTo>
                  <a:lnTo>
                    <a:pt x="2" y="34"/>
                  </a:lnTo>
                  <a:lnTo>
                    <a:pt x="7" y="22"/>
                  </a:lnTo>
                  <a:lnTo>
                    <a:pt x="13" y="10"/>
                  </a:lnTo>
                  <a:lnTo>
                    <a:pt x="18" y="0"/>
                  </a:lnTo>
                  <a:lnTo>
                    <a:pt x="30" y="2"/>
                  </a:lnTo>
                  <a:lnTo>
                    <a:pt x="44" y="10"/>
                  </a:lnTo>
                  <a:lnTo>
                    <a:pt x="50" y="14"/>
                  </a:lnTo>
                  <a:lnTo>
                    <a:pt x="59" y="19"/>
                  </a:lnTo>
                  <a:lnTo>
                    <a:pt x="67" y="25"/>
                  </a:lnTo>
                  <a:lnTo>
                    <a:pt x="75" y="32"/>
                  </a:lnTo>
                  <a:lnTo>
                    <a:pt x="63" y="42"/>
                  </a:lnTo>
                  <a:lnTo>
                    <a:pt x="49" y="51"/>
                  </a:lnTo>
                  <a:lnTo>
                    <a:pt x="34" y="56"/>
                  </a:lnTo>
                  <a:lnTo>
                    <a:pt x="21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 rot="19378200">
            <a:off x="7291080" y="4578480"/>
            <a:ext cx="855720" cy="307800"/>
          </a:xfrm>
          <a:custGeom>
            <a:avLst/>
            <a:gdLst/>
            <a:ahLst/>
            <a:rect l="l" t="t" r="r" b="b"/>
            <a:pathLst>
              <a:path w="1079" h="290">
                <a:moveTo>
                  <a:pt x="0" y="290"/>
                </a:moveTo>
                <a:lnTo>
                  <a:pt x="16" y="240"/>
                </a:lnTo>
                <a:lnTo>
                  <a:pt x="61" y="192"/>
                </a:lnTo>
                <a:lnTo>
                  <a:pt x="125" y="145"/>
                </a:lnTo>
                <a:lnTo>
                  <a:pt x="204" y="106"/>
                </a:lnTo>
                <a:lnTo>
                  <a:pt x="285" y="68"/>
                </a:lnTo>
                <a:lnTo>
                  <a:pt x="365" y="37"/>
                </a:lnTo>
                <a:lnTo>
                  <a:pt x="433" y="13"/>
                </a:lnTo>
                <a:lnTo>
                  <a:pt x="483" y="0"/>
                </a:lnTo>
                <a:lnTo>
                  <a:pt x="538" y="0"/>
                </a:lnTo>
                <a:lnTo>
                  <a:pt x="605" y="6"/>
                </a:lnTo>
                <a:lnTo>
                  <a:pt x="679" y="13"/>
                </a:lnTo>
                <a:lnTo>
                  <a:pt x="759" y="29"/>
                </a:lnTo>
                <a:lnTo>
                  <a:pt x="832" y="46"/>
                </a:lnTo>
                <a:lnTo>
                  <a:pt x="906" y="69"/>
                </a:lnTo>
                <a:lnTo>
                  <a:pt x="968" y="97"/>
                </a:lnTo>
                <a:lnTo>
                  <a:pt x="1019" y="132"/>
                </a:lnTo>
                <a:lnTo>
                  <a:pt x="1028" y="128"/>
                </a:lnTo>
                <a:lnTo>
                  <a:pt x="1038" y="128"/>
                </a:lnTo>
                <a:lnTo>
                  <a:pt x="1046" y="124"/>
                </a:lnTo>
                <a:lnTo>
                  <a:pt x="1055" y="124"/>
                </a:lnTo>
                <a:lnTo>
                  <a:pt x="1067" y="120"/>
                </a:lnTo>
                <a:lnTo>
                  <a:pt x="1079" y="120"/>
                </a:lnTo>
                <a:lnTo>
                  <a:pt x="1032" y="153"/>
                </a:lnTo>
                <a:lnTo>
                  <a:pt x="995" y="174"/>
                </a:lnTo>
                <a:lnTo>
                  <a:pt x="958" y="186"/>
                </a:lnTo>
                <a:lnTo>
                  <a:pt x="925" y="190"/>
                </a:lnTo>
                <a:lnTo>
                  <a:pt x="889" y="186"/>
                </a:lnTo>
                <a:lnTo>
                  <a:pt x="852" y="178"/>
                </a:lnTo>
                <a:lnTo>
                  <a:pt x="805" y="166"/>
                </a:lnTo>
                <a:lnTo>
                  <a:pt x="755" y="155"/>
                </a:lnTo>
                <a:lnTo>
                  <a:pt x="691" y="147"/>
                </a:lnTo>
                <a:lnTo>
                  <a:pt x="627" y="143"/>
                </a:lnTo>
                <a:lnTo>
                  <a:pt x="565" y="143"/>
                </a:lnTo>
                <a:lnTo>
                  <a:pt x="507" y="145"/>
                </a:lnTo>
                <a:lnTo>
                  <a:pt x="445" y="149"/>
                </a:lnTo>
                <a:lnTo>
                  <a:pt x="386" y="157"/>
                </a:lnTo>
                <a:lnTo>
                  <a:pt x="326" y="166"/>
                </a:lnTo>
                <a:lnTo>
                  <a:pt x="268" y="184"/>
                </a:lnTo>
                <a:lnTo>
                  <a:pt x="235" y="195"/>
                </a:lnTo>
                <a:lnTo>
                  <a:pt x="202" y="211"/>
                </a:lnTo>
                <a:lnTo>
                  <a:pt x="167" y="226"/>
                </a:lnTo>
                <a:lnTo>
                  <a:pt x="132" y="244"/>
                </a:lnTo>
                <a:lnTo>
                  <a:pt x="95" y="258"/>
                </a:lnTo>
                <a:lnTo>
                  <a:pt x="61" y="273"/>
                </a:lnTo>
                <a:lnTo>
                  <a:pt x="28" y="283"/>
                </a:lnTo>
                <a:lnTo>
                  <a:pt x="0" y="2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20330400">
            <a:off x="7695720" y="4191120"/>
            <a:ext cx="581040" cy="419040"/>
          </a:xfrm>
          <a:custGeom>
            <a:avLst/>
            <a:gdLst/>
            <a:ahLst/>
            <a:rect l="l" t="t" r="r" b="b"/>
            <a:pathLst>
              <a:path w="444" h="528">
                <a:moveTo>
                  <a:pt x="248" y="528"/>
                </a:moveTo>
                <a:lnTo>
                  <a:pt x="240" y="526"/>
                </a:lnTo>
                <a:lnTo>
                  <a:pt x="235" y="524"/>
                </a:lnTo>
                <a:lnTo>
                  <a:pt x="235" y="499"/>
                </a:lnTo>
                <a:lnTo>
                  <a:pt x="236" y="471"/>
                </a:lnTo>
                <a:lnTo>
                  <a:pt x="238" y="440"/>
                </a:lnTo>
                <a:lnTo>
                  <a:pt x="242" y="411"/>
                </a:lnTo>
                <a:lnTo>
                  <a:pt x="242" y="380"/>
                </a:lnTo>
                <a:lnTo>
                  <a:pt x="242" y="353"/>
                </a:lnTo>
                <a:lnTo>
                  <a:pt x="240" y="328"/>
                </a:lnTo>
                <a:lnTo>
                  <a:pt x="236" y="309"/>
                </a:lnTo>
                <a:lnTo>
                  <a:pt x="235" y="334"/>
                </a:lnTo>
                <a:lnTo>
                  <a:pt x="235" y="361"/>
                </a:lnTo>
                <a:lnTo>
                  <a:pt x="233" y="386"/>
                </a:lnTo>
                <a:lnTo>
                  <a:pt x="231" y="413"/>
                </a:lnTo>
                <a:lnTo>
                  <a:pt x="227" y="439"/>
                </a:lnTo>
                <a:lnTo>
                  <a:pt x="225" y="466"/>
                </a:lnTo>
                <a:lnTo>
                  <a:pt x="221" y="491"/>
                </a:lnTo>
                <a:lnTo>
                  <a:pt x="217" y="520"/>
                </a:lnTo>
                <a:lnTo>
                  <a:pt x="211" y="516"/>
                </a:lnTo>
                <a:lnTo>
                  <a:pt x="207" y="516"/>
                </a:lnTo>
                <a:lnTo>
                  <a:pt x="207" y="448"/>
                </a:lnTo>
                <a:lnTo>
                  <a:pt x="209" y="392"/>
                </a:lnTo>
                <a:lnTo>
                  <a:pt x="207" y="344"/>
                </a:lnTo>
                <a:lnTo>
                  <a:pt x="205" y="303"/>
                </a:lnTo>
                <a:lnTo>
                  <a:pt x="194" y="260"/>
                </a:lnTo>
                <a:lnTo>
                  <a:pt x="176" y="219"/>
                </a:lnTo>
                <a:lnTo>
                  <a:pt x="149" y="169"/>
                </a:lnTo>
                <a:lnTo>
                  <a:pt x="110" y="115"/>
                </a:lnTo>
                <a:lnTo>
                  <a:pt x="93" y="105"/>
                </a:lnTo>
                <a:lnTo>
                  <a:pt x="77" y="90"/>
                </a:lnTo>
                <a:lnTo>
                  <a:pt x="60" y="72"/>
                </a:lnTo>
                <a:lnTo>
                  <a:pt x="43" y="55"/>
                </a:lnTo>
                <a:lnTo>
                  <a:pt x="25" y="35"/>
                </a:lnTo>
                <a:lnTo>
                  <a:pt x="12" y="20"/>
                </a:lnTo>
                <a:lnTo>
                  <a:pt x="2" y="6"/>
                </a:lnTo>
                <a:lnTo>
                  <a:pt x="0" y="0"/>
                </a:lnTo>
                <a:lnTo>
                  <a:pt x="68" y="8"/>
                </a:lnTo>
                <a:lnTo>
                  <a:pt x="147" y="30"/>
                </a:lnTo>
                <a:lnTo>
                  <a:pt x="225" y="61"/>
                </a:lnTo>
                <a:lnTo>
                  <a:pt x="302" y="105"/>
                </a:lnTo>
                <a:lnTo>
                  <a:pt x="368" y="155"/>
                </a:lnTo>
                <a:lnTo>
                  <a:pt x="417" y="219"/>
                </a:lnTo>
                <a:lnTo>
                  <a:pt x="444" y="289"/>
                </a:lnTo>
                <a:lnTo>
                  <a:pt x="444" y="373"/>
                </a:lnTo>
                <a:lnTo>
                  <a:pt x="436" y="384"/>
                </a:lnTo>
                <a:lnTo>
                  <a:pt x="428" y="398"/>
                </a:lnTo>
                <a:lnTo>
                  <a:pt x="421" y="411"/>
                </a:lnTo>
                <a:lnTo>
                  <a:pt x="413" y="427"/>
                </a:lnTo>
                <a:lnTo>
                  <a:pt x="403" y="439"/>
                </a:lnTo>
                <a:lnTo>
                  <a:pt x="394" y="452"/>
                </a:lnTo>
                <a:lnTo>
                  <a:pt x="382" y="464"/>
                </a:lnTo>
                <a:lnTo>
                  <a:pt x="370" y="473"/>
                </a:lnTo>
                <a:lnTo>
                  <a:pt x="370" y="460"/>
                </a:lnTo>
                <a:lnTo>
                  <a:pt x="372" y="448"/>
                </a:lnTo>
                <a:lnTo>
                  <a:pt x="374" y="437"/>
                </a:lnTo>
                <a:lnTo>
                  <a:pt x="376" y="425"/>
                </a:lnTo>
                <a:lnTo>
                  <a:pt x="376" y="413"/>
                </a:lnTo>
                <a:lnTo>
                  <a:pt x="378" y="402"/>
                </a:lnTo>
                <a:lnTo>
                  <a:pt x="380" y="390"/>
                </a:lnTo>
                <a:lnTo>
                  <a:pt x="382" y="380"/>
                </a:lnTo>
                <a:lnTo>
                  <a:pt x="380" y="380"/>
                </a:lnTo>
                <a:lnTo>
                  <a:pt x="378" y="382"/>
                </a:lnTo>
                <a:lnTo>
                  <a:pt x="376" y="386"/>
                </a:lnTo>
                <a:lnTo>
                  <a:pt x="374" y="396"/>
                </a:lnTo>
                <a:lnTo>
                  <a:pt x="370" y="407"/>
                </a:lnTo>
                <a:lnTo>
                  <a:pt x="366" y="427"/>
                </a:lnTo>
                <a:lnTo>
                  <a:pt x="361" y="454"/>
                </a:lnTo>
                <a:lnTo>
                  <a:pt x="355" y="493"/>
                </a:lnTo>
                <a:lnTo>
                  <a:pt x="337" y="495"/>
                </a:lnTo>
                <a:lnTo>
                  <a:pt x="322" y="497"/>
                </a:lnTo>
                <a:lnTo>
                  <a:pt x="326" y="444"/>
                </a:lnTo>
                <a:lnTo>
                  <a:pt x="330" y="406"/>
                </a:lnTo>
                <a:lnTo>
                  <a:pt x="332" y="378"/>
                </a:lnTo>
                <a:lnTo>
                  <a:pt x="335" y="361"/>
                </a:lnTo>
                <a:lnTo>
                  <a:pt x="335" y="347"/>
                </a:lnTo>
                <a:lnTo>
                  <a:pt x="335" y="340"/>
                </a:lnTo>
                <a:lnTo>
                  <a:pt x="335" y="334"/>
                </a:lnTo>
                <a:lnTo>
                  <a:pt x="337" y="332"/>
                </a:lnTo>
                <a:lnTo>
                  <a:pt x="328" y="345"/>
                </a:lnTo>
                <a:lnTo>
                  <a:pt x="324" y="365"/>
                </a:lnTo>
                <a:lnTo>
                  <a:pt x="322" y="388"/>
                </a:lnTo>
                <a:lnTo>
                  <a:pt x="322" y="415"/>
                </a:lnTo>
                <a:lnTo>
                  <a:pt x="320" y="440"/>
                </a:lnTo>
                <a:lnTo>
                  <a:pt x="318" y="464"/>
                </a:lnTo>
                <a:lnTo>
                  <a:pt x="312" y="485"/>
                </a:lnTo>
                <a:lnTo>
                  <a:pt x="304" y="501"/>
                </a:lnTo>
                <a:lnTo>
                  <a:pt x="291" y="479"/>
                </a:lnTo>
                <a:lnTo>
                  <a:pt x="287" y="458"/>
                </a:lnTo>
                <a:lnTo>
                  <a:pt x="289" y="433"/>
                </a:lnTo>
                <a:lnTo>
                  <a:pt x="297" y="407"/>
                </a:lnTo>
                <a:lnTo>
                  <a:pt x="302" y="378"/>
                </a:lnTo>
                <a:lnTo>
                  <a:pt x="312" y="353"/>
                </a:lnTo>
                <a:lnTo>
                  <a:pt x="316" y="330"/>
                </a:lnTo>
                <a:lnTo>
                  <a:pt x="318" y="309"/>
                </a:lnTo>
                <a:lnTo>
                  <a:pt x="312" y="322"/>
                </a:lnTo>
                <a:lnTo>
                  <a:pt x="306" y="353"/>
                </a:lnTo>
                <a:lnTo>
                  <a:pt x="299" y="390"/>
                </a:lnTo>
                <a:lnTo>
                  <a:pt x="291" y="435"/>
                </a:lnTo>
                <a:lnTo>
                  <a:pt x="279" y="471"/>
                </a:lnTo>
                <a:lnTo>
                  <a:pt x="269" y="504"/>
                </a:lnTo>
                <a:lnTo>
                  <a:pt x="258" y="524"/>
                </a:lnTo>
                <a:lnTo>
                  <a:pt x="248" y="5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9611000">
            <a:off x="7467480" y="4343040"/>
            <a:ext cx="559080" cy="422280"/>
          </a:xfrm>
          <a:custGeom>
            <a:avLst/>
            <a:gdLst/>
            <a:ahLst/>
            <a:rect l="l" t="t" r="r" b="b"/>
            <a:pathLst>
              <a:path w="704" h="533">
                <a:moveTo>
                  <a:pt x="461" y="533"/>
                </a:moveTo>
                <a:lnTo>
                  <a:pt x="450" y="527"/>
                </a:lnTo>
                <a:lnTo>
                  <a:pt x="440" y="521"/>
                </a:lnTo>
                <a:lnTo>
                  <a:pt x="440" y="504"/>
                </a:lnTo>
                <a:lnTo>
                  <a:pt x="440" y="489"/>
                </a:lnTo>
                <a:lnTo>
                  <a:pt x="442" y="473"/>
                </a:lnTo>
                <a:lnTo>
                  <a:pt x="444" y="458"/>
                </a:lnTo>
                <a:lnTo>
                  <a:pt x="444" y="442"/>
                </a:lnTo>
                <a:lnTo>
                  <a:pt x="448" y="428"/>
                </a:lnTo>
                <a:lnTo>
                  <a:pt x="450" y="413"/>
                </a:lnTo>
                <a:lnTo>
                  <a:pt x="453" y="399"/>
                </a:lnTo>
                <a:lnTo>
                  <a:pt x="450" y="409"/>
                </a:lnTo>
                <a:lnTo>
                  <a:pt x="446" y="425"/>
                </a:lnTo>
                <a:lnTo>
                  <a:pt x="442" y="440"/>
                </a:lnTo>
                <a:lnTo>
                  <a:pt x="438" y="461"/>
                </a:lnTo>
                <a:lnTo>
                  <a:pt x="434" y="479"/>
                </a:lnTo>
                <a:lnTo>
                  <a:pt x="430" y="498"/>
                </a:lnTo>
                <a:lnTo>
                  <a:pt x="428" y="510"/>
                </a:lnTo>
                <a:lnTo>
                  <a:pt x="428" y="520"/>
                </a:lnTo>
                <a:lnTo>
                  <a:pt x="415" y="516"/>
                </a:lnTo>
                <a:lnTo>
                  <a:pt x="409" y="514"/>
                </a:lnTo>
                <a:lnTo>
                  <a:pt x="403" y="512"/>
                </a:lnTo>
                <a:lnTo>
                  <a:pt x="401" y="510"/>
                </a:lnTo>
                <a:lnTo>
                  <a:pt x="401" y="496"/>
                </a:lnTo>
                <a:lnTo>
                  <a:pt x="403" y="481"/>
                </a:lnTo>
                <a:lnTo>
                  <a:pt x="407" y="463"/>
                </a:lnTo>
                <a:lnTo>
                  <a:pt x="411" y="446"/>
                </a:lnTo>
                <a:lnTo>
                  <a:pt x="413" y="428"/>
                </a:lnTo>
                <a:lnTo>
                  <a:pt x="417" y="413"/>
                </a:lnTo>
                <a:lnTo>
                  <a:pt x="419" y="403"/>
                </a:lnTo>
                <a:lnTo>
                  <a:pt x="420" y="399"/>
                </a:lnTo>
                <a:lnTo>
                  <a:pt x="411" y="407"/>
                </a:lnTo>
                <a:lnTo>
                  <a:pt x="405" y="421"/>
                </a:lnTo>
                <a:lnTo>
                  <a:pt x="403" y="438"/>
                </a:lnTo>
                <a:lnTo>
                  <a:pt x="401" y="458"/>
                </a:lnTo>
                <a:lnTo>
                  <a:pt x="395" y="473"/>
                </a:lnTo>
                <a:lnTo>
                  <a:pt x="389" y="489"/>
                </a:lnTo>
                <a:lnTo>
                  <a:pt x="378" y="498"/>
                </a:lnTo>
                <a:lnTo>
                  <a:pt x="360" y="502"/>
                </a:lnTo>
                <a:lnTo>
                  <a:pt x="360" y="481"/>
                </a:lnTo>
                <a:lnTo>
                  <a:pt x="364" y="465"/>
                </a:lnTo>
                <a:lnTo>
                  <a:pt x="364" y="450"/>
                </a:lnTo>
                <a:lnTo>
                  <a:pt x="368" y="438"/>
                </a:lnTo>
                <a:lnTo>
                  <a:pt x="368" y="426"/>
                </a:lnTo>
                <a:lnTo>
                  <a:pt x="370" y="419"/>
                </a:lnTo>
                <a:lnTo>
                  <a:pt x="370" y="411"/>
                </a:lnTo>
                <a:lnTo>
                  <a:pt x="370" y="409"/>
                </a:lnTo>
                <a:lnTo>
                  <a:pt x="366" y="411"/>
                </a:lnTo>
                <a:lnTo>
                  <a:pt x="364" y="421"/>
                </a:lnTo>
                <a:lnTo>
                  <a:pt x="362" y="432"/>
                </a:lnTo>
                <a:lnTo>
                  <a:pt x="360" y="448"/>
                </a:lnTo>
                <a:lnTo>
                  <a:pt x="356" y="459"/>
                </a:lnTo>
                <a:lnTo>
                  <a:pt x="355" y="473"/>
                </a:lnTo>
                <a:lnTo>
                  <a:pt x="355" y="483"/>
                </a:lnTo>
                <a:lnTo>
                  <a:pt x="355" y="492"/>
                </a:lnTo>
                <a:lnTo>
                  <a:pt x="335" y="489"/>
                </a:lnTo>
                <a:lnTo>
                  <a:pt x="314" y="485"/>
                </a:lnTo>
                <a:lnTo>
                  <a:pt x="291" y="477"/>
                </a:lnTo>
                <a:lnTo>
                  <a:pt x="269" y="469"/>
                </a:lnTo>
                <a:lnTo>
                  <a:pt x="246" y="459"/>
                </a:lnTo>
                <a:lnTo>
                  <a:pt x="225" y="450"/>
                </a:lnTo>
                <a:lnTo>
                  <a:pt x="205" y="442"/>
                </a:lnTo>
                <a:lnTo>
                  <a:pt x="194" y="438"/>
                </a:lnTo>
                <a:lnTo>
                  <a:pt x="194" y="423"/>
                </a:lnTo>
                <a:lnTo>
                  <a:pt x="194" y="411"/>
                </a:lnTo>
                <a:lnTo>
                  <a:pt x="194" y="401"/>
                </a:lnTo>
                <a:lnTo>
                  <a:pt x="195" y="395"/>
                </a:lnTo>
                <a:lnTo>
                  <a:pt x="195" y="388"/>
                </a:lnTo>
                <a:lnTo>
                  <a:pt x="197" y="380"/>
                </a:lnTo>
                <a:lnTo>
                  <a:pt x="199" y="372"/>
                </a:lnTo>
                <a:lnTo>
                  <a:pt x="203" y="363"/>
                </a:lnTo>
                <a:lnTo>
                  <a:pt x="197" y="366"/>
                </a:lnTo>
                <a:lnTo>
                  <a:pt x="192" y="372"/>
                </a:lnTo>
                <a:lnTo>
                  <a:pt x="188" y="382"/>
                </a:lnTo>
                <a:lnTo>
                  <a:pt x="186" y="394"/>
                </a:lnTo>
                <a:lnTo>
                  <a:pt x="182" y="403"/>
                </a:lnTo>
                <a:lnTo>
                  <a:pt x="180" y="415"/>
                </a:lnTo>
                <a:lnTo>
                  <a:pt x="180" y="425"/>
                </a:lnTo>
                <a:lnTo>
                  <a:pt x="180" y="436"/>
                </a:lnTo>
                <a:lnTo>
                  <a:pt x="161" y="432"/>
                </a:lnTo>
                <a:lnTo>
                  <a:pt x="143" y="432"/>
                </a:lnTo>
                <a:lnTo>
                  <a:pt x="143" y="419"/>
                </a:lnTo>
                <a:lnTo>
                  <a:pt x="143" y="407"/>
                </a:lnTo>
                <a:lnTo>
                  <a:pt x="143" y="395"/>
                </a:lnTo>
                <a:lnTo>
                  <a:pt x="145" y="386"/>
                </a:lnTo>
                <a:lnTo>
                  <a:pt x="145" y="374"/>
                </a:lnTo>
                <a:lnTo>
                  <a:pt x="149" y="363"/>
                </a:lnTo>
                <a:lnTo>
                  <a:pt x="153" y="353"/>
                </a:lnTo>
                <a:lnTo>
                  <a:pt x="159" y="345"/>
                </a:lnTo>
                <a:lnTo>
                  <a:pt x="151" y="345"/>
                </a:lnTo>
                <a:lnTo>
                  <a:pt x="145" y="349"/>
                </a:lnTo>
                <a:lnTo>
                  <a:pt x="139" y="366"/>
                </a:lnTo>
                <a:lnTo>
                  <a:pt x="135" y="386"/>
                </a:lnTo>
                <a:lnTo>
                  <a:pt x="131" y="403"/>
                </a:lnTo>
                <a:lnTo>
                  <a:pt x="130" y="425"/>
                </a:lnTo>
                <a:lnTo>
                  <a:pt x="116" y="425"/>
                </a:lnTo>
                <a:lnTo>
                  <a:pt x="106" y="425"/>
                </a:lnTo>
                <a:lnTo>
                  <a:pt x="102" y="409"/>
                </a:lnTo>
                <a:lnTo>
                  <a:pt x="104" y="395"/>
                </a:lnTo>
                <a:lnTo>
                  <a:pt x="104" y="380"/>
                </a:lnTo>
                <a:lnTo>
                  <a:pt x="108" y="366"/>
                </a:lnTo>
                <a:lnTo>
                  <a:pt x="112" y="351"/>
                </a:lnTo>
                <a:lnTo>
                  <a:pt x="116" y="337"/>
                </a:lnTo>
                <a:lnTo>
                  <a:pt x="120" y="324"/>
                </a:lnTo>
                <a:lnTo>
                  <a:pt x="126" y="312"/>
                </a:lnTo>
                <a:lnTo>
                  <a:pt x="120" y="310"/>
                </a:lnTo>
                <a:lnTo>
                  <a:pt x="116" y="308"/>
                </a:lnTo>
                <a:lnTo>
                  <a:pt x="112" y="320"/>
                </a:lnTo>
                <a:lnTo>
                  <a:pt x="108" y="335"/>
                </a:lnTo>
                <a:lnTo>
                  <a:pt x="102" y="347"/>
                </a:lnTo>
                <a:lnTo>
                  <a:pt x="100" y="363"/>
                </a:lnTo>
                <a:lnTo>
                  <a:pt x="95" y="376"/>
                </a:lnTo>
                <a:lnTo>
                  <a:pt x="95" y="392"/>
                </a:lnTo>
                <a:lnTo>
                  <a:pt x="93" y="407"/>
                </a:lnTo>
                <a:lnTo>
                  <a:pt x="97" y="425"/>
                </a:lnTo>
                <a:lnTo>
                  <a:pt x="81" y="421"/>
                </a:lnTo>
                <a:lnTo>
                  <a:pt x="69" y="419"/>
                </a:lnTo>
                <a:lnTo>
                  <a:pt x="69" y="399"/>
                </a:lnTo>
                <a:lnTo>
                  <a:pt x="73" y="380"/>
                </a:lnTo>
                <a:lnTo>
                  <a:pt x="79" y="359"/>
                </a:lnTo>
                <a:lnTo>
                  <a:pt x="87" y="339"/>
                </a:lnTo>
                <a:lnTo>
                  <a:pt x="91" y="318"/>
                </a:lnTo>
                <a:lnTo>
                  <a:pt x="97" y="302"/>
                </a:lnTo>
                <a:lnTo>
                  <a:pt x="100" y="287"/>
                </a:lnTo>
                <a:lnTo>
                  <a:pt x="102" y="277"/>
                </a:lnTo>
                <a:lnTo>
                  <a:pt x="91" y="293"/>
                </a:lnTo>
                <a:lnTo>
                  <a:pt x="85" y="306"/>
                </a:lnTo>
                <a:lnTo>
                  <a:pt x="81" y="312"/>
                </a:lnTo>
                <a:lnTo>
                  <a:pt x="77" y="324"/>
                </a:lnTo>
                <a:lnTo>
                  <a:pt x="73" y="335"/>
                </a:lnTo>
                <a:lnTo>
                  <a:pt x="69" y="355"/>
                </a:lnTo>
                <a:lnTo>
                  <a:pt x="62" y="343"/>
                </a:lnTo>
                <a:lnTo>
                  <a:pt x="62" y="333"/>
                </a:lnTo>
                <a:lnTo>
                  <a:pt x="64" y="322"/>
                </a:lnTo>
                <a:lnTo>
                  <a:pt x="69" y="312"/>
                </a:lnTo>
                <a:lnTo>
                  <a:pt x="79" y="291"/>
                </a:lnTo>
                <a:lnTo>
                  <a:pt x="83" y="271"/>
                </a:lnTo>
                <a:lnTo>
                  <a:pt x="73" y="279"/>
                </a:lnTo>
                <a:lnTo>
                  <a:pt x="66" y="297"/>
                </a:lnTo>
                <a:lnTo>
                  <a:pt x="58" y="318"/>
                </a:lnTo>
                <a:lnTo>
                  <a:pt x="52" y="343"/>
                </a:lnTo>
                <a:lnTo>
                  <a:pt x="44" y="366"/>
                </a:lnTo>
                <a:lnTo>
                  <a:pt x="38" y="390"/>
                </a:lnTo>
                <a:lnTo>
                  <a:pt x="31" y="407"/>
                </a:lnTo>
                <a:lnTo>
                  <a:pt x="23" y="419"/>
                </a:lnTo>
                <a:lnTo>
                  <a:pt x="19" y="419"/>
                </a:lnTo>
                <a:lnTo>
                  <a:pt x="15" y="419"/>
                </a:lnTo>
                <a:lnTo>
                  <a:pt x="19" y="394"/>
                </a:lnTo>
                <a:lnTo>
                  <a:pt x="27" y="370"/>
                </a:lnTo>
                <a:lnTo>
                  <a:pt x="35" y="347"/>
                </a:lnTo>
                <a:lnTo>
                  <a:pt x="44" y="324"/>
                </a:lnTo>
                <a:lnTo>
                  <a:pt x="50" y="300"/>
                </a:lnTo>
                <a:lnTo>
                  <a:pt x="58" y="277"/>
                </a:lnTo>
                <a:lnTo>
                  <a:pt x="62" y="256"/>
                </a:lnTo>
                <a:lnTo>
                  <a:pt x="62" y="238"/>
                </a:lnTo>
                <a:lnTo>
                  <a:pt x="48" y="250"/>
                </a:lnTo>
                <a:lnTo>
                  <a:pt x="40" y="268"/>
                </a:lnTo>
                <a:lnTo>
                  <a:pt x="35" y="285"/>
                </a:lnTo>
                <a:lnTo>
                  <a:pt x="29" y="306"/>
                </a:lnTo>
                <a:lnTo>
                  <a:pt x="21" y="326"/>
                </a:lnTo>
                <a:lnTo>
                  <a:pt x="15" y="347"/>
                </a:lnTo>
                <a:lnTo>
                  <a:pt x="7" y="366"/>
                </a:lnTo>
                <a:lnTo>
                  <a:pt x="0" y="388"/>
                </a:lnTo>
                <a:lnTo>
                  <a:pt x="5" y="332"/>
                </a:lnTo>
                <a:lnTo>
                  <a:pt x="19" y="275"/>
                </a:lnTo>
                <a:lnTo>
                  <a:pt x="36" y="221"/>
                </a:lnTo>
                <a:lnTo>
                  <a:pt x="64" y="173"/>
                </a:lnTo>
                <a:lnTo>
                  <a:pt x="95" y="126"/>
                </a:lnTo>
                <a:lnTo>
                  <a:pt x="131" y="87"/>
                </a:lnTo>
                <a:lnTo>
                  <a:pt x="174" y="52"/>
                </a:lnTo>
                <a:lnTo>
                  <a:pt x="223" y="31"/>
                </a:lnTo>
                <a:lnTo>
                  <a:pt x="283" y="17"/>
                </a:lnTo>
                <a:lnTo>
                  <a:pt x="331" y="8"/>
                </a:lnTo>
                <a:lnTo>
                  <a:pt x="368" y="0"/>
                </a:lnTo>
                <a:lnTo>
                  <a:pt x="399" y="0"/>
                </a:lnTo>
                <a:lnTo>
                  <a:pt x="426" y="4"/>
                </a:lnTo>
                <a:lnTo>
                  <a:pt x="455" y="21"/>
                </a:lnTo>
                <a:lnTo>
                  <a:pt x="490" y="49"/>
                </a:lnTo>
                <a:lnTo>
                  <a:pt x="535" y="91"/>
                </a:lnTo>
                <a:lnTo>
                  <a:pt x="585" y="130"/>
                </a:lnTo>
                <a:lnTo>
                  <a:pt x="626" y="176"/>
                </a:lnTo>
                <a:lnTo>
                  <a:pt x="659" y="225"/>
                </a:lnTo>
                <a:lnTo>
                  <a:pt x="684" y="279"/>
                </a:lnTo>
                <a:lnTo>
                  <a:pt x="696" y="335"/>
                </a:lnTo>
                <a:lnTo>
                  <a:pt x="704" y="395"/>
                </a:lnTo>
                <a:lnTo>
                  <a:pt x="698" y="458"/>
                </a:lnTo>
                <a:lnTo>
                  <a:pt x="688" y="525"/>
                </a:lnTo>
                <a:lnTo>
                  <a:pt x="661" y="525"/>
                </a:lnTo>
                <a:lnTo>
                  <a:pt x="636" y="527"/>
                </a:lnTo>
                <a:lnTo>
                  <a:pt x="609" y="527"/>
                </a:lnTo>
                <a:lnTo>
                  <a:pt x="583" y="527"/>
                </a:lnTo>
                <a:lnTo>
                  <a:pt x="558" y="527"/>
                </a:lnTo>
                <a:lnTo>
                  <a:pt x="533" y="527"/>
                </a:lnTo>
                <a:lnTo>
                  <a:pt x="510" y="527"/>
                </a:lnTo>
                <a:lnTo>
                  <a:pt x="488" y="533"/>
                </a:lnTo>
                <a:lnTo>
                  <a:pt x="488" y="514"/>
                </a:lnTo>
                <a:lnTo>
                  <a:pt x="488" y="496"/>
                </a:lnTo>
                <a:lnTo>
                  <a:pt x="488" y="481"/>
                </a:lnTo>
                <a:lnTo>
                  <a:pt x="492" y="465"/>
                </a:lnTo>
                <a:lnTo>
                  <a:pt x="492" y="450"/>
                </a:lnTo>
                <a:lnTo>
                  <a:pt x="496" y="436"/>
                </a:lnTo>
                <a:lnTo>
                  <a:pt x="498" y="421"/>
                </a:lnTo>
                <a:lnTo>
                  <a:pt x="504" y="409"/>
                </a:lnTo>
                <a:lnTo>
                  <a:pt x="498" y="415"/>
                </a:lnTo>
                <a:lnTo>
                  <a:pt x="492" y="428"/>
                </a:lnTo>
                <a:lnTo>
                  <a:pt x="488" y="444"/>
                </a:lnTo>
                <a:lnTo>
                  <a:pt x="484" y="463"/>
                </a:lnTo>
                <a:lnTo>
                  <a:pt x="481" y="481"/>
                </a:lnTo>
                <a:lnTo>
                  <a:pt x="479" y="500"/>
                </a:lnTo>
                <a:lnTo>
                  <a:pt x="475" y="518"/>
                </a:lnTo>
                <a:lnTo>
                  <a:pt x="475" y="533"/>
                </a:lnTo>
                <a:lnTo>
                  <a:pt x="467" y="533"/>
                </a:lnTo>
                <a:lnTo>
                  <a:pt x="461" y="5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 flipH="1">
            <a:off x="3733560" y="2819520"/>
            <a:ext cx="3300120" cy="39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762120" y="0"/>
            <a:ext cx="7086600" cy="4648320"/>
          </a:xfrm>
          <a:prstGeom prst="irregularSeal2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Срок  дав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471920" y="1862280"/>
            <a:ext cx="4672080" cy="499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олчанова  М.А.</dc:creator>
  <dc:description/>
  <dc:language>en-US</dc:language>
  <cp:lastModifiedBy>Марина</cp:lastModifiedBy>
  <dcterms:modified xsi:type="dcterms:W3CDTF">2007-01-11T17:16:26Z</dcterms:modified>
  <cp:revision>8</cp:revision>
  <dc:subject>родительское  собр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