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1.jpeg" ContentType="image/jpeg"/>
  <Override PartName="/ppt/media/image37.jpeg" ContentType="image/jpeg"/>
  <Override PartName="/ppt/media/image36.jpeg" ContentType="image/jpeg"/>
  <Override PartName="/ppt/media/image47.png" ContentType="image/pn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15.jpeg" ContentType="image/jpeg"/>
  <Override PartName="/ppt/media/image5.jpeg" ContentType="image/jpeg"/>
  <Override PartName="/ppt/media/image50.png" ContentType="image/png"/>
  <Override PartName="/ppt/media/image49.jpeg" ContentType="image/jpeg"/>
  <Override PartName="/ppt/media/image76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26.png" ContentType="image/png"/>
  <Override PartName="/ppt/media/image61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74.jpeg" ContentType="image/jpe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86.png" ContentType="image/png"/>
  <Override PartName="/ppt/media/image67.jpeg" ContentType="image/jpeg"/>
  <Override PartName="/ppt/media/image6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7.jpeg" ContentType="image/jpeg"/>
  <Override PartName="/ppt/media/image39.jpeg" ContentType="image/jpeg"/>
  <Override PartName="/ppt/media/image80.png" ContentType="image/png"/>
  <Override PartName="/ppt/media/image3.png" ContentType="image/png"/>
  <Override PartName="/ppt/media/image13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52.png" ContentType="image/png"/>
  <Override PartName="/ppt/media/image8.png" ContentType="image/png"/>
  <Override PartName="/ppt/media/image82.jpeg" ContentType="image/jpe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A0E-AD1D-4109-B1AA-01709C24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5A7-60B2-420B-9823-4B15ED8B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CD9-ED40-492B-B5C2-D7DEEDCB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084-8AB7-4FCC-924A-81CC9644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9789-8AB3-4413-B4EF-9AAA6897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3629-EE43-4869-BD55-9ECFE384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AB0-9B21-4AA3-9299-F38B914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357-BC54-4561-AFE3-DD15CB9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077-3F7A-4750-8CF1-36FFDBD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D6D-B987-4C33-BA3F-E15C730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7E61-31BB-4B40-A202-D454AB39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F3A-2E98-4305-8E40-A8FF383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F3A-60EF-48E5-9FC5-6D75E12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BD3A-B454-4D71-82BB-E14DAC23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6B9F-3337-41D4-97F5-5348957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1471-25C2-4DE9-A6CF-4BB88D81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696E-AD3A-483B-A269-8D32EA81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6A59-DD6A-4A16-AB19-574203A2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2C90-9F68-4E72-8439-298CD7E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E9BE-CD0A-4E86-8B84-FDC3271D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917D-8F74-4022-96CC-65452127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7908-F234-47CE-A862-4F039CD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C79-5446-4C44-A75E-295F056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61CF-B47B-4607-9EE0-E8969BF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CAA8-F322-4EBA-A959-26879F9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C1BA-4AE6-4031-A22B-79DAE86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C7C4-C288-463E-9805-6FBA18C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8FDE-1813-450A-BC82-E0FBDA3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C68D-293C-4D29-A355-B2672EE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B721-61C5-4F41-8D27-98DF917E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512B-1723-480B-B22A-B22E9DA5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6FC5-674C-4E33-9144-14D6FCA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27A3-472A-4AF0-83EB-25258F9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41F-5814-403B-88B4-2A865BFD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2C0D-7AA0-428F-8056-0F11306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9E0D-E83A-4B56-8E39-CF9912BD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62DD-9CC1-4673-8213-3D0C213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A66F-2274-4B9E-9E3C-488EC0A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054B-F9ED-4818-A9E4-60B7028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E826-E8BB-427E-B4BD-AE923B2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51DE-F796-401C-B860-313F4A83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33F3-5E59-414C-8AA6-F4C385FC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C9B3-FF01-4E74-A975-D4C91998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1456-35FA-47B9-B5A4-AE9942D4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566-FD3B-44CC-B1CF-B1990FA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1DF7-9645-45EB-A770-75A242A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3A27-778E-4F38-990E-37A7F8A5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4AD0-7825-4230-8263-77B68E1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FBBB-01D4-40E1-BF32-3E592B19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55301-0564-4A8C-9D83-B0511DD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CC345-C176-427A-AF99-6887536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258AE-854A-44F3-8469-D98DFD3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DC74-EDC8-448D-AA8A-6871E87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D859-E6F9-45F4-8D32-A68B413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0F58-CDEE-4E46-AB27-58294DB5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33E-9E11-49C1-AB5E-DAF0D71A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8DB73-8B6F-4367-9749-549D7B98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827F5-E9DF-4CBE-B6B5-08026094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FF229-A116-4000-A3C7-496CAFF8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16B4-4401-421B-9E42-4113830F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2BD4-C130-4DC1-BEC8-C60CF145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A0A9-E605-4164-8E12-840F1D2D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D7ED-C234-4EC6-9229-9D71A591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42C3-491B-4D0A-A62A-42884C9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05FD4-0419-4164-8912-C6ECDF8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A8F2-ACB2-4213-B8E9-088F15E3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295-8128-461C-A0EA-543B2E6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9F8E-9C5C-4DD4-BAEF-1EB4030D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447B-FA1D-4F93-86BA-BA9E7CE5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84B7F-DD4D-4D2F-87D8-047C3BB9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C870-F24B-475C-A048-782E1F8D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C72E-0FCF-4A9E-A347-7EE9B5D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B903-B0C3-47F4-BC04-30CCF307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B5647-D680-41A4-81E9-8B0FD904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6C33B-CA4C-4919-A597-5DCCAA79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C93D-337B-4DF6-A8D7-121BB03A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2182-08E4-4509-8113-6F244C6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804-13E7-4001-B2C8-A5DF28E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B186-A923-4D19-A627-48174CA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F854-0510-41EC-8626-128AF70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54CB4-A042-4832-A0B7-58EF249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0608-15E5-4310-876D-199EABFC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D4CC2-BA8C-4292-B627-C6768D3C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24538-FD95-4091-B8E9-CFAF588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865C-35E5-4F2F-B825-0AF97648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2257-A055-42BD-A3E3-95449F64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EEEAF-3E4F-492F-89B4-E268B5AD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24D6-4A45-4449-9F8E-96CEB395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2CB-904B-4618-BC88-75B6401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84FC-DAEB-43AE-800E-5B5B5CC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83B99-6572-48F3-A8B0-105944B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F8D4-FD36-46C3-923C-11E6D74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11719-79BE-4558-B5C8-EEE7BD1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8929-70AC-4A67-9B09-A640DEE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B285B-8D8B-4ACA-9A38-867393C8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6489D-C9AE-48D5-8FDF-ACB949DE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4934-D8A7-4015-AFC4-C854FA2465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93AF-D428-488C-9195-F3EDA060C5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C62-B7BC-42A7-85F2-C7F6413CDB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BAE-E6DC-49D1-B4C6-E538F73B10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C49-1E4B-491A-AC03-9A88F1E594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72B7-BD14-4246-AAE8-75C1D684BA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D56-2958-46F8-826D-747FE8EF70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811-3AEC-48DA-AC18-3FE7EE1339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vseorasteniyah.ru/2008-08-16-12-01-51/2008-08-16-12-12-46/25-2008-08-28-14-30-45.html" TargetMode="External"/><Relationship Id="rId2" Type="http://schemas.openxmlformats.org/officeDocument/2006/relationships/hyperlink" Target="http://sbajdak.narod.ru/ilia/Gizn2.html" TargetMode="External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Прямоугольник 3" descr=""/>
          <p:cNvPicPr/>
          <p:nvPr/>
        </p:nvPicPr>
        <p:blipFill>
          <a:blip r:embed="rId2"/>
          <a:stretch/>
        </p:blipFill>
        <p:spPr>
          <a:xfrm>
            <a:off x="2914560" y="353880"/>
            <a:ext cx="3505320" cy="1200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5002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втор Молчанова Марина Алексеевна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МОУ СОШ № 21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.Пушкинского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улькевичского района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раснодарского края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3571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В средней полосе тундровой зоны большие пространства занимают моховые и лишайниковые тундры. Ландшафт их сер и однообразен. Наиболее характерно для него — полное отсутствие древесной растительности. Из мхов преобладают зеленые мхи. Реже встречаются торфяные мхи, не образующие обычно сплошных ковров. Лишайники представлены огромным количеством видов. Среди них наиболее распространены кустистые — кладонии, цетрарии, алектории. Вместе с мхами и лишайниками здесь растут в небольшом количестве кустарнички; вороника, арктическая толокнянка и др. Их подземные органы и почки скрыты в моховом покрове, где зимой находят они хорошую защиту от неблагоприятных условий. Моховой ковер, как рыхлая губка, впитывает влагу и еще более способствует заболачиванию тундр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" descr="0018-053-Lishajniki.jpg"/>
          <p:cNvPicPr/>
          <p:nvPr/>
        </p:nvPicPr>
        <p:blipFill>
          <a:blip r:embed="rId1"/>
          <a:stretch/>
        </p:blipFill>
        <p:spPr>
          <a:xfrm>
            <a:off x="357120" y="2857680"/>
            <a:ext cx="4114800" cy="30952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" descr="ягель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396" name="Заголовок 3" descr=""/>
          <p:cNvPicPr/>
          <p:nvPr/>
        </p:nvPicPr>
        <p:blipFill>
          <a:blip r:embed="rId3"/>
          <a:stretch/>
        </p:blipFill>
        <p:spPr>
          <a:xfrm>
            <a:off x="85680" y="60480"/>
            <a:ext cx="89917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4287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Для более южных районов тундровой зоны характерны кустарниковые тундры. Это довольно высокие в несколько ярусов заросли кустарников. В первом, верхнем ярусе главным образом растет карликовая березка, во втором — широко распространены различные ивы: полярная, травянистая, сетчатая, а также вороника, вересковые кустарнички — багульник, филлодоце. Третий ярус (напочвенный покров) образован различными мхами и лишайниками, но они развиты значительно слабее, чем в моховых и лишайниковых тундрах. В речных долинах и по окраинам болот растут более крупные (до метра и выше) ивы: шерстистая, лапландская и д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67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0024-068-Karlikovaja-berjoza.jpg"/>
          <p:cNvPicPr/>
          <p:nvPr/>
        </p:nvPicPr>
        <p:blipFill>
          <a:blip r:embed="rId1"/>
          <a:stretch/>
        </p:blipFill>
        <p:spPr>
          <a:xfrm>
            <a:off x="285840" y="357120"/>
            <a:ext cx="4114800" cy="54990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2" descr="0024-069-Karlikovaja-berjoza.jpg"/>
          <p:cNvPicPr/>
          <p:nvPr/>
        </p:nvPicPr>
        <p:blipFill>
          <a:blip r:embed="rId2"/>
          <a:stretch/>
        </p:blipFill>
        <p:spPr>
          <a:xfrm>
            <a:off x="4786200" y="1201680"/>
            <a:ext cx="4114800" cy="56563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6"/>
          <p:cNvSpPr/>
          <p:nvPr/>
        </p:nvSpPr>
        <p:spPr>
          <a:xfrm>
            <a:off x="4774680" y="35712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рликовая 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2" descr="оз.Светлое.jpg"/>
          <p:cNvPicPr/>
          <p:nvPr/>
        </p:nvPicPr>
        <p:blipFill>
          <a:blip r:embed="rId1"/>
          <a:stretch/>
        </p:blipFill>
        <p:spPr>
          <a:xfrm>
            <a:off x="285840" y="28584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4"/>
          <p:cNvSpPr/>
          <p:nvPr/>
        </p:nvSpPr>
        <p:spPr>
          <a:xfrm>
            <a:off x="4191120" y="3286080"/>
            <a:ext cx="52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десь грибы выше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1" descr="карликовая береза, ягоды  и грибы.jpg"/>
          <p:cNvPicPr/>
          <p:nvPr/>
        </p:nvPicPr>
        <p:blipFill>
          <a:blip r:embed="rId2"/>
          <a:stretch/>
        </p:blipFill>
        <p:spPr>
          <a:xfrm>
            <a:off x="4714920" y="38577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карликовая береза и грибы.jpg"/>
          <p:cNvPicPr/>
          <p:nvPr/>
        </p:nvPicPr>
        <p:blipFill>
          <a:blip r:embed="rId3"/>
          <a:stretch/>
        </p:blipFill>
        <p:spPr>
          <a:xfrm>
            <a:off x="4643280" y="28584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0021-060-Poljarnyj-mak.jpg"/>
          <p:cNvPicPr/>
          <p:nvPr/>
        </p:nvPicPr>
        <p:blipFill>
          <a:blip r:embed="rId1"/>
          <a:stretch/>
        </p:blipFill>
        <p:spPr>
          <a:xfrm>
            <a:off x="4714920" y="285840"/>
            <a:ext cx="4114800" cy="3157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" descr="полярная ива.jpg"/>
          <p:cNvPicPr/>
          <p:nvPr/>
        </p:nvPicPr>
        <p:blipFill>
          <a:blip r:embed="rId2"/>
          <a:stretch/>
        </p:blipFill>
        <p:spPr>
          <a:xfrm>
            <a:off x="357120" y="28584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6026760" y="35719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894040" y="585792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ярная 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0021-061-Poljarnyj-mak.jpg"/>
          <p:cNvPicPr/>
          <p:nvPr/>
        </p:nvPicPr>
        <p:blipFill>
          <a:blip r:embed="rId1"/>
          <a:stretch/>
        </p:blipFill>
        <p:spPr>
          <a:xfrm>
            <a:off x="285840" y="214200"/>
            <a:ext cx="4114800" cy="33274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3"/>
          <p:cNvSpPr/>
          <p:nvPr/>
        </p:nvSpPr>
        <p:spPr>
          <a:xfrm>
            <a:off x="7286760" y="3357720"/>
            <a:ext cx="14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уш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1" descr="image10.jpg"/>
          <p:cNvPicPr/>
          <p:nvPr/>
        </p:nvPicPr>
        <p:blipFill>
          <a:blip r:embed="rId2"/>
          <a:stretch/>
        </p:blipFill>
        <p:spPr>
          <a:xfrm>
            <a:off x="2928960" y="3571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2" descr="Eriophorum%20scheuchzeri пушица, или дриада.jpg"/>
          <p:cNvPicPr/>
          <p:nvPr/>
        </p:nvPicPr>
        <p:blipFill>
          <a:blip r:embed="rId3"/>
          <a:stretch/>
        </p:blipFill>
        <p:spPr>
          <a:xfrm>
            <a:off x="4714920" y="428760"/>
            <a:ext cx="4114800" cy="280332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6"/>
          <p:cNvSpPr/>
          <p:nvPr/>
        </p:nvSpPr>
        <p:spPr>
          <a:xfrm>
            <a:off x="1357200" y="557208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камнеломка1.jpg"/>
          <p:cNvPicPr/>
          <p:nvPr/>
        </p:nvPicPr>
        <p:blipFill>
          <a:blip r:embed="rId1"/>
          <a:stretch/>
        </p:blipFill>
        <p:spPr>
          <a:xfrm>
            <a:off x="214200" y="285840"/>
            <a:ext cx="4114800" cy="26971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2" descr="камнеломка горная.jpg"/>
          <p:cNvPicPr/>
          <p:nvPr/>
        </p:nvPicPr>
        <p:blipFill>
          <a:blip r:embed="rId2"/>
          <a:stretch/>
        </p:blipFill>
        <p:spPr>
          <a:xfrm>
            <a:off x="214200" y="3214800"/>
            <a:ext cx="4114800" cy="30844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" descr="камнеломка.jpg"/>
          <p:cNvPicPr/>
          <p:nvPr/>
        </p:nvPicPr>
        <p:blipFill>
          <a:blip r:embed="rId3"/>
          <a:stretch/>
        </p:blipFill>
        <p:spPr>
          <a:xfrm>
            <a:off x="4714920" y="285840"/>
            <a:ext cx="4114800" cy="457992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4"/>
          <p:cNvSpPr/>
          <p:nvPr/>
        </p:nvSpPr>
        <p:spPr>
          <a:xfrm>
            <a:off x="4500720" y="5715000"/>
            <a:ext cx="242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мнело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пушица.jpg"/>
          <p:cNvPicPr/>
          <p:nvPr/>
        </p:nvPicPr>
        <p:blipFill>
          <a:blip r:embed="rId1"/>
          <a:stretch/>
        </p:blipFill>
        <p:spPr>
          <a:xfrm>
            <a:off x="214200" y="2858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2" descr="post-20-1191788126.jpg"/>
          <p:cNvPicPr/>
          <p:nvPr/>
        </p:nvPicPr>
        <p:blipFill>
          <a:blip r:embed="rId2"/>
          <a:stretch/>
        </p:blipFill>
        <p:spPr>
          <a:xfrm>
            <a:off x="4572000" y="285840"/>
            <a:ext cx="4114800" cy="27572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" descr="гриб подберезовик в тундре.jpg"/>
          <p:cNvPicPr/>
          <p:nvPr/>
        </p:nvPicPr>
        <p:blipFill>
          <a:blip r:embed="rId3"/>
          <a:stretch/>
        </p:blipFill>
        <p:spPr>
          <a:xfrm>
            <a:off x="3000240" y="35719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1" descr="голубика.jpg"/>
          <p:cNvPicPr/>
          <p:nvPr/>
        </p:nvPicPr>
        <p:blipFill>
          <a:blip r:embed="rId1"/>
          <a:stretch/>
        </p:blipFill>
        <p:spPr>
          <a:xfrm>
            <a:off x="214200" y="214200"/>
            <a:ext cx="4114800" cy="318924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" descr="брусника.jpg"/>
          <p:cNvPicPr/>
          <p:nvPr/>
        </p:nvPicPr>
        <p:blipFill>
          <a:blip r:embed="rId2"/>
          <a:stretch/>
        </p:blipFill>
        <p:spPr>
          <a:xfrm>
            <a:off x="214200" y="3786120"/>
            <a:ext cx="4114800" cy="28796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" descr="морошка.jpg"/>
          <p:cNvPicPr/>
          <p:nvPr/>
        </p:nvPicPr>
        <p:blipFill>
          <a:blip r:embed="rId3"/>
          <a:stretch/>
        </p:blipFill>
        <p:spPr>
          <a:xfrm>
            <a:off x="4572000" y="3571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" descr="черника.bmp"/>
          <p:cNvPicPr/>
          <p:nvPr/>
        </p:nvPicPr>
        <p:blipFill>
          <a:blip r:embed="rId4"/>
          <a:stretch/>
        </p:blipFill>
        <p:spPr>
          <a:xfrm>
            <a:off x="4643280" y="214200"/>
            <a:ext cx="4114800" cy="270360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6"/>
          <p:cNvSpPr/>
          <p:nvPr/>
        </p:nvSpPr>
        <p:spPr>
          <a:xfrm>
            <a:off x="214200" y="321480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луб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4500720" y="28576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2500200" y="3429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ру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9"/>
          <p:cNvSpPr/>
          <p:nvPr/>
        </p:nvSpPr>
        <p:spPr>
          <a:xfrm>
            <a:off x="6858000" y="31431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57120" y="28548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ундра — страна вечной мерзлоты, долгого зимнего мрака и короткого полярного лета с незаходящим, мало греющим солнцем. Крайне суровые жизненные условия в тундре чрезвычайно неблагоприятны для растений. Количество солнечного тепла здесь в два раза меньше, чем в умеренном климате. Время, в течение которого возможно развитие растений, очень коротко — 2—3 месяца. Зима продолжается около 8 месяцев, средняя годовая температура всюду ниже нуля. Заморозки возможны во все месяцы лета. В России наиболее благоприятна для растений западная часть тундровой зоны — Кольский п-ов. Близость Атлантического океана и теплое Северо – Атлантическое  течение умеряют в этих местах холодное дыхание Арктики. Средняя температура января здесь - 6°, а осадков выпадает до 400 мм в го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Флора тундровой зоны в сравнении с другими зонами молодая. Она образовалась в горных областях Северо-Восточной Азии и Дальнего Востока в третичный и ледниковый периоды. В это время территория современной тундры была покрыта ледником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атем вслед за отступавшим ледником эта новая флора двинулась вдоль побережья Ледовитого океана и по горным хребтам Алтая, Саян, Урала, Кавказа к западу, на освобожденные от льда территории. Она проникла и в горные области Европы (Карпаты, Альпы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Этим объясняется сходство тундровой (арктической) флоры и высокогорной (альпийской). Через Берингов пролив эта флора распространилась и на восток, в Северную Америк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Флора тундровой зоны очень бедна. В тундрах Евразии и Северной Америки насчитывается не более 500 видов высших растени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indent="6872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Прямоугольник 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8918640" cy="12016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" descr="YAgel.jpg"/>
          <p:cNvPicPr/>
          <p:nvPr/>
        </p:nvPicPr>
        <p:blipFill>
          <a:blip r:embed="rId2"/>
          <a:stretch/>
        </p:blipFill>
        <p:spPr>
          <a:xfrm>
            <a:off x="357120" y="1285920"/>
            <a:ext cx="6039000" cy="45259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2" descr="белая куропатка.jpg"/>
          <p:cNvPicPr/>
          <p:nvPr/>
        </p:nvPicPr>
        <p:blipFill>
          <a:blip r:embed="rId3"/>
          <a:stretch/>
        </p:blipFill>
        <p:spPr>
          <a:xfrm>
            <a:off x="4643280" y="35002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571840" y="1285920"/>
            <a:ext cx="6400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а красивая медуза — настоящий великан среди кишечнополостных. Ее «зонтик» достигает в диаметре 2 м, имеет красивую расцветку — бледно-жёлтая в центре постепенно переходит в тёмно-красную по краям, а щупальца, которые достигают тридцатиметровой длины,—розового цвета. Широко распространена в холодных морях северного полушария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дивительно, однако, это большое животное во взрослом состоянии существует всего лишь один летний сезон. Весной появляются молодые медузы, которые быстро растут и гибнут осенью, когда начинаются зимние штормы, так как нежная ткань животного не может выдержать большого волнения воды. Питаются зоопланктоном, в том числе маленькими рыбёшками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60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3" descr="МЕДУЗА ЦИАНЕЯ"/>
          <p:cNvPicPr/>
          <p:nvPr/>
        </p:nvPicPr>
        <p:blipFill>
          <a:blip r:embed="rId2"/>
          <a:stretch/>
        </p:blipFill>
        <p:spPr>
          <a:xfrm>
            <a:off x="357120" y="20718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4" descr=""/>
          <p:cNvPicPr/>
          <p:nvPr/>
        </p:nvPicPr>
        <p:blipFill>
          <a:blip r:embed="rId3"/>
          <a:stretch/>
        </p:blipFill>
        <p:spPr>
          <a:xfrm>
            <a:off x="201600" y="139680"/>
            <a:ext cx="7180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2" descr="2563794.jpg"/>
          <p:cNvPicPr/>
          <p:nvPr/>
        </p:nvPicPr>
        <p:blipFill>
          <a:blip r:embed="rId1"/>
          <a:stretch/>
        </p:blipFill>
        <p:spPr>
          <a:xfrm>
            <a:off x="4786200" y="2858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" descr="2563796.jpg"/>
          <p:cNvPicPr/>
          <p:nvPr/>
        </p:nvPicPr>
        <p:blipFill>
          <a:blip r:embed="rId2"/>
          <a:stretch/>
        </p:blipFill>
        <p:spPr>
          <a:xfrm>
            <a:off x="285840" y="28584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428760" y="3714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водоемах  имеется большое разнообразие рыб промыслов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2" descr="сибирский углозуб.jpg"/>
          <p:cNvPicPr/>
          <p:nvPr/>
        </p:nvPicPr>
        <p:blipFill>
          <a:blip r:embed="rId1"/>
          <a:stretch/>
        </p:blipFill>
        <p:spPr>
          <a:xfrm>
            <a:off x="214200" y="1857240"/>
            <a:ext cx="4114800" cy="27403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285800" y="1000080"/>
            <a:ext cx="4614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бирский углозуб — уникальное земноводное по своей морозоустойчивости и единственный представитель, живущий на Чукотке. Взрослые особи способны переносить понижение температуры тела до -35-40°С и не теряют подвижности при минимальной положительной температуре +0,5-1°С. Взрослые углозубы могут очень долго жить в замороженном состоянии. Иногда такие замерзшие тритоны, найденные в вечной мерзлоте, "оживают" после оттаивания. К настоящему времени известно около 10 таких случаев. Возраст одной такой особи, найденной на глубине 11м, был определен радиоуглеродным методом в 90±15 ле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Прямоугольник 5" descr=""/>
          <p:cNvPicPr/>
          <p:nvPr/>
        </p:nvPicPr>
        <p:blipFill>
          <a:blip r:embed="rId2"/>
          <a:stretch/>
        </p:blipFill>
        <p:spPr>
          <a:xfrm>
            <a:off x="133200" y="-73080"/>
            <a:ext cx="7542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Содержимое 4" descr="f_0426.jpg"/>
          <p:cNvPicPr/>
          <p:nvPr/>
        </p:nvPicPr>
        <p:blipFill>
          <a:blip r:embed="rId1"/>
          <a:stretch/>
        </p:blipFill>
        <p:spPr>
          <a:xfrm>
            <a:off x="5000760" y="1643040"/>
            <a:ext cx="3543120" cy="26719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5" name="Рисунок 1" descr="куропатки.jpg"/>
          <p:cNvPicPr/>
          <p:nvPr/>
        </p:nvPicPr>
        <p:blipFill>
          <a:blip r:embed="rId2"/>
          <a:stretch/>
        </p:blipFill>
        <p:spPr>
          <a:xfrm>
            <a:off x="285840" y="1571760"/>
            <a:ext cx="4114800" cy="273996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5"/>
          <p:cNvSpPr/>
          <p:nvPr/>
        </p:nvSpPr>
        <p:spPr>
          <a:xfrm>
            <a:off x="357120" y="478620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ярные куроп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6"/>
          <p:cNvSpPr/>
          <p:nvPr/>
        </p:nvSpPr>
        <p:spPr>
          <a:xfrm>
            <a:off x="4826520" y="471492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елая (полярная) 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" descr="gogol01f.jpg"/>
          <p:cNvPicPr/>
          <p:nvPr/>
        </p:nvPicPr>
        <p:blipFill>
          <a:blip r:embed="rId1"/>
          <a:stretch/>
        </p:blipFill>
        <p:spPr>
          <a:xfrm>
            <a:off x="4714920" y="214200"/>
            <a:ext cx="4114800" cy="29210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" descr="гуси.jpg"/>
          <p:cNvPicPr/>
          <p:nvPr/>
        </p:nvPicPr>
        <p:blipFill>
          <a:blip r:embed="rId2"/>
          <a:stretch/>
        </p:blipFill>
        <p:spPr>
          <a:xfrm>
            <a:off x="214200" y="214200"/>
            <a:ext cx="4114800" cy="27417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" descr="0055-133-Krupnym-zhivotnym-trudno-zhit-rjadom-s-chelove-kom.jpg"/>
          <p:cNvPicPr/>
          <p:nvPr/>
        </p:nvPicPr>
        <p:blipFill>
          <a:blip r:embed="rId3"/>
          <a:stretch/>
        </p:blipFill>
        <p:spPr>
          <a:xfrm>
            <a:off x="214200" y="3071880"/>
            <a:ext cx="4114800" cy="28573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" descr="лебедь - трубач.jpg"/>
          <p:cNvPicPr/>
          <p:nvPr/>
        </p:nvPicPr>
        <p:blipFill>
          <a:blip r:embed="rId4"/>
          <a:stretch/>
        </p:blipFill>
        <p:spPr>
          <a:xfrm>
            <a:off x="4786200" y="3786120"/>
            <a:ext cx="4114800" cy="283536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5"/>
          <p:cNvSpPr/>
          <p:nvPr/>
        </p:nvSpPr>
        <p:spPr>
          <a:xfrm>
            <a:off x="4929120" y="3214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кновенный г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6"/>
          <p:cNvSpPr/>
          <p:nvPr/>
        </p:nvSpPr>
        <p:spPr>
          <a:xfrm>
            <a:off x="1714680" y="6072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бедь – труба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Содержимое 3" descr="f_0387.jpg"/>
          <p:cNvPicPr/>
          <p:nvPr/>
        </p:nvPicPr>
        <p:blipFill>
          <a:blip r:embed="rId1"/>
          <a:stretch/>
        </p:blipFill>
        <p:spPr>
          <a:xfrm>
            <a:off x="5143680" y="285840"/>
            <a:ext cx="3840120" cy="2895480"/>
          </a:xfrm>
          <a:prstGeom prst="rect">
            <a:avLst/>
          </a:prstGeom>
          <a:ln w="0">
            <a:noFill/>
          </a:ln>
        </p:spPr>
      </p:pic>
      <p:pic>
        <p:nvPicPr>
          <p:cNvPr id="455" name="Содержимое 3" descr="f_0386.jpg"/>
          <p:cNvPicPr/>
          <p:nvPr/>
        </p:nvPicPr>
        <p:blipFill>
          <a:blip r:embed="rId2"/>
          <a:stretch/>
        </p:blipFill>
        <p:spPr>
          <a:xfrm>
            <a:off x="285840" y="1214280"/>
            <a:ext cx="3714840" cy="280044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4" descr=""/>
          <p:cNvPicPr/>
          <p:nvPr/>
        </p:nvPicPr>
        <p:blipFill>
          <a:blip r:embed="rId3"/>
          <a:stretch/>
        </p:blipFill>
        <p:spPr>
          <a:xfrm>
            <a:off x="-171360" y="0"/>
            <a:ext cx="5634000" cy="120024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5"/>
          <p:cNvSpPr/>
          <p:nvPr/>
        </p:nvSpPr>
        <p:spPr>
          <a:xfrm>
            <a:off x="428760" y="142884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й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7"/>
          <p:cNvSpPr/>
          <p:nvPr/>
        </p:nvSpPr>
        <p:spPr>
          <a:xfrm>
            <a:off x="6919920" y="2142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аг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Содержимое 5" descr="f_0388.jpg"/>
          <p:cNvPicPr/>
          <p:nvPr/>
        </p:nvPicPr>
        <p:blipFill>
          <a:blip r:embed="rId4"/>
          <a:stretch/>
        </p:blipFill>
        <p:spPr>
          <a:xfrm>
            <a:off x="5072040" y="3571920"/>
            <a:ext cx="3929040" cy="296208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0"/>
          <p:cNvSpPr/>
          <p:nvPr/>
        </p:nvSpPr>
        <p:spPr>
          <a:xfrm>
            <a:off x="7227000" y="371484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и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Содержимое 7" descr="f_0389.jpg"/>
          <p:cNvPicPr/>
          <p:nvPr/>
        </p:nvPicPr>
        <p:blipFill>
          <a:blip r:embed="rId5"/>
          <a:stretch/>
        </p:blipFill>
        <p:spPr>
          <a:xfrm>
            <a:off x="1214280" y="4164120"/>
            <a:ext cx="3573720" cy="26938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2"/>
          <p:cNvSpPr/>
          <p:nvPr/>
        </p:nvSpPr>
        <p:spPr>
          <a:xfrm>
            <a:off x="3584880" y="421488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уп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одержимое 14" descr="f_0315.jpg"/>
          <p:cNvPicPr/>
          <p:nvPr/>
        </p:nvPicPr>
        <p:blipFill>
          <a:blip r:embed="rId1"/>
          <a:stretch/>
        </p:blipFill>
        <p:spPr>
          <a:xfrm>
            <a:off x="285840" y="214200"/>
            <a:ext cx="4039920" cy="304668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15" descr="f_0319.jpg"/>
          <p:cNvPicPr/>
          <p:nvPr/>
        </p:nvPicPr>
        <p:blipFill>
          <a:blip r:embed="rId2"/>
          <a:stretch/>
        </p:blipFill>
        <p:spPr>
          <a:xfrm>
            <a:off x="4643280" y="214200"/>
            <a:ext cx="4042080" cy="3048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285480" y="2714400"/>
            <a:ext cx="1428840" cy="54756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rmAutofit fontScale="78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зарк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86200" y="2643120"/>
            <a:ext cx="1069920" cy="5191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с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Picture 2" descr="G:\животные,  растения,  видео\Image\f_0372.jpg"/>
          <p:cNvPicPr/>
          <p:nvPr/>
        </p:nvPicPr>
        <p:blipFill>
          <a:blip r:embed="rId3"/>
          <a:stretch/>
        </p:blipFill>
        <p:spPr>
          <a:xfrm>
            <a:off x="285840" y="3429000"/>
            <a:ext cx="4108320" cy="3097080"/>
          </a:xfrm>
          <a:prstGeom prst="rect">
            <a:avLst/>
          </a:prstGeom>
          <a:ln w="9720">
            <a:solidFill>
              <a:srgbClr val="2da2bf"/>
            </a:solidFill>
            <a:miter/>
          </a:ln>
        </p:spPr>
      </p:pic>
      <p:sp>
        <p:nvSpPr>
          <p:cNvPr id="468" name="Прямоугольник 17"/>
          <p:cNvSpPr/>
          <p:nvPr/>
        </p:nvSpPr>
        <p:spPr>
          <a:xfrm>
            <a:off x="527400" y="35719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е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Содержимое 18" descr="f_0382.jpg"/>
          <p:cNvPicPr/>
          <p:nvPr/>
        </p:nvPicPr>
        <p:blipFill>
          <a:blip r:embed="rId4"/>
          <a:stretch/>
        </p:blipFill>
        <p:spPr>
          <a:xfrm>
            <a:off x="4643280" y="3429000"/>
            <a:ext cx="4040280" cy="30463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9"/>
          <p:cNvSpPr/>
          <p:nvPr/>
        </p:nvSpPr>
        <p:spPr>
          <a:xfrm>
            <a:off x="7439760" y="35719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ай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0_10c3c_60e609e4_L.jpg"/>
          <p:cNvPicPr/>
          <p:nvPr/>
        </p:nvPicPr>
        <p:blipFill>
          <a:blip r:embed="rId1"/>
          <a:stretch/>
        </p:blipFill>
        <p:spPr>
          <a:xfrm>
            <a:off x="4643280" y="285840"/>
            <a:ext cx="4114800" cy="294156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2" descr="0_10c3d_8a22aea0_L.jpg"/>
          <p:cNvPicPr/>
          <p:nvPr/>
        </p:nvPicPr>
        <p:blipFill>
          <a:blip r:embed="rId2"/>
          <a:stretch/>
        </p:blipFill>
        <p:spPr>
          <a:xfrm>
            <a:off x="4643280" y="34290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1" descr="0_aeb4_979a8b85_L.jpg"/>
          <p:cNvPicPr/>
          <p:nvPr/>
        </p:nvPicPr>
        <p:blipFill>
          <a:blip r:embed="rId3"/>
          <a:stretch/>
        </p:blipFill>
        <p:spPr>
          <a:xfrm>
            <a:off x="285840" y="34290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2" descr="ржанка.jpg"/>
          <p:cNvPicPr/>
          <p:nvPr/>
        </p:nvPicPr>
        <p:blipFill>
          <a:blip r:embed="rId4"/>
          <a:stretch/>
        </p:blipFill>
        <p:spPr>
          <a:xfrm>
            <a:off x="285840" y="35712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1531898.jpg"/>
          <p:cNvPicPr/>
          <p:nvPr/>
        </p:nvPicPr>
        <p:blipFill>
          <a:blip r:embed="rId1"/>
          <a:stretch/>
        </p:blipFill>
        <p:spPr>
          <a:xfrm>
            <a:off x="214200" y="214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2563776.jpg"/>
          <p:cNvPicPr/>
          <p:nvPr/>
        </p:nvPicPr>
        <p:blipFill>
          <a:blip r:embed="rId2"/>
          <a:stretch/>
        </p:blipFill>
        <p:spPr>
          <a:xfrm>
            <a:off x="4714920" y="214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" descr="вид на вдпКиваккакоски.jpg"/>
          <p:cNvPicPr/>
          <p:nvPr/>
        </p:nvPicPr>
        <p:blipFill>
          <a:blip r:embed="rId3"/>
          <a:stretch/>
        </p:blipFill>
        <p:spPr>
          <a:xfrm>
            <a:off x="214200" y="3571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2" descr="2563780.jpg"/>
          <p:cNvPicPr/>
          <p:nvPr/>
        </p:nvPicPr>
        <p:blipFill>
          <a:blip r:embed="rId4"/>
          <a:stretch/>
        </p:blipFill>
        <p:spPr>
          <a:xfrm>
            <a:off x="4714920" y="35719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Рисунок 1" descr="лемминг.jpg"/>
          <p:cNvPicPr/>
          <p:nvPr/>
        </p:nvPicPr>
        <p:blipFill>
          <a:blip r:embed="rId1"/>
          <a:stretch/>
        </p:blipFill>
        <p:spPr>
          <a:xfrm>
            <a:off x="428760" y="357120"/>
            <a:ext cx="3517920" cy="594360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2"/>
          <p:cNvSpPr/>
          <p:nvPr/>
        </p:nvSpPr>
        <p:spPr>
          <a:xfrm>
            <a:off x="4001760" y="56437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ммин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Рисунок 3" descr="ПЕСЕЦ"/>
          <p:cNvPicPr/>
          <p:nvPr/>
        </p:nvPicPr>
        <p:blipFill>
          <a:blip r:embed="rId2"/>
          <a:stretch/>
        </p:blipFill>
        <p:spPr>
          <a:xfrm>
            <a:off x="4143240" y="357120"/>
            <a:ext cx="4643640" cy="3357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4"/>
          <p:cNvSpPr/>
          <p:nvPr/>
        </p:nvSpPr>
        <p:spPr>
          <a:xfrm>
            <a:off x="6105240" y="38577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сец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Прямоугольник 2" descr=""/>
          <p:cNvPicPr/>
          <p:nvPr/>
        </p:nvPicPr>
        <p:blipFill>
          <a:blip r:embed="rId1"/>
          <a:stretch/>
        </p:blipFill>
        <p:spPr>
          <a:xfrm>
            <a:off x="-171360" y="0"/>
            <a:ext cx="4279680" cy="12002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" descr="0056-135-Ovtsebyk.jpg"/>
          <p:cNvPicPr/>
          <p:nvPr/>
        </p:nvPicPr>
        <p:blipFill>
          <a:blip r:embed="rId2"/>
          <a:stretch/>
        </p:blipFill>
        <p:spPr>
          <a:xfrm>
            <a:off x="285840" y="1214280"/>
            <a:ext cx="4114800" cy="3240360"/>
          </a:xfrm>
          <a:prstGeom prst="rect">
            <a:avLst/>
          </a:prstGeom>
          <a:ln w="0">
            <a:noFill/>
          </a:ln>
        </p:spPr>
      </p:pic>
      <p:sp>
        <p:nvSpPr>
          <p:cNvPr id="481" name="Содержимое 11"/>
          <p:cNvSpPr/>
          <p:nvPr/>
        </p:nvSpPr>
        <p:spPr>
          <a:xfrm>
            <a:off x="4429080" y="0"/>
            <a:ext cx="471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едалёком прошлом овцебыки были широко распространены в Арктике, однако во многих местах вымерли или их уничтожили. Ныне их численность постепенно увеличивается. Животных завезли на прежние места обитания, в том числе на остров Врангеля и полуостров Таймыр, где они хорошо прижились. Обитает в полярных районах Америки и Гренландии. Довольно крупное животное: длина тела 125—180 см, высота — 110—145, масса — 200—300 кг. Зимой овцебыки держатся на плато, где меньше снега и проще отыскивать корм. Летом они переходят в долины рек, приморье, прибрежную тундру, где больше травы. Если на семью нападают волки, быки занимают круговую оборону — выставляют тяжёлые рога и не подпускают хищников к самкам с телятами. Детёныши рождаются каждые 2 года. От холодов животные защищены густым мехом; широкие копыта помогают ходить по снегу в поисках кор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3" descr=""/>
          <p:cNvPicPr/>
          <p:nvPr/>
        </p:nvPicPr>
        <p:blipFill>
          <a:blip r:embed="rId1"/>
          <a:stretch/>
        </p:blipFill>
        <p:spPr>
          <a:xfrm>
            <a:off x="1047600" y="0"/>
            <a:ext cx="6743880" cy="120024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1" descr="северный олень.jpg"/>
          <p:cNvPicPr/>
          <p:nvPr/>
        </p:nvPicPr>
        <p:blipFill>
          <a:blip r:embed="rId2"/>
          <a:stretch/>
        </p:blipFill>
        <p:spPr>
          <a:xfrm>
            <a:off x="1214280" y="12859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1" descr="0048-121-Pomogajut-peredvigatsja-ljudjam-na-severe-druzja-sobaki.jpg"/>
          <p:cNvPicPr/>
          <p:nvPr/>
        </p:nvPicPr>
        <p:blipFill>
          <a:blip r:embed="rId1"/>
          <a:stretch/>
        </p:blipFill>
        <p:spPr>
          <a:xfrm>
            <a:off x="357120" y="3857760"/>
            <a:ext cx="4114800" cy="255564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" descr="a9c762f4143d.jpg"/>
          <p:cNvPicPr/>
          <p:nvPr/>
        </p:nvPicPr>
        <p:blipFill>
          <a:blip r:embed="rId2"/>
          <a:stretch/>
        </p:blipFill>
        <p:spPr>
          <a:xfrm>
            <a:off x="4643280" y="357120"/>
            <a:ext cx="4114800" cy="28447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2" descr="166898.jpg"/>
          <p:cNvPicPr/>
          <p:nvPr/>
        </p:nvPicPr>
        <p:blipFill>
          <a:blip r:embed="rId3"/>
          <a:stretch/>
        </p:blipFill>
        <p:spPr>
          <a:xfrm>
            <a:off x="4714920" y="4143240"/>
            <a:ext cx="4114800" cy="184644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2" descr="2563946.jpg"/>
          <p:cNvPicPr/>
          <p:nvPr/>
        </p:nvPicPr>
        <p:blipFill>
          <a:blip r:embed="rId4"/>
          <a:stretch/>
        </p:blipFill>
        <p:spPr>
          <a:xfrm>
            <a:off x="285840" y="214200"/>
            <a:ext cx="41148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vseorasteniyah.ru/2008-08-16-12-01-51/2008-08-16-12-12-46/25-2008-08-28-14-30-45.htm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bajdak.narod.ru/ilia/Gizn2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Прямоугольник 3" descr=""/>
          <p:cNvPicPr/>
          <p:nvPr/>
        </p:nvPicPr>
        <p:blipFill>
          <a:blip r:embed="rId3"/>
          <a:stretch/>
        </p:blipFill>
        <p:spPr>
          <a:xfrm>
            <a:off x="633240" y="0"/>
            <a:ext cx="8040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К востоку климат становится суровее: понижается температура, уменьшается количество осадков, короче становится лето. Во многих районах Якутии – Саха  средняя температура января - 40°. Годовое количество осадков на севере Сибири 200—300 мм, а в устье р. Лены снижается до 100 мм. Снега в тундре мало. На западе толщина снежного покрова 50 см, а на востоке, в Якутии,— всего 25 с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722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722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3" descr=""/>
          <p:cNvPicPr/>
          <p:nvPr/>
        </p:nvPicPr>
        <p:blipFill>
          <a:blip r:embed="rId1"/>
          <a:stretch/>
        </p:blipFill>
        <p:spPr>
          <a:xfrm>
            <a:off x="73080" y="60480"/>
            <a:ext cx="62053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2" descr="лесотундра.jpg"/>
          <p:cNvPicPr/>
          <p:nvPr/>
        </p:nvPicPr>
        <p:blipFill>
          <a:blip r:embed="rId1"/>
          <a:stretch/>
        </p:blipFill>
        <p:spPr>
          <a:xfrm>
            <a:off x="500040" y="357120"/>
            <a:ext cx="8191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тундре постоянно дуют очень сильные ветры. Зимой нередко бывает пурга, и скорость ветра достигает 30—40 м в секунду. Взметая тучи снега, сбивая с ног людей и переворачивая нарты с оленями, беснуется пурга на бескрайних просторах тундры. Нередко она продолжается по 5 — 6 дней. Ветры сдувают снег с возвышенностей в лощины, долины рек, и оголившаяся земля сильно промерзает. Скованная морозом почва не оттаивает полностью за короткое лето, и на некоторой глубине из года в год сохраняется мерзлая почва — вечная мерзлота. Мощность мерзлого слоя может доходить до нескольких метров. На крайнем западе тундровой зоны этого слоя уже нет. Чем дальше к востоку, тем шире полоса вечномерзлых почв. В Восточной Сибири ее южная граница спускается южнее Иркутск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3" descr=""/>
          <p:cNvPicPr/>
          <p:nvPr/>
        </p:nvPicPr>
        <p:blipFill>
          <a:blip r:embed="rId1"/>
          <a:stretch/>
        </p:blipFill>
        <p:spPr>
          <a:xfrm>
            <a:off x="73080" y="60480"/>
            <a:ext cx="67183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00360" y="1285920"/>
            <a:ext cx="43290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очва в тундре всегда холодная. Даже летом на небольшой глубине температура ее не поднимается выше +10°. Вечная мерзлота замедляет почвообразование. В верхних слоях почвы накапливается вода, подпираемая вечномерзлым слоем, а это влечет за собой заболачивание поверхности и накопление полуразложившихся остатков растений — торфа. Но мощных залежей торфа в тундре нет — слишком невелик здесь прирост растительной масс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60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Рисунок 5" descr="полярная тундра.jpg"/>
          <p:cNvPicPr/>
          <p:nvPr/>
        </p:nvPicPr>
        <p:blipFill>
          <a:blip r:embed="rId1"/>
          <a:stretch/>
        </p:blipFill>
        <p:spPr>
          <a:xfrm>
            <a:off x="285840" y="142884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84" name="Заголовок 3" descr=""/>
          <p:cNvPicPr/>
          <p:nvPr/>
        </p:nvPicPr>
        <p:blipFill>
          <a:blip r:embed="rId2"/>
          <a:stretch/>
        </p:blipFill>
        <p:spPr>
          <a:xfrm>
            <a:off x="66600" y="60480"/>
            <a:ext cx="5896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3" descr=""/>
          <p:cNvPicPr/>
          <p:nvPr/>
        </p:nvPicPr>
        <p:blipFill>
          <a:blip r:embed="rId1"/>
          <a:stretch/>
        </p:blipFill>
        <p:spPr>
          <a:xfrm>
            <a:off x="73080" y="60480"/>
            <a:ext cx="6254640" cy="12016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071720"/>
            <a:ext cx="8043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северных районах тундры условия более суровы и зимой вымерзают даже мхи и лишайники. В этих районах тундры среди многочисленных площадок, пятен голой почвы ютится жалкая растительность — угнетенные мхи, лишайники и некоторые мелкие кустарнички. Такая тундра носит название пятнистой. Ее растительность использует каждый камень для защиты, каждую неровность рельефа для своего поселе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некоторых местах тундры на поверхность выходят каменистые грунты. Это — каменистая тундра. Здесь островками растут отдельные растения или небольшие группы их. Чаще всего встречаются дриада, или куропаточья трава, полярные маки с красными, желтыми, белыми цветками, филлодоце, арктическая толокнянка, кассиоп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indent="714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post-20-1191788288.jpg"/>
          <p:cNvPicPr/>
          <p:nvPr/>
        </p:nvPicPr>
        <p:blipFill>
          <a:blip r:embed="rId1"/>
          <a:stretch/>
        </p:blipFill>
        <p:spPr>
          <a:xfrm>
            <a:off x="357120" y="214200"/>
            <a:ext cx="4114800" cy="2759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post-20-1191788371.jpg"/>
          <p:cNvPicPr/>
          <p:nvPr/>
        </p:nvPicPr>
        <p:blipFill>
          <a:blip r:embed="rId2"/>
          <a:stretch/>
        </p:blipFill>
        <p:spPr>
          <a:xfrm>
            <a:off x="357120" y="3857760"/>
            <a:ext cx="4114800" cy="27558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2" descr="0016-050-K-zhizni-v-trudnykh-uslovijakh-ledjanoj-zony-prisposobilis-nemnogie-zhivye.jpg"/>
          <p:cNvPicPr/>
          <p:nvPr/>
        </p:nvPicPr>
        <p:blipFill>
          <a:blip r:embed="rId3"/>
          <a:stretch/>
        </p:blipFill>
        <p:spPr>
          <a:xfrm>
            <a:off x="4857840" y="214200"/>
            <a:ext cx="4114800" cy="58788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4"/>
          <p:cNvSpPr/>
          <p:nvPr/>
        </p:nvSpPr>
        <p:spPr>
          <a:xfrm>
            <a:off x="596160" y="321480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менистая ту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"/>
          <p:cNvSpPr/>
          <p:nvPr/>
        </p:nvSpPr>
        <p:spPr>
          <a:xfrm>
            <a:off x="5405760" y="614376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ятнистая ту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1" descr="flora0006.jpg"/>
          <p:cNvPicPr/>
          <p:nvPr/>
        </p:nvPicPr>
        <p:blipFill>
          <a:blip r:embed="rId4"/>
          <a:stretch/>
        </p:blipFill>
        <p:spPr>
          <a:xfrm>
            <a:off x="357120" y="285840"/>
            <a:ext cx="411480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2:42:22Z</dcterms:created>
  <dc:creator>Марина</dc:creator>
  <dc:description/>
  <dc:language>en-US</dc:language>
  <cp:lastModifiedBy>Марина</cp:lastModifiedBy>
  <dcterms:modified xsi:type="dcterms:W3CDTF">2010-03-08T12:42:08Z</dcterms:modified>
  <cp:revision>19</cp:revision>
  <dc:subject/>
  <dc:title>Слайд 1</dc:title>
</cp:coreProperties>
</file>